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B50-EF88-4396-8B93-F13DF12E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19A-8434-453A-97F9-BFF13D58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FF3-4C7A-434F-8F17-657C2FB6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A84-B3E1-4717-A23C-7B94648B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6BB-4C02-421A-A726-1D7C9BAF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906-ED73-4076-98F2-4491A87D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8F7-BFFE-4FE5-AD34-34DA4516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538-A710-44C5-8DCC-1BD8A50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03E-E4DC-4F1B-8972-B8674327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A8B-ADD0-4E88-B42F-44D01CC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C9A-5585-4177-A7E9-C60297B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834-F498-468F-81E9-1A03845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6E3D-D9B0-469A-BD23-D19F817BC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00040"/>
            <a:ext cx="7743960" cy="2857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Название курса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Дети и молодежь в англоязычных странах: жизнь, проблемы, права и обязанности</a:t>
            </a: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3285720"/>
            <a:ext cx="7715520" cy="2714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Выполнила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Calibri"/>
              </a:rPr>
              <a:t>Быкова Алена, Евтихеева Кристина МБОУ СОШ№1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2060"/>
                </a:solidFill>
                <a:latin typeface="Calibri"/>
              </a:rPr>
              <a:t>Руководитель: </a:t>
            </a:r>
            <a:r>
              <a:rPr b="0" lang="ru-RU" sz="3700" spc="-1" strike="noStrike">
                <a:solidFill>
                  <a:srgbClr val="002060"/>
                </a:solidFill>
                <a:latin typeface="Calibri"/>
              </a:rPr>
              <a:t>В.В. Поскоти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зучение статей конвенции о правах ребенка, анали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поставление документов и реальной жизн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а собственного достоин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знание своих пра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ешение конфликтов и споров правовыми средст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умения строить правовые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общение к истории, праву, культуре, географии разных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тивация к изучению англий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коммуникативных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резентационных навы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кур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ние факторам риска подрост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зни, вредным привычк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нарушениям и борьбе с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ие умения и навы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со специальной терминолог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вод документов, статистических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исание короткого эссе, репортажа, пись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скуссия на английском язы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казывание по теме, аргументация своего м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е творческой 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ЧЕСКИЙ АППАРАТ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СЕОБЩ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КЛАРАЦИЯ ПРАВ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КОНВЕНЦИЯ О ПРАВАХ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 FARRELL. BRITISH LIFE AND INSTITUTIONS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НИНСК:ТИТУЛ,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NG PEOPLE IN BRITAIN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ИЗД-ВО 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IGN AND COMMONWELTH OFFIC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,199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ГАЛЬСКОВА И ДР. ОБУЧЕНИЕ НА БИЛИНГВАЛЬНОЙ ОСНОВЕ КАК КОМПОНЕНТ УГЛУБЛЕННОГО ЯЗЫКОВОГО ОБРАЗОВ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ЯШ.-20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ПРОГРАММА ПО ИНОСТРАННОМУ ЯЗЫКУ: ПРОГРАММНЫЕ ТРЕБОВАНИЯ ПО АНГЛИЙСКОМУ ЯЗЫКУ.- М.:  ДРОФА,199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КОНЦЕПЦИЯ МОДЕРНИЗАЦИИ РОССИЙСКОГО ОБРАЗОВАНИЯ НА ПЕРИОД ДО 2010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НИК ОБРАЗОВАНИЯ.- №6.-200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9T00:07:44Z</dcterms:created>
  <dc:creator>Vasilina</dc:creator>
  <dc:description/>
  <dc:language>en-US</dc:language>
  <cp:lastModifiedBy>Vasilina</cp:lastModifiedBy>
  <dcterms:modified xsi:type="dcterms:W3CDTF">2013-05-19T02:39:20Z</dcterms:modified>
  <cp:revision>2</cp:revision>
  <dc:subject/>
  <dc:title>Название курса «Дети и молодежь в англоязычных странах: жизнь, проблемы, права и обязанности»</dc:title>
</cp:coreProperties>
</file>