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C17-C1FC-436E-90BA-F469402C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F49-EA0E-4B43-9B1E-F34DE891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016-A1F1-48FE-B3C0-873CA870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D85-C0C8-4CEB-B5BB-3867234F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552-A449-4CB6-9D3B-994219B9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B3F-DE5F-4EEA-BCF4-E296841C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48E-1B07-4DC9-AF56-66223A79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4D2-41FA-44BD-9167-F92EF86A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6CC-AE59-49B1-A1F9-FB694E4B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1BA-F302-4F4E-B8F6-F3A8967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2AA-D752-4425-952F-60AC507B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22C-4F20-45CE-8D09-D07CE8E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8A64-E1FB-4E4F-934A-ADDD349D5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00040"/>
            <a:ext cx="7743960" cy="2857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Название курса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«Дети и молодежь в англоязычных странах: жизнь, проблемы, права и обязанности</a:t>
            </a: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3285720"/>
            <a:ext cx="7715520" cy="27147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2060"/>
                </a:solidFill>
                <a:latin typeface="Calibri"/>
              </a:rPr>
              <a:t>Выполнила: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2060"/>
                </a:solidFill>
                <a:latin typeface="Calibri"/>
              </a:rPr>
              <a:t>Быкова Алена, Евтихеева Кристина МБОУ СОШ№11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2060"/>
                </a:solidFill>
                <a:latin typeface="Calibri"/>
              </a:rPr>
              <a:t>Руководитель: </a:t>
            </a:r>
            <a:r>
              <a:rPr b="0" lang="ru-RU" sz="3700" spc="-1" strike="noStrike">
                <a:solidFill>
                  <a:srgbClr val="002060"/>
                </a:solidFill>
                <a:latin typeface="Calibri"/>
              </a:rPr>
              <a:t>В.В. Поскотин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зучение статей конвенции о правах ребенка, анали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опоставление документов и реальной жизн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а собственного достоин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знание своих пра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ешение конфликтов и споров правовыми средст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умения строить правовые от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общение к истории, праву, культуре, географии разных с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тивация к изучению английск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коммуникативных ум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резентационных навы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кур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42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ние факторам риска подростк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зни, вредным привычка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нарушениям и борьбе с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ческие умения и навы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со специальной терминолог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вод документов, статистических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исание короткого эссе, репортажа, пись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скуссия на английском язы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казывание по теме, аргументация своего м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ение творческой 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ИЧЕСКИЙ АППАРАТ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СЕОБЩ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КЛАРАЦИЯ ПРАВ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КОНВЕНЦИЯ О ПРАВАХ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 FARRELL. BRITISH LIFE AND INSTITUTIONS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БНИНСК:ТИТУЛ, 200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NG PEOPLE IN BRITAIN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ИЗД-ВО «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EIGN AND COMMONWELTH OFFIC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,199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ГАЛЬСКОВА И ДР. ОБУЧЕНИЕ НА БИЛИНГВАЛЬНОЙ ОСНОВЕ КАК КОМПОНЕНТ УГЛУБЛЕННОГО ЯЗЫКОВОГО ОБРАЗОВА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ЯШ.-20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ПРОГРАММА ПО ИНОСТРАННОМУ ЯЗЫКУ: ПРОГРАММНЫЕ ТРЕБОВАНИЯ ПО АНГЛИЙСКОМУ ЯЗЫКУ.- М.:  ДРОФА,199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КОНЦЕПЦИЯ МОДЕРНИЗАЦИИ РОССИЙСКОГО ОБРАЗОВАНИЯ НА ПЕРИОД ДО 2010 Г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ТНИК ОБРАЗОВАНИЯ.- №6.-200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9T00:07:44Z</dcterms:created>
  <dc:creator>Vasilina</dc:creator>
  <dc:description/>
  <dc:language>en-US</dc:language>
  <cp:lastModifiedBy>Vasilina</cp:lastModifiedBy>
  <dcterms:modified xsi:type="dcterms:W3CDTF">2013-05-19T02:39:20Z</dcterms:modified>
  <cp:revision>2</cp:revision>
  <dc:subject/>
  <dc:title>Название курса «Дети и молодежь в англоязычных странах: жизнь, проблемы, права и обязанности»</dc:title>
</cp:coreProperties>
</file>