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BF9-C186-46AC-AD6D-9EE10DBF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3F8-921D-4F5E-9867-5DAD34BE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571-7E51-483C-81B0-F2A9042D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0A0-1D16-419D-95A2-B3E22E73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7F91-0B7B-44AA-8961-1FD5D293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84E4-690A-4B1E-BA5F-6310858F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66DA-BC63-4BEF-8CCF-EF6E0749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CE94-5401-46E1-9B69-0E91AA1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1D2B-6291-435A-AD00-6C2D1B38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F054-4829-4742-BE51-CD79902E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CECF-4660-4D93-9113-8B18A6E3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993-D27B-4C10-A746-986DAA83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9A0E-304C-4007-801A-78386EFC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728-46BF-4BB7-A3BD-28F6CDCF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C868-DCD6-4D06-A30F-7666E9AA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DEF2-7A74-4D7B-9D58-5849B5AB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B490-E100-4A72-82C8-12A4BBA3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21F-5DE1-451C-87F2-495D7CC4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FE7-76B3-4693-83C9-116B425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D39-AD46-4E3C-AFC0-92913260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628-9E8F-485C-9FF5-3D22F9E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B2B-CD45-4863-9925-0B27500D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696-4F59-48C4-973E-F37B5073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0AD-877A-4748-ACB7-D537BEC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52CE-AF1C-4E7A-8086-DACDEB112B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11DF-DE35-4F06-B438-EF727E7053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mathematics-repetition.com/6-klass-mathematics/6-1-2-zadatchi-na-proportsiyu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5934b"/>
                </a:solidFill>
                <a:latin typeface="Monotype Corsiva"/>
              </a:rPr>
              <a:t>Проек</a:t>
            </a:r>
            <a:r>
              <a:rPr b="0" lang="ru-RU" sz="4800" spc="-1" strike="noStrike">
                <a:solidFill>
                  <a:srgbClr val="95934b"/>
                </a:solidFill>
                <a:latin typeface="Tahoma"/>
              </a:rPr>
              <a:t>т по теме </a:t>
            </a: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4800" spc="-1" strike="noStrike">
                <a:solidFill>
                  <a:srgbClr val="95934b"/>
                </a:solidFill>
                <a:latin typeface="Tahoma"/>
              </a:rPr>
              <a:t>Пропорции</a:t>
            </a: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”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готовила учащаяся 6 «А» класс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БОУ лицея №5 Кузьмина Ангели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Пропорции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Золотого сечения в искусстве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иная с Леонарда Да Винчи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ногие художники сознательно использовали пропорции золотого сечения. Размеры холста для картин художники нередко выбирали в соответствии с этой пропорци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20" descr="i(21)"/>
          <p:cNvPicPr/>
          <p:nvPr/>
        </p:nvPicPr>
        <p:blipFill>
          <a:blip r:embed="rId1"/>
          <a:stretch/>
        </p:blipFill>
        <p:spPr>
          <a:xfrm>
            <a:off x="5580000" y="206064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т – Петербур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зодче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38" descr="i(4)"/>
          <p:cNvPicPr/>
          <p:nvPr/>
        </p:nvPicPr>
        <p:blipFill>
          <a:blip r:embed="rId1"/>
          <a:stretch/>
        </p:blipFill>
        <p:spPr>
          <a:xfrm>
            <a:off x="4788000" y="2205000"/>
            <a:ext cx="331128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1943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олотое сечение присутствует в строении всех кристаллов. Снежинки, также представляют водяные кристаллы, вполне доступные нашему взор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Picture 13" descr="i(7)"/>
          <p:cNvPicPr/>
          <p:nvPr/>
        </p:nvPicPr>
        <p:blipFill>
          <a:blip r:embed="rId1"/>
          <a:stretch/>
        </p:blipFill>
        <p:spPr>
          <a:xfrm>
            <a:off x="5078520" y="1125360"/>
            <a:ext cx="3166920" cy="352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изысканной красоты фигуры, которые образуют снежинки, все оси, окружности и геометрические фигуры в снежинках также всегда без исключений построены по совершенной четкой формуле золотого се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Picture 8" descr="i(6)"/>
          <p:cNvPicPr/>
          <p:nvPr/>
        </p:nvPicPr>
        <p:blipFill>
          <a:blip r:embed="rId1"/>
          <a:stretch/>
        </p:blipFill>
        <p:spPr>
          <a:xfrm>
            <a:off x="5435640" y="2349360"/>
            <a:ext cx="2808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помни!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трём известным членам пропорции всегда можно найти её неизвестный (четвёртый) член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2428920" y="3643200"/>
            <a:ext cx="500040" cy="21402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7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Picture 8" descr=""/>
          <p:cNvPicPr/>
          <p:nvPr/>
        </p:nvPicPr>
        <p:blipFill>
          <a:blip r:embed="rId2"/>
          <a:stretch/>
        </p:blipFill>
        <p:spPr>
          <a:xfrm>
            <a:off x="3232080" y="4143240"/>
            <a:ext cx="625680" cy="1132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8" name="Picture 10" descr=""/>
          <p:cNvPicPr/>
          <p:nvPr/>
        </p:nvPicPr>
        <p:blipFill>
          <a:blip r:embed="rId3"/>
          <a:stretch/>
        </p:blipFill>
        <p:spPr>
          <a:xfrm>
            <a:off x="4071960" y="3714840"/>
            <a:ext cx="500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ешить пропорци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- значит, найти все её члены. Решим пропорцию ниж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найдём "x"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4" descr="task-proportion1"/>
          <p:cNvPicPr/>
          <p:nvPr/>
        </p:nvPicPr>
        <p:blipFill>
          <a:blip r:embed="rId1"/>
          <a:stretch/>
        </p:blipFill>
        <p:spPr>
          <a:xfrm>
            <a:off x="3203640" y="3860640"/>
            <a:ext cx="2381040" cy="16783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185760" y="3246480"/>
            <a:ext cx="2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айти "x", используем основное свойство пропорции (правило "креста"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перь мы готовы разбираться, как решать задачи на пропор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4" descr="task-proportion2"/>
          <p:cNvPicPr/>
          <p:nvPr/>
        </p:nvPicPr>
        <p:blipFill>
          <a:blip r:embed="rId1"/>
          <a:stretch/>
        </p:blipFill>
        <p:spPr>
          <a:xfrm>
            <a:off x="6588000" y="3213000"/>
            <a:ext cx="17719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уравн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 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8" name="Object 5"/>
          <p:cNvGraphicFramePr/>
          <p:nvPr/>
        </p:nvGraphicFramePr>
        <p:xfrm>
          <a:off x="1428840" y="2714760"/>
          <a:ext cx="14842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714760"/>
                    <a:ext cx="1484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3998880" y="2714760"/>
          <a:ext cx="129852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8880" y="2714760"/>
                    <a:ext cx="1298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Равно 9"/>
          <p:cNvSpPr/>
          <p:nvPr/>
        </p:nvSpPr>
        <p:spPr>
          <a:xfrm>
            <a:off x="3357720" y="3000240"/>
            <a:ext cx="428400" cy="285840"/>
          </a:xfrm>
          <a:prstGeom prst="pie">
            <a:avLst/>
          </a:prstGeom>
          <a:solidFill>
            <a:srgbClr val="000000"/>
          </a:solidFill>
          <a:ln w="25560">
            <a:solidFill>
              <a:srgbClr val="acad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cc5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x+4.4)*8.4=4.6(3x+5.1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8.4x+36.96=13.8x+23.46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5.4x=-13.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x=2.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лщина 300 листов бумаги для принтера составляет 3, 3 см. Какую толщину будет иметь пачка из 500 листов такой же бумаг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снить что такое пропорция золотого сече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бъекты построены с помощью золотого сечения 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решаются уравнения золотого сече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решаются задачи золотого сеч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х см — толщина пачки бумаги из 500 листов. Двумя способами найдем толщину одного листа бумаги:3,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00 или 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 как листы бумаги одинаковые, то эти два отношения равны между собой. Получаем пропорцию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апоминание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ропорция — это равенство дву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,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00=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00. Неизвестный средний член пропорции равен произведению крайних членов пропорции, деленному на известный средний член. х=(3,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00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00;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х=5,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пачка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0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листов бумаги имеет толщину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,5 с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лько воды содержится в 5 кг арбуза, если известно, что арбуз состоит на 98% из воды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я масса арбуза (5 кг) составляет 100%.  Вода составит х кг или 98%. Двумя способами можно найти, сколько кг приходится на 1% масс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0 или х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8. Получаем пропорцию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0 = х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=(5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8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0;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х=4,9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 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вет: в 5к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арбуза содержится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,9 кг вод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2014560" y="3292560"/>
            <a:ext cx="360" cy="27468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дача 3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сса 21 литра нефти составляет 16,8 кг. Какова масса 35 литров нефт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4968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масса 35 литров нефти составляет х кг. Тогда двумя способами можно найти массу 1 литра неф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6,8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1 или х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5. Получаем пропорцию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6,8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1=х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29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ходим средний член пропорции. Для этого перемножаем крайние члены пропорции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6,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и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и делим на известный средний член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. Сократим дробь н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7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аем числитель и знаменатель дроби на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чтобы в числителе и знаменателе были только натуральные числа. Сокращаем дробь н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5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5 и 10)  и на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(168 и 3).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литров нефти имеют массу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 кг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6"/>
          <p:cNvPicPr/>
          <p:nvPr/>
        </p:nvPicPr>
        <p:blipFill>
          <a:blip r:embed="rId1"/>
          <a:stretch/>
        </p:blipFill>
        <p:spPr>
          <a:xfrm>
            <a:off x="0" y="2492280"/>
            <a:ext cx="190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дача 4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 того, как было вспахано 82% всего поля, осталось вспахать еще 9 га. Какова площадь всего пол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площадь всего поля х га, что составляет 100%. Осталось вспахать 9 га, что составляет 100% — 82% = 18% всего поля. Двумя способами выразим 1% площади поля. Это: х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0 или 9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8. Составляем пропорцию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0 = 9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ходим неизвестный крайний член пропорции. Для этого перемножаем средние члены пропорции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и 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и делим на известный крайний член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 Сокращаем дроб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площадь всего поля 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50 г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Picture 4" descr="6"/>
          <p:cNvPicPr/>
          <p:nvPr/>
        </p:nvPicPr>
        <p:blipFill>
          <a:blip r:embed="rId1"/>
          <a:stretch/>
        </p:blipFill>
        <p:spPr>
          <a:xfrm>
            <a:off x="0" y="4854600"/>
            <a:ext cx="19638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158400"/>
            <a:ext cx="854064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Решим кроссворд 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5" descr="кр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80154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Где и кто начал изучать пропорции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орции начали изучать в Древней Греции. В IV веке до н. э. древнегреческий математик Евдокс дал определение пропорции, составленной из  величин любой природы. Древнегреческие математики с помощью пропорций решали задачи, которые в  настоящее время решают с помощью уравнений, выполняли алгебраические преобразования, переходя  от одной пропорции к друго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4" name="Picture 5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7" name="Picture 4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0" name="Picture 4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Picture 4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Picture 4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ты должен составить слово   из букв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,п,ц,п,р,я,и,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Правильно!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орци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ывод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этого проекта я узнала 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порции золотого сечен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бъекты выполнены  с помощью золотого сечения ,кто и ,где начал изучать пропорц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Дополнительная литератур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http://www.mathematics-repetition.com/6-klass-mathematics/6-1-2-zadatchi-na-proportsiyu.html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http://images.yandex.ru/yandsearch?source=wiz&amp;fp=2&amp;uinfo=ww-1349-wh-660-fw-1124-fh-454-pd-1&amp;p=2&amp;text=как%20выглядит%20пропорция%20золотого%20сечения&amp;noreask=1&amp;pos=73&amp;rpt=simage&amp;lr=10713&amp;img_url=http%3A%2F%2Fdreamworlds.ru%2Fuploads%2Fposts%2F2009-05%2F1243345879_zoltoe-sechenie.jp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1943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же древние греки использовали законы пропорции при строительстве здани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имер, Парфенон- храм в Афинах 5 век до нашей э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6" descr="11234"/>
          <p:cNvPicPr/>
          <p:nvPr/>
        </p:nvPicPr>
        <p:blipFill>
          <a:blip r:embed="rId1"/>
          <a:stretch/>
        </p:blipFill>
        <p:spPr>
          <a:xfrm>
            <a:off x="4572000" y="1125360"/>
            <a:ext cx="4194000" cy="2767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21"/>
          <p:cNvPicPr/>
          <p:nvPr/>
        </p:nvPicPr>
        <p:blipFill>
          <a:blip r:embed="rId2"/>
          <a:stretch/>
        </p:blipFill>
        <p:spPr>
          <a:xfrm>
            <a:off x="4643280" y="4005360"/>
            <a:ext cx="4175280" cy="25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строительстве фасада этого здания </a:t>
            </a: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использовали золотое сечение А – С – 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Если точка С расположена на отрезке АВ так, что выполняется равен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=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С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  то прямоугольник 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           С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ной АС и шириной СВ кажется очень красивым и приятны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иптяне использовали золотое сечение при строительстве пирами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Picture 82" descr="i(2)"/>
          <p:cNvPicPr/>
          <p:nvPr/>
        </p:nvPicPr>
        <p:blipFill>
          <a:blip r:embed="rId1"/>
          <a:stretch/>
        </p:blipFill>
        <p:spPr>
          <a:xfrm>
            <a:off x="5292720" y="1484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3" descr="piramid_golden_ratio"/>
          <p:cNvPicPr/>
          <p:nvPr/>
        </p:nvPicPr>
        <p:blipFill>
          <a:blip r:embed="rId2"/>
          <a:stretch/>
        </p:blipFill>
        <p:spPr>
          <a:xfrm>
            <a:off x="324000" y="3357720"/>
            <a:ext cx="3456000" cy="304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о считать, что объекты содержащие в себе золотое сечение воспринимаются людьми как наиболее гармоничными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порции пирамид Хеопса, барельефов, предметы быта и украшений из гробницы Тутанхамо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свидетельствуют, что египетские мастера пользовались соотношениями золотого сечения при их созда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ейцарский Архитектор Лее Корбюзье «нашел» , что в рельефе из храма фараона Сети1 в Абидосе и в рельефе, изображающем фараона Рамсеса, пропорции фигур соответствуют  величинам золотого де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6" descr="image091"/>
          <p:cNvPicPr/>
          <p:nvPr/>
        </p:nvPicPr>
        <p:blipFill>
          <a:blip r:embed="rId1"/>
          <a:stretch/>
        </p:blipFill>
        <p:spPr>
          <a:xfrm>
            <a:off x="5651640" y="2349360"/>
            <a:ext cx="2199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одчий Хесира, изображенный на рельефе деревянной доски из гробницы его имени  держит в руках измерительные инструменты, в которых зафиксированы пропорции золотого де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20" descr="i(7)"/>
          <p:cNvPicPr/>
          <p:nvPr/>
        </p:nvPicPr>
        <p:blipFill>
          <a:blip r:embed="rId1"/>
          <a:stretch/>
        </p:blipFill>
        <p:spPr>
          <a:xfrm>
            <a:off x="5435640" y="1989000"/>
            <a:ext cx="2736720" cy="36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5:33:54Z</dcterms:created>
  <dc:creator>Home</dc:creator>
  <dc:description/>
  <dc:language>en-US</dc:language>
  <cp:lastModifiedBy>u</cp:lastModifiedBy>
  <dcterms:modified xsi:type="dcterms:W3CDTF">2014-01-31T12:16:15Z</dcterms:modified>
  <cp:revision>15</cp:revision>
  <dc:subject/>
  <dc:title>Пропорция</dc:title>
</cp:coreProperties>
</file>