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7.wmf" ContentType="image/x-wmf"/>
  <Override PartName="/ppt/media/image16.wmf" ContentType="image/x-wmf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019-C269-4A16-8666-22640CBC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D2EB-CFF3-4A23-A1A9-664C5C8C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790-DCC9-4739-900C-7CADB2D3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8BDD-783A-4047-B014-62019B61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052B-2DB1-407E-AEC9-EDC48467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2F57-42C3-481E-A032-E96A28B7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E80E-2126-4839-8DF7-92547582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0424-F974-463C-A4FE-BE54C4C4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2457-9447-44EF-8BF6-E615A4B4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D3EF-D94C-47B3-8C55-E8F3DF3D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B041-3B4B-4A9F-B545-240A1E4B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19DF-985E-4E87-A7FD-D5542134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25ED-077E-40BE-94AB-A43BDD38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E1FC-015A-4D64-BA75-BC0D87A6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4EB8-3B7A-47C7-9F1C-6A591FE6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299C-1F49-4FB5-BE6B-21FF63AE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C85E-8D14-4CC0-8953-12D305DD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C8A-1361-4819-A53A-C5B4F621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FF17-D260-4599-98C6-63CDD21B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8A3-BC17-4DE2-B42E-E01D00CC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776E-8D53-465A-A227-5826DD3D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32C-C861-483D-BF7F-6984679F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696-67C2-41A1-841A-CEC75A20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5289-AC85-43D6-9AF1-7DA55AAF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A343-5062-4F12-8B0B-7DF090787A2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E84B-7D0D-4DD8-939C-FF27C47764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mathematics-repetition.com/6-klass-mathematics/6-1-2-zadatchi-na-proportsiyu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5934b"/>
                </a:solidFill>
                <a:latin typeface="Monotype Corsiva"/>
              </a:rPr>
              <a:t>Проек</a:t>
            </a:r>
            <a:r>
              <a:rPr b="0" lang="ru-RU" sz="4800" spc="-1" strike="noStrike">
                <a:solidFill>
                  <a:srgbClr val="95934b"/>
                </a:solidFill>
                <a:latin typeface="Tahoma"/>
              </a:rPr>
              <a:t>т по теме </a:t>
            </a:r>
            <a:r>
              <a:rPr b="0" lang="en-US" sz="4800" spc="-1" strike="noStrike">
                <a:solidFill>
                  <a:srgbClr val="95934b"/>
                </a:solidFill>
                <a:latin typeface="Tahoma"/>
              </a:rPr>
              <a:t>“</a:t>
            </a:r>
            <a:r>
              <a:rPr b="0" lang="ru-RU" sz="4800" spc="-1" strike="noStrike">
                <a:solidFill>
                  <a:srgbClr val="95934b"/>
                </a:solidFill>
                <a:latin typeface="Tahoma"/>
              </a:rPr>
              <a:t>Пропорции</a:t>
            </a:r>
            <a:r>
              <a:rPr b="0" lang="en-US" sz="4800" spc="-1" strike="noStrike">
                <a:solidFill>
                  <a:srgbClr val="95934b"/>
                </a:solidFill>
                <a:latin typeface="Tahoma"/>
              </a:rPr>
              <a:t>”</a:t>
            </a:r>
            <a:endParaRPr b="0" lang="en-US" sz="48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готовила учащаяся 6 «А» класс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БОУ лицея №5 Кузьмина Ангели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Monotype Corsiva"/>
              </a:rPr>
              <a:t>Пропорции</a:t>
            </a: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0066"/>
                </a:solidFill>
                <a:latin typeface="Monotype Corsiva"/>
              </a:rPr>
              <a:t>Золотого сечения в искусстве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иная с Леонарда Да Винчи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ногие художники сознательно использовали пропорции золотого сечения. Размеры холста для картин художники нередко выбирали в соответствии с этой пропорци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Picture 20" descr="i(21)"/>
          <p:cNvPicPr/>
          <p:nvPr/>
        </p:nvPicPr>
        <p:blipFill>
          <a:blip r:embed="rId1"/>
          <a:stretch/>
        </p:blipFill>
        <p:spPr>
          <a:xfrm>
            <a:off x="5580000" y="2060640"/>
            <a:ext cx="2879640" cy="36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ропорции</a:t>
            </a: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Золотого сече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нкт – Петербур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ица зодчег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с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3" name="Picture 38" descr="i(4)"/>
          <p:cNvPicPr/>
          <p:nvPr/>
        </p:nvPicPr>
        <p:blipFill>
          <a:blip r:embed="rId1"/>
          <a:stretch/>
        </p:blipFill>
        <p:spPr>
          <a:xfrm>
            <a:off x="4788000" y="2205000"/>
            <a:ext cx="3311280" cy="338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ропорции</a:t>
            </a: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Золотого сече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419436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олотое сечение присутствует в строении всех кристаллов. Снежинки, также представляют водяные кристаллы, вполне доступные нашему взор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6" name="Picture 13" descr="i(7)"/>
          <p:cNvPicPr/>
          <p:nvPr/>
        </p:nvPicPr>
        <p:blipFill>
          <a:blip r:embed="rId1"/>
          <a:stretch/>
        </p:blipFill>
        <p:spPr>
          <a:xfrm>
            <a:off x="5078520" y="1125360"/>
            <a:ext cx="3166920" cy="352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ропорции</a:t>
            </a: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Золотого сече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изысканной красоты фигуры, которые образуют снежинки, все оси, окружности и геометрические фигуры в снежинках также всегда без исключений построены по совершенной четкой формуле золотого сеч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9" name="Picture 8" descr="i(6)"/>
          <p:cNvPicPr/>
          <p:nvPr/>
        </p:nvPicPr>
        <p:blipFill>
          <a:blip r:embed="rId1"/>
          <a:stretch/>
        </p:blipFill>
        <p:spPr>
          <a:xfrm>
            <a:off x="5435640" y="2349360"/>
            <a:ext cx="280836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помни!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 трём известным членам пропорции всегда можно найти её неизвестный (четвёртый) член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2428920" y="3643200"/>
            <a:ext cx="500040" cy="21402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7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6" name="Picture 8" descr=""/>
          <p:cNvPicPr/>
          <p:nvPr/>
        </p:nvPicPr>
        <p:blipFill>
          <a:blip r:embed="rId2"/>
          <a:stretch/>
        </p:blipFill>
        <p:spPr>
          <a:xfrm>
            <a:off x="3232080" y="4143240"/>
            <a:ext cx="625680" cy="113220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8" name="Picture 10" descr=""/>
          <p:cNvPicPr/>
          <p:nvPr/>
        </p:nvPicPr>
        <p:blipFill>
          <a:blip r:embed="rId3"/>
          <a:stretch/>
        </p:blipFill>
        <p:spPr>
          <a:xfrm>
            <a:off x="4071960" y="3714840"/>
            <a:ext cx="500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ешить пропорци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 - значит, найти все её члены. Решим пропорцию ниж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найдём "x"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Picture 4" descr="task-proportion1"/>
          <p:cNvPicPr/>
          <p:nvPr/>
        </p:nvPicPr>
        <p:blipFill>
          <a:blip r:embed="rId1"/>
          <a:stretch/>
        </p:blipFill>
        <p:spPr>
          <a:xfrm>
            <a:off x="3203640" y="3860640"/>
            <a:ext cx="2381040" cy="167832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6"/>
          <p:cNvSpPr/>
          <p:nvPr/>
        </p:nvSpPr>
        <p:spPr>
          <a:xfrm>
            <a:off x="185760" y="3246480"/>
            <a:ext cx="22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1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бы найти "x", используем основное свойство пропорции (правило "креста"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перь мы готовы разбираться, как решать задачи на пропорци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5" name="Picture 4" descr="task-proportion2"/>
          <p:cNvPicPr/>
          <p:nvPr/>
        </p:nvPicPr>
        <p:blipFill>
          <a:blip r:embed="rId1"/>
          <a:stretch/>
        </p:blipFill>
        <p:spPr>
          <a:xfrm>
            <a:off x="6588000" y="3213000"/>
            <a:ext cx="17719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уравн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  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8" name="Object 5"/>
          <p:cNvGraphicFramePr/>
          <p:nvPr/>
        </p:nvGraphicFramePr>
        <p:xfrm>
          <a:off x="1428840" y="2714760"/>
          <a:ext cx="148428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2714760"/>
                    <a:ext cx="14842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6"/>
          <p:cNvGraphicFramePr/>
          <p:nvPr/>
        </p:nvGraphicFramePr>
        <p:xfrm>
          <a:off x="3998880" y="2714760"/>
          <a:ext cx="129852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8880" y="2714760"/>
                    <a:ext cx="12985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Равно 9"/>
          <p:cNvSpPr/>
          <p:nvPr/>
        </p:nvSpPr>
        <p:spPr>
          <a:xfrm>
            <a:off x="3357720" y="3000240"/>
            <a:ext cx="428400" cy="285840"/>
          </a:xfrm>
          <a:prstGeom prst="pie">
            <a:avLst/>
          </a:prstGeom>
          <a:solidFill>
            <a:srgbClr val="000000"/>
          </a:solidFill>
          <a:ln w="25560">
            <a:solidFill>
              <a:srgbClr val="acad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ddcc5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Реш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x+4.4)*8.4=4.6(3x+5.1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8.4x+36.96=13.8x+23.46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5.4x=-13.5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x=2.5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дача 1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лщина 300 листов бумаги для принтера составляет 3, 3 см. Какую толщину будет иметь пачка из 500 листов такой же бумаги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яснить что такое пропорция золотого сечени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объекты построены с помощью золотого сечения 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решаются уравнения золотого сечени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решаются задачи золотого сеч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Реш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сть х см — толщина пачки бумаги из 500 листов. Двумя способами найдем толщину одного листа бумаги:3,3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00 или х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ак как листы бумаги одинаковые, то эти два отношения равны между собой. Получаем пропорцию (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напоминание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ропорция — это равенство двух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,3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00=х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00. Неизвестный средний член пропорции равен произведению крайних членов пропорции, деленному на известный средний член. х=(3,3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00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00;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х=5,5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пачка 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500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листов бумаги имеет толщину 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5,5 с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дача 2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олько воды содержится в 5 кг арбуза, если известно, что арбуз состоит на 98% из воды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Реш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ся масса арбуза (5 кг) составляет 100%.  Вода составит х кг или 98%. Двумя способами можно найти, сколько кг приходится на 1% масс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00 или х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98. Получаем пропорцию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00 = х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9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=(5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98)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00;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х=4,9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 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твет: в 5к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арбуза содержится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4,9 кг вод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2014560" y="3292560"/>
            <a:ext cx="360" cy="27468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дача 3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сса 21 литра нефти составляет 16,8 кг. Какова масса 35 литров нефти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4968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Реш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масса 35 литров нефти составляет х кг. Тогда двумя способами можно найти массу 1 литра нефт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6,8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1 или х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5. Получаем пропорцию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6,8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1=х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5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547280" y="1599840"/>
            <a:ext cx="7294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ходим средний член пропорции. Для этого перемножаем крайние члены пропорции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6,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и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35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и делим на известный средний член (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. Сократим дробь на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 7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ножаем числитель и знаменатель дроби на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чтобы в числителе и знаменателе были только натуральные числа. Сокращаем дробь на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 5 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5 и 10)  и на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(168 и 3).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твет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35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литров нефти имеют массу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 кг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1" name="Picture 4" descr="6"/>
          <p:cNvPicPr/>
          <p:nvPr/>
        </p:nvPicPr>
        <p:blipFill>
          <a:blip r:embed="rId1"/>
          <a:stretch/>
        </p:blipFill>
        <p:spPr>
          <a:xfrm>
            <a:off x="0" y="2492280"/>
            <a:ext cx="1908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дача 4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ле того, как было вспахано 82% всего поля, осталось вспахать еще 9 га. Какова площадь всего поля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Реш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площадь всего поля х га, что составляет 100%. Осталось вспахать 9 га, что составляет 100% — 82% = 18% всего поля. Двумя способами выразим 1% площади поля. Это: х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00 или 9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8. Составляем пропорцию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00 = 9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ходим неизвестный крайний член пропорции. Для этого перемножаем средние члены пропорции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 и 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и делим на известный крайний член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. Сокращаем дроб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ве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площадь всего поля 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50 г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8" name="Picture 4" descr="6"/>
          <p:cNvPicPr/>
          <p:nvPr/>
        </p:nvPicPr>
        <p:blipFill>
          <a:blip r:embed="rId1"/>
          <a:stretch/>
        </p:blipFill>
        <p:spPr>
          <a:xfrm>
            <a:off x="0" y="4854600"/>
            <a:ext cx="196380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158400"/>
            <a:ext cx="854064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Решим кроссворд </a:t>
            </a:r>
            <a:br>
              <a:rPr sz="4000"/>
            </a:b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1" name="Picture 5" descr="кр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6560" y="980640"/>
            <a:ext cx="8015400" cy="3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Где и кто начал изучать пропорции 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порции начали изучать в Древней Греции. В IV веке до н. э. древнегреческий математик Евдокс дал определение пропорции, составленной из  величин любой природы. Древнегреческие математики с помощью пропорций решали задачи, которые в  настоящее время решают с помощью уравнений, выполняли алгебраические преобразования, переходя  от одной пропорции к друго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4" name="Picture 5" descr="кроооо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7" name="Picture 4" descr="крооо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0" name="Picture 4" descr="крооо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Picture 4" descr="крооо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6" name="Picture 4" descr="крооо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ты должен составить слово   из букв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,п,ц,п,р,я,и,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Правильно!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порция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ывод 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этого проекта я узнала 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опорции золотого сечени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объекты выполнены  с помощью золотого сечения ,кто и ,где начал изучать пропорц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Дополнительная литератур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00"/>
                </a:solidFill>
                <a:uFillTx/>
                <a:latin typeface="Tahoma"/>
                <a:hlinkClick r:id="rId1"/>
              </a:rPr>
              <a:t>http://www.mathematics-repetition.com/6-klass-mathematics/6-1-2-zadatchi-na-proportsiyu.html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http://images.yandex.ru/yandsearch?source=wiz&amp;fp=2&amp;uinfo=ww-1349-wh-660-fw-1124-fh-454-pd-1&amp;p=2&amp;text=как%20выглядит%20пропорция%20золотого%20сечения&amp;noreask=1&amp;pos=73&amp;rpt=simage&amp;lr=10713&amp;img_url=http%3A%2F%2Fdreamworlds.ru%2Fuploads%2Fposts%2F2009-05%2F1243345879_zoltoe-sechenie.jp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ропорции</a:t>
            </a: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Золотого сече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19436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же древние греки использовали законы пропорции при строительстве здани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пример, Парфенон- храм в Афинах 5 век до нашей э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Picture 6" descr="11234"/>
          <p:cNvPicPr/>
          <p:nvPr/>
        </p:nvPicPr>
        <p:blipFill>
          <a:blip r:embed="rId1"/>
          <a:stretch/>
        </p:blipFill>
        <p:spPr>
          <a:xfrm>
            <a:off x="4572000" y="1125360"/>
            <a:ext cx="4194000" cy="27673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21"/>
          <p:cNvPicPr/>
          <p:nvPr/>
        </p:nvPicPr>
        <p:blipFill>
          <a:blip r:embed="rId2"/>
          <a:stretch/>
        </p:blipFill>
        <p:spPr>
          <a:xfrm>
            <a:off x="4643280" y="4005360"/>
            <a:ext cx="4175280" cy="25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Monotype Corsiva"/>
              </a:rPr>
              <a:t>Пропорции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Monotype Corsiva"/>
              </a:rPr>
              <a:t>Золотого сече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строительстве фасада этого здания </a:t>
            </a:r>
            <a:r>
              <a:rPr b="1" i="1" lang="ru-RU" sz="3200" spc="-1" strike="noStrike">
                <a:solidFill>
                  <a:srgbClr val="ff9900"/>
                </a:solidFill>
                <a:latin typeface="Times New Roman"/>
              </a:rPr>
              <a:t>использовали золотое сечение А – С – 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Если точка С расположена на отрезке АВ так, что выполняется равенст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=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С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  то прямоугольник с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С           С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инной АС и шириной СВ кажется очень красивым и приятны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ропорции</a:t>
            </a: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Золотого сече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19400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гиптяне использовали золотое сечение при строительстве пирами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8" name="Picture 82" descr="i(2)"/>
          <p:cNvPicPr/>
          <p:nvPr/>
        </p:nvPicPr>
        <p:blipFill>
          <a:blip r:embed="rId1"/>
          <a:stretch/>
        </p:blipFill>
        <p:spPr>
          <a:xfrm>
            <a:off x="5292720" y="1484280"/>
            <a:ext cx="3168720" cy="2232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3" descr="piramid_golden_ratio"/>
          <p:cNvPicPr/>
          <p:nvPr/>
        </p:nvPicPr>
        <p:blipFill>
          <a:blip r:embed="rId2"/>
          <a:stretch/>
        </p:blipFill>
        <p:spPr>
          <a:xfrm>
            <a:off x="324000" y="3357720"/>
            <a:ext cx="3456000" cy="304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ропорции</a:t>
            </a: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Золотого сече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ято считать, что объекты содержащие в себе золотое сечение воспринимаются людьми как наиболее гармоничными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порции пирамид Хеопса, барельефов, предметы быта и украшений из гробницы Тутанхамо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свидетельствуют, что египетские мастера пользовались соотношениями золотого сечения при их созда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ропорции</a:t>
            </a: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Золотого сече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вейцарский Архитектор Лее Корбюзье «нашел» , что в рельефе из храма фараона Сети1 в Абидосе и в рельефе, изображающем фараона Рамсеса, пропорции фигур соответствуют  величинам золотого дел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Picture 6" descr="image091"/>
          <p:cNvPicPr/>
          <p:nvPr/>
        </p:nvPicPr>
        <p:blipFill>
          <a:blip r:embed="rId1"/>
          <a:stretch/>
        </p:blipFill>
        <p:spPr>
          <a:xfrm>
            <a:off x="5651640" y="2349360"/>
            <a:ext cx="21999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ропорции</a:t>
            </a:r>
            <a:r>
              <a:rPr b="0" lang="ru-RU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Золотого сече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одчий Хесира, изображенный на рельефе деревянной доски из гробницы его имени  держит в руках измерительные инструменты, в которых зафиксированы пропорции золотого дел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Picture 20" descr="i(7)"/>
          <p:cNvPicPr/>
          <p:nvPr/>
        </p:nvPicPr>
        <p:blipFill>
          <a:blip r:embed="rId1"/>
          <a:stretch/>
        </p:blipFill>
        <p:spPr>
          <a:xfrm>
            <a:off x="5435640" y="1989000"/>
            <a:ext cx="2736720" cy="360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05:33:54Z</dcterms:created>
  <dc:creator>Home</dc:creator>
  <dc:description/>
  <dc:language>en-US</dc:language>
  <cp:lastModifiedBy>u</cp:lastModifiedBy>
  <dcterms:modified xsi:type="dcterms:W3CDTF">2014-01-31T12:16:15Z</dcterms:modified>
  <cp:revision>15</cp:revision>
  <dc:subject/>
  <dc:title>Пропорция</dc:title>
</cp:coreProperties>
</file>