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708D-E415-4F18-97C3-A9E0E011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2681-DDC6-4E93-A225-CB717627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0811-1F57-4E9D-B3BF-E9157F32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0697-9262-499A-94EF-0FB6A3F5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5D79-F65D-47EE-98FA-34574E74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4013-AB4B-4D7E-AA14-4EBF386B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0ECB-D712-4ED7-BCB0-0CF6E664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AEAA-6656-45D7-A727-E7D61679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6D42-25CC-4183-8424-D9914FD4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F3F4-0E4E-4B00-A8BE-D97B1549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5741-A6FF-482D-88A4-D8614A32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9DA1-934E-4A5B-9179-A0E41DC4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1835-37BD-4F02-B045-F4A5EDB1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90C8-EEEB-4EF8-A337-88A61946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A957-2264-4C48-9D0A-0DF53424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C62B-C237-4580-AAE0-06825D66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2437-2634-4323-A6BB-9FC3EAA1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DCE4-62BD-4EA8-BD6B-53354582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5C71-C326-4C14-8125-F61F2639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A999-C940-4F94-B640-5AE8F4BA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B997-8C49-460F-BAFF-CE268D90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0653-2798-4484-9560-E275D9A3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6288-7EA3-4E80-A09C-E2371A6D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51FD-999C-48AB-B4F7-FF595AF8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EDD3-3AF8-49D5-90AD-72EDF385F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BE9B-E8B3-40F3-A078-5AB1E912D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439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МУНИЦИПАЛЬНОЕ ОБЩЕОБРАЗОВАТЕЛЬНОЕ УЧРЕЖДЕНИЕ</a:t>
            </a:r>
            <a:br>
              <a:rPr sz="1600"/>
            </a:b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ГИМНАЗИЯ №9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1773360"/>
            <a:ext cx="60195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Влияние лечебной физкультуры на людей в возрасте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0 – 50 лет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83120" y="3870000"/>
            <a:ext cx="32608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ыполни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Домбровская Виолет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еница 11 Г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Заудер П.А., преподаватель физической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580464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Челябинск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17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ческая культура в зрелом возра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кетирование и опрос показали, что наиболее предпочтительными и привлекательными формами и видами оздоровительной физической культуры для людей зрелого возраста явля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осстановительная гимнастика – 62% опрош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анятия по типу ОФП (общая физическая подготовка) – 46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анятия по типу ЛФК – 38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утренняя гимнастика  - 36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ходы выходного дня – 34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портивные и подвижные игры  - 32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здоровительный бег, ходьба, прогулки – 24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лавание – 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.С. Норбе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рзакарим Санакулович Норбеков - доктор психологии, доктор педагогики, доктор философии в медицине, професс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1741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стема Норбе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Норбекова была признана самой эффективной среди известных альтернативных оздоровительных систем. Она основана на древних традициях восточной медицины и достижениях современной на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ейный отдел позвоноч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Подбородок скользит вниз по грудине, касаясь груди (в шее чувствуется напря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Наклоны головы вправо и влево не поднимая плеч. Позвоночник постоянно прямой. Движения плавные, плечи неподвижны. Наклоняемся без сильных напряжений. Выполнять по 10-15 движений в каждую сторо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«Сова». Поворот головы вправо и влево до упора. Спина и голова на одной линии. 10-15 движений в каждую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3860640"/>
            <a:ext cx="1895400" cy="2376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82840" y="3933720"/>
            <a:ext cx="2276640" cy="251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372360" y="3789360"/>
            <a:ext cx="19144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хне-грудной отдел позвоноч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дъем плеч вверх и опускание вниз. Голова неподвижна, позвоночник прямой. Опуская плечи, руки тянем по швам, прилагаем небольшое усил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аклоны вправо и влево, руки по швам. Упражнение выполняется стоя, руки прямые, опущены и плотно прижаты к туловищу. Кончиками пальцев правой руки постараться достать до ступни. Позвоночник будет становиться все более гибким. Наклоны выполняются по 10 раз в каждую сторону, во время сгибания – выдох, при подъеме – вдо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крутка. Все отделы ниже верхне-грудного – фиксированы. Кисти на плечах, голова прямо, смотрим перед собой. В этом положении делаем вращения позвоно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84720" y="4149720"/>
            <a:ext cx="126360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4149720"/>
            <a:ext cx="892080" cy="249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1546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ижне-грудной отдел позвоноч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Наклоны вперед, как бы стараясь достать носом пуп. Упражнение выполняют сидя на стуле или на полу. Руками держимся за сиденье стула и тянем голову в область пупка. Выдох во время сгибания и вдох при подъеме головы. Спину выпрямляем полностью. 10-15 накл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«Лук». Кулаки сзади на области почек. Стараемся как можно ближе свести локти. Положение позвоночника – как натянутый лук. В этом положении стараемся как бы чуть-чуть прогнуть позвоночн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«Большие весы». Левая рука на затылке, правая – вдоль тела. В этом положении делаем наклоны вправо и вле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2735280" cy="1471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76720" y="5373720"/>
            <a:ext cx="2736720" cy="1066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948360" y="4952880"/>
            <a:ext cx="7574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ясничный отдел позвоноч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Лыжник». Руки сзади на пояснице, наклоняемся вперед. Спина прямая, смотрим вперед. Совершаем наклоны вперед, растягивая мышцы пояс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клоны вперед с поднятыми руками. Упражнение выполняется стоя. Ноги на ширине плеч. Поднимаем руки вверх. Смыкаем пальцы в замок и, не сгибая колен, начинаем движение. 2 раза по 10-15 накл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ажнение выполняют  сидя на коврике. Ноги разведены в стороны. Максимальные наклоны к левой, правой ноге, посередине во время выдо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1832040" cy="1873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356000" y="4653000"/>
            <a:ext cx="32054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пражнения для суставов р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сжать-разжать (быстр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вращение в обе стороны в лучезапястном суста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ктевой сустав – «Арлекино». Плечи и плечевые суставы фиксированы, руки «свисают». Локти свободно, как бы на шарнирах, совершают колебательные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чевой сустав – «Пропеллер». Свободное вращение всей руки в плечевом суставе перед туловищем. Туловище слегка наклонено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95640" y="4076640"/>
            <a:ext cx="1496880" cy="208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12189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пражнения для ст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носок тянем на себя, затем от себ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топчемся на месте, переступая с ноги на н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 наружных сторонах ст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 внутренних сторонах ст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 паль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 пят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вращение стоп по очер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ленные и тазобедренные сустав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ем стоя. Плечи 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говые движения коленным суставом вовнутрь, потом нару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гибание-разгибание ко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щение. Нога отводится в сторону под углом 90º. Делаем легкое колебательное движение в сторону каждой ногой от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ждение на прямых ногах на всей стопе. Работает только тазобедренный суст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35280" y="4941720"/>
            <a:ext cx="1398600" cy="165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076720" y="4653000"/>
            <a:ext cx="1038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лечебной физ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ем польза ЛФ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еская культура в зрелом возра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лексы упраж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лекс упражнений по Норбек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принятия контрастного д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астный ду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ливание — это комплекс мероприятий по повышению устойчивости организма к воздействию неблагоприятных погодно-климатических усло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ливающие процедуры нормализуют состояние эмоциональной сферы, делают человека более уравновешенным, они придают бод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астный д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ливание повышает работоспособность и выносливость организма. Один из методов закаливания – контрастный ду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27280" y="4076640"/>
            <a:ext cx="3529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а принятия контрастного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ыкать к контрастному душу нужно постеп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отяжении 2-х - 4-х недель ежедневно принимать комфортный душ (вода приятной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ем делать только один контраст и не очень долго стоять под холодной водой (5-10 сек.), через неделю-другую перейти на два, а затем и на три конт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огда вначале можно уменьшать перепад температур, то есть обливаться не самой холодной и горячей водой, а теплой и прохлад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что делать, если душа (или горячей воды) нет? Обливаться из ведра или принимать холодный душ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ход при желании всегда можн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астный д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ивать надо все части тела. Всего делают три контраста (перехода от горячей к холодной). Завершать надо всегда холодной водой. Перед охлаждением всего тела желательно не забывать смачивать лицо. Вот примерная схема душ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ый (чтобы привыкло т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ячий (пока прия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ный (20-30 и более секун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ячий (20-40 секун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ный (до минуты и боле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ячий (20-60 секун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ный (сколько прия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56360" y="3716280"/>
            <a:ext cx="1905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чебная физическая культу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ЛФК) — это метод лечения, состоящий в применении физических упражнений и естественных факторов природы к больному человеку с лечебно-профилактическими ц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нове этого метода лежит использование основной биологической функции организма — дви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чем польза ЛФ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, за счет повышения активности обмена веществ и других процессов в организме, может влиять на скорость выздоровления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может использоваться как для оздоровления всего организма в целом, так и для воздействия на определенные орг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подготавливает организм к нормальному функционированию в обычных жизненных условиях после перенесенной боле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может использоваться как самостоятельный метод восстановления после болезни, так и в комплексе с другими мето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может использоваться для профилактики различных заболеваний, лечения их, а также реабилитации человека после выздор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Лечебная физкультура является естественным для организма способом оздоровления, ведь все мы помним фразу: «Движение – это жизнь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азывать тонизирующее воздействие на нервную систему (с помощью гормонов оказывается положительное влияние  на психоэмоциональную сферу, тем самым улучшается настрое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43280" y="4005360"/>
            <a:ext cx="31687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янно стимулировать функции сердечно-сосудистой и дыхательной систем (способствует снижению тонуса сосудов, нормализует давл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17557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еплять мышечную систему, сохранять и улучшать подвижность в суставах (с помощью постоянных тренировок возрастает мышечная сил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48000" y="4076640"/>
            <a:ext cx="199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ЛФ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учшать процессы обмена веществ (в том числе улучшается и деятельность кишечника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держивать полноценность жизненно важных двигательных качеств, навыков и ум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лексы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ы упражнений занимают немного времени (8-10 минут). Они  используются для снятия локального мышечного напряжения или общего утомления в течение дня. К таким комплексам относится и комплекс упражнений по Норбек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0:11:12Z</dcterms:created>
  <dc:creator>Виолетта</dc:creator>
  <dc:description/>
  <dc:language>en-US</dc:language>
  <cp:lastModifiedBy>Toshiba</cp:lastModifiedBy>
  <dcterms:modified xsi:type="dcterms:W3CDTF">2009-12-15T20:11:54Z</dcterms:modified>
  <cp:revision>25</cp:revision>
  <dc:subject/>
  <dc:title>Тема:</dc:title>
</cp:coreProperties>
</file>