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E372-795B-4BCA-990B-6EF6D366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6ADF-71BB-412C-A599-CB6F877F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3EFD-2282-41E2-A379-9DFBF34E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7421-57B7-423C-9EF0-F0895BD8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E1E4-31A0-4AC8-98FF-F96FFABD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A01A-D993-4D0D-BAE5-909E8D2C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3922-490C-4397-BA33-1F00039D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0F1C-734B-414F-8E81-2894E89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7769-13F8-4F08-AF99-6BDEF970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BCDE-F76E-4680-AEB9-4C1CB89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52DE-D284-41E4-955B-2C4B04F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0AEB-66BB-467B-A295-643CF44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12D-A946-4690-96F7-8E540B5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05B7-F9A3-40E9-B811-1529966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FDF3-51A6-4D09-8CE4-F79EAF9F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F7B2-C994-401A-89C2-1A047DF6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C1E5-322B-4B7B-A666-2E7E36E2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5F26-EE98-441E-82AD-980FFD43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FAB8-2754-4740-8CB3-B22641EA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4B57-75E9-4C4A-AECD-8BC53411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AE3A-272B-4E68-8840-37BA8B32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DD8B-06DF-453B-AA20-CA69C30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2DDB-9D35-46D1-A9FE-0578BF5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BC83-5A5D-43B7-870D-9517CEE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67D4-4EF0-422A-A745-C3820D786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A465-2037-46C3-9FD1-4E6FC69EE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439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МУНИЦИПАЛЬНОЕ ОБЩЕОБРАЗОВАТЕЛЬНОЕ УЧРЕЖДЕНИЕ</a:t>
            </a:r>
            <a:br>
              <a:rPr sz="1600"/>
            </a:b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ГИМНАЗИЯ №9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1773360"/>
            <a:ext cx="60195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лияние лечебной физкультуры на людей в возрасте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0 – 50 лет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83120" y="3870000"/>
            <a:ext cx="3260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полни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Домбровская Виолет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еница 11 Г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Заудер П.А., преподаватель физическ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5804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Челябинск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ческая культура в зрелом возра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кетирование и опрос показали, что наиболее предпочтительными и привлекательными формами и видами оздоровительной физической культуры для людей зрелого возраста явля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становительная гимнастика – 62% опрош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нятия по типу ОФП (общая физическая подготовка) – 46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нятия по типу ЛФК – 38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тренняя гимнастика  - 36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ходы выходного дня – 34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портивные и подвижные игры  - 32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здоровительный бег, ходьба, прогулки – 24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лавание – 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С. Норбе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рзакарим Санакулович Норбеков - доктор психологии, доктор педагогики, доктор философии в медицине, професс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1741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Норбе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Норбекова была признана самой эффективной среди известных альтернативных оздоровительных систем. Она основана на древних традициях восточной медицины и достижениях современной на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ейный отдел позвоноч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Подбородок скользит вниз по грудине, касаясь груди (в шее чувствуется напря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Наклоны головы вправо и влево не поднимая плеч. Позвоночник постоянно прямой. Движения плавные, плечи неподвижны. Наклоняемся без сильных напряжений. Выполнять по 10-15 движений в каждую сторо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«Сова». Поворот головы вправо и влево до упора. Спина и голова на одной линии. 10-15 движений в каждую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3860640"/>
            <a:ext cx="1895400" cy="237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82840" y="3933720"/>
            <a:ext cx="2276640" cy="251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372360" y="3789360"/>
            <a:ext cx="19144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хне-грудной отдел позвоноч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дъем плеч вверх и опускание вниз. Голова неподвижна, позвоночник прямой. Опуская плечи, руки тянем по швам, прилагаем небольшое усил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аклоны вправо и влево, руки по швам. Упражнение выполняется стоя, руки прямые, опущены и плотно прижаты к туловищу. Кончиками пальцев правой руки постараться достать до ступни. Позвоночник будет становиться все более гибким. Наклоны выполняются по 10 раз в каждую сторону, во время сгибания – выдох, при подъеме – вдо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крутка. Все отделы ниже верхне-грудного – фиксированы. Кисти на плечах, голова прямо, смотрим перед собой. В этом положении делаем вращения позвоно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84720" y="4149720"/>
            <a:ext cx="126360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4149720"/>
            <a:ext cx="892080" cy="249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1546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жне-грудной отдел позвоноч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Наклоны вперед, как бы стараясь достать носом пуп. Упражнение выполняют сидя на стуле или на полу. Руками держимся за сиденье стула и тянем голову в область пупка. Выдох во время сгибания и вдох при подъеме головы. Спину выпрямляем полностью. 10-15 накл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«Лук». Кулаки сзади на области почек. Стараемся как можно ближе свести локти. Положение позвоночника – как натянутый лук. В этом положении стараемся как бы чуть-чуть прогнуть позвоноч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«Большие весы». Левая рука на затылке, правая – вдоль тела. В этом положении делаем наклоны вправо и вле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2735280" cy="1471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76720" y="5373720"/>
            <a:ext cx="273672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948360" y="4952880"/>
            <a:ext cx="757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сничный отдел позвоно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Лыжник». Руки сзади на пояснице, наклоняемся вперед. Спина прямая, смотрим вперед. Совершаем наклоны вперед, растягивая мышцы пояс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клоны вперед с поднятыми руками. Упражнение выполняется стоя. Ноги на ширине плеч. Поднимаем руки вверх. Смыкаем пальцы в замок и, не сгибая колен, начинаем движение. 2 раза по 10-15 накл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ажнение выполняют  сидя на коврике. Ноги разведены в стороны. Максимальные наклоны к левой, правой ноге, посередине во время выдо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1832040" cy="1873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56000" y="4653000"/>
            <a:ext cx="32054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пражнения для суставов р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сжать-разжать (быстр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вращение в обе стороны в лучезапястном суста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ктевой сустав – «Арлекино». Плечи и плечевые суставы фиксированы, руки «свисают». Локти свободно, как бы на шарнирах, совершают колебательные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чевой сустав – «Пропеллер». Свободное вращение всей руки в плечевом суставе перед туловищем. Туловище слегка наклонено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95640" y="4076640"/>
            <a:ext cx="1496880" cy="208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12189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пражнения для ст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носок тянем на себя, затем от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топчемся на месте, переступая с ноги на н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наружных сторонах ст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внутренних сторонах ст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паль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пят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ращение стоп по очер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ленные и тазобедренные сустав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ем стоя. Плечи 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говые движения коленным суставом вовнутрь, потом нару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гибание-разгибание ко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щение. Нога отводится в сторону под углом 90º. Делаем легкое колебательное движение в сторону каждой ногой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ждение на прямых ногах на всей стопе. Работает только тазобедренный суст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35280" y="4941720"/>
            <a:ext cx="1398600" cy="165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76720" y="4653000"/>
            <a:ext cx="1038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лечебной физ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м польза ЛФ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ая культура в зрелом возра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лексы упраж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лекс упражнений по Норбек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принятия контрастного д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астный ду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ивание — это комплекс мероприятий по повышению устойчивости организма к воздействию неблагоприятных погодно-климатических усло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ивающие процедуры нормализуют состояние эмоциональной сферы, делают человека более уравновешенным, они придают бод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астный д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ивание повышает работоспособность и выносливость организма. Один из методов закаливания – контрастный ду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352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принятия контрастного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ыкать к контрастному душу нужно постеп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отяжении 2-х - 4-х недель ежедневно принимать комфортный душ (вода приятной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ем делать только один контраст и не очень долго стоять под холодной водой (5-10 сек.), через неделю-другую перейти на два, а затем и на три конт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огда вначале можно уменьшать перепад температур, то есть обливаться не самой холодной и горячей водой, а теплой и прохлад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что делать, если душа (или горячей воды) нет? Обливаться из ведра или принимать холодный душ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ход при желании всегда можн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астный д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ивать надо все части тела. Всего делают три контраста (перехода от горячей к холодной). Завершать надо всегда холодной водой. Перед охлаждением всего тела желательно не забывать смачивать лицо. Вот примерная схема душ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ый (чтобы привыкло т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ячий (пока прия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 (20-30 и более секу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ячий (20-40 секу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 (до минуты и бо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ячий (20-60 секу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 (сколько прия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56360" y="3716280"/>
            <a:ext cx="1905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бная физическая куль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ЛФК) — это метод лечения, состоящий в применении физических упражнений и естественных факторов природы к больному человеку с лечебно-профилактическими ц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нове этого метода лежит использование основной биологической функции организма — дви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чем польза ЛФ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, за счет повышения активности обмена веществ и других процессов в организме, может влиять на скорость выздоровления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может использоваться как для оздоровления всего организма в целом, так и для воздействия на определенные орг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подготавливает организм к нормальному функционированию в обычных жизненных условиях после перенесенной боле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может использоваться как самостоятельный метод восстановления после болезни, так и в комплексе с другими мето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может использоваться для профилактики различных заболеваний, лечения их, а также реабилитации человека после выздор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является естественным для организма способом оздоровления, ведь все мы помним фразу: «Движение – это жизнь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азывать тонизирующее воздействие на нервную систему (с помощью гормонов оказывается положительное влияние  на психоэмоциональную сферу, тем самым улучшается настро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1687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янно стимулировать функции сердечно-сосудистой и дыхательной систем (способствует снижению тонуса сосудов, нормализует давл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1755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еплять мышечную систему, сохранять и улучшать подвижность в суставах (с помощью постоянных тренировок возрастает мышечная сил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48000" y="4076640"/>
            <a:ext cx="199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учшать процессы обмена веществ (в том числе улучшается и деятельность кишечника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держивать полноценность жизненно важных двигательных качеств, навыков и ум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лексы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ы упражнений занимают немного времени (8-10 минут). Они  используются для снятия локального мышечного напряжения или общего утомления в течение дня. К таким комплексам относится и комплекс упражнений по Норбек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0:11:12Z</dcterms:created>
  <dc:creator>Виолетта</dc:creator>
  <dc:description/>
  <dc:language>en-US</dc:language>
  <cp:lastModifiedBy>Toshiba</cp:lastModifiedBy>
  <dcterms:modified xsi:type="dcterms:W3CDTF">2009-12-15T20:11:54Z</dcterms:modified>
  <cp:revision>25</cp:revision>
  <dc:subject/>
  <dc:title>Тема:</dc:title>
</cp:coreProperties>
</file>