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213-6B81-457C-8113-DCC7D717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CA7-1C78-4301-B55E-9C476D4E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A8E4-11BF-49D5-A76A-5344D7FA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15A-54E5-42FF-8BAF-7BDB2D94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D34F-45C2-4892-BB0C-2F1BC8A5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7235-57FA-4E62-BDEA-60CB5C98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9DF3-17BF-4273-BF43-C329A89F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2868-4A05-4F45-8F7A-0DE2B955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F54A-7B03-43F7-84A9-0BDEBD58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9719-A259-471C-87A4-EC544767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2A89-2759-4E20-8AFC-7055D382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B98-F33F-43E2-9FFF-6E8705EA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5A4F-6F7C-455C-9567-598628A5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7CB3-F0E9-4775-975F-6D639EAA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BA15-04B3-4C15-8FC5-3927F231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BCFA-FD1C-48EC-8243-62D004EB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60C4-6717-4E4D-A692-64493C15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C93-23B9-4C1A-9F11-D4ECC5E6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A236-0AF0-49A8-A31B-91001019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6FD8-E20A-4046-8D66-2A442103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49C-31E8-4910-B146-194D67EE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15F-74B7-4E0C-B97F-7D8853FB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307E-2D1B-4FD5-BD55-2137BF4B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82C-45EB-4AB7-81C6-4818B407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5741-E68F-4373-97B8-340472C5786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C696-9741-4716-9417-2BBF811A38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Monotype Corsiva"/>
              </a:rPr>
              <a:t>Луч и угол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Луч и уго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"/>
          <p:cNvSpPr/>
          <p:nvPr/>
        </p:nvSpPr>
        <p:spPr>
          <a:xfrm>
            <a:off x="442440" y="609300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Понятие лу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24000" y="2060280"/>
            <a:ext cx="810072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80000" y="314172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90640" y="2614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6400" y="34066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30080" y="16066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908000" y="3284640"/>
            <a:ext cx="54025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4508640"/>
            <a:ext cx="3168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98640" y="29034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08480" y="4127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94160" y="47037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537372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623"/>
                </a:solidFill>
                <a:latin typeface="Monotype Corsiva"/>
              </a:rPr>
              <a:t>Луч </a:t>
            </a:r>
            <a:r>
              <a:rPr b="0" lang="en-US" sz="4000" spc="-1" strike="noStrike">
                <a:solidFill>
                  <a:srgbClr val="004623"/>
                </a:solidFill>
                <a:latin typeface="Monotype Corsiva"/>
              </a:rPr>
              <a:t>h ,</a:t>
            </a:r>
            <a:r>
              <a:rPr b="0" lang="ru-RU" sz="4000" spc="-1" strike="noStrike">
                <a:solidFill>
                  <a:srgbClr val="004623"/>
                </a:solidFill>
                <a:latin typeface="Monotype Corsiva"/>
              </a:rPr>
              <a:t>луч </a:t>
            </a:r>
            <a:r>
              <a:rPr b="0" lang="en-US" sz="4000" spc="-1" strike="noStrike">
                <a:solidFill>
                  <a:srgbClr val="004623"/>
                </a:solidFill>
                <a:latin typeface="Monotype Corsiva"/>
              </a:rPr>
              <a:t>C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809200">
            <a:off x="3197520" y="362376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876400">
            <a:off x="1127520" y="407628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Луч и </a:t>
            </a:r>
            <a:r>
              <a:rPr b="0" i="1" lang="en-US" sz="4200" spc="-1" strike="noStrike">
                <a:solidFill>
                  <a:srgbClr val="004623"/>
                </a:solidFill>
                <a:latin typeface="Comic Sans MS"/>
              </a:rPr>
              <a:t>уго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442440" y="609300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Понятие лу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125360"/>
            <a:ext cx="57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Проведите прямую а. Отметьте на ней точки А, В и С так, чтобы точка А лежала между точками В и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03840" y="654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00000" y="3479760"/>
            <a:ext cx="7296480" cy="1533240"/>
            <a:chOff x="900000" y="3479760"/>
            <a:chExt cx="7296480" cy="1533240"/>
          </a:xfrm>
        </p:grpSpPr>
        <p:sp>
          <p:nvSpPr>
            <p:cNvPr id="108" name=""/>
            <p:cNvSpPr/>
            <p:nvPr/>
          </p:nvSpPr>
          <p:spPr>
            <a:xfrm flipV="1">
              <a:off x="900000" y="3933360"/>
              <a:ext cx="712944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35280" y="4869000"/>
              <a:ext cx="727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19640" y="45813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59280" y="43657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845120" y="34797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26040" y="40561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34440" y="376704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12360" y="43434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354360" y="3551400"/>
            <a:ext cx="390960" cy="669600"/>
            <a:chOff x="6354360" y="3551400"/>
            <a:chExt cx="390960" cy="669600"/>
          </a:xfrm>
        </p:grpSpPr>
        <p:sp>
          <p:nvSpPr>
            <p:cNvPr id="117" name=""/>
            <p:cNvSpPr/>
            <p:nvPr/>
          </p:nvSpPr>
          <p:spPr>
            <a:xfrm>
              <a:off x="6372360" y="4149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54360" y="35514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2920" y="2276640"/>
            <a:ext cx="60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462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назовите лучи, исходящие из точки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3040" y="270828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462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623"/>
                </a:solidFill>
                <a:latin typeface="Monotype Corsiva"/>
              </a:rPr>
              <a:t>отметьте на луче АВ точку </a:t>
            </a: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D</a:t>
            </a:r>
            <a:r>
              <a:rPr b="0" lang="ru-RU" sz="2400" spc="-1" strike="noStrike">
                <a:solidFill>
                  <a:srgbClr val="004623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Луч и </a:t>
            </a:r>
            <a:r>
              <a:rPr b="0" i="1" lang="en-US" sz="4200" spc="-1" strike="noStrike">
                <a:solidFill>
                  <a:srgbClr val="004623"/>
                </a:solidFill>
                <a:latin typeface="Comic Sans MS"/>
              </a:rPr>
              <a:t>уго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433800" y="609300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Дополнительные лу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03840" y="654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419640" y="1557000"/>
            <a:ext cx="4321080" cy="1366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30280" y="22557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02760" y="11034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13360" y="2924280"/>
            <a:ext cx="2906280" cy="865080"/>
            <a:chOff x="513360" y="2924280"/>
            <a:chExt cx="2906280" cy="865080"/>
          </a:xfrm>
        </p:grpSpPr>
        <p:sp>
          <p:nvSpPr>
            <p:cNvPr id="128" name=""/>
            <p:cNvSpPr/>
            <p:nvPr/>
          </p:nvSpPr>
          <p:spPr>
            <a:xfrm flipH="1">
              <a:off x="684360" y="2924280"/>
              <a:ext cx="2735280" cy="86508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3360" y="32637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Луч и </a:t>
            </a:r>
            <a:r>
              <a:rPr b="0" i="1" lang="en-US" sz="4200" spc="-1" strike="noStrike">
                <a:solidFill>
                  <a:srgbClr val="004623"/>
                </a:solidFill>
                <a:latin typeface="Comic Sans MS"/>
              </a:rPr>
              <a:t>уго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442440" y="609300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Понятие лу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141300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623"/>
                </a:solidFill>
                <a:latin typeface="Monotype Corsiva"/>
              </a:rPr>
              <a:t>Укажите все лучи, изображенные на рисун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62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623"/>
                </a:solidFill>
                <a:latin typeface="Monotype Corsiva"/>
              </a:rPr>
              <a:t>исходящие из точек М и </a:t>
            </a: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D</a:t>
            </a:r>
            <a:r>
              <a:rPr b="0" lang="ru-RU" sz="2400" spc="-1" strike="noStrike">
                <a:solidFill>
                  <a:srgbClr val="004623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4623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623"/>
                </a:solidFill>
                <a:latin typeface="Monotype Corsiva"/>
              </a:rPr>
              <a:t>составляющие вместе с их  общим началом одну прямую. (дополнительные луч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95280" y="2997360"/>
            <a:ext cx="3527280" cy="2685600"/>
            <a:chOff x="395280" y="2997360"/>
            <a:chExt cx="3527280" cy="2685600"/>
          </a:xfrm>
        </p:grpSpPr>
        <p:sp>
          <p:nvSpPr>
            <p:cNvPr id="134" name=""/>
            <p:cNvSpPr/>
            <p:nvPr/>
          </p:nvSpPr>
          <p:spPr>
            <a:xfrm>
              <a:off x="395280" y="445752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9640" y="3233520"/>
              <a:ext cx="165564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763280" y="4457520"/>
              <a:ext cx="43164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71640" y="4457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06560" y="51782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87280" y="4457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7200" y="299736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74680" y="44370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7880" y="400536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22120" y="386064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50840" y="5084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903840" y="654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Луч и уго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450360" y="609300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Понятие у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5120" y="1247760"/>
            <a:ext cx="76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Угол – это геометрическая фигура, которая состоит из двух лучей, исходящих из одной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6000" y="401796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Monotype Corsiva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/>
          <p:nvPr/>
        </p:nvCxnSpPr>
        <p:spPr>
          <a:xfrm>
            <a:off x="900000" y="4581000"/>
            <a:ext cx="21672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2354400" y="522936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Monotype Corsiva"/>
              </a:rPr>
              <a:t>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8979200">
            <a:off x="1274040" y="371736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Monotype Corsiva"/>
              </a:rPr>
              <a:t>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30240" y="29034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Monotype Corsiva"/>
              </a:rPr>
              <a:t>Внутрення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0"/>
          </p:cNvCxnSpPr>
          <p:nvPr/>
        </p:nvCxnSpPr>
        <p:spPr>
          <a:xfrm rot="5400000">
            <a:off x="4954680" y="2774160"/>
            <a:ext cx="602640" cy="1775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592200" y="2327400"/>
            <a:ext cx="22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Monotype Corsiva"/>
              </a:rPr>
              <a:t>Внешня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332000" y="2997360"/>
            <a:ext cx="2872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853920" y="2111400"/>
            <a:ext cx="4906440" cy="3628440"/>
            <a:chOff x="853920" y="2111400"/>
            <a:chExt cx="4906440" cy="3628440"/>
          </a:xfrm>
        </p:grpSpPr>
        <p:sp>
          <p:nvSpPr>
            <p:cNvPr id="155" name=""/>
            <p:cNvSpPr/>
            <p:nvPr/>
          </p:nvSpPr>
          <p:spPr>
            <a:xfrm>
              <a:off x="1187280" y="2637000"/>
              <a:ext cx="4248360" cy="2592360"/>
            </a:xfrm>
            <a:custGeom>
              <a:avLst/>
              <a:gdLst/>
              <a:ahLst/>
              <a:rect l="l" t="t" r="r" b="b"/>
              <a:pathLst>
                <a:path w="2676" h="1633">
                  <a:moveTo>
                    <a:pt x="1633" y="0"/>
                  </a:moveTo>
                  <a:lnTo>
                    <a:pt x="0" y="1633"/>
                  </a:lnTo>
                  <a:lnTo>
                    <a:pt x="2676" y="1633"/>
                  </a:lnTo>
                  <a:cubicBezTo>
                    <a:pt x="2601" y="1557"/>
                    <a:pt x="2518" y="1489"/>
                    <a:pt x="2450" y="1406"/>
                  </a:cubicBezTo>
                  <a:cubicBezTo>
                    <a:pt x="2440" y="1394"/>
                    <a:pt x="2453" y="1375"/>
                    <a:pt x="2452" y="1360"/>
                  </a:cubicBezTo>
                  <a:cubicBezTo>
                    <a:pt x="2449" y="1325"/>
                    <a:pt x="2452" y="1289"/>
                    <a:pt x="2439" y="1257"/>
                  </a:cubicBezTo>
                  <a:cubicBezTo>
                    <a:pt x="2426" y="1224"/>
                    <a:pt x="2340" y="1216"/>
                    <a:pt x="2311" y="1206"/>
                  </a:cubicBezTo>
                  <a:cubicBezTo>
                    <a:pt x="2274" y="1169"/>
                    <a:pt x="2252" y="1133"/>
                    <a:pt x="2209" y="1104"/>
                  </a:cubicBezTo>
                  <a:cubicBezTo>
                    <a:pt x="2189" y="1043"/>
                    <a:pt x="2218" y="966"/>
                    <a:pt x="2183" y="912"/>
                  </a:cubicBezTo>
                  <a:cubicBezTo>
                    <a:pt x="2164" y="882"/>
                    <a:pt x="2081" y="886"/>
                    <a:pt x="2081" y="886"/>
                  </a:cubicBezTo>
                  <a:cubicBezTo>
                    <a:pt x="2055" y="869"/>
                    <a:pt x="2014" y="864"/>
                    <a:pt x="2004" y="835"/>
                  </a:cubicBezTo>
                  <a:cubicBezTo>
                    <a:pt x="1987" y="784"/>
                    <a:pt x="1973" y="762"/>
                    <a:pt x="1927" y="733"/>
                  </a:cubicBezTo>
                  <a:cubicBezTo>
                    <a:pt x="1923" y="720"/>
                    <a:pt x="1921" y="706"/>
                    <a:pt x="1914" y="694"/>
                  </a:cubicBezTo>
                  <a:cubicBezTo>
                    <a:pt x="1899" y="667"/>
                    <a:pt x="1863" y="617"/>
                    <a:pt x="1863" y="617"/>
                  </a:cubicBezTo>
                  <a:cubicBezTo>
                    <a:pt x="1902" y="579"/>
                    <a:pt x="1923" y="553"/>
                    <a:pt x="1940" y="502"/>
                  </a:cubicBezTo>
                  <a:cubicBezTo>
                    <a:pt x="1930" y="405"/>
                    <a:pt x="1939" y="257"/>
                    <a:pt x="1825" y="221"/>
                  </a:cubicBezTo>
                  <a:cubicBezTo>
                    <a:pt x="1762" y="178"/>
                    <a:pt x="1727" y="155"/>
                    <a:pt x="1684" y="93"/>
                  </a:cubicBezTo>
                  <a:cubicBezTo>
                    <a:pt x="1668" y="13"/>
                    <a:pt x="1688" y="42"/>
                    <a:pt x="1633" y="0"/>
                  </a:cubicBez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187280" y="2565360"/>
              <a:ext cx="4464360" cy="2664000"/>
              <a:chOff x="1187280" y="2565360"/>
              <a:chExt cx="4464360" cy="2664000"/>
            </a:xfrm>
          </p:grpSpPr>
          <p:sp>
            <p:nvSpPr>
              <p:cNvPr id="160" name=""/>
              <p:cNvSpPr/>
              <p:nvPr/>
            </p:nvSpPr>
            <p:spPr>
              <a:xfrm>
                <a:off x="1187280" y="5229360"/>
                <a:ext cx="446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187280" y="2565360"/>
                <a:ext cx="2664000" cy="266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32000" y="3213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211640" y="515772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53920" y="5135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91120" y="52070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61000" y="26877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4880" y="21114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0640" y="52801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623"/>
                  </a:solidFill>
                  <a:latin typeface="Monotype Corsiv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055280" y="468648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623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AOB,</a:t>
            </a:r>
            <a:r>
              <a:rPr b="0" lang="en-US" sz="2400" spc="-1" strike="noStrike">
                <a:solidFill>
                  <a:srgbClr val="004623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h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Comic Sans MS"/>
              </a:rPr>
              <a:t>Луч и уго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498240" y="60930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4623"/>
                </a:solidFill>
                <a:latin typeface="Comic Sans MS"/>
              </a:rPr>
              <a:t>Виды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39640" y="1700280"/>
            <a:ext cx="6192720" cy="0"/>
            <a:chOff x="539640" y="1700280"/>
            <a:chExt cx="6192720" cy="0"/>
          </a:xfrm>
        </p:grpSpPr>
        <p:sp>
          <p:nvSpPr>
            <p:cNvPr id="173" name=""/>
            <p:cNvSpPr/>
            <p:nvPr/>
          </p:nvSpPr>
          <p:spPr>
            <a:xfrm>
              <a:off x="539640" y="1700280"/>
              <a:ext cx="3311280" cy="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50920" y="1700280"/>
              <a:ext cx="2881440" cy="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900000" y="2421000"/>
            <a:ext cx="2159280" cy="1800000"/>
            <a:chOff x="900000" y="2421000"/>
            <a:chExt cx="2159280" cy="1800000"/>
          </a:xfrm>
        </p:grpSpPr>
        <p:sp>
          <p:nvSpPr>
            <p:cNvPr id="176" name=""/>
            <p:cNvSpPr/>
            <p:nvPr/>
          </p:nvSpPr>
          <p:spPr>
            <a:xfrm flipH="1">
              <a:off x="900000" y="4221000"/>
              <a:ext cx="2159280" cy="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900000" y="2421000"/>
              <a:ext cx="1696680" cy="180000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92360" y="4941720"/>
            <a:ext cx="6192720" cy="935280"/>
            <a:chOff x="1692360" y="4941720"/>
            <a:chExt cx="6192720" cy="935280"/>
          </a:xfrm>
        </p:grpSpPr>
        <p:sp>
          <p:nvSpPr>
            <p:cNvPr id="179" name=""/>
            <p:cNvSpPr/>
            <p:nvPr/>
          </p:nvSpPr>
          <p:spPr>
            <a:xfrm>
              <a:off x="1692360" y="5445000"/>
              <a:ext cx="2448000" cy="43200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40360" y="4941720"/>
              <a:ext cx="3744720" cy="93528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364000" y="2276640"/>
            <a:ext cx="2087640" cy="2447640"/>
            <a:chOff x="5364000" y="2276640"/>
            <a:chExt cx="2087640" cy="2447640"/>
          </a:xfrm>
        </p:grpSpPr>
        <p:sp>
          <p:nvSpPr>
            <p:cNvPr id="182" name=""/>
            <p:cNvSpPr/>
            <p:nvPr/>
          </p:nvSpPr>
          <p:spPr>
            <a:xfrm>
              <a:off x="5364000" y="2276640"/>
              <a:ext cx="2087640" cy="120636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743880" y="3500280"/>
              <a:ext cx="707760" cy="1224000"/>
            </a:xfrm>
            <a:prstGeom prst="line">
              <a:avLst/>
            </a:prstGeom>
            <a:ln w="93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61240" y="11746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93680" y="12477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18040" y="20397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3560" y="37670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18440" y="41274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80280" y="1895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47120" y="31910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44320" y="4414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9920" y="484812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83040" y="54244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41000" y="45594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23"/>
                </a:solidFill>
                <a:latin typeface="Monotype Corsiv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3:09:07Z</dcterms:created>
  <dc:creator>olga</dc:creator>
  <dc:description/>
  <dc:language>en-US</dc:language>
  <cp:lastModifiedBy>Olga</cp:lastModifiedBy>
  <dcterms:modified xsi:type="dcterms:W3CDTF">2007-01-26T11:54:03Z</dcterms:modified>
  <cp:revision>6</cp:revision>
  <dc:subject/>
  <dc:title>Луч и угол</dc:title>
</cp:coreProperties>
</file>