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72A-A024-434D-AC26-CFE408C2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222A-CF64-45A9-9F56-7A0C3DB7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93E-585F-487D-A9F2-B4D1D103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35F-E9C4-4F9D-9CD8-EE441AF9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A3D6-34AA-4E35-8F5F-51CD31DF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BF3E-737F-405A-A6AE-43002DCF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0983-B565-4585-8D7C-B6C9C2F2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5431-AB4D-4DC5-810D-17A5B052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2463-7605-4349-971D-7167E43A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078E-15BC-49A5-B891-DB1B993E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0847-E6C8-481D-84EC-65524316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D71-21F0-4EBE-990A-52701369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82EA-E116-4C74-9881-93FC5237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9583-1702-4175-8E92-9C027DAB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5496-2B96-412C-A0AC-7E9C5ABA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9999-8D83-4665-A371-0E0E39D0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B562-BE05-43E9-B126-079FF329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19B7-FC26-4607-82A8-368FC7F5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C40-3786-4D7D-8102-4ABF3E5F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647-578B-488C-88AE-47DA94AC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98B-A68E-4FC3-A62D-8D1C8B22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D4E-302E-418A-BBE0-9F7DE7CE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A65-46E9-430D-B88C-743D798C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B096-4868-422E-8145-8556076E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08B6-8345-464E-9E03-027F2465DA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DC2E-EE24-4D0C-8567-E11EB98DF0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38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Урок русского языка в 6 классе</a:t>
            </a:r>
            <a:br>
              <a:rPr sz="3600"/>
            </a:b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«Разряды прилагательных.</a:t>
            </a:r>
            <a:br>
              <a:rPr sz="3600"/>
            </a:b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Качественные прилагательные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556000" y="3933360"/>
            <a:ext cx="567360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ОУ СОШ с. Минае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иновского района Том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слова Татья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«По какому признаку характеризуется предмет?»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я веса, цвета, величины, возраста, внешние и внутренние качества, состояния и настроения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дравствуй, гостья зим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ы вышли из школы на прогулку. Взглянули кругом и увидели, что земля покрыта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мягкий, серебристый, пушисты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снегом. Только кое-где можно заметить еще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черный, темны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пятна земли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верху над нами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хмурый, зимн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небо. Оно покрыто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небольшой серовато-белы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облаками. Только в одном месте проглядывает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узеньк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полоса голубого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чистый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еб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ходим в лес. Деревья разукрашены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прихотливы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узорами инея, кое-где на ветвях желтеют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сенн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листья. Ели и сосны выделяются своим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зелены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убранством.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Глубок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тишину леса нарушают наши голоса.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Чистый зимн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воздух бодрит нас. Мы играем в снежки, бегаем, кувыркаемся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переди еще настоящая зима с ее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жгуч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  морозами,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сильны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ветрами,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снежны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заносами, но мы рады ее приход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оверьте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дравствуй, гостья зим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ы вышли из школы на прогулку. Взглянули кругом и увидели, что земля покрыт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ягким, пушисты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снегом. Только кое-где можно заметить ещ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емн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пятна земли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верху над нам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имне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ебо. Оно покрыт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большими серовато-белы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облаками. Только в одном месте проглядывае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зенькая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лоса голубог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тог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еб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ходим в лес. Деревья разукрашен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хотливым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зорами инея, кое-где на ветвях желтею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енн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листья. Ели и сосны выделяются свои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елены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убранством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лубокую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ишину леса нарушают наши голос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Чистый зимн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воздух бодрит нас. Мы играем в снежки, бегаем, кувыркаемся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переди еще настоящая зима с е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жгучими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орозами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ильны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ветрами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нежны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заносами, но мы рады ее приход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50, подготовить связный рассказ о качественных прилагательных, доработать прое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Выписать из учебника литературы 5предложений с прилагательными, определить их разряд или упражнение 29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евиз нашего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мся быть внимательными, сообразительными, активн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ем быстро, пишем краси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Языковая разми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и обгорелых от лесного пожара деревьев сохранилась небольшая осинка на самом краю высокого я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Лексическое значение слова ЯР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040" y="1599840"/>
            <a:ext cx="3814920" cy="4530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Р- 1. Крутой берег, обры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Глубокий заросший овр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4248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оверьте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бгорелых(деревьев)- мн. ч., р.п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есного (пожара)- ед. ч., м. р., р.п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ебольшая (осинка)- ед.ч., ж.р., и.п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ысокого (яра)- ед. ч., м.р., р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апишите тему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яды прилагательных по значению. Качественные прилагательны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дать понятие о разрядах имён прилагательных, познакомить с признаками и значениями качественных прилага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ингвистический эксперимен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ольшой, высокий, молодой, красивый, умный, хорош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Качествен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бгорелый, лесной, деревянный, томский, утренний, дет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Относитель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исий хвост, волчий след, собачья будка, мамино пальто, отцов пла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Притяжатель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472680" y="1820520"/>
            <a:ext cx="8559720" cy="4338360"/>
            <a:chOff x="472680" y="1820520"/>
            <a:chExt cx="8559720" cy="4338360"/>
          </a:xfrm>
        </p:grpSpPr>
        <p:sp>
          <p:nvSpPr>
            <p:cNvPr id="114" name=""/>
            <p:cNvSpPr/>
            <p:nvPr/>
          </p:nvSpPr>
          <p:spPr>
            <a:xfrm>
              <a:off x="472680" y="1820520"/>
              <a:ext cx="4001760" cy="228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      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Качественные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            </a:t>
              </a: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Какой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(больше или меньше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19400" y="2061720"/>
              <a:ext cx="4113000" cy="24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      </a:t>
              </a: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Относитель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8000"/>
                  </a:solidFill>
                  <a:latin typeface="Arial"/>
                </a:rPr>
                <a:t>             </a:t>
              </a:r>
              <a:r>
                <a:rPr b="0" lang="en-US" sz="2200" spc="-1" strike="noStrike">
                  <a:solidFill>
                    <a:srgbClr val="008000"/>
                  </a:solidFill>
                  <a:latin typeface="Arial"/>
                </a:rPr>
                <a:t>Какой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8000"/>
                  </a:solidFill>
                  <a:latin typeface="Arial"/>
                </a:rPr>
                <a:t>(из чего, в каком месте, в какое время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73920" y="3507840"/>
              <a:ext cx="4001760" cy="2651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       </a:t>
              </a: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Притяжатель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93300"/>
                  </a:solidFill>
                  <a:latin typeface="Arial"/>
                </a:rPr>
                <a:t>                 </a:t>
              </a:r>
              <a:r>
                <a:rPr b="0" lang="en-US" sz="2200" spc="-1" strike="noStrike">
                  <a:solidFill>
                    <a:srgbClr val="993300"/>
                  </a:solidFill>
                  <a:latin typeface="Arial"/>
                </a:rPr>
                <a:t>Чей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93300"/>
                  </a:solidFill>
                  <a:latin typeface="Arial"/>
                </a:rPr>
                <a:t>             </a:t>
              </a:r>
              <a:r>
                <a:rPr b="0" lang="en-US" sz="2200" spc="-1" strike="noStrike">
                  <a:solidFill>
                    <a:srgbClr val="993300"/>
                  </a:solidFill>
                  <a:latin typeface="Arial"/>
                </a:rPr>
                <a:t>(чей- то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Найди «лишнее» прилагательно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. Зелёная, тёмная, деревянная, вкус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. Книжный, вечерний, мамин, стекля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. Волчий, Машин, учительский, ел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04:33:35Z</dcterms:created>
  <dc:creator>Пользоватьель</dc:creator>
  <dc:description/>
  <dc:language>en-US</dc:language>
  <cp:lastModifiedBy>Пользоватьель</cp:lastModifiedBy>
  <dcterms:modified xsi:type="dcterms:W3CDTF">2013-10-28T10:59:20Z</dcterms:modified>
  <cp:revision>16</cp:revision>
  <dc:subject/>
  <dc:title>Урок русского языка в 6 классе «Разряды прилагательных. Качественные прилагательные»</dc:title>
</cp:coreProperties>
</file>