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BA8-0502-4747-817E-11F97907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421-597B-4B77-8AFD-2E64BA1B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D9C-01CC-4D50-B45C-F90217F9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2D-04BF-49EE-A2AF-47F37078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BE21-0E10-48A1-9A74-234E760F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6BC6-C4E5-4CA4-BE5D-0C559199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4D86-B0FB-4E36-9170-269C72F8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6C80-3FE3-4F05-BEC1-63C50A29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B439-202A-4ED7-BAB9-8658A05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7B8B-B038-4E0E-A99C-1BB59CA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EBA-9758-4463-AC9E-A091ECB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B10-8EFB-4EC0-BCCE-94F6DE0C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7C57-3A4B-413C-99DC-B6C139A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17D8-F38F-4298-81A4-ED1CC94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E83D-1EBA-4F1B-8858-B9F110CA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0DE1-1933-485E-AAE9-490B971C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1777-B060-4888-B7F7-7B996B2E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123-3BCF-4F9C-BE82-4C2BB71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2FE-4087-4845-8910-EF2C9D5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BA7-FEE7-445B-949A-98549DA5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CB2-9493-44B2-AF1F-2E7C930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E5E-BA43-4C2C-81EA-2C0B607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C1A-1B2E-48FB-AEDF-94BD79D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99D-739B-4F3E-B972-69D61DA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BF35-C788-43E2-8EBD-5C54527963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744-35B2-491B-B262-BC871CD50C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3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Урок русского языка в 6 классе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«Разряды прилагательных.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Качественные прилагательные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567360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ОУ СОШ с. Минае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иновского района Т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лова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По какому признаку характеризуется предмет?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я веса, цвета, величины, возраста, внешние и внутренние качества, состояния и настроени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дравствуй, гостья зи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ы вышли из школы на прогулку. Взглянули кругом и увидели, что земля покрыт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ягкий, серебристый, пушист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снегом. Только кое-где можно заметить ещ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ерный, тем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пятна земл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рху над на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хмурый,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небо. Оно покрыто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небольшой серовато-бел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облаками. Только в одном месте проглядывает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узень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полоса голубого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истый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ходим в лес. Деревья разукрашены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ихотлив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узорами инея, кое-где на ветвях желтеют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ен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листья. Ели и сосны выделяются своим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зеле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убранством.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лубо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тишину леса нарушают наши голоса.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истый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воздух бодрит нас. Мы играем в снежки, бегаем, кувыркаемс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еди еще настоящая зима с е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жгуч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  морозами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иль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ветрами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нежны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заносами, но мы рады ее прих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дравствуй, гостья зи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ы вышли из школы на прогулку. Взглянули кругом и увидели, что земля покрыт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ягким, пушисты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негом. Только кое-где можно заметить ещ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м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ятна земл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ерху над нам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имне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о. Оно покрыт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большими серовато-бел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блаками. Только в одном месте проглядывае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зенька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оса голубог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т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еб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ходим в лес. Деревья разукраше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хотливым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зорами инея, кое-где на ветвях желтею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ен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листья. Ели и сосны выделяются свои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лены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бранством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убоку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шину леса нарушают наши голос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Чистый зимн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оздух бодрит нас. Мы играем в снежки, бегаем, кувыркаемс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переди еще настоящая зима с е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гучими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розам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ль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етрам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неж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носами, но мы рады ее прих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0, подготовить связный рассказ о качественных прилагательных, доработа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ыписать из учебника литературы 5предложений с прилагательными, определить их разряд или упражнение 2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евиз нашего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мся быть внимательными, сообразительными, актив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м быстро, пишем крас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зыковая размин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и обгорелых от лесного пожара деревьев сохранилась небольшая осинка на самом краю высокого я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Лексическое значение слова Я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14920" cy="4530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Р- 1. Крутой берег, обры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лубокий заросший овр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248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те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горелых(деревьев)- мн. ч., р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есного (пожара)- ед. ч., м. р., р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большая (осинка)- ед.ч., ж.р., и.п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сокого (яра)- ед. ч., м.р., р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пишите тему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яды прилагательных по значению. Качественные прилагательны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дать понятие о разрядах имён прилагательных, познакомить с признаками и значениями качественных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нгвистический экспериме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ольшой, высокий, молодой, красивый, умный, хоро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ачестве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горелый, лесной, деревянный, томский, утренний, дет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Относи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исий хвост, волчий след, собачья будка, мамино пальто, отцов пла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Притяжате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72680" y="1820520"/>
            <a:ext cx="8559720" cy="4338360"/>
            <a:chOff x="472680" y="1820520"/>
            <a:chExt cx="8559720" cy="4338360"/>
          </a:xfrm>
        </p:grpSpPr>
        <p:sp>
          <p:nvSpPr>
            <p:cNvPr id="114" name=""/>
            <p:cNvSpPr/>
            <p:nvPr/>
          </p:nvSpPr>
          <p:spPr>
            <a:xfrm>
              <a:off x="472680" y="1820520"/>
              <a:ext cx="4001760" cy="228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Качественные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            </a:t>
              </a: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Како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(больше или меньше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19400" y="2061720"/>
              <a:ext cx="4113000" cy="24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      </a:t>
              </a: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Относи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Како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Arial"/>
                </a:rPr>
                <a:t>(из чего, в каком месте, в какое врем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920" y="3507840"/>
              <a:ext cx="4001760" cy="265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Притяжа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                 </a:t>
              </a: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Чей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             </a:t>
              </a:r>
              <a:r>
                <a:rPr b="0" lang="en-US" sz="2200" spc="-1" strike="noStrike">
                  <a:solidFill>
                    <a:srgbClr val="993300"/>
                  </a:solidFill>
                  <a:latin typeface="Arial"/>
                </a:rPr>
                <a:t>(чей- то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айди «лишнее» прилагательно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 Зелёная, тёмная, деревянная, вку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 Книжный, вечерний, мамин, 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 Волчий, Машин, учительский, ел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4:33:35Z</dcterms:created>
  <dc:creator>Пользоватьель</dc:creator>
  <dc:description/>
  <dc:language>en-US</dc:language>
  <cp:lastModifiedBy>Пользоватьель</cp:lastModifiedBy>
  <dcterms:modified xsi:type="dcterms:W3CDTF">2013-10-28T10:59:20Z</dcterms:modified>
  <cp:revision>16</cp:revision>
  <dc:subject/>
  <dc:title>Урок русского языка в 6 классе «Разряды прилагательных. Качественные прилагательные»</dc:title>
</cp:coreProperties>
</file>