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0D5-EDB7-4D50-8FAE-62FACAE8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D44-37C8-435B-8A1A-B72FE5C7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0B7-9015-4D6B-89A7-0C8D6B17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C16-DF3D-4EEF-85DD-37CD8F8B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438-197C-4BF5-A2B4-B26D4EA8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559F-F54A-462F-812C-FF874020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1E71-38DD-4287-A0C5-1BD99C04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7968-EA1F-4911-9D22-E8FDF472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2374-9BB3-4C1B-B97A-CF90691D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5BC3-6721-4429-839A-26442152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F318-5AC2-401B-9B86-935AC95C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D78-05C1-48E7-A2B3-3FD1AD54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115-C290-4DA0-AF50-0BF442D5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99C6-5E34-483A-8591-6CC146A8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06DC-C597-4A6C-8F98-0457D5C3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F876-D61A-435C-8A98-E7A003D7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53A3-5B7A-49E7-8131-A543DAE8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5A91-086B-4EE8-ACD6-3BCF15B4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CBA9-6C5F-4ACB-9B90-2BB04F3A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0833-4FC9-4E4B-BCB5-E7ADBFB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78E6-D88E-463D-9CE3-9B35FAE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BCE58-B5A4-4AD7-A87E-450F3F4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F41-B8DC-4BD8-943F-17F12A0D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5C02-6734-4236-B3A5-8FA0328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2BCF-7E10-4C06-BA07-77D4715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8EFE-BE1C-4BFD-A08E-552C676D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EE64-8A33-4829-AAA3-2525D98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C29A-79C3-414E-975D-E19FCD9F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3FAAE-C766-4552-8255-DAE43E22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847C-6B67-4C70-8FA7-2983B550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3C64-2851-4D97-8556-16CA8FFC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FC63-12A3-494F-BAAF-5DC44F26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4345-E18D-46E3-A9DE-AC408896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7F2-CBEE-4472-9ED7-E485150C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60DF-6347-46CE-906A-FA41A5DE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024A2-158D-404B-98FE-B6B65DBD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8CFA3-EE89-4EB2-9035-661713C6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F7BB-6EFA-420E-A670-74F73F13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A9E6C-752B-435D-880E-D9320816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7A0AD-20CC-4C5D-8D29-2310E07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20CE-52CA-4DD1-83A5-1C09E897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80AE6-FFA2-4D15-BC75-FB7703D5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699D-5AAF-4563-AC19-E057BF21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22C22-CE83-4A74-8642-CAF17208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366-AA75-4A8A-819A-13AF55F9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83251-72DA-4F60-B09D-DC1438B4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C9C3-9CCA-493C-BD47-1A6CFFCD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B5ED0-2339-4AD0-A625-73C3A702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7FDE-5367-4496-8F6B-5E6FFBE0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4B3C1-50F3-4A64-846F-23603F5C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2F1D6-B52C-42FB-AA67-BDF45614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456F-2B5C-449C-BEA2-E079D60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6F35-7961-4D8F-BEDF-6865D47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AA596-0E8C-4003-91B0-D959E29F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7F11-EF8A-4E0C-B0E0-57340C59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DF7-0BD1-4EA7-AC79-37AC4493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77E1-7654-4729-B4D6-56270818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AE2-A95A-4BDF-974B-3BA86A23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BA0-B7C0-4BA3-B9F0-D689363D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AAD-7696-430D-ADD8-741E0C32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DD55-40C3-49F7-9EC9-FF0093B2D9A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EC3E-D323-42A9-9B14-50CD88C452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F795-1AB6-43DE-88DA-469636AAEDE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F85B-7794-4A5F-8D2C-3E5E143093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CE3E-9A44-4A46-BCFF-A3ABD2F289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Mini-project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Fashion show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member that the clothing should be fashionable and comfortabl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eenage clothing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Содержимое 3" descr="de9b3c33ba050a12b67fbc44d7466740.jpg"/>
          <p:cNvPicPr/>
          <p:nvPr/>
        </p:nvPicPr>
        <p:blipFill>
          <a:blip r:embed="rId1"/>
          <a:stretch/>
        </p:blipFill>
        <p:spPr>
          <a:xfrm>
            <a:off x="2514600" y="14479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sual clothing.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3" name="Содержимое 4" descr="SHelkovoe_plate_ANNA_SUI_b8.jpg"/>
          <p:cNvPicPr/>
          <p:nvPr/>
        </p:nvPicPr>
        <p:blipFill>
          <a:blip r:embed="rId1"/>
          <a:stretch/>
        </p:blipFill>
        <p:spPr>
          <a:xfrm>
            <a:off x="1214280" y="1447920"/>
            <a:ext cx="3149640" cy="457200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5" descr="8-1.jpg"/>
          <p:cNvPicPr/>
          <p:nvPr/>
        </p:nvPicPr>
        <p:blipFill>
          <a:blip r:embed="rId2"/>
          <a:stretch/>
        </p:blipFill>
        <p:spPr>
          <a:xfrm>
            <a:off x="5014800" y="1447920"/>
            <a:ext cx="358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Franklin Gothic Book"/>
              </a:rPr>
              <a:t>It is characterized by freedom and convenience. so she and everyday we go to her house and on the street.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6" name="Содержимое 4" descr="5_resize.jpg"/>
          <p:cNvPicPr/>
          <p:nvPr/>
        </p:nvPicPr>
        <p:blipFill>
          <a:blip r:embed="rId1"/>
          <a:stretch/>
        </p:blipFill>
        <p:spPr>
          <a:xfrm>
            <a:off x="1357200" y="1357200"/>
            <a:ext cx="3429000" cy="46436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5" descr="Screenshot_2013-10-09-20-01-22.png"/>
          <p:cNvPicPr/>
          <p:nvPr/>
        </p:nvPicPr>
        <p:blipFill>
          <a:blip r:embed="rId2"/>
          <a:stretch/>
        </p:blipFill>
        <p:spPr>
          <a:xfrm>
            <a:off x="5380200" y="1447920"/>
            <a:ext cx="285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9" name="Содержимое 4" descr="Gap7.jpg"/>
          <p:cNvPicPr/>
          <p:nvPr/>
        </p:nvPicPr>
        <p:blipFill>
          <a:blip r:embed="rId1"/>
          <a:stretch/>
        </p:blipFill>
        <p:spPr>
          <a:xfrm>
            <a:off x="569880" y="2071800"/>
            <a:ext cx="4094280" cy="306540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5" descr="n12831-7.jpg"/>
          <p:cNvPicPr/>
          <p:nvPr/>
        </p:nvPicPr>
        <p:blipFill>
          <a:blip r:embed="rId2"/>
          <a:stretch/>
        </p:blipFill>
        <p:spPr>
          <a:xfrm>
            <a:off x="4933800" y="185904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Party clothing</a:t>
            </a:r>
            <a:r>
              <a:rPr b="0" lang="ru-RU" sz="1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 It should be beautiful and fashionable is not always easy to apply to this type of clothing</a:t>
            </a:r>
            <a:r>
              <a:rPr b="0" lang="en-US" sz="1600" spc="-1" strike="noStrike">
                <a:solidFill>
                  <a:srgbClr val="696464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Содержимое 4" descr="-mg-4048.jpg"/>
          <p:cNvPicPr/>
          <p:nvPr/>
        </p:nvPicPr>
        <p:blipFill>
          <a:blip r:embed="rId1"/>
          <a:stretch/>
        </p:blipFill>
        <p:spPr>
          <a:xfrm>
            <a:off x="428760" y="2143080"/>
            <a:ext cx="4289400" cy="2857680"/>
          </a:xfrm>
          <a:prstGeom prst="rect">
            <a:avLst/>
          </a:prstGeom>
          <a:ln w="0">
            <a:noFill/>
          </a:ln>
        </p:spPr>
      </p:pic>
      <p:pic>
        <p:nvPicPr>
          <p:cNvPr id="243" name="Содержимое 5" descr="2937036f4c3a5a28b0d4a2161cefa7aa.jpg"/>
          <p:cNvPicPr/>
          <p:nvPr/>
        </p:nvPicPr>
        <p:blipFill>
          <a:blip r:embed="rId2"/>
          <a:stretch/>
        </p:blipFill>
        <p:spPr>
          <a:xfrm>
            <a:off x="4933800" y="185904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Sport style.These are clothes for sports, it should be comfortable and the freedom of movement</a:t>
            </a:r>
            <a:endParaRPr b="0" lang="en-US" sz="1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5" name="Содержимое 4" descr="sportivnye-kostyumy.jpg"/>
          <p:cNvPicPr/>
          <p:nvPr/>
        </p:nvPicPr>
        <p:blipFill>
          <a:blip r:embed="rId1"/>
          <a:stretch/>
        </p:blipFill>
        <p:spPr>
          <a:xfrm>
            <a:off x="428760" y="1785960"/>
            <a:ext cx="342576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Содержимое 5" descr="9732c05eb1.jpg"/>
          <p:cNvPicPr/>
          <p:nvPr/>
        </p:nvPicPr>
        <p:blipFill>
          <a:blip r:embed="rId2"/>
          <a:stretch/>
        </p:blipFill>
        <p:spPr>
          <a:xfrm>
            <a:off x="5357880" y="1536840"/>
            <a:ext cx="35510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This business style, he is very strict. No jeans and sneakers, it is characterized pants, shirts, ties and tuxedos. We use it at school for meetings and public events then.</a:t>
            </a:r>
            <a:endParaRPr b="0" lang="en-US" sz="1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8" name="Содержимое 4" descr="1.jpg"/>
          <p:cNvPicPr/>
          <p:nvPr/>
        </p:nvPicPr>
        <p:blipFill>
          <a:blip r:embed="rId1"/>
          <a:stretch/>
        </p:blipFill>
        <p:spPr>
          <a:xfrm>
            <a:off x="1265400" y="1447920"/>
            <a:ext cx="304776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5" descr="32592111283.jpg"/>
          <p:cNvPicPr/>
          <p:nvPr/>
        </p:nvPicPr>
        <p:blipFill>
          <a:blip r:embed="rId2"/>
          <a:stretch/>
        </p:blipFill>
        <p:spPr>
          <a:xfrm>
            <a:off x="5284800" y="144792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1" name="Содержимое 4" descr="snova-o-shkoljnoyj-forme.jpg"/>
          <p:cNvPicPr/>
          <p:nvPr/>
        </p:nvPicPr>
        <p:blipFill>
          <a:blip r:embed="rId1"/>
          <a:stretch/>
        </p:blipFill>
        <p:spPr>
          <a:xfrm>
            <a:off x="914400" y="2263680"/>
            <a:ext cx="3749760" cy="294012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5" descr="Delovoj-stil-muzhchiny-foto3.jpg"/>
          <p:cNvPicPr/>
          <p:nvPr/>
        </p:nvPicPr>
        <p:blipFill>
          <a:blip r:embed="rId2"/>
          <a:stretch/>
        </p:blipFill>
        <p:spPr>
          <a:xfrm>
            <a:off x="4933800" y="2171880"/>
            <a:ext cx="3749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4:59:08Z</dcterms:created>
  <dc:creator>111</dc:creator>
  <dc:description/>
  <dc:language>en-US</dc:language>
  <cp:lastModifiedBy>111</cp:lastModifiedBy>
  <dcterms:modified xsi:type="dcterms:W3CDTF">2013-10-14T05:10:47Z</dcterms:modified>
  <cp:revision>7</cp:revision>
  <dc:subject/>
  <dc:title>Слайд 1</dc:title>
</cp:coreProperties>
</file>