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40D-06A5-4FC1-B2D4-C36678EB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817-91AE-46F8-9BE4-00674F87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A17-E760-4142-8BE2-7E213FB3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76E-68EE-458C-B03A-FCD1ED34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C6EC-DCA5-4DB3-A1F4-9AAA168F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22A-7F1B-40C3-B112-780B2719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C559-B6B3-4510-8775-629619AC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675C-77BB-45C9-8DD0-B68F1566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B719-9642-43E4-9E6F-EEEDB49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191-79BC-458F-93A1-1E0AC4B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FCB1-30A2-4276-8B1D-2E91D57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C4C-25B4-44DA-A042-0C3DC3EE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B121-E204-4DC8-8EF5-CC287CE4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B55-4F90-4273-9C0B-0F92E2E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54BA-FD6A-4A3B-9FA5-86FBA28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0F95-69EA-4F87-81A0-0FFDE4FF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26B0-4B85-474E-92D1-618D9AED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F98B-A650-4A8B-94D1-5F38373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5E21-D3B7-4B80-839D-05640FA7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D69B-07AC-48F4-8728-3354B58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B459-35C0-42F4-8867-C25023E0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1A1B-C8F6-41CA-8159-68FFB090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33F-7A72-4D7E-A6FB-1B99ADA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7095-40CC-4EE3-A066-2FC4F67C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B914-6A9E-4A9C-8F43-657BA7F2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196E-1667-4E9A-B6C4-984CA09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90DD-3B8C-4B52-A088-9012884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7DE2-1568-402A-847E-A3AF0078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16B7-4512-41AA-AEE2-77E64987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8AB2-32C4-48DC-AD21-A7C126BC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5E6A-E333-4CF2-921F-A4F3C909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6383-0DDA-4DBE-82C7-4209F462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07922-EC0E-4A20-BC4A-2A8529FA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76C-E10D-42CB-B163-2E20037E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BBC7-C6F4-4E54-8BFF-E31866D3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B015-B7B7-49C9-87C1-1DFD01E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4E21-ED16-4BDF-90D0-DEDE076D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F76B-8C33-4297-B4D5-EEEBF04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7543-C591-41BA-8A0F-BB418DB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AC3A-A8C5-48EE-88F6-E3F7F345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2DD3-545F-4048-8873-1EFE9396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7DA9-57B9-45B2-B71F-25EB951B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081D-73CC-4A67-850B-9DA2F3A7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4DB8-027B-4057-94BC-DEB54AD8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CA3-4408-457D-9FB8-4D054234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BE1E-F19C-4B46-9BB0-48D5AD42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B32F-310E-4A10-9C2E-F7323BD1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EB90-3E4A-4ADF-BC17-4BE9E382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D4BA-7BD2-47C4-87C1-E8AB4512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B4B6-07D8-434F-9F0C-88D54A5B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AD57-034F-402E-9A53-BF7D46C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8DA6-16BE-4165-97A8-0D6FFC0D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7EB50-0E0D-4AB9-8504-0CDAB8E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B524-C5E4-455F-ACAA-680EB309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18D29-FD66-4C00-A4EE-E46EEB75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35-1050-4E83-AC0D-E7A216C8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B04A-D6B2-4CD5-A940-9EE4203B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21F-0500-46D8-A211-71D13648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7F8-2952-4553-96F4-61E2AE9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B8B-E1A8-4F97-AB77-D2060C22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B94D-25A4-4B9B-8B2E-EA96861D9F6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4795-2204-4017-AE88-D4C49553F4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6932-2386-43B1-A94A-4B6B605FF5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C22B-8717-4C33-9DAC-28B0B2DD3B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820F-985D-4F3C-88C7-9C60A5363B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Mini-project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Fashion show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member that the clothing should be fashionable and comfortabl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eenage clothing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Содержимое 3" descr="de9b3c33ba050a12b67fbc44d7466740.jpg"/>
          <p:cNvPicPr/>
          <p:nvPr/>
        </p:nvPicPr>
        <p:blipFill>
          <a:blip r:embed="rId1"/>
          <a:stretch/>
        </p:blipFill>
        <p:spPr>
          <a:xfrm>
            <a:off x="2514600" y="14479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sual clothing.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3" name="Содержимое 4" descr="SHelkovoe_plate_ANNA_SUI_b8.jpg"/>
          <p:cNvPicPr/>
          <p:nvPr/>
        </p:nvPicPr>
        <p:blipFill>
          <a:blip r:embed="rId1"/>
          <a:stretch/>
        </p:blipFill>
        <p:spPr>
          <a:xfrm>
            <a:off x="1214280" y="1447920"/>
            <a:ext cx="3149640" cy="457200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5" descr="8-1.jpg"/>
          <p:cNvPicPr/>
          <p:nvPr/>
        </p:nvPicPr>
        <p:blipFill>
          <a:blip r:embed="rId2"/>
          <a:stretch/>
        </p:blipFill>
        <p:spPr>
          <a:xfrm>
            <a:off x="5014800" y="1447920"/>
            <a:ext cx="358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t is characterized by freedom and convenience. so she and everyday we go to her house and on the street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6" name="Содержимое 4" descr="5_resize.jpg"/>
          <p:cNvPicPr/>
          <p:nvPr/>
        </p:nvPicPr>
        <p:blipFill>
          <a:blip r:embed="rId1"/>
          <a:stretch/>
        </p:blipFill>
        <p:spPr>
          <a:xfrm>
            <a:off x="1357200" y="1357200"/>
            <a:ext cx="3429000" cy="46436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5" descr="Screenshot_2013-10-09-20-01-22.png"/>
          <p:cNvPicPr/>
          <p:nvPr/>
        </p:nvPicPr>
        <p:blipFill>
          <a:blip r:embed="rId2"/>
          <a:stretch/>
        </p:blipFill>
        <p:spPr>
          <a:xfrm>
            <a:off x="5380200" y="1447920"/>
            <a:ext cx="285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9" name="Содержимое 4" descr="Gap7.jpg"/>
          <p:cNvPicPr/>
          <p:nvPr/>
        </p:nvPicPr>
        <p:blipFill>
          <a:blip r:embed="rId1"/>
          <a:stretch/>
        </p:blipFill>
        <p:spPr>
          <a:xfrm>
            <a:off x="569880" y="2071800"/>
            <a:ext cx="4094280" cy="306540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5" descr="n12831-7.jpg"/>
          <p:cNvPicPr/>
          <p:nvPr/>
        </p:nvPicPr>
        <p:blipFill>
          <a:blip r:embed="rId2"/>
          <a:stretch/>
        </p:blipFill>
        <p:spPr>
          <a:xfrm>
            <a:off x="4933800" y="185904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Party clothing</a:t>
            </a:r>
            <a:r>
              <a:rPr b="0" lang="ru-RU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It should be beautiful and fashionable is not always easy to apply to this type of clothing</a:t>
            </a:r>
            <a:r>
              <a:rPr b="0" lang="en-US" sz="1600" spc="-1" strike="noStrike">
                <a:solidFill>
                  <a:srgbClr val="696464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Содержимое 4" descr="-mg-4048.jpg"/>
          <p:cNvPicPr/>
          <p:nvPr/>
        </p:nvPicPr>
        <p:blipFill>
          <a:blip r:embed="rId1"/>
          <a:stretch/>
        </p:blipFill>
        <p:spPr>
          <a:xfrm>
            <a:off x="428760" y="2143080"/>
            <a:ext cx="4289400" cy="285768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2937036f4c3a5a28b0d4a2161cefa7aa.jpg"/>
          <p:cNvPicPr/>
          <p:nvPr/>
        </p:nvPicPr>
        <p:blipFill>
          <a:blip r:embed="rId2"/>
          <a:stretch/>
        </p:blipFill>
        <p:spPr>
          <a:xfrm>
            <a:off x="4933800" y="185904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Sport style.These are clothes for sports, it should be comfortable and the freedom of movement</a:t>
            </a:r>
            <a:endParaRPr b="0" lang="en-US" sz="1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5" name="Содержимое 4" descr="sportivnye-kostyumy.jpg"/>
          <p:cNvPicPr/>
          <p:nvPr/>
        </p:nvPicPr>
        <p:blipFill>
          <a:blip r:embed="rId1"/>
          <a:stretch/>
        </p:blipFill>
        <p:spPr>
          <a:xfrm>
            <a:off x="428760" y="1785960"/>
            <a:ext cx="342576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9732c05eb1.jpg"/>
          <p:cNvPicPr/>
          <p:nvPr/>
        </p:nvPicPr>
        <p:blipFill>
          <a:blip r:embed="rId2"/>
          <a:stretch/>
        </p:blipFill>
        <p:spPr>
          <a:xfrm>
            <a:off x="5357880" y="1536840"/>
            <a:ext cx="35510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This business style, he is very strict. No jeans and sneakers, it is characterized pants, shirts, ties and tuxedos. We use it at school for meetings and public events then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Содержимое 4" descr="1.jpg"/>
          <p:cNvPicPr/>
          <p:nvPr/>
        </p:nvPicPr>
        <p:blipFill>
          <a:blip r:embed="rId1"/>
          <a:stretch/>
        </p:blipFill>
        <p:spPr>
          <a:xfrm>
            <a:off x="1265400" y="144792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5" descr="32592111283.jpg"/>
          <p:cNvPicPr/>
          <p:nvPr/>
        </p:nvPicPr>
        <p:blipFill>
          <a:blip r:embed="rId2"/>
          <a:stretch/>
        </p:blipFill>
        <p:spPr>
          <a:xfrm>
            <a:off x="5284800" y="14479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1" name="Содержимое 4" descr="snova-o-shkoljnoyj-forme.jpg"/>
          <p:cNvPicPr/>
          <p:nvPr/>
        </p:nvPicPr>
        <p:blipFill>
          <a:blip r:embed="rId1"/>
          <a:stretch/>
        </p:blipFill>
        <p:spPr>
          <a:xfrm>
            <a:off x="914400" y="2263680"/>
            <a:ext cx="3749760" cy="294012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5" descr="Delovoj-stil-muzhchiny-foto3.jpg"/>
          <p:cNvPicPr/>
          <p:nvPr/>
        </p:nvPicPr>
        <p:blipFill>
          <a:blip r:embed="rId2"/>
          <a:stretch/>
        </p:blipFill>
        <p:spPr>
          <a:xfrm>
            <a:off x="4933800" y="2171880"/>
            <a:ext cx="3749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4:59:08Z</dcterms:created>
  <dc:creator>111</dc:creator>
  <dc:description/>
  <dc:language>en-US</dc:language>
  <cp:lastModifiedBy>111</cp:lastModifiedBy>
  <dcterms:modified xsi:type="dcterms:W3CDTF">2013-10-14T05:10:47Z</dcterms:modified>
  <cp:revision>7</cp:revision>
  <dc:subject/>
  <dc:title>Слайд 1</dc:title>
</cp:coreProperties>
</file>