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97D2-A066-4105-AB62-1952B4EC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B83-0ACB-4414-8216-9BB1AC1D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B47-EBBF-459A-827D-15EA6B03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AD7-B8FF-4389-903E-9E508393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D41-34C4-4BF6-BF46-5DA70AEF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D83-41E1-4683-B6AA-E4F272C5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77E-ED41-4064-A544-7C7A346E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8F9-3668-4041-AACF-4E616045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335-5C9B-4142-8453-2BC71102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5AF-24CB-4777-A592-F16EF914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220-FF4A-4E7F-BE79-F4FD55D3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3A8-5E24-495E-99DB-9616B420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0B87-9103-4D42-91D0-9DA4DF207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4560" y="1341360"/>
            <a:ext cx="71294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8100000"/>
                </a:gradFill>
                <a:latin typeface="Bookman Old Style"/>
              </a:rPr>
              <a:t>Угол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81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8100000"/>
                </a:gradFill>
                <a:latin typeface="Bookman Old Style"/>
              </a:rPr>
              <a:t>Сравнение углов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81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8100000"/>
                </a:gradFill>
                <a:latin typeface="Bookman Old Style"/>
              </a:rPr>
              <a:t>Измерение углов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8100000"/>
              </a:gra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838080"/>
            <a:ext cx="776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3. На рисун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углы                             – развернутые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198108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438640" y="2781360"/>
            <a:ext cx="4219560" cy="2763720"/>
            <a:chOff x="2438640" y="2781360"/>
            <a:chExt cx="4219560" cy="2763720"/>
          </a:xfrm>
        </p:grpSpPr>
        <p:sp>
          <p:nvSpPr>
            <p:cNvPr id="219" name=""/>
            <p:cNvSpPr/>
            <p:nvPr/>
          </p:nvSpPr>
          <p:spPr>
            <a:xfrm>
              <a:off x="2457720" y="4508640"/>
              <a:ext cx="2016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09160" y="3212640"/>
              <a:ext cx="1544760" cy="129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751840" y="3458880"/>
              <a:ext cx="3404160" cy="2086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73720" y="4508640"/>
              <a:ext cx="2016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0440" y="27813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38640" y="39276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59160" y="49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58800" y="4437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51360" y="29192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83360" y="38545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70160" y="333360"/>
            <a:ext cx="83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4. Запишите изображенные на чертеж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1700280"/>
            <a:ext cx="26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а) пря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б) лу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)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206064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278136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2360" y="350028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211640" y="4370040"/>
            <a:ext cx="360036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8920" y="4299120"/>
            <a:ext cx="324000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3292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97800" y="5378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7080" y="5091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3440" y="3867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97080" y="5378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740720" y="6021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2000" y="50911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58880" y="380880"/>
            <a:ext cx="76910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5. Начертите произвольный угол АВ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и отметьте точки, если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700280"/>
            <a:ext cx="73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  точ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лежит внутри угл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  точ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лежит на сторон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точ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жит вне угл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)  точ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жит на сторон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835280" y="3718080"/>
            <a:ext cx="5999400" cy="2844360"/>
            <a:chOff x="1835280" y="3718080"/>
            <a:chExt cx="5999400" cy="2844360"/>
          </a:xfrm>
        </p:grpSpPr>
        <p:sp>
          <p:nvSpPr>
            <p:cNvPr id="246" name=""/>
            <p:cNvSpPr/>
            <p:nvPr/>
          </p:nvSpPr>
          <p:spPr>
            <a:xfrm>
              <a:off x="2268360" y="6093000"/>
              <a:ext cx="4934160" cy="1440"/>
            </a:xfrm>
            <a:custGeom>
              <a:avLst/>
              <a:gdLst/>
              <a:ahLst/>
              <a:rect l="l" t="t" r="r" b="b"/>
              <a:pathLst>
                <a:path w="3108" h="1">
                  <a:moveTo>
                    <a:pt x="0" y="0"/>
                  </a:moveTo>
                  <a:lnTo>
                    <a:pt x="3108" y="0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74840" y="4073400"/>
              <a:ext cx="4622760" cy="2000520"/>
            </a:xfrm>
            <a:custGeom>
              <a:avLst/>
              <a:gdLst/>
              <a:ahLst/>
              <a:rect l="l" t="t" r="r" b="b"/>
              <a:pathLst>
                <a:path w="2912" h="1260">
                  <a:moveTo>
                    <a:pt x="0" y="1260"/>
                  </a:moveTo>
                  <a:lnTo>
                    <a:pt x="2912" y="0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22600" y="4406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92840" y="48355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00760" y="5661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49640" y="60548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38960" y="6064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24400" y="4048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90280" y="3718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65680" y="4378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61800" y="6041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16360" y="5867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35280" y="580536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32800" y="5348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Bookman Old Style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Выучить прав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50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50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50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5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акие фигуры изображены на рисунк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148428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16000" y="145908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349992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349992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71640" y="1916280"/>
            <a:ext cx="2816280" cy="1628640"/>
            <a:chOff x="971640" y="1916280"/>
            <a:chExt cx="2816280" cy="1628640"/>
          </a:xfrm>
        </p:grpSpPr>
        <p:sp>
          <p:nvSpPr>
            <p:cNvPr id="48" name=""/>
            <p:cNvSpPr/>
            <p:nvPr/>
          </p:nvSpPr>
          <p:spPr>
            <a:xfrm>
              <a:off x="1260360" y="3211560"/>
              <a:ext cx="2519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260360" y="2058840"/>
              <a:ext cx="1511640" cy="115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2268720" y="1916280"/>
              <a:ext cx="22356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564000" y="3283200"/>
              <a:ext cx="223920" cy="26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971640" y="3067200"/>
              <a:ext cx="22392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364000" y="1773360"/>
            <a:ext cx="2887920" cy="1844640"/>
            <a:chOff x="5364000" y="1773360"/>
            <a:chExt cx="2887920" cy="1844640"/>
          </a:xfrm>
        </p:grpSpPr>
        <p:sp>
          <p:nvSpPr>
            <p:cNvPr id="54" name=""/>
            <p:cNvSpPr/>
            <p:nvPr/>
          </p:nvSpPr>
          <p:spPr>
            <a:xfrm>
              <a:off x="5724360" y="3284640"/>
              <a:ext cx="2519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724360" y="1773360"/>
              <a:ext cx="0" cy="1511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5364000" y="1773360"/>
              <a:ext cx="223920" cy="26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Times New Roman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8028000" y="3355920"/>
              <a:ext cx="22392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5364000" y="3214800"/>
              <a:ext cx="223920" cy="26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84360" y="3789360"/>
            <a:ext cx="3744360" cy="1514520"/>
            <a:chOff x="684360" y="3789360"/>
            <a:chExt cx="3744360" cy="1514520"/>
          </a:xfrm>
        </p:grpSpPr>
        <p:sp>
          <p:nvSpPr>
            <p:cNvPr id="60" name=""/>
            <p:cNvSpPr/>
            <p:nvPr/>
          </p:nvSpPr>
          <p:spPr>
            <a:xfrm>
              <a:off x="2412720" y="4942080"/>
              <a:ext cx="1871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973080" y="3789360"/>
              <a:ext cx="1439280" cy="1152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684360" y="3934080"/>
              <a:ext cx="215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M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2124000" y="5015160"/>
              <a:ext cx="2152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4213080" y="5015160"/>
              <a:ext cx="215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292720" y="4941720"/>
            <a:ext cx="3240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4869000"/>
            <a:ext cx="7128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48360" y="5013360"/>
            <a:ext cx="223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8360" y="5013360"/>
            <a:ext cx="223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04000" y="5013360"/>
            <a:ext cx="223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445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рисунке 4 точка О разбивает прямую АВ на два луча с общим началом. Такие лучи называет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дополни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4360" y="40464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Угол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– это фигура, образованная двумя лучами, имеющими общее начал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2052720"/>
            <a:ext cx="7848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учи, образующие угол, называю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торонам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ла, а точку, из которой они выходят,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ершино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10400">
            <a:off x="2555640" y="4723920"/>
            <a:ext cx="2232000" cy="358920"/>
          </a:xfrm>
          <a:prstGeom prst="rightArrow">
            <a:avLst>
              <a:gd name="adj1" fmla="val 50000"/>
              <a:gd name="adj2" fmla="val 1554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947400">
            <a:off x="2700000" y="4005000"/>
            <a:ext cx="14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140360" y="4608360"/>
            <a:ext cx="2815560" cy="1628640"/>
            <a:chOff x="4140360" y="4608360"/>
            <a:chExt cx="2815560" cy="1628640"/>
          </a:xfrm>
        </p:grpSpPr>
        <p:sp>
          <p:nvSpPr>
            <p:cNvPr id="76" name=""/>
            <p:cNvSpPr/>
            <p:nvPr/>
          </p:nvSpPr>
          <p:spPr>
            <a:xfrm>
              <a:off x="4428720" y="5903640"/>
              <a:ext cx="2519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428720" y="4750920"/>
              <a:ext cx="1511280" cy="115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5437080" y="4608360"/>
              <a:ext cx="22320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6732360" y="5975280"/>
              <a:ext cx="223560" cy="26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4140360" y="5759280"/>
              <a:ext cx="22356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rot="20710200">
            <a:off x="1908000" y="5949720"/>
            <a:ext cx="2160720" cy="431640"/>
          </a:xfrm>
          <a:prstGeom prst="rightArrow">
            <a:avLst>
              <a:gd name="adj1" fmla="val 50000"/>
              <a:gd name="adj2" fmla="val 1251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686200">
            <a:off x="1694160" y="55897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бозначение уг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0755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мя буквами, причем  буква, обозначающая вершину пишется в середине -     АВ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й буквой – той, которой обозначена вершина, -   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умя малыми буквами, обозначающими стороны у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916360" y="3068640"/>
                <a:ext cx="576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059280" y="2205000"/>
                <a:ext cx="45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"/>
          <p:cNvGrpSpPr/>
          <p:nvPr/>
        </p:nvGrpSpPr>
        <p:grpSpPr>
          <a:xfrm>
            <a:off x="4140360" y="4608360"/>
            <a:ext cx="2815560" cy="1628640"/>
            <a:chOff x="4140360" y="4608360"/>
            <a:chExt cx="2815560" cy="1628640"/>
          </a:xfrm>
        </p:grpSpPr>
        <p:sp>
          <p:nvSpPr>
            <p:cNvPr id="89" name=""/>
            <p:cNvSpPr/>
            <p:nvPr/>
          </p:nvSpPr>
          <p:spPr>
            <a:xfrm>
              <a:off x="4428720" y="5903640"/>
              <a:ext cx="2519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428720" y="4750920"/>
              <a:ext cx="1511280" cy="115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5437080" y="4608360"/>
              <a:ext cx="22320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6732360" y="5975280"/>
              <a:ext cx="223560" cy="26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4140360" y="5759280"/>
              <a:ext cx="22356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755640" y="549360"/>
            <a:ext cx="2903400" cy="2836440"/>
            <a:chOff x="755640" y="549360"/>
            <a:chExt cx="2903400" cy="2836440"/>
          </a:xfrm>
        </p:grpSpPr>
        <p:grpSp>
          <p:nvGrpSpPr>
            <p:cNvPr id="95" name=""/>
            <p:cNvGrpSpPr/>
            <p:nvPr/>
          </p:nvGrpSpPr>
          <p:grpSpPr>
            <a:xfrm>
              <a:off x="1258560" y="549360"/>
              <a:ext cx="1439640" cy="1540800"/>
              <a:chOff x="1258560" y="549360"/>
              <a:chExt cx="1439640" cy="1540800"/>
            </a:xfrm>
          </p:grpSpPr>
          <p:sp>
            <p:nvSpPr>
              <p:cNvPr id="96" name=""/>
              <p:cNvSpPr/>
              <p:nvPr/>
            </p:nvSpPr>
            <p:spPr>
              <a:xfrm>
                <a:off x="1258560" y="549360"/>
                <a:ext cx="0" cy="151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258560" y="2062440"/>
                <a:ext cx="143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58560" y="1702080"/>
                <a:ext cx="36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18560" y="1702080"/>
                <a:ext cx="1440" cy="361800"/>
              </a:xfrm>
              <a:custGeom>
                <a:avLst/>
                <a:gdLst/>
                <a:ahLst/>
                <a:rect l="l" t="t" r="r" b="b"/>
                <a:pathLst>
                  <a:path w="1" h="228">
                    <a:moveTo>
                      <a:pt x="0" y="0"/>
                    </a:moveTo>
                    <a:lnTo>
                      <a:pt x="0" y="2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60000" y="163044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6720" y="620640"/>
              <a:ext cx="180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α = 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рямой уго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32000" y="692280"/>
              <a:ext cx="72720" cy="7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5640" y="2133720"/>
              <a:ext cx="29034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imes New Roman"/>
                </a:rPr>
                <a:t>Прямым угло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называют половину развернутого уг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049040" y="4076640"/>
            <a:ext cx="2577600" cy="2039040"/>
            <a:chOff x="1049040" y="4076640"/>
            <a:chExt cx="2577600" cy="2039040"/>
          </a:xfrm>
        </p:grpSpPr>
        <p:sp>
          <p:nvSpPr>
            <p:cNvPr id="105" name=""/>
            <p:cNvSpPr/>
            <p:nvPr/>
          </p:nvSpPr>
          <p:spPr>
            <a:xfrm flipH="1">
              <a:off x="1403280" y="4076640"/>
              <a:ext cx="1726920" cy="936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3640" y="5013360"/>
              <a:ext cx="1871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180800">
              <a:off x="1232280" y="4386600"/>
              <a:ext cx="1165320" cy="12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470" y="1062"/>
                  </a:moveTo>
                  <a:arcTo wR="10800" hR="10800" stAng="-3862936" swAng="2660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470" y="1062"/>
                  </a:moveTo>
                  <a:arcTo wR="10800" hR="10800" stAng="-3862936" swAng="266030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8360" y="457992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96080" y="5229360"/>
              <a:ext cx="22305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333399"/>
                  </a:solidFill>
                  <a:latin typeface="Times New Roman"/>
                </a:rPr>
                <a:t>Остры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30560" y="5300640"/>
              <a:ext cx="73080" cy="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1280" y="5300640"/>
              <a:ext cx="73080" cy="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788000" y="3860640"/>
            <a:ext cx="3024000" cy="2254680"/>
            <a:chOff x="4788000" y="3860640"/>
            <a:chExt cx="3024000" cy="2254680"/>
          </a:xfrm>
        </p:grpSpPr>
        <p:sp>
          <p:nvSpPr>
            <p:cNvPr id="113" name=""/>
            <p:cNvSpPr/>
            <p:nvPr/>
          </p:nvSpPr>
          <p:spPr>
            <a:xfrm>
              <a:off x="4788000" y="3860640"/>
              <a:ext cx="1081080" cy="1224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69080" y="5084640"/>
              <a:ext cx="1942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41280" y="5229000"/>
              <a:ext cx="18662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9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333399"/>
                  </a:solidFill>
                  <a:latin typeface="Times New Roman"/>
                </a:rPr>
                <a:t>Тупо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27640" y="5302080"/>
              <a:ext cx="73080" cy="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80360" y="5302080"/>
              <a:ext cx="73080" cy="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 rot="9924600">
              <a:off x="5274360" y="4548240"/>
              <a:ext cx="1099080" cy="10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94" y="620"/>
                  </a:moveTo>
                  <a:arcTo wR="10800" hR="10800" stAng="-6570334" swAng="7261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7194" y="620"/>
                  </a:moveTo>
                  <a:arcTo wR="10800" hR="10800" stAng="-6570334" swAng="72612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7800" y="465264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140360" y="476280"/>
            <a:ext cx="4608360" cy="2909520"/>
            <a:chOff x="4140360" y="476280"/>
            <a:chExt cx="4608360" cy="2909520"/>
          </a:xfrm>
        </p:grpSpPr>
        <p:sp>
          <p:nvSpPr>
            <p:cNvPr id="121" name=""/>
            <p:cNvSpPr/>
            <p:nvPr/>
          </p:nvSpPr>
          <p:spPr>
            <a:xfrm>
              <a:off x="4140360" y="2133720"/>
              <a:ext cx="46083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imes New Roman"/>
                </a:rPr>
                <a:t>Развернутый уго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это угол, образованный дополнительными лучам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003640" y="476280"/>
              <a:ext cx="2819160" cy="1582560"/>
              <a:chOff x="5003640" y="476280"/>
              <a:chExt cx="2819160" cy="1582560"/>
            </a:xfrm>
          </p:grpSpPr>
          <p:sp>
            <p:nvSpPr>
              <p:cNvPr id="123" name=""/>
              <p:cNvSpPr/>
              <p:nvPr/>
            </p:nvSpPr>
            <p:spPr>
              <a:xfrm>
                <a:off x="5222520" y="476280"/>
                <a:ext cx="2494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α = 18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развернутый уго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48360" y="547560"/>
                <a:ext cx="73080" cy="73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5003640" y="1268280"/>
                <a:ext cx="2819160" cy="790560"/>
                <a:chOff x="5003640" y="1268280"/>
                <a:chExt cx="2819160" cy="7905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03640" y="1806480"/>
                  <a:ext cx="1385640" cy="1800"/>
                </a:xfrm>
                <a:custGeom>
                  <a:avLst/>
                  <a:gdLst/>
                  <a:ahLst/>
                  <a:rect l="l" t="t" r="r" b="b"/>
                  <a:pathLst>
                    <a:path w="873" h="1">
                      <a:moveTo>
                        <a:pt x="0" y="0"/>
                      </a:moveTo>
                      <a:lnTo>
                        <a:pt x="873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430680" y="1806480"/>
                  <a:ext cx="1392120" cy="1800"/>
                </a:xfrm>
                <a:custGeom>
                  <a:avLst/>
                  <a:gdLst/>
                  <a:ahLst/>
                  <a:rect l="l" t="t" r="r" b="b"/>
                  <a:pathLst>
                    <a:path w="877" h="1">
                      <a:moveTo>
                        <a:pt x="0" y="1"/>
                      </a:moveTo>
                      <a:lnTo>
                        <a:pt x="877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372000" y="1771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157800" y="1268280"/>
                  <a:ext cx="340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α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6227640" y="1627200"/>
                  <a:ext cx="356400" cy="43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8" y="9349"/>
                      </a:moveTo>
                      <a:arcTo wR="10800" hR="10800" stAng="-10336705" swAng="102060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8" y="9349"/>
                      </a:moveTo>
                      <a:arcTo wR="10800" hR="10800" stAng="-10336705" swAng="1020604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flipV="1">
            <a:off x="5783760" y="2809440"/>
            <a:ext cx="2148480" cy="781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024320" y="2820960"/>
            <a:ext cx="886320" cy="243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58520" y="2570400"/>
            <a:ext cx="2967840" cy="2873880"/>
            <a:chOff x="758520" y="2570400"/>
            <a:chExt cx="2967840" cy="2873880"/>
          </a:xfrm>
        </p:grpSpPr>
        <p:grpSp>
          <p:nvGrpSpPr>
            <p:cNvPr id="134" name=""/>
            <p:cNvGrpSpPr/>
            <p:nvPr/>
          </p:nvGrpSpPr>
          <p:grpSpPr>
            <a:xfrm>
              <a:off x="987480" y="2973240"/>
              <a:ext cx="2444760" cy="2149920"/>
              <a:chOff x="987480" y="2973240"/>
              <a:chExt cx="2444760" cy="214992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2654640" y="2973240"/>
                <a:ext cx="777600" cy="214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987480" y="2994840"/>
                <a:ext cx="2432880" cy="89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rot="21268200">
              <a:off x="779400" y="341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1268200">
              <a:off x="3304440" y="258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1268200">
              <a:off x="2666880" y="4966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69824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2440" y="5105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7840" y="3200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04640"/>
            <a:ext cx="763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Если один угол можно наложить на другой так, что они совпадут, то эти углы рав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566 0.30277 L 0.49566 -0.03056 E">
                                      <p:cBhvr>
                                        <p:cTn id="85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620360" y="2637000"/>
            <a:ext cx="5965200" cy="2898000"/>
            <a:chOff x="1620360" y="2637000"/>
            <a:chExt cx="5965200" cy="2898000"/>
          </a:xfrm>
        </p:grpSpPr>
        <p:sp>
          <p:nvSpPr>
            <p:cNvPr id="145" name=""/>
            <p:cNvSpPr/>
            <p:nvPr/>
          </p:nvSpPr>
          <p:spPr>
            <a:xfrm>
              <a:off x="2019600" y="4961160"/>
              <a:ext cx="4933800" cy="1440"/>
            </a:xfrm>
            <a:custGeom>
              <a:avLst/>
              <a:gdLst/>
              <a:ahLst/>
              <a:rect l="l" t="t" r="r" b="b"/>
              <a:pathLst>
                <a:path w="3108" h="1">
                  <a:moveTo>
                    <a:pt x="0" y="0"/>
                  </a:moveTo>
                  <a:lnTo>
                    <a:pt x="3108" y="0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25720" y="2941920"/>
              <a:ext cx="4622760" cy="2000160"/>
            </a:xfrm>
            <a:custGeom>
              <a:avLst/>
              <a:gdLst/>
              <a:ahLst/>
              <a:rect l="l" t="t" r="r" b="b"/>
              <a:pathLst>
                <a:path w="2912" h="1260">
                  <a:moveTo>
                    <a:pt x="0" y="1260"/>
                  </a:moveTo>
                  <a:lnTo>
                    <a:pt x="2912" y="0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3480" y="3275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43720" y="37036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05680" y="31705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86320" y="47707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00520" y="4923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9840" y="4932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29120" y="50752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75640" y="2916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41160" y="263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16200" y="32464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20360" y="4694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88480" y="454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31280" y="5075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67240" y="47358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0800" y="499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68320" y="290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258920" y="1125360"/>
            <a:ext cx="33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9000" y="692280"/>
            <a:ext cx="740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исунке точ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лежат внутри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чк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лежат вне этого угла, а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на сторонах уг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Практически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6560" y="1314360"/>
            <a:ext cx="54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шите названия угл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16000" y="2636640"/>
            <a:ext cx="50328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2637000"/>
            <a:ext cx="72072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2492280"/>
            <a:ext cx="100800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308720" y="2491920"/>
            <a:ext cx="86544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53737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5280" y="53737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43640" y="5445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5440" y="220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1800" y="32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5800" y="33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3240" y="2565360"/>
            <a:ext cx="1869480" cy="1511280"/>
            <a:chOff x="3423240" y="2565360"/>
            <a:chExt cx="1869480" cy="1511280"/>
          </a:xfrm>
        </p:grpSpPr>
        <p:sp>
          <p:nvSpPr>
            <p:cNvPr id="178" name=""/>
            <p:cNvSpPr/>
            <p:nvPr/>
          </p:nvSpPr>
          <p:spPr>
            <a:xfrm>
              <a:off x="3708720" y="292428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08720" y="2924280"/>
              <a:ext cx="115236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23240" y="2565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086160" y="249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2980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3645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24000" y="3645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042920" y="4869000"/>
            <a:ext cx="1584360" cy="581400"/>
            <a:chOff x="1042920" y="4869000"/>
            <a:chExt cx="1584360" cy="581400"/>
          </a:xfrm>
        </p:grpSpPr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1042920" y="4941720"/>
                  <a:ext cx="50472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"/>
            <p:cNvSpPr/>
            <p:nvPr/>
          </p:nvSpPr>
          <p:spPr>
            <a:xfrm>
              <a:off x="1403280" y="48690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А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282920" y="4869000"/>
            <a:ext cx="1584360" cy="581400"/>
            <a:chOff x="4282920" y="4869000"/>
            <a:chExt cx="1584360" cy="581400"/>
          </a:xfrm>
        </p:grpSpPr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4282920" y="4941720"/>
                  <a:ext cx="50508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"/>
            <p:cNvSpPr/>
            <p:nvPr/>
          </p:nvSpPr>
          <p:spPr>
            <a:xfrm>
              <a:off x="4643280" y="48690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946920" y="4941720"/>
            <a:ext cx="1585800" cy="581400"/>
            <a:chOff x="6946920" y="4941720"/>
            <a:chExt cx="1585800" cy="581400"/>
          </a:xfrm>
        </p:grpSpPr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6946920" y="5013360"/>
                  <a:ext cx="50472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"/>
            <p:cNvSpPr/>
            <p:nvPr/>
          </p:nvSpPr>
          <p:spPr>
            <a:xfrm>
              <a:off x="7308720" y="494172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2485800" y="3141720"/>
            <a:ext cx="4219920" cy="2454480"/>
            <a:chOff x="2485800" y="3141720"/>
            <a:chExt cx="4219920" cy="2454480"/>
          </a:xfrm>
        </p:grpSpPr>
        <p:sp>
          <p:nvSpPr>
            <p:cNvPr id="198" name=""/>
            <p:cNvSpPr/>
            <p:nvPr/>
          </p:nvSpPr>
          <p:spPr>
            <a:xfrm>
              <a:off x="2556000" y="5014800"/>
              <a:ext cx="2016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0" y="5014800"/>
              <a:ext cx="2016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546800" y="3544920"/>
              <a:ext cx="1349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75040" y="3831840"/>
              <a:ext cx="1609920" cy="1213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90880" y="33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800" y="44384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57080" y="50148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38520" y="3141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30880" y="44384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84360" y="765000"/>
            <a:ext cx="77770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На рисунке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BOD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 тупой,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AOB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OC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08360" y="1773360"/>
            <a:ext cx="273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2494080"/>
            <a:ext cx="273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20720" y="1484280"/>
            <a:ext cx="271440" cy="289080"/>
          </a:xfrm>
          <a:custGeom>
            <a:avLst/>
            <a:gdLst/>
            <a:ahLst/>
            <a:rect l="l" t="t" r="r" b="b"/>
            <a:pathLst>
              <a:path w="171" h="182">
                <a:moveTo>
                  <a:pt x="0" y="182"/>
                </a:moveTo>
                <a:lnTo>
                  <a:pt x="171" y="0"/>
                </a:lnTo>
              </a:path>
            </a:pathLst>
          </a:custGeom>
          <a:noFill/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1773360"/>
            <a:ext cx="360360" cy="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1266840"/>
            <a:ext cx="320760" cy="1440"/>
          </a:xfrm>
          <a:custGeom>
            <a:avLst/>
            <a:gdLst/>
            <a:ahLst/>
            <a:rect l="l" t="t" r="r" b="b"/>
            <a:pathLst>
              <a:path w="202" h="1">
                <a:moveTo>
                  <a:pt x="0" y="0"/>
                </a:moveTo>
                <a:lnTo>
                  <a:pt x="202" y="0"/>
                </a:ln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720" y="2421000"/>
            <a:ext cx="360360" cy="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6720" y="2133720"/>
            <a:ext cx="276120" cy="287280"/>
          </a:xfrm>
          <a:custGeom>
            <a:avLst/>
            <a:gdLst/>
            <a:ahLst/>
            <a:rect l="l" t="t" r="r" b="b"/>
            <a:pathLst>
              <a:path w="174" h="181">
                <a:moveTo>
                  <a:pt x="0" y="181"/>
                </a:moveTo>
                <a:lnTo>
                  <a:pt x="174" y="0"/>
                </a:lnTo>
              </a:path>
            </a:pathLst>
          </a:custGeom>
          <a:noFill/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90840" y="1008000"/>
            <a:ext cx="282600" cy="260280"/>
          </a:xfrm>
          <a:custGeom>
            <a:avLst/>
            <a:gdLst/>
            <a:ahLst/>
            <a:rect l="l" t="t" r="r" b="b"/>
            <a:pathLst>
              <a:path w="178" h="164">
                <a:moveTo>
                  <a:pt x="0" y="164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47:12Z</dcterms:created>
  <dc:creator>Pragma</dc:creator>
  <dc:description/>
  <dc:language>en-US</dc:language>
  <cp:lastModifiedBy>Pragma</cp:lastModifiedBy>
  <dcterms:modified xsi:type="dcterms:W3CDTF">2009-01-26T18:39:13Z</dcterms:modified>
  <cp:revision>2</cp:revision>
  <dc:subject/>
  <dc:title>Слайд 1</dc:title>
</cp:coreProperties>
</file>