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03A-71D8-4939-9E88-9DB2E0A4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0B2-B2EA-4ABA-8EEB-A87574FD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ABF-F6A5-4247-AA41-9AD8FDBE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9E8-F9DE-447A-BE84-2B5C41AB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902-3200-4212-B4E6-796DEBFA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847-5090-4580-B615-9478B32C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013F-A0C4-407E-863E-FD145592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818-8053-4257-A14C-00B77051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047-5F38-45B7-B9E1-8CE00847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230-DACA-4D6C-BC47-78CD6879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BBD-3636-4121-A934-7B613922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FA0-57F7-4B5A-8EAC-F659CCC8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795C-0F5B-4315-BC68-F4B501822E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72;&#1081;&#1083;:Mandelstam.jpg&amp;filetimestamp=20080816004457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35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0066"/>
                </a:solidFill>
                <a:latin typeface="Calibri"/>
              </a:rPr>
              <a:t>Мандельштам Осип Эмильевич</a:t>
            </a: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4920" y="1571760"/>
            <a:ext cx="400032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́сип Эми́льевич Мандельшта́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имя при рождени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о́сиф Эми́льевич Мандельшта́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3 (15) января 1891, Варшава — 27 декабря 1938, лагерный пункт Вторая речка, под Владивостоком) — русский поэт, эссеист, переводчик и литературный критик, один из крупнейших русских поэтов XX ве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Mandelsta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57200"/>
            <a:ext cx="4357800" cy="52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85480" y="764640"/>
            <a:ext cx="399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ип Мандельштам родился 15 января (3 января по старому стилю) 1891 года в Варшаве. Отец, Эмилий Вениаминович (Эмиль, Хаскл, Хацкель Бениаминович) Мандельштам (1856—-1938), был мастером перчаточного дела, состоял в купцах первой гильдии, что давало ему право жить вне черты оседлости, несмотря на еврейское происхождение. Мать, Флора Осиповна Вербловская, была музыкан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0832b484a03d7529432892a7820605ff"/>
          <p:cNvPicPr/>
          <p:nvPr/>
        </p:nvPicPr>
        <p:blipFill>
          <a:blip r:embed="rId1"/>
          <a:stretch/>
        </p:blipFill>
        <p:spPr>
          <a:xfrm>
            <a:off x="4500720" y="281160"/>
            <a:ext cx="4643280" cy="65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696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897 году семья Мандельштамов переехала в Петербург. Осип получил образование в Тенишевском училище (с 1900 по 1907 годы), одном из наиболее прогрессивных учебных заведений того времени. С детства находился под впечатлением архитектурно-исторического облика Петербурга, его стройного «миража», воспринимаемого по контрасту с родовыми чертами быта и религиозного ритуала еврейской диаспоры. В 1908—1910 годы Мандельштам учился в Сорбонне и в Гейдельбергском университете. В 1911 году для того, чтобы облегчить поступление в Петербургский университет Мандельштам перешёл в лютеранскую веру, которую, однако, не практиковал. 10 сентября того же года он был зачислен на историко-филологический факультет Петербургского университета, где обучался с перерывами до 1917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л поэтическую карьеру как символист, последователь прежде всего Поля Верлена и Фёдора Сологуба, а также предтечи символистов — Фёдора Ивановича Тютчева. В конце 1912 года вошёл в группу акмеистов. В акмеизме он увидел, в первую очередь, апологию органического единения хаоса (природа) и жёстко организованного космоса (архитектура) в противовес размытости и иррациональности символизма. Дружбу с акмеистами (Анной Ахматовой и Николаем Гумилевым) считал одной из главных удач своей жизни. Поэтические поиски этого периода отразила дебютная книга стихов «Камень» (три издания: 1913, 1916 и 192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54100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хи времени Первой мировой войны и революции (1916—1920) составили вторую книгу «Tristia» («книгу скорбей», заглавие восходит к Овидию), вышедшую в 1922 году. Её авторский вариант появился в 1923 под заглавием «Вторая книга» и с общим посвящением «Н. Х.» — Надежде Яковлевне Хазиной, жене поэта (их знакомство состоялось в Киеве, в мае 1919 года). В книге отчётливо прослеживается эволюция от акмеистического, рационального, к иррациональному (для Мандельштама всегда — трагическому), к поэтике сложнейших ассоциац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mandelshtam"/>
          <p:cNvPicPr/>
          <p:nvPr/>
        </p:nvPicPr>
        <p:blipFill>
          <a:blip r:embed="rId1"/>
          <a:stretch/>
        </p:blipFill>
        <p:spPr>
          <a:xfrm>
            <a:off x="5796000" y="1413000"/>
            <a:ext cx="30240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ьнейшая эволюция поэтики отражается в стихотворениях 1920-х с их затемненностью и многочисленными культурными аллюзиями. С мая 1925 по октябрь 1930 годов наступает стиховая пауза в творчестве. В это время пишется проза, к созданной в 1923 автобиографии «Шум времени» прибавляется варьирующая, в первую очередь, гоголевские мотивы повесть «Египетская марка» (1927). В 1928 году печатается последний прижизненный поэтический сборник «Стихотворения», а также книга его избранных статей «О поэзи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0 году Осип Мандельштам возвращается к написанию стихов, в которых демонстративно рвёт не только с советской действительностью, но и с культурной традицией в целом и берет на себя миссию создания новой культуры, от нуля, «из кремня», не опирающейся на достижения предшественников. «Прощанием» с культурой стало программное поэтологическое эссе «Разговор о Данте» (1933 год). В ноябре 1933 года, на пике своей ненависти к советскому официозу, пишет злую антисталинскую эпиграмму «Мы живём, под собою не чуя страны…», за которую его арестовывают и отправляют в ссылку в Чердынь, затем разрешают выбрать другое место поселения. Мандельштам выбирает Воронеж (1934—1937). Бо́льшая часть стихотворений, созданных в воронежский период, отразила стремление бесповоротно деформированного арестом и болезнями поэта выговориться сполна, сказать своё последнее сл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72080" y="6286320"/>
            <a:ext cx="260208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ндельштам после арес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3603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ае 1937 года поэ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ил разреш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ехать из Воронеж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устя год 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естовали вторично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правили по этапу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герь на Даль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ток. Мандельш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нчался 27 декабр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38 года от тифа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сыльном лаг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перпун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ладивосто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билитиров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мертно: по делу 193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да — в 1956, по де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34 года — в 198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200px-NKVD_Mandelstam"/>
          <p:cNvPicPr/>
          <p:nvPr/>
        </p:nvPicPr>
        <p:blipFill>
          <a:blip r:embed="rId1"/>
          <a:stretch/>
        </p:blipFill>
        <p:spPr>
          <a:xfrm>
            <a:off x="4214880" y="0"/>
            <a:ext cx="4929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9152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вековечение памя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840" y="928440"/>
            <a:ext cx="442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2001 году во Владивостоке был открыт памятник Осипу Эмильевичу Мандельштаму, автор памятника Ненаживин Валерий. Памятник поэту в Вороне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сентября 2008 года памятник открылся в Воронеж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8 ноября 2008 года памятник был открыт в центре    Москвы на пересечении улицы Забелина      и Старосадского переулка, во дворе дома, в котором поэт гостил у своего брата Александ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200px-Monument_to_Osip_Mandelshtam_in_Voronezh%2C_20090628"/>
          <p:cNvPicPr/>
          <p:nvPr/>
        </p:nvPicPr>
        <p:blipFill>
          <a:blip r:embed="rId1"/>
          <a:stretch/>
        </p:blipFill>
        <p:spPr>
          <a:xfrm>
            <a:off x="4643280" y="857160"/>
            <a:ext cx="450072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4:04:10Z</dcterms:created>
  <dc:creator>Wsuser</dc:creator>
  <dc:description/>
  <dc:language>en-US</dc:language>
  <cp:lastModifiedBy>SamLab.ws</cp:lastModifiedBy>
  <dcterms:modified xsi:type="dcterms:W3CDTF">2014-01-31T11:15:41Z</dcterms:modified>
  <cp:revision>2</cp:revision>
  <dc:subject/>
  <dc:title>Мандельштам Осип Эмильевич </dc:title>
</cp:coreProperties>
</file>