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8149-E212-4316-99B2-ADEBA100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90BC-CBB6-474C-83D3-0ABA7B72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5C83-C77F-49E5-A31C-FD749033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E053-DDDE-4307-B5E7-DE17A919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BAB3-458E-4BC3-BBB5-291BD290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9FCF-75C5-4CB3-A2D1-AB1A6711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2D6E-817A-4605-A3C4-9A84904A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43C0-EB89-4ACD-ABDA-22D0DAA9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248F-EEE7-4336-9757-FE10661F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8F6A-B596-47C2-B6B7-31742F8F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9FCF-972A-4552-AC35-4F775DF4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FF81-20A0-49B5-9E3F-F4C7D414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BAAF-9589-4C81-9FD3-A39DF5DB7F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0;&#1072;&#1081;&#1083;:Mandelstam.jpg&amp;filetimestamp=20080816004457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359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60066"/>
                </a:solidFill>
                <a:latin typeface="Calibri"/>
              </a:rPr>
              <a:t>Мандельштам Осип Эмильевич</a:t>
            </a: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14920" y="1571760"/>
            <a:ext cx="400032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́сип Эми́льевич Мандельшта́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имя при рождени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Ио́сиф Эми́льевич Мандельшта́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3 (15) января 1891, Варшава — 27 декабря 1938, лагерный пункт Вторая речка, под Владивостоком) — русский поэт, эссеист, переводчик и литературный критик, один из крупнейших русских поэтов XX ве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Mandelsta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357200"/>
            <a:ext cx="4357800" cy="528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85480" y="764640"/>
            <a:ext cx="3997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ип Мандельштам родился 15 января (3 января по старому стилю) 1891 года в Варшаве. Отец, Эмилий Вениаминович (Эмиль, Хаскл, Хацкель Бениаминович) Мандельштам (1856—-1938), был мастером перчаточного дела, состоял в купцах первой гильдии, что давало ему право жить вне черты оседлости, несмотря на еврейское происхождение. Мать, Флора Осиповна Вербловская, была музыкант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0832b484a03d7529432892a7820605ff"/>
          <p:cNvPicPr/>
          <p:nvPr/>
        </p:nvPicPr>
        <p:blipFill>
          <a:blip r:embed="rId1"/>
          <a:stretch/>
        </p:blipFill>
        <p:spPr>
          <a:xfrm>
            <a:off x="4500720" y="281160"/>
            <a:ext cx="4643280" cy="65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6960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897 году семья Мандельштамов переехала в Петербург. Осип получил образование в Тенишевском училище (с 1900 по 1907 годы), одном из наиболее прогрессивных учебных заведений того времени. С детства находился под впечатлением архитектурно-исторического облика Петербурга, его стройного «миража», воспринимаемого по контрасту с родовыми чертами быта и религиозного ритуала еврейской диаспоры. В 1908—1910 годы Мандельштам учился в Сорбонне и в Гейдельбергском университете. В 1911 году для того, чтобы облегчить поступление в Петербургский университет Мандельштам перешёл в лютеранскую веру, которую, однако, не практиковал. 10 сентября того же года он был зачислен на историко-филологический факультет Петербургского университета, где обучался с перерывами до 1917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799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инал поэтическую карьеру как символист, последователь прежде всего Поля Верлена и Фёдора Сологуба, а также предтечи символистов — Фёдора Ивановича Тютчева. В конце 1912 года вошёл в группу акмеистов. В акмеизме он увидел, в первую очередь, апологию органического единения хаоса (природа) и жёстко организованного космоса (архитектура) в противовес размытости и иррациональности символизма. Дружбу с акмеистами (Анной Ахматовой и Николаем Гумилевым) считал одной из главных удач своей жизни. Поэтические поиски этого периода отразила дебютная книга стихов «Камень» (три издания: 1913, 1916 и 192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54100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ихи времени Первой мировой войны и революции (1916—1920) составили вторую книгу «Tristia» («книгу скорбей», заглавие восходит к Овидию), вышедшую в 1922 году. Её авторский вариант появился в 1923 под заглавием «Вторая книга» и с общим посвящением «Н. Х.» — Надежде Яковлевне Хазиной, жене поэта (их знакомство состоялось в Киеве, в мае 1919 года). В книге отчётливо прослеживается эволюция от акмеистического, рационального, к иррациональному (для Мандельштама всегда — трагическому), к поэтике сложнейших ассоциац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mandelshtam"/>
          <p:cNvPicPr/>
          <p:nvPr/>
        </p:nvPicPr>
        <p:blipFill>
          <a:blip r:embed="rId1"/>
          <a:stretch/>
        </p:blipFill>
        <p:spPr>
          <a:xfrm>
            <a:off x="5796000" y="1413000"/>
            <a:ext cx="302400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льнейшая эволюция поэтики отражается в стихотворениях 1920-х с их затемненностью и многочисленными культурными аллюзиями. С мая 1925 по октябрь 1930 годов наступает стиховая пауза в творчестве. В это время пишется проза, к созданной в 1923 автобиографии «Шум времени» прибавляется варьирующая, в первую очередь, гоголевские мотивы повесть «Египетская марка» (1927). В 1928 году печатается последний прижизненный поэтический сборник «Стихотворения», а также книга его избранных статей «О поэзии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30 году Осип Мандельштам возвращается к написанию стихов, в которых демонстративно рвёт не только с советской действительностью, но и с культурной традицией в целом и берет на себя миссию создания новой культуры, от нуля, «из кремня», не опирающейся на достижения предшественников. «Прощанием» с культурой стало программное поэтологическое эссе «Разговор о Данте» (1933 год). В ноябре 1933 года, на пике своей ненависти к советскому официозу, пишет злую антисталинскую эпиграмму «Мы живём, под собою не чуя страны…», за которую его арестовывают и отправляют в ссылку в Чердынь, затем разрешают выбрать другое место поселения. Мандельштам выбирает Воронеж (1934—1937). Бо́льшая часть стихотворений, созданных в воронежский период, отразила стремление бесповоротно деформированного арестом и болезнями поэта выговориться сполна, сказать своё последнее сло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72080" y="6286320"/>
            <a:ext cx="260208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ндельштам после арес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3603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мае 1937 года поэ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ил разреш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ехать из Воронеж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устя год е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рестовали вторично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правили по этапу 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агерь на Даль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ток. Мандельшт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ончался 27 декабр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938 года от тифа 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сыльном лаге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адперпун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ладивосток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билитиров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мертно: по делу 193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да — в 1956, по дел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934 года — в 198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200px-NKVD_Mandelstam"/>
          <p:cNvPicPr/>
          <p:nvPr/>
        </p:nvPicPr>
        <p:blipFill>
          <a:blip r:embed="rId1"/>
          <a:stretch/>
        </p:blipFill>
        <p:spPr>
          <a:xfrm>
            <a:off x="4214880" y="0"/>
            <a:ext cx="49291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9152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вековечение памят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840" y="928440"/>
            <a:ext cx="442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2001 году во Владивостоке был открыт памятник Осипу Эмильевичу Мандельштаму, автор памятника Ненаживин Валерий. Памятник поэту в Воронеж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 сентября 2008 года памятник открылся в Воронеж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8 ноября 2008 года памятник был открыт в центре    Москвы на пересечении улицы Забелина      и Старосадского переулка, во дворе дома, в котором поэт гостил у своего брата Александ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200px-Monument_to_Osip_Mandelshtam_in_Voronezh%2C_20090628"/>
          <p:cNvPicPr/>
          <p:nvPr/>
        </p:nvPicPr>
        <p:blipFill>
          <a:blip r:embed="rId1"/>
          <a:stretch/>
        </p:blipFill>
        <p:spPr>
          <a:xfrm>
            <a:off x="4643280" y="857160"/>
            <a:ext cx="4500720" cy="56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14:04:10Z</dcterms:created>
  <dc:creator>Wsuser</dc:creator>
  <dc:description/>
  <dc:language>en-US</dc:language>
  <cp:lastModifiedBy>SamLab.ws</cp:lastModifiedBy>
  <dcterms:modified xsi:type="dcterms:W3CDTF">2014-01-31T11:15:41Z</dcterms:modified>
  <cp:revision>2</cp:revision>
  <dc:subject/>
  <dc:title>Мандельштам Осип Эмильевич </dc:title>
</cp:coreProperties>
</file>