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2A66-1FE3-4501-8BF7-F371C6341C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6FE-F4D2-4C57-9ADE-E5FA6BD1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8A1-8647-4926-BC0A-56C62974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B38-E977-45B1-9BE4-61FF71FF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2D6-D39A-4B48-A99E-A7AD468C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188-F77E-44C1-A9CA-B37C8340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CFA-5C6B-438C-B020-4C9CCE77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BDC-E18F-45AF-B5CD-874A8995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2F2-784D-4C7F-B057-65DCD923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5A7-DEF3-4EF8-AB6A-D34B6597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29C-6697-495A-9A9C-B3FB5EFB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6C9-2620-4A3F-BA2B-D1E11B69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01B-C9F5-4D61-9B1C-9A786EF7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8BA1-90A6-460A-A4CE-EC7DC3C91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Точ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очка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является идеализацией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чень маленьких объектов, т. е. таких, размерами которых можно пренебреч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767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ревнегреческий ученый Евклид, впервые давший научное изложение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геометрии, в своей книге "Начала" определял точку как то, что не имеет час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648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и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изображаются остро отточенным карандашом или ручкой на листе бумаги, мелом на доске и т.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562720"/>
            <a:ext cx="914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и обозначаются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рописными латинскими буквам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...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...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'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''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'''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52680" y="685800"/>
            <a:ext cx="24940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 изображаются точ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2590920"/>
            <a:ext cx="883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и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зображаются остро отточенным карандашом или ручкой на листе бумаги, мелом на доске и т.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990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 обозначаются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и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?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59092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и обозначаются прописными латинскими буквами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…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990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проводятся прямые?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590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рямые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проводятся на листе бумаги или доске с помощью линей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990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 обозначаются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прямые?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5909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П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ямые обозначаются строчными латинскими буквами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a,  b,  c, ...,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ли двумя прописными латинскими буквами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, CD, ...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свойства основных геометрических фигур называются аксиомами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5909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Аксиомами называются свойства геометрических фигур, принимаемые без доказатель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 переводится слово «аксиома» с греческого язы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2590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Д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стойное признания, не вызывающее сомнения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 могут располагаться друг относительно друга точка и пряма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590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а может принадлежать данной прямой,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ожет и не принадлежать ей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9907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ое свойство принимается в качестве аксиомы взаимного расположения точек и прямо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048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Через любые две точки проходит единственная пряма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две прямые называются пересекающимис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5909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Две прямые называются пересекающимися, если они имеют одну общую точк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две прямые называются параллельным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25909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Две прямые называются параллельными, если они не имеют ни одной общей точ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Прямые и плоск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7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ямая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является идеализацией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нкой натянутой нити, края стола прямоугольной формы. По прямой распространяется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луч све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524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рямые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проводятся на листе бумаги или доске с помощью линейки. Хотя изображения прямых ограничены, их следует представлять себе неограниченно продолженными в обе сторо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3505320"/>
            <a:ext cx="9144000" cy="2533680"/>
            <a:chOff x="0" y="3505320"/>
            <a:chExt cx="9144000" cy="2533680"/>
          </a:xfrm>
        </p:grpSpPr>
        <p:sp>
          <p:nvSpPr>
            <p:cNvPr id="58" name=""/>
            <p:cNvSpPr/>
            <p:nvPr/>
          </p:nvSpPr>
          <p:spPr>
            <a:xfrm>
              <a:off x="0" y="3505320"/>
              <a:ext cx="6705720" cy="25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Прямые обозначаются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строчными латинскими буквами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 b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 c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...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 a</a:t>
              </a:r>
              <a:r>
                <a:rPr b="0" lang="en-US" sz="28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b</a:t>
              </a:r>
              <a:r>
                <a:rPr b="0" lang="en-US" sz="28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c</a:t>
              </a:r>
              <a:r>
                <a:rPr b="0" lang="en-US" sz="28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...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'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b''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c'''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...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 или двумя прописными латинскими буквами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B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CD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...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A</a:t>
              </a:r>
              <a:r>
                <a:rPr b="0" lang="en-US" sz="28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8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C</a:t>
              </a:r>
              <a:r>
                <a:rPr b="0" lang="en-US" sz="28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2800" spc="-1" strike="noStrike" baseline="-30000">
                  <a:solidFill>
                    <a:srgbClr val="00cc99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...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A'B'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C''D''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..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6664320" y="3581280"/>
              <a:ext cx="2479680" cy="17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67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лоскость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является идеализацией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ровной поверхности воды, поверхности стола, доски, зеркала и т.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колько прямых можно провести через: а) одну точку;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б)  две точ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25909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Бесконечно много; б) одну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колько прямых можно провести через тр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точ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и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25909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Либо одну, либо ни одной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6858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Сколько прямых изображено на рисунке? Сколько у них точек попарных пересечени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3003840" cy="2235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5800" y="5029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5 прямых, 10 точе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2880" y="3008160"/>
            <a:ext cx="2295720" cy="2059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7650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колько прямых можно провести через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различные пары из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р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ех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точ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ек, не лежащих на одной прямой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916360" y="2857680"/>
            <a:ext cx="4992480" cy="3590280"/>
            <a:chOff x="2916360" y="2857680"/>
            <a:chExt cx="4992480" cy="3590280"/>
          </a:xfrm>
        </p:grpSpPr>
        <p:sp>
          <p:nvSpPr>
            <p:cNvPr id="147" name=""/>
            <p:cNvSpPr/>
            <p:nvPr/>
          </p:nvSpPr>
          <p:spPr>
            <a:xfrm>
              <a:off x="2916360" y="5805360"/>
              <a:ext cx="369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Три.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5197320" y="2857680"/>
              <a:ext cx="2711520" cy="236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32080" y="3276720"/>
            <a:ext cx="2317680" cy="2081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920" y="7650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колько прямых можно провести через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различные пары из четырех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точ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ек, ни какие три из которых не лежат на одной прямой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627280" y="3141720"/>
            <a:ext cx="5281560" cy="3377880"/>
            <a:chOff x="2627280" y="3141720"/>
            <a:chExt cx="5281560" cy="3377880"/>
          </a:xfrm>
        </p:grpSpPr>
        <p:sp>
          <p:nvSpPr>
            <p:cNvPr id="153" name=""/>
            <p:cNvSpPr/>
            <p:nvPr/>
          </p:nvSpPr>
          <p:spPr>
            <a:xfrm>
              <a:off x="2627280" y="5877000"/>
              <a:ext cx="355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6.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5197320" y="3141720"/>
              <a:ext cx="2711520" cy="2351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82840" y="2997360"/>
            <a:ext cx="2216160" cy="2081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6922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колько прямых можно провести через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различные пары из пяти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точ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ек, ни какие три из которых не лежат на одной прямой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987640" y="2851200"/>
            <a:ext cx="4808520" cy="3596760"/>
            <a:chOff x="2987640" y="2851200"/>
            <a:chExt cx="4808520" cy="3596760"/>
          </a:xfrm>
        </p:grpSpPr>
        <p:sp>
          <p:nvSpPr>
            <p:cNvPr id="159" name=""/>
            <p:cNvSpPr/>
            <p:nvPr/>
          </p:nvSpPr>
          <p:spPr>
            <a:xfrm>
              <a:off x="2987640" y="5805360"/>
              <a:ext cx="305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10.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5310360" y="2851200"/>
              <a:ext cx="2485800" cy="237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3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колько прямых можно провести через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различные пары из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точ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ек, ни какие три из которых не лежат на одной прямой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1052640"/>
            <a:ext cx="9144000" cy="5805360"/>
            <a:chOff x="0" y="1052640"/>
            <a:chExt cx="9144000" cy="5805360"/>
          </a:xfrm>
        </p:grpSpPr>
        <p:grpSp>
          <p:nvGrpSpPr>
            <p:cNvPr id="164" name=""/>
            <p:cNvGrpSpPr/>
            <p:nvPr/>
          </p:nvGrpSpPr>
          <p:grpSpPr>
            <a:xfrm>
              <a:off x="0" y="1052640"/>
              <a:ext cx="9144000" cy="3665520"/>
              <a:chOff x="0" y="1052640"/>
              <a:chExt cx="9144000" cy="366552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1052640"/>
                <a:ext cx="9144000" cy="366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3300"/>
                    </a:solidFill>
                    <a:latin typeface="Times New Roman"/>
                  </a:rPr>
                  <a:t>Решение: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Пусть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000" spc="-1" strike="noStrike" baseline="-30000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, …,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i="1" lang="en-US" sz="2000" spc="-1" strike="noStrike" baseline="-30000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–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точек, никакие три из которых не лежат на одной прямой.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Зафиксируем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точку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000" spc="-1" strike="noStrike" baseline="-30000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. Так как число оставшихся точек равно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– 1 и через каждую из них и точку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000" spc="-1" strike="noStrike" baseline="-30000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проходит одна прямая, то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через точку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</a:rPr>
                  <a:t>A</a:t>
                </a:r>
                <a:r>
                  <a:rPr b="0" lang="en-US" sz="2000" spc="-1" strike="noStrike" baseline="-25000">
                    <a:solidFill>
                      <a:srgbClr val="00cc99"/>
                    </a:solidFill>
                    <a:latin typeface="Times New Roman"/>
                  </a:rPr>
                  <a:t>1</a:t>
                </a:r>
                <a:r>
                  <a:rPr b="0" lang="ru-RU" sz="2000" spc="-1" strike="noStrike" baseline="-25000">
                    <a:solidFill>
                      <a:srgbClr val="00cc99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будет проходить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– 1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 прямая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. Заметим, что рассуждения, проведенные для точки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000" spc="-1" strike="noStrike" baseline="-30000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, справедливы для любой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другой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точки. Поскольку всего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точек и через каждую из них проходит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– 1 прямая, то число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прямых,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посчитанных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для всех точек,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будет равно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– 1).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При этом, поскольку одна прямая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проходит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через две точки, то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каждую прямую посчита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ем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дважды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, один раз как прямую, проходящую через одну точку, а другой – как прямую, проходящую через вторую точку.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П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оэтому число прямых, проходящих через различные пары из </a:t>
                </a:r>
                <a:r>
                  <a:rPr b="0" i="1" lang="en-US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 данных точек,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будет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равно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                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</a:rPr>
                  <a:t>	</a:t>
                </a:r>
                <a:r>
                  <a:rPr b="0" lang="ru-RU" sz="2000" spc="-1" strike="noStrike">
                    <a:solidFill>
                      <a:srgbClr val="00cc99"/>
                    </a:solidFill>
                    <a:latin typeface="Times New Roman"/>
                    <a:ea typeface="Times New Roman"/>
                  </a:rPr>
                  <a:t>.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66" name=""/>
              <p:cNvGraphicFramePr/>
              <p:nvPr/>
            </p:nvGraphicFramePr>
            <p:xfrm>
              <a:off x="0" y="4076640"/>
              <a:ext cx="860400" cy="622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0" y="4076640"/>
                        <a:ext cx="86040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2916360" y="4179960"/>
              <a:ext cx="2981160" cy="2678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колько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различных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ек попарных пересечений могут  иметь три прямые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5909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Н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одной, одну, две, тр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907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Какое наибольшее число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ек попарных пересечений могут  иметь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четыре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рямые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2280" y="2755800"/>
            <a:ext cx="8991720" cy="3547800"/>
            <a:chOff x="152280" y="2755800"/>
            <a:chExt cx="8991720" cy="3547800"/>
          </a:xfrm>
        </p:grpSpPr>
        <p:sp>
          <p:nvSpPr>
            <p:cNvPr id="175" name=""/>
            <p:cNvSpPr/>
            <p:nvPr/>
          </p:nvSpPr>
          <p:spPr>
            <a:xfrm>
              <a:off x="152280" y="5661000"/>
              <a:ext cx="899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6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2878200" y="2755800"/>
              <a:ext cx="3386160" cy="256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765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Какое наибольшее число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ек попарных пересечений могут  иметь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пять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рямы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х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2280" y="2421000"/>
            <a:ext cx="8991720" cy="3882600"/>
            <a:chOff x="152280" y="2421000"/>
            <a:chExt cx="8991720" cy="3882600"/>
          </a:xfrm>
        </p:grpSpPr>
        <p:sp>
          <p:nvSpPr>
            <p:cNvPr id="180" name=""/>
            <p:cNvSpPr/>
            <p:nvPr/>
          </p:nvSpPr>
          <p:spPr>
            <a:xfrm>
              <a:off x="152280" y="5661000"/>
              <a:ext cx="899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10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3059280" y="2421000"/>
              <a:ext cx="3116160" cy="271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Точки и прям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4267080"/>
            <a:ext cx="8956800" cy="1373760"/>
            <a:chOff x="0" y="4267080"/>
            <a:chExt cx="8956800" cy="1373760"/>
          </a:xfrm>
        </p:grpSpPr>
        <p:sp>
          <p:nvSpPr>
            <p:cNvPr id="63" name=""/>
            <p:cNvSpPr/>
            <p:nvPr/>
          </p:nvSpPr>
          <p:spPr>
            <a:xfrm>
              <a:off x="0" y="4267080"/>
              <a:ext cx="6019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Две прямые называются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пересекающимися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, если они имеют одну общую точку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6477120" y="4343400"/>
              <a:ext cx="2479680" cy="10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0" y="5638680"/>
            <a:ext cx="8880480" cy="947160"/>
            <a:chOff x="0" y="5638680"/>
            <a:chExt cx="8880480" cy="947160"/>
          </a:xfrm>
        </p:grpSpPr>
        <p:sp>
          <p:nvSpPr>
            <p:cNvPr id="66" name=""/>
            <p:cNvSpPr/>
            <p:nvPr/>
          </p:nvSpPr>
          <p:spPr>
            <a:xfrm>
              <a:off x="0" y="5638680"/>
              <a:ext cx="6705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Две прямые называются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параллельными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, если они не имеют общих точек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6400800" y="5638680"/>
              <a:ext cx="2479680" cy="9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0" y="28195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качестве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аксиомы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принимается следующее свойство прямы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2280" y="3276720"/>
            <a:ext cx="8659800" cy="1065240"/>
            <a:chOff x="152280" y="3276720"/>
            <a:chExt cx="8659800" cy="1065240"/>
          </a:xfrm>
        </p:grpSpPr>
        <p:sp>
          <p:nvSpPr>
            <p:cNvPr id="70" name=""/>
            <p:cNvSpPr/>
            <p:nvPr/>
          </p:nvSpPr>
          <p:spPr>
            <a:xfrm>
              <a:off x="152280" y="3352680"/>
              <a:ext cx="6477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3300"/>
                  </a:solidFill>
                  <a:latin typeface="Times New Roman"/>
                </a:rPr>
                <a:t>Через любые две точки проходит единственная пряма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6781680" y="3276720"/>
              <a:ext cx="2030400" cy="10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0" y="609480"/>
            <a:ext cx="8888400" cy="2359080"/>
            <a:chOff x="0" y="609480"/>
            <a:chExt cx="8888400" cy="2359080"/>
          </a:xfrm>
        </p:grpSpPr>
        <p:sp>
          <p:nvSpPr>
            <p:cNvPr id="73" name=""/>
            <p:cNvSpPr/>
            <p:nvPr/>
          </p:nvSpPr>
          <p:spPr>
            <a:xfrm>
              <a:off x="0" y="609480"/>
              <a:ext cx="6781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Точка может принадлежать данной прямой, в этом случае говорят также, что прямая проходит через точку,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а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может и не принадлежать ей, в этом случае говорят, что прямая не проходит через точку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6858000" y="685800"/>
              <a:ext cx="203040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tretch/>
          </p:blipFill>
          <p:spPr>
            <a:xfrm>
              <a:off x="6781680" y="1828800"/>
              <a:ext cx="2030400" cy="113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0948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Какое наибольшее число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ек попарных пересечений могут  иметь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рямы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2280" y="1828800"/>
            <a:ext cx="8839440" cy="3619440"/>
            <a:chOff x="152280" y="1828800"/>
            <a:chExt cx="8839440" cy="3619440"/>
          </a:xfrm>
        </p:grpSpPr>
        <p:sp>
          <p:nvSpPr>
            <p:cNvPr id="185" name=""/>
            <p:cNvSpPr/>
            <p:nvPr/>
          </p:nvSpPr>
          <p:spPr>
            <a:xfrm>
              <a:off x="152280" y="1828800"/>
              <a:ext cx="88394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Заметим, что наибольшее число точек попарных пересечений получается, если каждая прямая пересекается с каждой, и при этом никакие три прямые не пересекаются в одной точке. В этом случае каждая прямая имеет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– 1 точку пересечения с остальными прямыми, и мы находимся в ситуации, аналогичной ситуации задачи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7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.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Имеется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прямых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и на каждой прямой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n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– 1 точка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. При этом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каждая точка принадлежит ровно двум прямым. Следовательно,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число точек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попарных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пересечени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й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будет равно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      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6" name=""/>
            <p:cNvGraphicFramePr/>
            <p:nvPr/>
          </p:nvGraphicFramePr>
          <p:xfrm>
            <a:off x="3733920" y="4724280"/>
            <a:ext cx="977760" cy="72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4724280"/>
                      <a:ext cx="9777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бозна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838080"/>
          <a:ext cx="8381880" cy="4281480"/>
        </p:xfrm>
        <a:graphic>
          <a:graphicData uri="http://schemas.openxmlformats.org/drawingml/2006/table">
            <a:tbl>
              <a:tblPr/>
              <a:tblGrid>
                <a:gridCol w="2666880"/>
                <a:gridCol w="571500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Запи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Чт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320840" y="3714840"/>
          <a:ext cx="79992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3714840"/>
                    <a:ext cx="7999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20840" y="4489560"/>
          <a:ext cx="79992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20840" y="4489560"/>
                    <a:ext cx="799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200400" y="1752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Точка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точка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точка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752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438280"/>
            <a:ext cx="2666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D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2438280"/>
            <a:ext cx="5715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ямая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ямая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ямая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ямая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CD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657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Точка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принадлежит прям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4197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Точка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е принадлежит прям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609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геометрические фигуры являются основными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5909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а, прямая, плоскос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объекты идеализирует точка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5909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а является идеализацией очень маленьких объектов, т.е. таких, размерами которых можно пренебреч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объекты идеализирует прямая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5909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рямая является идеализацией тонкой натянутой нити, края стола прямоугольной формы, по прямой распространяется св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объекты идеализирует плоскость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5909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скость является идеализацией ровной поверхности воды, поверхности стола, доски, зеркала и т.п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09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 Евклид определял точку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909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Е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клид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пределял точку как то, что не имеет част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*</cp:lastModifiedBy>
  <dcterms:modified xsi:type="dcterms:W3CDTF">2008-08-19T12:42:16Z</dcterms:modified>
  <cp:revision>18</cp:revision>
  <dc:subject/>
  <dc:title>Основные геометрические фигуры</dc:title>
</cp:coreProperties>
</file>