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952-A0AD-4014-B1F5-88CC9D08F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4BE-12D5-4B3C-97DB-4F0093DC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522-6C11-42EA-8AFD-710573F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1A4-0EAA-4312-9B19-C69B53DA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4B3-0D0F-48F3-98DF-F5E732B6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C4D-1E51-411D-8E79-6C06258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712-E60E-4188-B5EC-0846A74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2FE-BE5D-4849-ADF1-F89912DE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957-03E3-48DF-BD40-A315C0D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852-8EA6-4C19-B530-5BAD592B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C3F-8271-49F8-9E5E-FDB650E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847-934B-4B6C-A1CF-268E79B7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7AE-3E9F-405A-B65F-8B2EEA4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C37-75C5-400E-8252-EF030402D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очка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чень маленьких объектов, т. е. таких, размерами которых можно пренебреч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ревнегреческий ученый Евклид, впервые давший научное изложени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еометрии, в своей книге "Начала" определял точку как то, что не имеет ча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4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изображаются остро отточенным карандашом или ручкой на листе бумаги, мелом на доске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56272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обозначаютс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описными латинскими буква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..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..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'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2494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изображаются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59092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зображаются остро отточенным карандашом или ручкой на листе бумаги, мелом на доске и т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обозначаютс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5909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обозначаются прописными латинскими буквам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…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роводятся прямые?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ы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роводятся на листе бумаги или доске с помощью линей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обозначаютс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рямые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П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ямые обозначаются строчными латинскими буквами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a,  b,  c, ...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ли двумя прописными латинскими буквам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, CD, ...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свойства основных геометрических фигур называются аксиомам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Аксиомами называются свойства геометрических фигур, принимаемые без доказатель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переводится слово «аксиома» с греческого язы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стойное признания, не вызывающее сомнения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могут располагаться друг относительно друга точка и пряма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может принадлежать данной прямой,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ожет и не принадлежать е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990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ое свойство принимается в качестве аксиомы взаимного расположения точек и прям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048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Через любые две точки проходит единственная пряма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две прямые называются пересекающими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ве прямые называются пересекающимися, если они имеют одну общую точ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две прямые называются параллельным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ве прямые называются параллельными, если они не имеют ни одной общей то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ямые и плос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ямая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нкой натянутой нити, края стола прямоугольной формы. По прямой распространяется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уч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52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ы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проводятся на листе бумаги или доске с помощью линейки. Хотя изображения прямых ограничены, их следует представлять себе неограниченно продолженными в обе стор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3505320"/>
            <a:ext cx="9144000" cy="2533680"/>
            <a:chOff x="0" y="3505320"/>
            <a:chExt cx="9144000" cy="2533680"/>
          </a:xfrm>
        </p:grpSpPr>
        <p:sp>
          <p:nvSpPr>
            <p:cNvPr id="58" name=""/>
            <p:cNvSpPr/>
            <p:nvPr/>
          </p:nvSpPr>
          <p:spPr>
            <a:xfrm>
              <a:off x="0" y="3505320"/>
              <a:ext cx="6705720" cy="25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Прямые обозначаются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строчными латинскими буквами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b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c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a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b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'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двумя прописными латинскими буквами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B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D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A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A'B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''D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664320" y="3581280"/>
              <a:ext cx="2479680" cy="17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67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лоскост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ровной поверхности воды, поверхности стола, доски, зеркала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: а) одну точку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)  две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Бесконечно много; б) одн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тр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ибо одну, либо ни одно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Сколько прямых изображено на рисунке? Сколько у них точек попарных пересечени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003840" cy="2235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5029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5 прямых, 10 точ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2880" y="3008160"/>
            <a:ext cx="2295720" cy="2059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765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р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е лежащих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916360" y="2857680"/>
            <a:ext cx="4992480" cy="3590280"/>
            <a:chOff x="2916360" y="2857680"/>
            <a:chExt cx="4992480" cy="3590280"/>
          </a:xfrm>
        </p:grpSpPr>
        <p:sp>
          <p:nvSpPr>
            <p:cNvPr id="147" name=""/>
            <p:cNvSpPr/>
            <p:nvPr/>
          </p:nvSpPr>
          <p:spPr>
            <a:xfrm>
              <a:off x="2916360" y="5805360"/>
              <a:ext cx="369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Три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197320" y="2857680"/>
              <a:ext cx="2711520" cy="23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32080" y="3276720"/>
            <a:ext cx="2317680" cy="2081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7650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четыре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27280" y="3141720"/>
            <a:ext cx="5281560" cy="3377880"/>
            <a:chOff x="2627280" y="3141720"/>
            <a:chExt cx="5281560" cy="3377880"/>
          </a:xfrm>
        </p:grpSpPr>
        <p:sp>
          <p:nvSpPr>
            <p:cNvPr id="153" name=""/>
            <p:cNvSpPr/>
            <p:nvPr/>
          </p:nvSpPr>
          <p:spPr>
            <a:xfrm>
              <a:off x="2627280" y="5877000"/>
              <a:ext cx="35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6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5197320" y="3141720"/>
              <a:ext cx="2711520" cy="235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82840" y="2997360"/>
            <a:ext cx="2216160" cy="208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692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пят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87640" y="2851200"/>
            <a:ext cx="4808520" cy="3596760"/>
            <a:chOff x="2987640" y="2851200"/>
            <a:chExt cx="4808520" cy="3596760"/>
          </a:xfrm>
        </p:grpSpPr>
        <p:sp>
          <p:nvSpPr>
            <p:cNvPr id="159" name=""/>
            <p:cNvSpPr/>
            <p:nvPr/>
          </p:nvSpPr>
          <p:spPr>
            <a:xfrm>
              <a:off x="2987640" y="5805360"/>
              <a:ext cx="305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10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10360" y="2851200"/>
              <a:ext cx="2485800" cy="237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различные пары из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1052640"/>
            <a:ext cx="9144000" cy="5805360"/>
            <a:chOff x="0" y="1052640"/>
            <a:chExt cx="9144000" cy="5805360"/>
          </a:xfrm>
        </p:grpSpPr>
        <p:grpSp>
          <p:nvGrpSpPr>
            <p:cNvPr id="164" name=""/>
            <p:cNvGrpSpPr/>
            <p:nvPr/>
          </p:nvGrpSpPr>
          <p:grpSpPr>
            <a:xfrm>
              <a:off x="0" y="1052640"/>
              <a:ext cx="9144000" cy="3665520"/>
              <a:chOff x="0" y="1052640"/>
              <a:chExt cx="9144000" cy="366552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1052640"/>
                <a:ext cx="9144000" cy="366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3300"/>
                    </a:solidFill>
                    <a:latin typeface="Times New Roman"/>
                  </a:rPr>
                  <a:t>Решение: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Пусть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, …,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точек, никакие три из которых не лежат на одной прямой.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Зафиксируем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Так как число оставшихся точек равн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 и через каждую из них и 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проходит одна прямая, т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через 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ru-RU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будет проходить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прямая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Заметим, что рассуждения, проведенные для точки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, справедливы для любой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другой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ки. Поскольку всег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ек и через каждую из них проходит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 прямая, то числ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ямых,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посчитанных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для всех точек,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будет равн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).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и этом, поскольку одна прямая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оходит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через две точки, т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каждую прямую посчита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ем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дважды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, один раз как прямую, проходящую через одну точку, а другой – как прямую, проходящую через вторую точку.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оэтому число прямых, проходящих через различные пары из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данных точек,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будет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равн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              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	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6" name=""/>
              <p:cNvGraphicFramePr/>
              <p:nvPr/>
            </p:nvGraphicFramePr>
            <p:xfrm>
              <a:off x="0" y="4076640"/>
              <a:ext cx="86040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4076640"/>
                        <a:ext cx="86040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2916360" y="4179960"/>
              <a:ext cx="2981160" cy="26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различных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три прямые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одной, одну, две, тр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90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тыр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е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2755800"/>
            <a:ext cx="8991720" cy="3547800"/>
            <a:chOff x="152280" y="2755800"/>
            <a:chExt cx="8991720" cy="3547800"/>
          </a:xfrm>
        </p:grpSpPr>
        <p:sp>
          <p:nvSpPr>
            <p:cNvPr id="175" name=""/>
            <p:cNvSpPr/>
            <p:nvPr/>
          </p:nvSpPr>
          <p:spPr>
            <a:xfrm>
              <a:off x="152280" y="5661000"/>
              <a:ext cx="89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878200" y="2755800"/>
              <a:ext cx="3386160" cy="256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765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ять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х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280" y="2421000"/>
            <a:ext cx="8991720" cy="3882600"/>
            <a:chOff x="152280" y="2421000"/>
            <a:chExt cx="8991720" cy="3882600"/>
          </a:xfrm>
        </p:grpSpPr>
        <p:sp>
          <p:nvSpPr>
            <p:cNvPr id="180" name=""/>
            <p:cNvSpPr/>
            <p:nvPr/>
          </p:nvSpPr>
          <p:spPr>
            <a:xfrm>
              <a:off x="152280" y="5661000"/>
              <a:ext cx="89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10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3059280" y="2421000"/>
              <a:ext cx="3116160" cy="271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 и пря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4267080"/>
            <a:ext cx="8956800" cy="1373760"/>
            <a:chOff x="0" y="4267080"/>
            <a:chExt cx="8956800" cy="1373760"/>
          </a:xfrm>
        </p:grpSpPr>
        <p:sp>
          <p:nvSpPr>
            <p:cNvPr id="63" name=""/>
            <p:cNvSpPr/>
            <p:nvPr/>
          </p:nvSpPr>
          <p:spPr>
            <a:xfrm>
              <a:off x="0" y="4267080"/>
              <a:ext cx="6019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Две прямые называются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пересекающимися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, если они имеют одну общую точку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477120" y="4343400"/>
              <a:ext cx="2479680" cy="10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0" y="5638680"/>
            <a:ext cx="8880480" cy="947160"/>
            <a:chOff x="0" y="5638680"/>
            <a:chExt cx="8880480" cy="947160"/>
          </a:xfrm>
        </p:grpSpPr>
        <p:sp>
          <p:nvSpPr>
            <p:cNvPr id="66" name=""/>
            <p:cNvSpPr/>
            <p:nvPr/>
          </p:nvSpPr>
          <p:spPr>
            <a:xfrm>
              <a:off x="0" y="5638680"/>
              <a:ext cx="670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Две прямые называются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параллельными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, если они не имеют общих точек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400800" y="5638680"/>
              <a:ext cx="247968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0" y="28195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качеств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аксиомы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принимается следующее свойство прям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3276720"/>
            <a:ext cx="8659800" cy="1065240"/>
            <a:chOff x="152280" y="3276720"/>
            <a:chExt cx="8659800" cy="1065240"/>
          </a:xfrm>
        </p:grpSpPr>
        <p:sp>
          <p:nvSpPr>
            <p:cNvPr id="70" name=""/>
            <p:cNvSpPr/>
            <p:nvPr/>
          </p:nvSpPr>
          <p:spPr>
            <a:xfrm>
              <a:off x="152280" y="3352680"/>
              <a:ext cx="647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Times New Roman"/>
                </a:rPr>
                <a:t>Через любые две точки проходит единственная пряма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6781680" y="3276720"/>
              <a:ext cx="2030400" cy="10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0" y="609480"/>
            <a:ext cx="8888400" cy="2359080"/>
            <a:chOff x="0" y="609480"/>
            <a:chExt cx="8888400" cy="2359080"/>
          </a:xfrm>
        </p:grpSpPr>
        <p:sp>
          <p:nvSpPr>
            <p:cNvPr id="73" name=""/>
            <p:cNvSpPr/>
            <p:nvPr/>
          </p:nvSpPr>
          <p:spPr>
            <a:xfrm>
              <a:off x="0" y="609480"/>
              <a:ext cx="678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Точка может принадлежать данной прямой, в этом случае говорят также, что прямая проходит через точку,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может и не принадлежать ей, в этом случае говорят, что прямая не проходит через точку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6858000" y="685800"/>
              <a:ext cx="203040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6781680" y="1828800"/>
              <a:ext cx="2030400" cy="11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280" y="1828800"/>
            <a:ext cx="8839440" cy="3619440"/>
            <a:chOff x="152280" y="1828800"/>
            <a:chExt cx="8839440" cy="3619440"/>
          </a:xfrm>
        </p:grpSpPr>
        <p:sp>
          <p:nvSpPr>
            <p:cNvPr id="185" name=""/>
            <p:cNvSpPr/>
            <p:nvPr/>
          </p:nvSpPr>
          <p:spPr>
            <a:xfrm>
              <a:off x="152280" y="1828800"/>
              <a:ext cx="8839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Заметим, что наибольшее число точек попарных пересечений получается, если каждая прямая пересекается с каждой, и при этом никакие три прямые не пересекаются в одной точке. В этом случае каждая прямая имеет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– 1 точку пересечения с остальными прямыми, и мы находимся в ситуации, аналогичной ситуации задачи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7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тся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прямых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на каждой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– 1 точка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При этом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каждая точка принадлежит ровно двум прямым. Следовательно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число точек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парных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пересечени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й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будет равно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3733920" y="4724280"/>
            <a:ext cx="97776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4724280"/>
                      <a:ext cx="9777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бозна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838080"/>
          <a:ext cx="8381880" cy="4281480"/>
        </p:xfrm>
        <a:graphic>
          <a:graphicData uri="http://schemas.openxmlformats.org/drawingml/2006/table">
            <a:tbl>
              <a:tblPr/>
              <a:tblGrid>
                <a:gridCol w="2666880"/>
                <a:gridCol w="571500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ап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Чт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320840" y="3714840"/>
          <a:ext cx="7999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3714840"/>
                    <a:ext cx="7999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20840" y="4489560"/>
          <a:ext cx="79992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0840" y="4489560"/>
                    <a:ext cx="799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00400" y="1752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752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438280"/>
            <a:ext cx="2666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2438280"/>
            <a:ext cx="5715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инадлежит п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4197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е принадлежит п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геометрические фигуры являются основными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590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, прямая, плоск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точк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является идеализацией очень маленьких объектов, т.е. таких, размерами которых можно пренебреч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пряма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ая является идеализацией тонкой натянутой нити, края стола прямоугольной формы, по прямой распространяется св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плоскость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скость является идеализацией ровной поверхности воды, поверхности стола, доски, зеркала и т.п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Евклид определял точк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909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клид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пределял точку как то, что не имеет час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8-08-19T12:42:16Z</dcterms:modified>
  <cp:revision>18</cp:revision>
  <dc:subject/>
  <dc:title>Основные геометрические фигуры</dc:title>
</cp:coreProperties>
</file>