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76C6-CA56-4455-B83A-F177F65D41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984-B421-452A-BF5A-201D35FF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370-42DA-49E6-8C48-9A82CBFB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129-2E7C-4234-AD73-F480EA8E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19C-E684-45E1-B3D4-6FD4C4C6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24C-6AFC-462C-AB7C-7E1CD380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251-5A41-4A2B-99B6-15527CAF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AC8-E06F-499F-A274-1F60584D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E08-EC9C-4A2E-8DB4-82B9600A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B42-4AB1-4BBE-9092-016813CE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2A6-32E9-4081-87A4-CC900EC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72C-FEC4-433A-9F2B-B340661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B05-E611-439C-AA3F-80E1243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2114-0D5F-45BA-BEA2-3148E3029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очки на прям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качестве аксиомы взаимного расположения точек на прямой принимается следующее свойство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133720"/>
            <a:ext cx="8763120" cy="2869560"/>
            <a:chOff x="228600" y="2133720"/>
            <a:chExt cx="8763120" cy="2869560"/>
          </a:xfrm>
        </p:grpSpPr>
        <p:sp>
          <p:nvSpPr>
            <p:cNvPr id="51" name=""/>
            <p:cNvSpPr/>
            <p:nvPr/>
          </p:nvSpPr>
          <p:spPr>
            <a:xfrm>
              <a:off x="228600" y="2133720"/>
              <a:ext cx="8763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Каждая точка на прямой разбивает эту прямую на две части так, что точки из разных частей лежат по разные стороны от данной точки, а точки из одной части лежат по одну сторону от данной точки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2666880" y="4571640"/>
              <a:ext cx="329112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066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К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кие точки лежат по одну сторону от точк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а рисунк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657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E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4560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858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точек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рямой известно, что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лежат по одну сторону от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тоже лежат по одну сторону от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Как расположены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относительно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3962520"/>
            <a:ext cx="8534520" cy="1885680"/>
            <a:chOff x="228600" y="3962520"/>
            <a:chExt cx="8534520" cy="1885680"/>
          </a:xfrm>
        </p:grpSpPr>
        <p:sp>
          <p:nvSpPr>
            <p:cNvPr id="88" name=""/>
            <p:cNvSpPr/>
            <p:nvPr/>
          </p:nvSpPr>
          <p:spPr>
            <a:xfrm>
              <a:off x="228600" y="396252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Т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очки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D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лежат по одну сторону от точки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600200" y="5257800"/>
              <a:ext cx="5343480" cy="59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На сколько частей делят прямую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133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а) одна точ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200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две точ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2133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дв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200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тр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114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три точк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114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етыр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г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точек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n +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066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зовите отрезки, изображенные на рисунк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а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а), б)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657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а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075280" cy="56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0" y="43434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08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Для точек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прямой укажите, где расположены точки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для которых выполняются равенства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а)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AC + BC = AB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AC – BC = AB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в)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BC – AC = AB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62120" y="3429000"/>
            <a:ext cx="8001000" cy="642600"/>
            <a:chOff x="762120" y="3429000"/>
            <a:chExt cx="8001000" cy="642600"/>
          </a:xfrm>
        </p:grpSpPr>
        <p:sp>
          <p:nvSpPr>
            <p:cNvPr id="108" name=""/>
            <p:cNvSpPr/>
            <p:nvPr/>
          </p:nvSpPr>
          <p:spPr>
            <a:xfrm>
              <a:off x="762120" y="3429000"/>
              <a:ext cx="373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09680" y="3429000"/>
              <a:ext cx="65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а) точки, лежащие между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</a:rPr>
                <a:t>A 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и </a:t>
              </a:r>
              <a:r>
                <a:rPr b="0" i="1" lang="en-US" sz="36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ru-RU" sz="3600" spc="-1" strike="noStrike">
                  <a:solidFill>
                    <a:srgbClr val="00cc99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09680" y="40384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точки, лежащие от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по другую сторону, чем 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1814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) точки, лежащие от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по другую сторону, чем 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13712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0666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прямой отмечены точки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ыразите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каждый из отрезков в виде суммы или разности осталь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34340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B = AC – 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C = AB + 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D = AB + BC + 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C = BD – 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D = BC + C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D = BD – B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39546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066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зовите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луч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изображенные на рисунк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ах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а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EA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E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A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GA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G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;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1814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б)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K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K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L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L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M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M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NC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740040" cy="770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37623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0666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отрезке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зята точка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 Среди лучей 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АС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А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В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A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C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зовите пары совпадающих луч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343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A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B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39546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6858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равните отрезк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рисунк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2297160" cy="126504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981080" y="5486400"/>
            <a:ext cx="3733920" cy="642600"/>
            <a:chOff x="1981080" y="5486400"/>
            <a:chExt cx="3733920" cy="642600"/>
          </a:xfrm>
        </p:grpSpPr>
        <p:sp>
          <p:nvSpPr>
            <p:cNvPr id="131" name=""/>
            <p:cNvSpPr/>
            <p:nvPr/>
          </p:nvSpPr>
          <p:spPr>
            <a:xfrm>
              <a:off x="1981080" y="548640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548640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а) равны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643560" cy="822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4120" y="5486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равн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600200" y="3124080"/>
            <a:ext cx="1389240" cy="2352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52680" y="6095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равн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24280" y="2743200"/>
            <a:ext cx="2446560" cy="2668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410080" y="60958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г) равн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6858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ожно ли соединить пять точек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плоскости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резками так, чтобы каждая точка была соединена ровно с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двумя; б) тремя; в) четырьмя другими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52480" y="4648320"/>
            <a:ext cx="3733920" cy="642600"/>
            <a:chOff x="1752480" y="4648320"/>
            <a:chExt cx="3733920" cy="642600"/>
          </a:xfrm>
        </p:grpSpPr>
        <p:sp>
          <p:nvSpPr>
            <p:cNvPr id="142" name=""/>
            <p:cNvSpPr/>
            <p:nvPr/>
          </p:nvSpPr>
          <p:spPr>
            <a:xfrm>
              <a:off x="1752480" y="464832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4080" y="464832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Times New Roman"/>
                </a:rPr>
                <a:t>а) Да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3434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б) нет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в) 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рез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резком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называется ч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ть прямой, состоящая из двух данных точек и всех точек, лежащих между ними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и этом сами данные точки называются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нцами отрезка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2414880" cy="47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39625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Отрезок обозначается указанием его конц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Лу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920" y="1219320"/>
            <a:ext cx="8839080" cy="2303280"/>
            <a:chOff x="304920" y="1219320"/>
            <a:chExt cx="8839080" cy="2303280"/>
          </a:xfrm>
        </p:grpSpPr>
        <p:sp>
          <p:nvSpPr>
            <p:cNvPr id="59" name=""/>
            <p:cNvSpPr/>
            <p:nvPr/>
          </p:nvSpPr>
          <p:spPr>
            <a:xfrm>
              <a:off x="304920" y="1219320"/>
              <a:ext cx="8839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Л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учом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или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полупрямой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называется часть прямой, состоящая из данной точки и всех точек, лежащих от нее по одну сторону. При этом сама данная точка называется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началом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, или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вершиной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 луча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3124080" y="3048120"/>
              <a:ext cx="2981520" cy="47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80880" y="37339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обозначения лучей используются пары прописных латинских букв, например,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первая из которых обозначает начало луча, а вторая - какую-нибудь точку, принадлежащую лучу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0666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Какое свойство принимается в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качестве аксиомы взаимного расположения точек на прямой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20968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дая точка на прямой разбивает эту прямую на две части так, что точки из разных частей лежат по разные стороны от данной точки, а точки из одной части лежат по одну сторону от данной точ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ая фигура называется отрезко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590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трезком называется ч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ть прямой, состоящая из двух данных точек и всех точек, лежащих между ними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обозначается отрезок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590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Отрезок обозначается указанием его конц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ая фигура называется лучо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25909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Л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учом называется часть прямой, состоящая из данной точки и всех точек, лежащих от нее по одну сторону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Как обозначаются луч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259092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обозначения лучей используются пары прописных латинских букв, например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первая из которых обозначает начало луча, а вторая - какую-нибудь точку, принадлежащую лучу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066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жду какими точками лежит точка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i="1" lang="ru-RU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а рисунке?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3657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E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C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A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O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B 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и </a:t>
            </a:r>
            <a:r>
              <a:rPr b="0" i="1" lang="en-US" sz="36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4560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9-04-23T04:18:01Z</dcterms:modified>
  <cp:revision>21</cp:revision>
  <dc:subject/>
  <dc:title>Основные геометрические фигуры</dc:title>
</cp:coreProperties>
</file>