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1E8A-848D-4826-A7EE-31D684E438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72F-14E7-47F5-9733-585A26E2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8A2-0452-48C3-A80D-F8C42817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BCE-05A0-4EC4-950E-60E62307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987-5213-493B-ADF8-0C3C9AB7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592-7829-4878-8F9D-FE137091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E79-9541-45AD-BCFB-A4CFF20E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521-03FB-44C8-86F0-C2F297B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682-BF76-47A6-932A-7306B064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329-FE26-45E2-BE5A-541F392C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94E-AD42-42D0-8E3B-1E41624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43E-7BBC-463B-9D2B-CC0881BF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C7E-68A6-4D59-93BA-8B6876CD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D40-EBEB-4108-9F09-25A29B3FB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Точки на прям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качестве аксиомы взаимного расположения точек на прямой принимается следующее свойство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133720"/>
            <a:ext cx="8763120" cy="2869560"/>
            <a:chOff x="228600" y="2133720"/>
            <a:chExt cx="8763120" cy="2869560"/>
          </a:xfrm>
        </p:grpSpPr>
        <p:sp>
          <p:nvSpPr>
            <p:cNvPr id="51" name=""/>
            <p:cNvSpPr/>
            <p:nvPr/>
          </p:nvSpPr>
          <p:spPr>
            <a:xfrm>
              <a:off x="228600" y="2133720"/>
              <a:ext cx="87631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Каждая точка на прямой разбивает эту прямую на две части так, что точки из разных частей лежат по разные стороны от данной точки, а точки из одной части лежат по одну сторону от данной точки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2666880" y="4571640"/>
              <a:ext cx="329112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066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К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кие точки лежат по одну сторону от точк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а рисунк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657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E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4560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6858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точек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ой известно, что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лежат по одну сторону от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же лежат по одну сторону от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Как расположены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относительно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3962520"/>
            <a:ext cx="8534520" cy="1885680"/>
            <a:chOff x="228600" y="3962520"/>
            <a:chExt cx="8534520" cy="1885680"/>
          </a:xfrm>
        </p:grpSpPr>
        <p:sp>
          <p:nvSpPr>
            <p:cNvPr id="88" name=""/>
            <p:cNvSpPr/>
            <p:nvPr/>
          </p:nvSpPr>
          <p:spPr>
            <a:xfrm>
              <a:off x="228600" y="3962520"/>
              <a:ext cx="853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</a:rPr>
                <a:t>Т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очки </a:t>
              </a:r>
              <a:r>
                <a:rPr b="0" i="1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D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лежат по одну сторону от точки </a:t>
              </a:r>
              <a:r>
                <a:rPr b="0" i="1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600200" y="5257800"/>
              <a:ext cx="5343480" cy="59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На сколько частей делят прямую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1337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а) одна точ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200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б) две точ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2133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дв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200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тр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114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в) три точ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114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етыр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г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точек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n +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066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зовите отрезки, изображенные на рисунк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ах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а), б)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657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а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075280" cy="56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0" y="43434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б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08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Для точек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прямой укажите, где расположены точки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для которых выполняются равенства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а)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AC + BC = AB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б)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AC – BC = AB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в)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BC – AC = AB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62120" y="3429000"/>
            <a:ext cx="8001000" cy="642600"/>
            <a:chOff x="762120" y="3429000"/>
            <a:chExt cx="8001000" cy="642600"/>
          </a:xfrm>
        </p:grpSpPr>
        <p:sp>
          <p:nvSpPr>
            <p:cNvPr id="108" name=""/>
            <p:cNvSpPr/>
            <p:nvPr/>
          </p:nvSpPr>
          <p:spPr>
            <a:xfrm>
              <a:off x="762120" y="3429000"/>
              <a:ext cx="373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09680" y="3429000"/>
              <a:ext cx="655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</a:rPr>
                <a:t>а) точки, лежащие между </a:t>
              </a:r>
              <a:r>
                <a:rPr b="0" i="1" lang="en-US" sz="3600" spc="-1" strike="noStrike">
                  <a:solidFill>
                    <a:srgbClr val="00cc99"/>
                  </a:solidFill>
                  <a:latin typeface="Times New Roman"/>
                </a:rPr>
                <a:t>A 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36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09680" y="40384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б) точки, лежащие от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по другую сторону, чем точ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1814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) точки, лежащие от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по другую сторону, чем точ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3712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0666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 прямой отмечены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ыразите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каждый из отрезков в виде суммы или разности остальн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34340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B = AC – 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C = AB + 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D = AB + BC + C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C = BD – C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D = BC + C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D = BD – 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39546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066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зовит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луч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изображенные на рисунк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ах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а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EA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E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A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GA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G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1814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б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K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K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L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L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M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M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N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740040" cy="770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90920" y="3276720"/>
            <a:ext cx="37623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0666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 отрезке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зята точка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 Среди лучей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А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А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A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зовите пары совпадающих луч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343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A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39546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6858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равните отрезк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рисунк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2297160" cy="126504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981080" y="5486400"/>
            <a:ext cx="3733920" cy="642600"/>
            <a:chOff x="1981080" y="5486400"/>
            <a:chExt cx="3733920" cy="642600"/>
          </a:xfrm>
        </p:grpSpPr>
        <p:sp>
          <p:nvSpPr>
            <p:cNvPr id="131" name=""/>
            <p:cNvSpPr/>
            <p:nvPr/>
          </p:nvSpPr>
          <p:spPr>
            <a:xfrm>
              <a:off x="1981080" y="548640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548640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а) равны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643560" cy="822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4120" y="5486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б) равн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600200" y="3124080"/>
            <a:ext cx="1389240" cy="2352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52680" y="6095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в) равн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24280" y="2743200"/>
            <a:ext cx="2446560" cy="2668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410080" y="60958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г) равн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6858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ожно ли соединить пять точек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плоскости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резками так, чтобы каждая точка была соединена ровно с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двумя; б) тремя; в) четырьмя другими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52480" y="4648320"/>
            <a:ext cx="3733920" cy="642600"/>
            <a:chOff x="1752480" y="4648320"/>
            <a:chExt cx="3733920" cy="642600"/>
          </a:xfrm>
        </p:grpSpPr>
        <p:sp>
          <p:nvSpPr>
            <p:cNvPr id="142" name=""/>
            <p:cNvSpPr/>
            <p:nvPr/>
          </p:nvSpPr>
          <p:spPr>
            <a:xfrm>
              <a:off x="1752480" y="464832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4080" y="464832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а) Да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34340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б) нет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в) 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рез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резком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называется ч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ть прямой, состоящая из двух данных точек и всех точек, лежащих между ними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и этом сами данные точки называются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нцами отрезка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2414880" cy="47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9625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Отрезок обозначается указанием его конц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Лу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920" y="1219320"/>
            <a:ext cx="8839080" cy="2303280"/>
            <a:chOff x="304920" y="1219320"/>
            <a:chExt cx="8839080" cy="2303280"/>
          </a:xfrm>
        </p:grpSpPr>
        <p:sp>
          <p:nvSpPr>
            <p:cNvPr id="59" name=""/>
            <p:cNvSpPr/>
            <p:nvPr/>
          </p:nvSpPr>
          <p:spPr>
            <a:xfrm>
              <a:off x="304920" y="1219320"/>
              <a:ext cx="8839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Л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учом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или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полупрямой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называется часть прямой, состоящая из данной точки и всех точек, лежащих от нее по одну сторону. При этом сама данная точка называется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началом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или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вершиной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луча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3124080" y="3048120"/>
              <a:ext cx="2981520" cy="47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80880" y="37339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обозначения лучей используются пары прописных латинских букв, например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первая из которых обозначает начало луча, а вторая - какую-нибудь точку, принадлежащую луч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0666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Какое свойство принимается в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качестве аксиомы взаимного расположения точек на прямой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20968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дая точка на прямой разбивает эту прямую на две части так, что точки из разных частей лежат по разные стороны от данной точки, а точки из одной части лежат по одну сторону от данной точ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990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ая фигура называется отрезко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590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трезком называется ч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ть прямой, состоящая из двух данных точек и всех точек, лежащих между ним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обозначается отрезок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2590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трезок обозначается указанием его конц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ая фигура называется лучо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2590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Л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учом называется часть прямой, состоящая из данной точки и всех точек, лежащих от нее по одну сторону.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обозначаются луч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259092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обозначения лучей используются пары прописных латинских букв, например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первая из которых обозначает начало луча, а вторая - какую-нибудь точку, принадлежащую лучу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066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жду какими точками лежит точ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а рисунке?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3657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E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O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4560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9-04-23T04:18:01Z</dcterms:modified>
  <cp:revision>21</cp:revision>
  <dc:subject/>
  <dc:title>Основные геометрические фигуры</dc:title>
</cp:coreProperties>
</file>