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93E-5644-4070-A8F0-CC8FF1D7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2A6-74E0-4D7C-AC4F-C58D8C19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678-C74B-4B4A-A423-32CF551D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528-CCA6-49A2-AE31-5591C5BC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11C0-2CAD-4B0C-841A-0E551850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3554-50C4-4EEA-B440-69B083EC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A385-A4E8-458A-8379-A183B651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6B34-B637-4A65-B31E-1C7C4389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1E6B-7D64-430C-A5DF-D34A91C9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20ED-6B18-49B1-9472-6938429D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02FC-37E0-4612-8C8A-F15D0E65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82E-9900-40BC-AD9C-3209A813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1CDD-EDAD-425C-B36C-22C8C28F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713A-011E-4B22-875A-AFB398D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681A-F46F-4196-92C3-75087A84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51A9-395E-416D-BE63-12605302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24CE-AEC6-440F-B00A-DEF6F0F8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27D-0973-46AA-B51F-4FED35F9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69D-BB11-48BF-9D69-8538BD90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A07-C798-4EA5-AA4F-3F4A9ED0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5A2-28E2-4C82-96CC-A7C9AD10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784-66B0-4D6F-AD5A-33963EAE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C1D-960D-4052-AB78-D6637B33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561-8820-4A8D-9CFF-CF135F83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4969-D4C8-485B-8FB4-80753240A1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FA55-2D9E-490E-9575-75B87B0FD88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5280" y="357336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Перпендикуляр к прямо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/>
          <p:nvPr/>
        </p:nvSpPr>
        <p:spPr>
          <a:xfrm>
            <a:off x="478440" y="60930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258920" y="1557360"/>
            <a:ext cx="6122520" cy="2232000"/>
            <a:chOff x="1258920" y="1557360"/>
            <a:chExt cx="6122520" cy="2232000"/>
          </a:xfrm>
        </p:grpSpPr>
        <p:sp>
          <p:nvSpPr>
            <p:cNvPr id="89" name=""/>
            <p:cNvSpPr/>
            <p:nvPr/>
          </p:nvSpPr>
          <p:spPr>
            <a:xfrm>
              <a:off x="1258920" y="3789360"/>
              <a:ext cx="59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80000" y="1916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74360" y="3305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1557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851280" y="1197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1989000"/>
            <a:ext cx="0" cy="1800360"/>
          </a:xfrm>
          <a:prstGeom prst="line">
            <a:avLst/>
          </a:prstGeom>
          <a:ln w="57240">
            <a:solidFill>
              <a:srgbClr val="0066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7692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67000" y="247176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Основани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перпендикуля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94" idx="0"/>
          </p:cNvCxnSpPr>
          <p:nvPr/>
        </p:nvCxnSpPr>
        <p:spPr>
          <a:xfrm flipH="1">
            <a:off x="3851280" y="3068280"/>
            <a:ext cx="2521080" cy="720720"/>
          </a:xfrm>
          <a:prstGeom prst="straightConnector1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30560" y="211140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Перпендикуля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8" idx="3"/>
          </p:cNvCxnSpPr>
          <p:nvPr/>
        </p:nvCxnSpPr>
        <p:spPr>
          <a:xfrm>
            <a:off x="2975040" y="2341080"/>
            <a:ext cx="733680" cy="657000"/>
          </a:xfrm>
          <a:prstGeom prst="bentConnector3">
            <a:avLst>
              <a:gd name="adj1" fmla="val 65537"/>
            </a:avLst>
          </a:prstGeom>
          <a:ln w="9360">
            <a:solidFill>
              <a:srgbClr val="0066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Comic Sans MS"/>
              </a:rPr>
              <a:t>Свойства равнобедренного треугольник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"/>
          <p:cNvSpPr/>
          <p:nvPr/>
        </p:nvSpPr>
        <p:spPr>
          <a:xfrm>
            <a:off x="453240" y="60930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112536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003640" y="2060640"/>
            <a:ext cx="3816360" cy="2065320"/>
            <a:chOff x="5003640" y="2060640"/>
            <a:chExt cx="3816360" cy="2065320"/>
          </a:xfrm>
        </p:grpSpPr>
        <p:sp>
          <p:nvSpPr>
            <p:cNvPr id="277" name=""/>
            <p:cNvSpPr/>
            <p:nvPr/>
          </p:nvSpPr>
          <p:spPr>
            <a:xfrm flipH="1">
              <a:off x="5270400" y="2676600"/>
              <a:ext cx="1596960" cy="1449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67360" y="2676600"/>
              <a:ext cx="1596960" cy="1449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03640" y="3716640"/>
              <a:ext cx="3816360" cy="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68880" y="3210120"/>
              <a:ext cx="298440" cy="381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364160" y="3210120"/>
              <a:ext cx="200160" cy="381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94160" y="3284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34160" y="2060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29440" y="3284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22144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7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19040" y="1289160"/>
            <a:ext cx="3648240" cy="3857040"/>
            <a:chOff x="419040" y="1289160"/>
            <a:chExt cx="3648240" cy="3857040"/>
          </a:xfrm>
        </p:grpSpPr>
        <p:grpSp>
          <p:nvGrpSpPr>
            <p:cNvPr id="288" name=""/>
            <p:cNvGrpSpPr/>
            <p:nvPr/>
          </p:nvGrpSpPr>
          <p:grpSpPr>
            <a:xfrm>
              <a:off x="611280" y="1289160"/>
              <a:ext cx="3456000" cy="3219480"/>
              <a:chOff x="611280" y="1289160"/>
              <a:chExt cx="3456000" cy="3219480"/>
            </a:xfrm>
          </p:grpSpPr>
          <p:sp>
            <p:nvSpPr>
              <p:cNvPr id="289" name=""/>
              <p:cNvSpPr/>
              <p:nvPr/>
            </p:nvSpPr>
            <p:spPr>
              <a:xfrm flipH="1">
                <a:off x="1115640" y="1773360"/>
                <a:ext cx="1152360" cy="2735280"/>
              </a:xfrm>
              <a:prstGeom prst="line">
                <a:avLst/>
              </a:prstGeom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68360" y="1773360"/>
                <a:ext cx="1152720" cy="2735280"/>
              </a:xfrm>
              <a:prstGeom prst="line">
                <a:avLst/>
              </a:prstGeom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1280" y="3789360"/>
                <a:ext cx="3456000" cy="0"/>
              </a:xfrm>
              <a:prstGeom prst="line">
                <a:avLst/>
              </a:prstGeom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692360" y="2781360"/>
                <a:ext cx="215640" cy="71280"/>
              </a:xfrm>
              <a:prstGeom prst="line">
                <a:avLst/>
              </a:prstGeom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626920" y="2781360"/>
                <a:ext cx="144360" cy="71280"/>
              </a:xfrm>
              <a:prstGeom prst="line">
                <a:avLst/>
              </a:prstGeom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97280" y="33764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33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78360" y="1289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33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13280" y="3376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33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40544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1816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040" y="468648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33"/>
                  </a:solidFill>
                  <a:latin typeface="Monotype Corsiva"/>
                </a:rPr>
                <a:t>Доказать: </a:t>
              </a:r>
              <a:r>
                <a:rPr b="0" lang="en-US" sz="2400" spc="-1" strike="noStrike">
                  <a:solidFill>
                    <a:srgbClr val="006633"/>
                  </a:solidFill>
                  <a:latin typeface="Symbol"/>
                  <a:ea typeface="Symbol"/>
                </a:rPr>
                <a:t></a:t>
              </a:r>
              <a:r>
                <a:rPr b="0" lang="en-US" sz="2400" spc="-1" strike="noStrike">
                  <a:solidFill>
                    <a:srgbClr val="006633"/>
                  </a:solidFill>
                  <a:latin typeface="Monotype Corsiva"/>
                </a:rPr>
                <a:t>1=</a:t>
              </a:r>
              <a:r>
                <a:rPr b="0" lang="en-US" sz="2400" spc="-1" strike="noStrike">
                  <a:solidFill>
                    <a:srgbClr val="006633"/>
                  </a:solidFill>
                  <a:latin typeface="Symbol"/>
                  <a:ea typeface="Symbol"/>
                </a:rPr>
                <a:t></a:t>
              </a:r>
              <a:r>
                <a:rPr b="0" lang="en-US" sz="2400" spc="-1" strike="noStrike">
                  <a:solidFill>
                    <a:srgbClr val="006633"/>
                  </a:solidFill>
                  <a:latin typeface="Monotype Corsiva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975200" y="465300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Доказать: </a:t>
            </a:r>
            <a:r>
              <a:rPr b="0" lang="en-US" sz="2400" spc="-1" strike="noStrike">
                <a:solidFill>
                  <a:srgbClr val="006633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1=</a:t>
            </a:r>
            <a:r>
              <a:rPr b="0" lang="en-US" sz="2400" spc="-1" strike="noStrike">
                <a:solidFill>
                  <a:srgbClr val="006633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2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65" dur="1" fill="hold"/>
                                  <p:tgtEl>
                                    <p:spTgt spid="2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66" dur="1" fill="hold"/>
                                  <p:tgtEl>
                                    <p:spTgt spid="2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67" dur="1" fill="hold"/>
                                  <p:tgtEl>
                                    <p:spTgt spid="3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Comic Sans MS"/>
              </a:rPr>
              <a:t>Свойства равнобедренного треугольник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"/>
          <p:cNvSpPr/>
          <p:nvPr/>
        </p:nvSpPr>
        <p:spPr>
          <a:xfrm>
            <a:off x="453240" y="60930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112536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78040" y="958680"/>
            <a:ext cx="2664360" cy="3406680"/>
            <a:chOff x="878040" y="958680"/>
            <a:chExt cx="2664360" cy="3406680"/>
          </a:xfrm>
        </p:grpSpPr>
        <p:grpSp>
          <p:nvGrpSpPr>
            <p:cNvPr id="305" name=""/>
            <p:cNvGrpSpPr/>
            <p:nvPr/>
          </p:nvGrpSpPr>
          <p:grpSpPr>
            <a:xfrm>
              <a:off x="1258560" y="1484280"/>
              <a:ext cx="1872000" cy="2881080"/>
              <a:chOff x="1258560" y="1484280"/>
              <a:chExt cx="1872000" cy="2881080"/>
            </a:xfrm>
          </p:grpSpPr>
          <p:sp>
            <p:nvSpPr>
              <p:cNvPr id="306" name=""/>
              <p:cNvSpPr/>
              <p:nvPr/>
            </p:nvSpPr>
            <p:spPr>
              <a:xfrm>
                <a:off x="1258920" y="1484280"/>
                <a:ext cx="1871640" cy="19443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0800000">
                <a:off x="1258560" y="3428640"/>
                <a:ext cx="1871640" cy="936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619280" y="234936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555640" y="2421000"/>
              <a:ext cx="215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619280" y="3860280"/>
              <a:ext cx="144360" cy="73080"/>
            </a:xfrm>
            <a:prstGeom prst="line">
              <a:avLst/>
            </a:prstGeom>
            <a:ln w="82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2555640" y="3860280"/>
              <a:ext cx="144360" cy="73080"/>
            </a:xfrm>
            <a:prstGeom prst="line">
              <a:avLst/>
            </a:prstGeom>
            <a:ln w="79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78040" y="30481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70440" y="9586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9800" y="31194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028960" y="44146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0960" y="5046840"/>
            <a:ext cx="35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оказать: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AD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291280" y="1125360"/>
            <a:ext cx="2664000" cy="2620440"/>
            <a:chOff x="5291280" y="1125360"/>
            <a:chExt cx="2664000" cy="2620440"/>
          </a:xfrm>
        </p:grpSpPr>
        <p:sp>
          <p:nvSpPr>
            <p:cNvPr id="318" name=""/>
            <p:cNvSpPr/>
            <p:nvPr/>
          </p:nvSpPr>
          <p:spPr>
            <a:xfrm>
              <a:off x="5671800" y="1650960"/>
              <a:ext cx="1871280" cy="19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32160" y="2516040"/>
              <a:ext cx="215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968520" y="2587320"/>
              <a:ext cx="215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651280" y="2638080"/>
              <a:ext cx="1871280" cy="936720"/>
              <a:chOff x="5651280" y="2638080"/>
              <a:chExt cx="1871280" cy="936720"/>
            </a:xfrm>
          </p:grpSpPr>
          <p:sp>
            <p:nvSpPr>
              <p:cNvPr id="322" name=""/>
              <p:cNvSpPr/>
              <p:nvPr/>
            </p:nvSpPr>
            <p:spPr>
              <a:xfrm>
                <a:off x="5651280" y="2638080"/>
                <a:ext cx="1871280" cy="936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7018200" y="3070080"/>
                <a:ext cx="144360" cy="7308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81840" y="3070080"/>
                <a:ext cx="144000" cy="73080"/>
              </a:xfrm>
              <a:prstGeom prst="line">
                <a:avLst/>
              </a:prstGeom>
              <a:ln w="792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5291280" y="32144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83320" y="11253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82680" y="3286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369120" y="2205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5480" y="5013360"/>
            <a:ext cx="35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оказать: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AD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" dur="1" fill="hold"/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98" dur="1" fill="hold"/>
                                  <p:tgtEl>
                                    <p:spTgt spid="3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99" dur="1" fill="hold"/>
                                  <p:tgtEl>
                                    <p:spTgt spid="3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Comic Sans MS"/>
              </a:rPr>
              <a:t>Свойства равнобедренного треугольник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"/>
          <p:cNvSpPr/>
          <p:nvPr/>
        </p:nvSpPr>
        <p:spPr>
          <a:xfrm>
            <a:off x="222840" y="6093000"/>
            <a:ext cx="43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112536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1989000"/>
            <a:ext cx="432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равнобедренном треугольнике сумма всех углов равна 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Найдите углы этого треугольника, если известно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) один из них равен 10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) один из них равен 3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1989000"/>
            <a:ext cx="432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равнобедренном треугольнике сумма всех углов равна 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Найдите углы этого треугольника, если известно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) один из них равен 6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) один из них равен 9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Перпендикуляр к прямо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369720" y="609300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Теорема (перпендикуляр существу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86360" y="1628640"/>
            <a:ext cx="5562000" cy="2548080"/>
            <a:chOff x="1386360" y="1628640"/>
            <a:chExt cx="5562000" cy="2548080"/>
          </a:xfrm>
        </p:grpSpPr>
        <p:sp>
          <p:nvSpPr>
            <p:cNvPr id="103" name=""/>
            <p:cNvSpPr/>
            <p:nvPr/>
          </p:nvSpPr>
          <p:spPr>
            <a:xfrm>
              <a:off x="1403280" y="3716280"/>
              <a:ext cx="55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84720" y="1989000"/>
              <a:ext cx="1443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86360" y="3808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97440" y="1628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356000" y="134136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82320" y="5445000"/>
            <a:ext cx="446760" cy="426600"/>
            <a:chOff x="3982320" y="5445000"/>
            <a:chExt cx="446760" cy="426600"/>
          </a:xfrm>
        </p:grpSpPr>
        <p:sp>
          <p:nvSpPr>
            <p:cNvPr id="109" name=""/>
            <p:cNvSpPr/>
            <p:nvPr/>
          </p:nvSpPr>
          <p:spPr>
            <a:xfrm>
              <a:off x="3982320" y="5465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84720" y="544500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284720" y="3645000"/>
            <a:ext cx="470880" cy="531720"/>
            <a:chOff x="4284720" y="3645000"/>
            <a:chExt cx="470880" cy="531720"/>
          </a:xfrm>
        </p:grpSpPr>
        <p:sp>
          <p:nvSpPr>
            <p:cNvPr id="112" name=""/>
            <p:cNvSpPr/>
            <p:nvPr/>
          </p:nvSpPr>
          <p:spPr>
            <a:xfrm>
              <a:off x="4284720" y="3645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0360" y="3808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34000" y="2060640"/>
            <a:ext cx="878760" cy="2189160"/>
            <a:chOff x="3834000" y="2060640"/>
            <a:chExt cx="878760" cy="2189160"/>
          </a:xfrm>
        </p:grpSpPr>
        <p:sp>
          <p:nvSpPr>
            <p:cNvPr id="115" name=""/>
            <p:cNvSpPr/>
            <p:nvPr/>
          </p:nvSpPr>
          <p:spPr>
            <a:xfrm flipH="1">
              <a:off x="4067280" y="3429000"/>
              <a:ext cx="5738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995640" y="3426480"/>
              <a:ext cx="71712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05640" y="308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34000" y="3881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2060640"/>
              <a:ext cx="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528920" y="1844280"/>
            <a:ext cx="5242680" cy="4061160"/>
            <a:chOff x="1528920" y="1844280"/>
            <a:chExt cx="5242680" cy="4061160"/>
          </a:xfrm>
        </p:grpSpPr>
        <p:grpSp>
          <p:nvGrpSpPr>
            <p:cNvPr id="121" name=""/>
            <p:cNvGrpSpPr/>
            <p:nvPr/>
          </p:nvGrpSpPr>
          <p:grpSpPr>
            <a:xfrm>
              <a:off x="1528920" y="1844280"/>
              <a:ext cx="3611160" cy="4061160"/>
              <a:chOff x="1528920" y="1844280"/>
              <a:chExt cx="3611160" cy="40611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835280" y="1844280"/>
                <a:ext cx="2808000" cy="3815280"/>
                <a:chOff x="1835280" y="1844280"/>
                <a:chExt cx="2808000" cy="3815280"/>
              </a:xfrm>
            </p:grpSpPr>
            <p:sp>
              <p:nvSpPr>
                <p:cNvPr id="123" name=""/>
                <p:cNvSpPr/>
                <p:nvPr/>
              </p:nvSpPr>
              <p:spPr>
                <a:xfrm flipH="1" flipV="1">
                  <a:off x="1835280" y="3716280"/>
                  <a:ext cx="2736720" cy="19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1835280" y="1844280"/>
                  <a:ext cx="280800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124000" y="3429000"/>
                  <a:ext cx="288720" cy="57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2051280" y="3430080"/>
                  <a:ext cx="288360" cy="57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433" y="124"/>
                      </a:moveTo>
                      <a:arcTo wR="10800" hR="10800" stAng="-4878190" swAng="48781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433" y="124"/>
                      </a:moveTo>
                      <a:arcTo wR="10800" hR="10800" stAng="-4878190" swAng="487819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1528920" y="3232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68920" y="553716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426360" y="3808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Перпендикуляр к прямо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340920" y="6093000"/>
            <a:ext cx="69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Теорема (единственность перпендикуля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79640" y="2060640"/>
            <a:ext cx="5079240" cy="3313080"/>
            <a:chOff x="1979640" y="2060640"/>
            <a:chExt cx="5079240" cy="3313080"/>
          </a:xfrm>
        </p:grpSpPr>
        <p:sp>
          <p:nvSpPr>
            <p:cNvPr id="133" name=""/>
            <p:cNvSpPr/>
            <p:nvPr/>
          </p:nvSpPr>
          <p:spPr>
            <a:xfrm>
              <a:off x="1979640" y="450864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56000" y="2060640"/>
              <a:ext cx="0" cy="331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84720" y="2492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40360" y="4292640"/>
              <a:ext cx="215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33640" y="4097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81640" y="2081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3640" y="409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81640" y="460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059280" y="1916280"/>
            <a:ext cx="1657080" cy="3025440"/>
            <a:chOff x="3059280" y="1916280"/>
            <a:chExt cx="1657080" cy="3025440"/>
          </a:xfrm>
        </p:grpSpPr>
        <p:sp>
          <p:nvSpPr>
            <p:cNvPr id="142" name=""/>
            <p:cNvSpPr/>
            <p:nvPr/>
          </p:nvSpPr>
          <p:spPr>
            <a:xfrm flipV="1">
              <a:off x="3059280" y="1916280"/>
              <a:ext cx="1657080" cy="302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4292640"/>
              <a:ext cx="360360" cy="216000"/>
            </a:xfrm>
            <a:prstGeom prst="parallelogram">
              <a:avLst>
                <a:gd name="adj" fmla="val 60268"/>
              </a:avLst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35040" y="45291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Comic Sans MS"/>
              </a:rPr>
              <a:t>Медианы, биссектрисы и высот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454680" y="6093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2276640"/>
            <a:ext cx="3095640" cy="2447640"/>
          </a:xfrm>
          <a:custGeom>
            <a:avLst/>
            <a:gdLst/>
            <a:ahLst/>
            <a:rect l="l" t="t" r="r" b="b"/>
            <a:pathLst>
              <a:path w="1950" h="1542">
                <a:moveTo>
                  <a:pt x="0" y="1542"/>
                </a:moveTo>
                <a:lnTo>
                  <a:pt x="1950" y="1542"/>
                </a:lnTo>
                <a:lnTo>
                  <a:pt x="272" y="0"/>
                </a:lnTo>
                <a:lnTo>
                  <a:pt x="0" y="154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2276640"/>
            <a:ext cx="1079640" cy="24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86000" y="179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564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1280" y="474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6920" y="4745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3400" y="1360440"/>
            <a:ext cx="3927960" cy="3247920"/>
            <a:chOff x="5063400" y="1360440"/>
            <a:chExt cx="3927960" cy="3247920"/>
          </a:xfrm>
        </p:grpSpPr>
        <p:sp>
          <p:nvSpPr>
            <p:cNvPr id="156" name=""/>
            <p:cNvSpPr/>
            <p:nvPr/>
          </p:nvSpPr>
          <p:spPr>
            <a:xfrm>
              <a:off x="5292720" y="1844640"/>
              <a:ext cx="3240000" cy="2305080"/>
            </a:xfrm>
            <a:custGeom>
              <a:avLst/>
              <a:gdLst/>
              <a:ahLst/>
              <a:rect l="l" t="t" r="r" b="b"/>
              <a:pathLst>
                <a:path w="2041" h="1452">
                  <a:moveTo>
                    <a:pt x="0" y="1452"/>
                  </a:moveTo>
                  <a:lnTo>
                    <a:pt x="2041" y="817"/>
                  </a:lnTo>
                  <a:lnTo>
                    <a:pt x="408" y="0"/>
                  </a:lnTo>
                  <a:lnTo>
                    <a:pt x="0" y="14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0360" y="1844640"/>
              <a:ext cx="100800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292720" y="2492280"/>
              <a:ext cx="1943280" cy="16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5580000" y="2997000"/>
              <a:ext cx="295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27640" y="378936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24720" y="3357720"/>
              <a:ext cx="716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64000" y="3429000"/>
              <a:ext cx="216000" cy="7128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51640" y="2421000"/>
              <a:ext cx="215640" cy="7128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7640" y="2133720"/>
              <a:ext cx="71640" cy="14292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667280" y="2637000"/>
              <a:ext cx="73080" cy="14436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6920" y="1360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58360" y="294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74000" y="4240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5040" y="3808440"/>
              <a:ext cx="44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63400" y="2800440"/>
              <a:ext cx="44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24120" y="2008080"/>
              <a:ext cx="44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Comic Sans MS"/>
              </a:rPr>
              <a:t>Медианы, биссектрисы и высот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401760" y="609300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2276640"/>
            <a:ext cx="3095640" cy="2447640"/>
          </a:xfrm>
          <a:custGeom>
            <a:avLst/>
            <a:gdLst/>
            <a:ahLst/>
            <a:rect l="l" t="t" r="r" b="b"/>
            <a:pathLst>
              <a:path w="1950" h="1542">
                <a:moveTo>
                  <a:pt x="0" y="1542"/>
                </a:moveTo>
                <a:lnTo>
                  <a:pt x="1950" y="1542"/>
                </a:lnTo>
                <a:lnTo>
                  <a:pt x="272" y="0"/>
                </a:lnTo>
                <a:lnTo>
                  <a:pt x="0" y="154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2276640"/>
            <a:ext cx="936720" cy="24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6000" y="179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564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1280" y="474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42320" y="474516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063400" y="1360440"/>
            <a:ext cx="3927960" cy="3247920"/>
            <a:chOff x="5063400" y="1360440"/>
            <a:chExt cx="3927960" cy="3247920"/>
          </a:xfrm>
        </p:grpSpPr>
        <p:sp>
          <p:nvSpPr>
            <p:cNvPr id="181" name=""/>
            <p:cNvSpPr/>
            <p:nvPr/>
          </p:nvSpPr>
          <p:spPr>
            <a:xfrm>
              <a:off x="5292720" y="1844640"/>
              <a:ext cx="3240000" cy="2305080"/>
            </a:xfrm>
            <a:custGeom>
              <a:avLst/>
              <a:gdLst/>
              <a:ahLst/>
              <a:rect l="l" t="t" r="r" b="b"/>
              <a:pathLst>
                <a:path w="2041" h="1452">
                  <a:moveTo>
                    <a:pt x="0" y="1452"/>
                  </a:moveTo>
                  <a:lnTo>
                    <a:pt x="2041" y="817"/>
                  </a:lnTo>
                  <a:lnTo>
                    <a:pt x="408" y="0"/>
                  </a:lnTo>
                  <a:lnTo>
                    <a:pt x="0" y="14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0360" y="1844640"/>
              <a:ext cx="792360" cy="18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292720" y="2349000"/>
              <a:ext cx="165564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651280" y="2852280"/>
              <a:ext cx="288108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76920" y="1360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58360" y="294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74000" y="4240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5040" y="3808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63400" y="280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24120" y="20080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1548360" y="2564640"/>
            <a:ext cx="573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356120" y="2635920"/>
            <a:ext cx="5133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4" y="4561"/>
                </a:moveTo>
                <a:arcTo wR="10800" hR="10800" stAng="-8682814" swAng="7000916"/>
                <a:lnTo>
                  <a:pt x="10800" y="10800"/>
                </a:lnTo>
                <a:close/>
              </a:path>
              <a:path fill="none" w="21600" h="21600">
                <a:moveTo>
                  <a:pt x="1984" y="4561"/>
                </a:moveTo>
                <a:arcTo wR="10800" hR="10800" stAng="-8682814" swAng="700091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Comic Sans MS"/>
              </a:rPr>
              <a:t>Медианы, биссектрисы и высот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"/>
          <p:cNvSpPr/>
          <p:nvPr/>
        </p:nvSpPr>
        <p:spPr>
          <a:xfrm>
            <a:off x="403560" y="60930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2276640"/>
            <a:ext cx="3095640" cy="2447640"/>
          </a:xfrm>
          <a:custGeom>
            <a:avLst/>
            <a:gdLst/>
            <a:ahLst/>
            <a:rect l="l" t="t" r="r" b="b"/>
            <a:pathLst>
              <a:path w="1950" h="1542">
                <a:moveTo>
                  <a:pt x="0" y="1542"/>
                </a:moveTo>
                <a:lnTo>
                  <a:pt x="1950" y="1542"/>
                </a:lnTo>
                <a:lnTo>
                  <a:pt x="272" y="0"/>
                </a:lnTo>
                <a:lnTo>
                  <a:pt x="0" y="154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2276640"/>
            <a:ext cx="0" cy="24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86000" y="179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564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81280" y="474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380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155920" y="1360440"/>
            <a:ext cx="3835440" cy="3247920"/>
            <a:chOff x="5155920" y="1360440"/>
            <a:chExt cx="3835440" cy="3247920"/>
          </a:xfrm>
        </p:grpSpPr>
        <p:sp>
          <p:nvSpPr>
            <p:cNvPr id="202" name=""/>
            <p:cNvSpPr/>
            <p:nvPr/>
          </p:nvSpPr>
          <p:spPr>
            <a:xfrm>
              <a:off x="5292720" y="1844640"/>
              <a:ext cx="3240000" cy="2305080"/>
            </a:xfrm>
            <a:custGeom>
              <a:avLst/>
              <a:gdLst/>
              <a:ahLst/>
              <a:rect l="l" t="t" r="r" b="b"/>
              <a:pathLst>
                <a:path w="2041" h="1452">
                  <a:moveTo>
                    <a:pt x="0" y="1452"/>
                  </a:moveTo>
                  <a:lnTo>
                    <a:pt x="2041" y="817"/>
                  </a:lnTo>
                  <a:lnTo>
                    <a:pt x="408" y="0"/>
                  </a:lnTo>
                  <a:lnTo>
                    <a:pt x="0" y="14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1844640"/>
              <a:ext cx="576360" cy="19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292720" y="2133720"/>
              <a:ext cx="1224000" cy="20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5724000" y="2565000"/>
              <a:ext cx="2808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76920" y="1360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58360" y="294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74000" y="4240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79560" y="3933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55920" y="242100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24280" y="17002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547640" y="4508640"/>
            <a:ext cx="216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Равнобедренный треугольни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"/>
          <p:cNvSpPr/>
          <p:nvPr/>
        </p:nvSpPr>
        <p:spPr>
          <a:xfrm>
            <a:off x="478440" y="60930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1773360"/>
            <a:ext cx="2448000" cy="345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89280" y="53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37080" y="14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13640" y="53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357336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66920" y="357336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340000" y="1773360"/>
            <a:ext cx="2448000" cy="3456000"/>
            <a:chOff x="2340000" y="1773360"/>
            <a:chExt cx="2448000" cy="3456000"/>
          </a:xfrm>
        </p:grpSpPr>
        <p:sp>
          <p:nvSpPr>
            <p:cNvPr id="222" name=""/>
            <p:cNvSpPr/>
            <p:nvPr/>
          </p:nvSpPr>
          <p:spPr>
            <a:xfrm flipH="1" flipV="1">
              <a:off x="3564000" y="1773360"/>
              <a:ext cx="1224000" cy="3456000"/>
            </a:xfrm>
            <a:prstGeom prst="line">
              <a:avLst/>
            </a:prstGeom>
            <a:ln w="572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340000" y="1773360"/>
              <a:ext cx="1224000" cy="3456000"/>
            </a:xfrm>
            <a:prstGeom prst="line">
              <a:avLst/>
            </a:prstGeom>
            <a:ln w="572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 rot="4240200">
            <a:off x="3014640" y="31770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Боковая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7353800">
            <a:off x="1432800" y="31770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Боковая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340000" y="4869000"/>
            <a:ext cx="2448000" cy="459720"/>
            <a:chOff x="2340000" y="4869000"/>
            <a:chExt cx="2448000" cy="459720"/>
          </a:xfrm>
        </p:grpSpPr>
        <p:sp>
          <p:nvSpPr>
            <p:cNvPr id="227" name=""/>
            <p:cNvSpPr/>
            <p:nvPr/>
          </p:nvSpPr>
          <p:spPr>
            <a:xfrm>
              <a:off x="2340000" y="5229360"/>
              <a:ext cx="24480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94880" y="4869000"/>
              <a:ext cx="18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Monotype Corsiva"/>
                </a:rPr>
                <a:t>Осн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090400" y="1232280"/>
            <a:ext cx="3124080" cy="3206160"/>
            <a:chOff x="5090400" y="1232280"/>
            <a:chExt cx="3124080" cy="3206160"/>
          </a:xfrm>
        </p:grpSpPr>
        <p:sp>
          <p:nvSpPr>
            <p:cNvPr id="230" name=""/>
            <p:cNvSpPr/>
            <p:nvPr/>
          </p:nvSpPr>
          <p:spPr>
            <a:xfrm rot="18345000">
              <a:off x="5428440" y="1791720"/>
              <a:ext cx="2448000" cy="2087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3080" y="2205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156360" y="32130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80360" y="3357720"/>
              <a:ext cx="21600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Равнобедренный треугольни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"/>
          <p:cNvSpPr/>
          <p:nvPr/>
        </p:nvSpPr>
        <p:spPr>
          <a:xfrm>
            <a:off x="497880" y="609300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Свойство 1 (углы при основании рав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40000" y="1773360"/>
            <a:ext cx="2448000" cy="345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89280" y="53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7080" y="14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13640" y="53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71640" y="357336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066920" y="357336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09840" y="1413000"/>
            <a:ext cx="163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АВ=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227640" y="141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2565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132000" y="1773360"/>
            <a:ext cx="862920" cy="3843360"/>
            <a:chOff x="3132000" y="1773360"/>
            <a:chExt cx="862920" cy="3843360"/>
          </a:xfrm>
        </p:grpSpPr>
        <p:grpSp>
          <p:nvGrpSpPr>
            <p:cNvPr id="246" name=""/>
            <p:cNvGrpSpPr/>
            <p:nvPr/>
          </p:nvGrpSpPr>
          <p:grpSpPr>
            <a:xfrm>
              <a:off x="3132000" y="1773360"/>
              <a:ext cx="862920" cy="3843360"/>
              <a:chOff x="3132000" y="1773360"/>
              <a:chExt cx="862920" cy="3843360"/>
            </a:xfrm>
          </p:grpSpPr>
          <p:sp>
            <p:nvSpPr>
              <p:cNvPr id="247" name=""/>
              <p:cNvSpPr/>
              <p:nvPr/>
            </p:nvSpPr>
            <p:spPr>
              <a:xfrm>
                <a:off x="3564000" y="1773360"/>
                <a:ext cx="0" cy="3456000"/>
              </a:xfrm>
              <a:prstGeom prst="line">
                <a:avLst/>
              </a:prstGeom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3274200" y="2569680"/>
                <a:ext cx="720360" cy="1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688" y="393"/>
                    </a:moveTo>
                    <a:arcTo wR="10800" hR="10800" stAng="-4469333" swAng="44693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688" y="393"/>
                    </a:moveTo>
                    <a:arcTo wR="10800" hR="10800" stAng="-4469333" swAng="4469333"/>
                  </a:path>
                </a:pathLst>
              </a:custGeom>
              <a:noFill/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3132000" y="2568240"/>
                <a:ext cx="720360" cy="1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688" y="393"/>
                    </a:moveTo>
                    <a:arcTo wR="10800" hR="10800" stAng="-4469333" swAng="44693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688" y="393"/>
                    </a:moveTo>
                    <a:arcTo wR="10800" hR="10800" stAng="-4469333" swAng="4469333"/>
                  </a:path>
                </a:pathLst>
              </a:custGeom>
              <a:noFill/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02360" y="5248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3258000" y="280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18360" y="280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Равнобедренный треугольни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"/>
          <p:cNvSpPr/>
          <p:nvPr/>
        </p:nvSpPr>
        <p:spPr>
          <a:xfrm>
            <a:off x="290160" y="6093000"/>
            <a:ext cx="89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Свойство 2(биссектриса является медианой и высо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1773360"/>
            <a:ext cx="2448000" cy="345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89280" y="53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7080" y="14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13640" y="53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357336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066920" y="357336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7800" y="1413000"/>
            <a:ext cx="371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- 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– медиана и 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227640" y="141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2565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132000" y="1773360"/>
            <a:ext cx="862920" cy="3843360"/>
            <a:chOff x="3132000" y="1773360"/>
            <a:chExt cx="862920" cy="3843360"/>
          </a:xfrm>
        </p:grpSpPr>
        <p:sp>
          <p:nvSpPr>
            <p:cNvPr id="265" name=""/>
            <p:cNvSpPr/>
            <p:nvPr/>
          </p:nvSpPr>
          <p:spPr>
            <a:xfrm>
              <a:off x="3564000" y="1773360"/>
              <a:ext cx="0" cy="345600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3274200" y="2569680"/>
              <a:ext cx="720360" cy="1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8" y="393"/>
                  </a:moveTo>
                  <a:arcTo wR="10800" hR="10800" stAng="-4469333" swAng="4469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8" y="393"/>
                  </a:moveTo>
                  <a:arcTo wR="10800" hR="10800" stAng="-4469333" swAng="4469333"/>
                </a:path>
              </a:pathLst>
            </a:custGeom>
            <a:noFill/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132000" y="2568240"/>
              <a:ext cx="720360" cy="1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8" y="393"/>
                  </a:moveTo>
                  <a:arcTo wR="10800" hR="10800" stAng="-4469333" swAng="4469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8" y="393"/>
                  </a:moveTo>
                  <a:arcTo wR="10800" hR="10800" stAng="-4469333" swAng="4469333"/>
                </a:path>
              </a:pathLst>
            </a:custGeom>
            <a:noFill/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02360" y="5248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20544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3744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34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7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8:15:29Z</dcterms:created>
  <dc:creator>olga</dc:creator>
  <dc:description/>
  <dc:language>en-US</dc:language>
  <cp:lastModifiedBy>olga</cp:lastModifiedBy>
  <dcterms:modified xsi:type="dcterms:W3CDTF">2006-08-02T10:51:01Z</dcterms:modified>
  <cp:revision>5</cp:revision>
  <dc:subject/>
  <dc:title>Перпендикуляр к прямой</dc:title>
</cp:coreProperties>
</file>