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93DF-0C21-4BC7-9A73-DB74A94D7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D86F-68EF-4729-9201-AC5B0C4FC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EFA9-908A-455E-8717-76FA8B463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E570-56CC-4396-AA80-7EEC83E50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F626E-2AFB-470D-BECE-2952F3F7C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C37DA-12C4-4216-9C99-01B530B81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19A4B-1F24-4D09-A011-FD9B6F868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73957-45DB-41D0-BA14-FE29DE1FD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AB4C5-2220-4B3B-BA24-345C6B7BF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ABF35-7235-4489-9207-CF7EA2197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77F4D-5BDF-42EF-914D-CF7EF781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4586-3FEC-4A2C-97E0-7F6B45888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AB438-7B26-4AE9-8AAC-22B9691E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B8A84-712B-410B-9EA5-FBEB912A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CE7D5-C732-4073-A571-877F7EE72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19B71-4460-4A9E-999F-DE34926CA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35B98-3C74-4872-9EB2-E00F338D9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94F7-FA4C-465C-8F06-4A241C03A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BEC5-874E-40F2-83B5-6B3B82E13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BAB5-91AD-4B26-806F-FF8F4D476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B8D9-1A5E-40D8-8F6D-C97E8063C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22A0-CA98-4CB9-AD06-A679F6BC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10D3-21F6-4DE4-96FD-1FA822906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277F-F87A-4B04-A514-8450306B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B9FD1-C790-4FAA-8A3A-7EA8A990D01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DCC0C-E979-4EB1-86B7-C2D9008939C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635280" y="3573360"/>
            <a:ext cx="2160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6633"/>
                </a:solidFill>
                <a:latin typeface="Comic Sans MS"/>
              </a:rPr>
              <a:t>Перпендикуляр к прямой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"/>
          <p:cNvSpPr/>
          <p:nvPr/>
        </p:nvSpPr>
        <p:spPr>
          <a:xfrm>
            <a:off x="478440" y="6093000"/>
            <a:ext cx="218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4623"/>
                </a:solidFill>
                <a:latin typeface="Comic Sans MS"/>
              </a:rPr>
              <a:t>Опред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258920" y="1557360"/>
            <a:ext cx="6122520" cy="2232000"/>
            <a:chOff x="1258920" y="1557360"/>
            <a:chExt cx="6122520" cy="2232000"/>
          </a:xfrm>
        </p:grpSpPr>
        <p:sp>
          <p:nvSpPr>
            <p:cNvPr id="89" name=""/>
            <p:cNvSpPr/>
            <p:nvPr/>
          </p:nvSpPr>
          <p:spPr>
            <a:xfrm>
              <a:off x="1258920" y="3789360"/>
              <a:ext cx="597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780000" y="191628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074360" y="3305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997440" y="15573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3851280" y="1197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51280" y="1989000"/>
            <a:ext cx="0" cy="1800360"/>
          </a:xfrm>
          <a:prstGeom prst="line">
            <a:avLst/>
          </a:prstGeom>
          <a:ln w="57240">
            <a:solidFill>
              <a:srgbClr val="006633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76920" y="3881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67000" y="2471760"/>
            <a:ext cx="44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Monotype Corsiva"/>
              </a:rPr>
              <a:t>Основание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400" spc="-1" strike="noStrike">
                <a:solidFill>
                  <a:srgbClr val="006633"/>
                </a:solidFill>
                <a:latin typeface="Monotype Corsiva"/>
              </a:rPr>
              <a:t>перпендикуля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endCxn id="94" idx="0"/>
          </p:cNvCxnSpPr>
          <p:nvPr/>
        </p:nvCxnSpPr>
        <p:spPr>
          <a:xfrm flipH="1">
            <a:off x="3851280" y="3068280"/>
            <a:ext cx="2521080" cy="720720"/>
          </a:xfrm>
          <a:prstGeom prst="straightConnector1">
            <a:avLst/>
          </a:prstGeom>
          <a:ln w="9360">
            <a:solidFill>
              <a:srgbClr val="006633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430560" y="2111400"/>
            <a:ext cx="25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Monotype Corsiva"/>
              </a:rPr>
              <a:t>Перпендикуля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"/>
          <p:cNvCxnSpPr>
            <a:stCxn id="98" idx="3"/>
          </p:cNvCxnSpPr>
          <p:nvPr/>
        </p:nvCxnSpPr>
        <p:spPr>
          <a:xfrm>
            <a:off x="2975040" y="2341080"/>
            <a:ext cx="733680" cy="657000"/>
          </a:xfrm>
          <a:prstGeom prst="bentConnector3">
            <a:avLst>
              <a:gd name="adj1" fmla="val 65537"/>
            </a:avLst>
          </a:prstGeom>
          <a:ln w="9360">
            <a:solidFill>
              <a:srgbClr val="006633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33"/>
                </a:solidFill>
                <a:latin typeface="Comic Sans MS"/>
              </a:rPr>
              <a:t>Свойства равнобедренного треугольника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4" name=""/>
          <p:cNvSpPr/>
          <p:nvPr/>
        </p:nvSpPr>
        <p:spPr>
          <a:xfrm>
            <a:off x="453240" y="6093000"/>
            <a:ext cx="12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4623"/>
                </a:solidFill>
                <a:latin typeface="Comic Sans MS"/>
              </a:rPr>
              <a:t>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572000" y="1125360"/>
            <a:ext cx="0" cy="4751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5003640" y="2060640"/>
            <a:ext cx="3816360" cy="2065320"/>
            <a:chOff x="5003640" y="2060640"/>
            <a:chExt cx="3816360" cy="2065320"/>
          </a:xfrm>
        </p:grpSpPr>
        <p:sp>
          <p:nvSpPr>
            <p:cNvPr id="277" name=""/>
            <p:cNvSpPr/>
            <p:nvPr/>
          </p:nvSpPr>
          <p:spPr>
            <a:xfrm flipH="1">
              <a:off x="5270400" y="2676600"/>
              <a:ext cx="1596960" cy="1449360"/>
            </a:xfrm>
            <a:prstGeom prst="line">
              <a:avLst/>
            </a:prstGeom>
            <a:ln w="936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867360" y="2676600"/>
              <a:ext cx="1596960" cy="1449360"/>
            </a:xfrm>
            <a:prstGeom prst="line">
              <a:avLst/>
            </a:prstGeom>
            <a:ln w="936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003640" y="3716640"/>
              <a:ext cx="3816360" cy="0"/>
            </a:xfrm>
            <a:prstGeom prst="line">
              <a:avLst/>
            </a:prstGeom>
            <a:ln w="936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068880" y="3210120"/>
              <a:ext cx="298440" cy="38160"/>
            </a:xfrm>
            <a:prstGeom prst="line">
              <a:avLst/>
            </a:prstGeom>
            <a:ln w="936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364160" y="3210120"/>
              <a:ext cx="200160" cy="38160"/>
            </a:xfrm>
            <a:prstGeom prst="line">
              <a:avLst/>
            </a:prstGeom>
            <a:ln w="936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294160" y="32846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33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734160" y="20606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33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029440" y="32846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33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522144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17452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419040" y="1289160"/>
            <a:ext cx="3648240" cy="3857040"/>
            <a:chOff x="419040" y="1289160"/>
            <a:chExt cx="3648240" cy="3857040"/>
          </a:xfrm>
        </p:grpSpPr>
        <p:grpSp>
          <p:nvGrpSpPr>
            <p:cNvPr id="288" name=""/>
            <p:cNvGrpSpPr/>
            <p:nvPr/>
          </p:nvGrpSpPr>
          <p:grpSpPr>
            <a:xfrm>
              <a:off x="611280" y="1289160"/>
              <a:ext cx="3456000" cy="3219480"/>
              <a:chOff x="611280" y="1289160"/>
              <a:chExt cx="3456000" cy="3219480"/>
            </a:xfrm>
          </p:grpSpPr>
          <p:sp>
            <p:nvSpPr>
              <p:cNvPr id="289" name=""/>
              <p:cNvSpPr/>
              <p:nvPr/>
            </p:nvSpPr>
            <p:spPr>
              <a:xfrm flipH="1">
                <a:off x="1115640" y="1773360"/>
                <a:ext cx="1152360" cy="2735280"/>
              </a:xfrm>
              <a:prstGeom prst="line">
                <a:avLst/>
              </a:prstGeom>
              <a:ln w="9360">
                <a:solidFill>
                  <a:srgbClr val="3b81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268360" y="1773360"/>
                <a:ext cx="1152720" cy="2735280"/>
              </a:xfrm>
              <a:prstGeom prst="line">
                <a:avLst/>
              </a:prstGeom>
              <a:ln w="9360">
                <a:solidFill>
                  <a:srgbClr val="3b81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11280" y="3789360"/>
                <a:ext cx="3456000" cy="0"/>
              </a:xfrm>
              <a:prstGeom prst="line">
                <a:avLst/>
              </a:prstGeom>
              <a:ln w="9360">
                <a:solidFill>
                  <a:srgbClr val="3b81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692360" y="2781360"/>
                <a:ext cx="215640" cy="71280"/>
              </a:xfrm>
              <a:prstGeom prst="line">
                <a:avLst/>
              </a:prstGeom>
              <a:ln w="9360">
                <a:solidFill>
                  <a:srgbClr val="3b81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>
                <a:off x="2626920" y="2781360"/>
                <a:ext cx="144360" cy="71280"/>
              </a:xfrm>
              <a:prstGeom prst="line">
                <a:avLst/>
              </a:prstGeom>
              <a:ln w="9360">
                <a:solidFill>
                  <a:srgbClr val="3b81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097280" y="337644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6633"/>
                    </a:solidFill>
                    <a:latin typeface="Arial"/>
                  </a:rPr>
                  <a:t>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178360" y="12891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6633"/>
                    </a:solidFill>
                    <a:latin typeface="Arial"/>
                  </a:rPr>
                  <a:t>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113280" y="33764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6633"/>
                    </a:solidFill>
                    <a:latin typeface="Arial"/>
                  </a:rPr>
                  <a:t>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1405440" y="3716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33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918160" y="3716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33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19040" y="4686480"/>
              <a:ext cx="278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33"/>
                  </a:solidFill>
                  <a:latin typeface="Monotype Corsiva"/>
                </a:rPr>
                <a:t>Доказать: </a:t>
              </a:r>
              <a:r>
                <a:rPr b="0" lang="en-US" sz="2400" spc="-1" strike="noStrike">
                  <a:solidFill>
                    <a:srgbClr val="006633"/>
                  </a:solidFill>
                  <a:latin typeface="Symbol"/>
                  <a:ea typeface="Symbol"/>
                </a:rPr>
                <a:t></a:t>
              </a:r>
              <a:r>
                <a:rPr b="0" lang="en-US" sz="2400" spc="-1" strike="noStrike">
                  <a:solidFill>
                    <a:srgbClr val="006633"/>
                  </a:solidFill>
                  <a:latin typeface="Monotype Corsiva"/>
                </a:rPr>
                <a:t>1=</a:t>
              </a:r>
              <a:r>
                <a:rPr b="0" lang="en-US" sz="2400" spc="-1" strike="noStrike">
                  <a:solidFill>
                    <a:srgbClr val="006633"/>
                  </a:solidFill>
                  <a:latin typeface="Symbol"/>
                  <a:ea typeface="Symbol"/>
                </a:rPr>
                <a:t></a:t>
              </a:r>
              <a:r>
                <a:rPr b="0" lang="en-US" sz="2400" spc="-1" strike="noStrike">
                  <a:solidFill>
                    <a:srgbClr val="006633"/>
                  </a:solidFill>
                  <a:latin typeface="Monotype Corsiva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4975200" y="4653000"/>
            <a:ext cx="278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Monotype Corsiva"/>
              </a:rPr>
              <a:t>Доказать: </a:t>
            </a:r>
            <a:r>
              <a:rPr b="0" lang="en-US" sz="2400" spc="-1" strike="noStrike">
                <a:solidFill>
                  <a:srgbClr val="006633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6633"/>
                </a:solidFill>
                <a:latin typeface="Monotype Corsiva"/>
              </a:rPr>
              <a:t>1=</a:t>
            </a:r>
            <a:r>
              <a:rPr b="0" lang="en-US" sz="2400" spc="-1" strike="noStrike">
                <a:solidFill>
                  <a:srgbClr val="006633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6633"/>
                </a:solidFill>
                <a:latin typeface="Monotype Corsiv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4" dur="1" fill="hold"/>
                                  <p:tgtEl>
                                    <p:spTgt spid="27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00"/>
                                </p:to>
                              </p:animClr>
                              <p:animClr clrSpc="rgb">
                                <p:cBhvr>
                                  <p:cTn id="165" dur="1" fill="hold"/>
                                  <p:tgtEl>
                                    <p:spTgt spid="28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00"/>
                                </p:to>
                              </p:animClr>
                              <p:animClr clrSpc="rgb">
                                <p:cBhvr>
                                  <p:cTn id="166" dur="1" fill="hold"/>
                                  <p:tgtEl>
                                    <p:spTgt spid="28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00"/>
                                </p:to>
                              </p:animClr>
                              <p:animClr clrSpc="rgb">
                                <p:cBhvr>
                                  <p:cTn id="167" dur="1" fill="hold"/>
                                  <p:tgtEl>
                                    <p:spTgt spid="30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33"/>
                </a:solidFill>
                <a:latin typeface="Comic Sans MS"/>
              </a:rPr>
              <a:t>Свойства равнобедренного треугольника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2" name=""/>
          <p:cNvSpPr/>
          <p:nvPr/>
        </p:nvSpPr>
        <p:spPr>
          <a:xfrm>
            <a:off x="453240" y="6093000"/>
            <a:ext cx="12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4623"/>
                </a:solidFill>
                <a:latin typeface="Comic Sans MS"/>
              </a:rPr>
              <a:t>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572000" y="1125360"/>
            <a:ext cx="0" cy="4751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878040" y="958680"/>
            <a:ext cx="2664360" cy="3406680"/>
            <a:chOff x="878040" y="958680"/>
            <a:chExt cx="2664360" cy="3406680"/>
          </a:xfrm>
        </p:grpSpPr>
        <p:grpSp>
          <p:nvGrpSpPr>
            <p:cNvPr id="305" name=""/>
            <p:cNvGrpSpPr/>
            <p:nvPr/>
          </p:nvGrpSpPr>
          <p:grpSpPr>
            <a:xfrm>
              <a:off x="1258560" y="1484280"/>
              <a:ext cx="1872000" cy="2881080"/>
              <a:chOff x="1258560" y="1484280"/>
              <a:chExt cx="1872000" cy="2881080"/>
            </a:xfrm>
          </p:grpSpPr>
          <p:sp>
            <p:nvSpPr>
              <p:cNvPr id="306" name=""/>
              <p:cNvSpPr/>
              <p:nvPr/>
            </p:nvSpPr>
            <p:spPr>
              <a:xfrm>
                <a:off x="1258920" y="1484280"/>
                <a:ext cx="1871640" cy="194436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10800000">
                <a:off x="1258560" y="3428640"/>
                <a:ext cx="1871640" cy="93672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1619280" y="2349360"/>
              <a:ext cx="21600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2555640" y="2421000"/>
              <a:ext cx="21564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1619280" y="3860280"/>
              <a:ext cx="144360" cy="73080"/>
            </a:xfrm>
            <a:prstGeom prst="line">
              <a:avLst/>
            </a:prstGeom>
            <a:ln w="82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 flipV="1">
              <a:off x="2555640" y="3860280"/>
              <a:ext cx="144360" cy="73080"/>
            </a:xfrm>
            <a:prstGeom prst="line">
              <a:avLst/>
            </a:prstGeom>
            <a:ln w="79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78040" y="304812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Monotype Corsiv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170440" y="958680"/>
              <a:ext cx="3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Monotype Corsiv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169800" y="311940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Monotype Corsiv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2028960" y="441468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70960" y="5046840"/>
            <a:ext cx="35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Доказать: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BAD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B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5291280" y="1125360"/>
            <a:ext cx="2664000" cy="2620440"/>
            <a:chOff x="5291280" y="1125360"/>
            <a:chExt cx="2664000" cy="2620440"/>
          </a:xfrm>
        </p:grpSpPr>
        <p:sp>
          <p:nvSpPr>
            <p:cNvPr id="318" name=""/>
            <p:cNvSpPr/>
            <p:nvPr/>
          </p:nvSpPr>
          <p:spPr>
            <a:xfrm>
              <a:off x="5671800" y="1650960"/>
              <a:ext cx="1871280" cy="1944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032160" y="2516040"/>
              <a:ext cx="2156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6968520" y="2587320"/>
              <a:ext cx="21564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5651280" y="2638080"/>
              <a:ext cx="1871280" cy="936720"/>
              <a:chOff x="5651280" y="2638080"/>
              <a:chExt cx="1871280" cy="936720"/>
            </a:xfrm>
          </p:grpSpPr>
          <p:sp>
            <p:nvSpPr>
              <p:cNvPr id="322" name=""/>
              <p:cNvSpPr/>
              <p:nvPr/>
            </p:nvSpPr>
            <p:spPr>
              <a:xfrm>
                <a:off x="5651280" y="2638080"/>
                <a:ext cx="1871280" cy="93672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7018200" y="3070080"/>
                <a:ext cx="144360" cy="73080"/>
              </a:xfrm>
              <a:prstGeom prst="line">
                <a:avLst/>
              </a:prstGeom>
              <a:ln w="82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081840" y="3070080"/>
                <a:ext cx="144000" cy="73080"/>
              </a:xfrm>
              <a:prstGeom prst="line">
                <a:avLst/>
              </a:prstGeom>
              <a:ln w="792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" name=""/>
            <p:cNvSpPr/>
            <p:nvPr/>
          </p:nvSpPr>
          <p:spPr>
            <a:xfrm>
              <a:off x="5291280" y="321444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Monotype Corsiv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583320" y="1125360"/>
              <a:ext cx="3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Monotype Corsiv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82680" y="32860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Monotype Corsiv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6369120" y="220500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695480" y="5013360"/>
            <a:ext cx="35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Доказать: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BAD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B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00"/>
                                </p:to>
                              </p:animClr>
                              <p:animClr clrSpc="rgb">
                                <p:cBhvr>
                                  <p:cTn id="1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00"/>
                                </p:to>
                              </p:animClr>
                              <p:animClr clrSpc="rgb">
                                <p:cBhvr>
                                  <p:cTn id="1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7" dur="1" fill="hold"/>
                                  <p:tgtEl>
                                    <p:spTgt spid="31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00"/>
                                </p:to>
                              </p:animClr>
                              <p:animClr clrSpc="rgb">
                                <p:cBhvr>
                                  <p:cTn id="198" dur="1" fill="hold"/>
                                  <p:tgtEl>
                                    <p:spTgt spid="32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00"/>
                                </p:to>
                              </p:animClr>
                              <p:animClr clrSpc="rgb">
                                <p:cBhvr>
                                  <p:cTn id="199" dur="1" fill="hold"/>
                                  <p:tgtEl>
                                    <p:spTgt spid="32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33"/>
                </a:solidFill>
                <a:latin typeface="Comic Sans MS"/>
              </a:rPr>
              <a:t>Свойства равнобедренного треугольника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1" name=""/>
          <p:cNvSpPr/>
          <p:nvPr/>
        </p:nvSpPr>
        <p:spPr>
          <a:xfrm>
            <a:off x="222840" y="6093000"/>
            <a:ext cx="434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4623"/>
                </a:solidFill>
                <a:latin typeface="Comic Sans MS"/>
              </a:rPr>
              <a:t>Самостоятельная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572000" y="1125360"/>
            <a:ext cx="0" cy="4751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24000" y="1989000"/>
            <a:ext cx="4321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I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 равнобедренном треугольнике сумма всех углов равна 18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Monotype Corsiva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. Найдите углы этого треугольника, если известно, ч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а) один из них равен 105</a:t>
            </a:r>
            <a:r>
              <a:rPr b="0" lang="ru-RU" sz="2400" spc="-1" strike="noStrike" baseline="30000">
                <a:solidFill>
                  <a:srgbClr val="000000"/>
                </a:solidFill>
                <a:latin typeface="Monotype Corsiva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б) один из них равен 38</a:t>
            </a:r>
            <a:r>
              <a:rPr b="0" lang="ru-RU" sz="2400" spc="-1" strike="noStrike" baseline="30000">
                <a:solidFill>
                  <a:srgbClr val="000000"/>
                </a:solidFill>
                <a:latin typeface="Monotype Corsiva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0" y="1989000"/>
            <a:ext cx="4321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II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 равнобедренном треугольнике сумма всех углов равна 18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Monotype Corsiva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. Найдите углы этого треугольника, если известно, ч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а) один из них равен 6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Monotype Corsiva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б) один из них равен 98</a:t>
            </a:r>
            <a:r>
              <a:rPr b="0" lang="ru-RU" sz="2400" spc="-1" strike="noStrike" baseline="30000">
                <a:solidFill>
                  <a:srgbClr val="000000"/>
                </a:solidFill>
                <a:latin typeface="Monotype Corsiva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6633"/>
                </a:solidFill>
                <a:latin typeface="Comic Sans MS"/>
              </a:rPr>
              <a:t>Перпендикуляр к прямой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"/>
          <p:cNvSpPr/>
          <p:nvPr/>
        </p:nvSpPr>
        <p:spPr>
          <a:xfrm>
            <a:off x="369720" y="6093000"/>
            <a:ext cx="610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4623"/>
                </a:solidFill>
                <a:latin typeface="Comic Sans MS"/>
              </a:rPr>
              <a:t>Теорема (перпендикуляр существуе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386360" y="1628640"/>
            <a:ext cx="5562000" cy="2548080"/>
            <a:chOff x="1386360" y="1628640"/>
            <a:chExt cx="5562000" cy="2548080"/>
          </a:xfrm>
        </p:grpSpPr>
        <p:sp>
          <p:nvSpPr>
            <p:cNvPr id="103" name=""/>
            <p:cNvSpPr/>
            <p:nvPr/>
          </p:nvSpPr>
          <p:spPr>
            <a:xfrm>
              <a:off x="1403280" y="3716280"/>
              <a:ext cx="554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284720" y="1989000"/>
              <a:ext cx="144360" cy="142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386360" y="3808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97440" y="16286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4356000" y="1341360"/>
            <a:ext cx="0" cy="46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982320" y="5445000"/>
            <a:ext cx="446760" cy="426600"/>
            <a:chOff x="3982320" y="5445000"/>
            <a:chExt cx="446760" cy="426600"/>
          </a:xfrm>
        </p:grpSpPr>
        <p:sp>
          <p:nvSpPr>
            <p:cNvPr id="109" name=""/>
            <p:cNvSpPr/>
            <p:nvPr/>
          </p:nvSpPr>
          <p:spPr>
            <a:xfrm>
              <a:off x="3982320" y="546588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284720" y="5445000"/>
              <a:ext cx="144360" cy="144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4284720" y="3645000"/>
            <a:ext cx="470880" cy="531720"/>
            <a:chOff x="4284720" y="3645000"/>
            <a:chExt cx="470880" cy="531720"/>
          </a:xfrm>
        </p:grpSpPr>
        <p:sp>
          <p:nvSpPr>
            <p:cNvPr id="112" name=""/>
            <p:cNvSpPr/>
            <p:nvPr/>
          </p:nvSpPr>
          <p:spPr>
            <a:xfrm>
              <a:off x="4284720" y="364500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10360" y="38084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834000" y="2060640"/>
            <a:ext cx="878760" cy="2189160"/>
            <a:chOff x="3834000" y="2060640"/>
            <a:chExt cx="878760" cy="2189160"/>
          </a:xfrm>
        </p:grpSpPr>
        <p:sp>
          <p:nvSpPr>
            <p:cNvPr id="115" name=""/>
            <p:cNvSpPr/>
            <p:nvPr/>
          </p:nvSpPr>
          <p:spPr>
            <a:xfrm flipH="1">
              <a:off x="4067280" y="3429000"/>
              <a:ext cx="57384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flipV="1">
              <a:off x="3995640" y="3426480"/>
              <a:ext cx="717120" cy="57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905640" y="3089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34000" y="3881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56000" y="2060640"/>
              <a:ext cx="0" cy="165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1528920" y="1844280"/>
            <a:ext cx="5242680" cy="4061160"/>
            <a:chOff x="1528920" y="1844280"/>
            <a:chExt cx="5242680" cy="4061160"/>
          </a:xfrm>
        </p:grpSpPr>
        <p:grpSp>
          <p:nvGrpSpPr>
            <p:cNvPr id="121" name=""/>
            <p:cNvGrpSpPr/>
            <p:nvPr/>
          </p:nvGrpSpPr>
          <p:grpSpPr>
            <a:xfrm>
              <a:off x="1528920" y="1844280"/>
              <a:ext cx="3611160" cy="4061160"/>
              <a:chOff x="1528920" y="1844280"/>
              <a:chExt cx="3611160" cy="4061160"/>
            </a:xfrm>
          </p:grpSpPr>
          <p:grpSp>
            <p:nvGrpSpPr>
              <p:cNvPr id="122" name=""/>
              <p:cNvGrpSpPr/>
              <p:nvPr/>
            </p:nvGrpSpPr>
            <p:grpSpPr>
              <a:xfrm>
                <a:off x="1835280" y="1844280"/>
                <a:ext cx="2808000" cy="3815280"/>
                <a:chOff x="1835280" y="1844280"/>
                <a:chExt cx="2808000" cy="3815280"/>
              </a:xfrm>
            </p:grpSpPr>
            <p:sp>
              <p:nvSpPr>
                <p:cNvPr id="123" name=""/>
                <p:cNvSpPr/>
                <p:nvPr/>
              </p:nvSpPr>
              <p:spPr>
                <a:xfrm flipH="1" flipV="1">
                  <a:off x="1835280" y="3716280"/>
                  <a:ext cx="2736720" cy="1943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flipV="1">
                  <a:off x="1835280" y="1844280"/>
                  <a:ext cx="2808000" cy="18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2124000" y="3429000"/>
                  <a:ext cx="288720" cy="57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 flipV="1">
                  <a:off x="2051280" y="3430080"/>
                  <a:ext cx="288360" cy="57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433" y="124"/>
                      </a:moveTo>
                      <a:arcTo wR="10800" hR="10800" stAng="-4878190" swAng="487819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433" y="124"/>
                      </a:moveTo>
                      <a:arcTo wR="10800" hR="10800" stAng="-4878190" swAng="4878190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1528920" y="323208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768920" y="5537160"/>
                <a:ext cx="37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6426360" y="38084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6633"/>
                </a:solidFill>
                <a:latin typeface="Comic Sans MS"/>
              </a:rPr>
              <a:t>Перпендикуляр к прямой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"/>
          <p:cNvSpPr/>
          <p:nvPr/>
        </p:nvSpPr>
        <p:spPr>
          <a:xfrm>
            <a:off x="340920" y="6093000"/>
            <a:ext cx="69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4623"/>
                </a:solidFill>
                <a:latin typeface="Comic Sans MS"/>
              </a:rPr>
              <a:t>Теорема (единственность перпендикуляр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979640" y="2060640"/>
            <a:ext cx="5079240" cy="3313080"/>
            <a:chOff x="1979640" y="2060640"/>
            <a:chExt cx="5079240" cy="3313080"/>
          </a:xfrm>
        </p:grpSpPr>
        <p:sp>
          <p:nvSpPr>
            <p:cNvPr id="133" name=""/>
            <p:cNvSpPr/>
            <p:nvPr/>
          </p:nvSpPr>
          <p:spPr>
            <a:xfrm>
              <a:off x="1979640" y="4508640"/>
              <a:ext cx="504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356000" y="2060640"/>
              <a:ext cx="0" cy="3313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284720" y="2492280"/>
              <a:ext cx="144360" cy="144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40360" y="4292640"/>
              <a:ext cx="21564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033640" y="40971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81640" y="20811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713640" y="40971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481640" y="46004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3059280" y="1916280"/>
            <a:ext cx="1657080" cy="3025440"/>
            <a:chOff x="3059280" y="1916280"/>
            <a:chExt cx="1657080" cy="3025440"/>
          </a:xfrm>
        </p:grpSpPr>
        <p:sp>
          <p:nvSpPr>
            <p:cNvPr id="142" name=""/>
            <p:cNvSpPr/>
            <p:nvPr/>
          </p:nvSpPr>
          <p:spPr>
            <a:xfrm flipV="1">
              <a:off x="3059280" y="1916280"/>
              <a:ext cx="1657080" cy="3025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276720" y="4292640"/>
              <a:ext cx="360360" cy="216000"/>
            </a:xfrm>
            <a:prstGeom prst="parallelogram">
              <a:avLst>
                <a:gd name="adj" fmla="val 60268"/>
              </a:avLst>
            </a:prstGeom>
            <a:noFill/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335040" y="452916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6633"/>
                </a:solidFill>
                <a:latin typeface="Comic Sans MS"/>
              </a:rPr>
              <a:t>Медианы, биссектрисы и высоты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"/>
          <p:cNvSpPr/>
          <p:nvPr/>
        </p:nvSpPr>
        <p:spPr>
          <a:xfrm>
            <a:off x="454680" y="609300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4623"/>
                </a:solidFill>
                <a:latin typeface="Comic Sans MS"/>
              </a:rPr>
              <a:t>Меди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116000" y="2276640"/>
            <a:ext cx="3095640" cy="2447640"/>
          </a:xfrm>
          <a:custGeom>
            <a:avLst/>
            <a:gdLst/>
            <a:ahLst/>
            <a:rect l="l" t="t" r="r" b="b"/>
            <a:pathLst>
              <a:path w="1950" h="1542">
                <a:moveTo>
                  <a:pt x="0" y="1542"/>
                </a:moveTo>
                <a:lnTo>
                  <a:pt x="1950" y="1542"/>
                </a:lnTo>
                <a:lnTo>
                  <a:pt x="272" y="0"/>
                </a:lnTo>
                <a:lnTo>
                  <a:pt x="0" y="154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47640" y="2276640"/>
            <a:ext cx="1079640" cy="244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835280" y="45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45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386000" y="1792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5640" y="4745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81280" y="4745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36920" y="47451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3400" y="1360440"/>
            <a:ext cx="3927960" cy="3247920"/>
            <a:chOff x="5063400" y="1360440"/>
            <a:chExt cx="3927960" cy="3247920"/>
          </a:xfrm>
        </p:grpSpPr>
        <p:sp>
          <p:nvSpPr>
            <p:cNvPr id="156" name=""/>
            <p:cNvSpPr/>
            <p:nvPr/>
          </p:nvSpPr>
          <p:spPr>
            <a:xfrm>
              <a:off x="5292720" y="1844640"/>
              <a:ext cx="3240000" cy="2305080"/>
            </a:xfrm>
            <a:custGeom>
              <a:avLst/>
              <a:gdLst/>
              <a:ahLst/>
              <a:rect l="l" t="t" r="r" b="b"/>
              <a:pathLst>
                <a:path w="2041" h="1452">
                  <a:moveTo>
                    <a:pt x="0" y="1452"/>
                  </a:moveTo>
                  <a:lnTo>
                    <a:pt x="2041" y="817"/>
                  </a:lnTo>
                  <a:lnTo>
                    <a:pt x="408" y="0"/>
                  </a:lnTo>
                  <a:lnTo>
                    <a:pt x="0" y="145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940360" y="1844640"/>
              <a:ext cx="1008000" cy="180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5292720" y="2492280"/>
              <a:ext cx="1943280" cy="1657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5580000" y="2997000"/>
              <a:ext cx="2952720" cy="14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227640" y="3789360"/>
              <a:ext cx="730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524720" y="3357720"/>
              <a:ext cx="7164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64000" y="3429000"/>
              <a:ext cx="216000" cy="71280"/>
            </a:xfrm>
            <a:prstGeom prst="line">
              <a:avLst/>
            </a:prstGeom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651640" y="2421000"/>
              <a:ext cx="215640" cy="71280"/>
            </a:xfrm>
            <a:prstGeom prst="line">
              <a:avLst/>
            </a:prstGeom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6587640" y="2133720"/>
              <a:ext cx="71640" cy="142920"/>
            </a:xfrm>
            <a:prstGeom prst="line">
              <a:avLst/>
            </a:prstGeom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7667280" y="2637000"/>
              <a:ext cx="73080" cy="144360"/>
            </a:xfrm>
            <a:prstGeom prst="line">
              <a:avLst/>
            </a:prstGeom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76920" y="13604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658360" y="29448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274000" y="42400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935040" y="3808440"/>
              <a:ext cx="444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063400" y="2800440"/>
              <a:ext cx="444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224120" y="2008080"/>
              <a:ext cx="444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6633"/>
                </a:solidFill>
                <a:latin typeface="Comic Sans MS"/>
              </a:rPr>
              <a:t>Медианы, биссектрисы и высоты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"/>
          <p:cNvSpPr/>
          <p:nvPr/>
        </p:nvSpPr>
        <p:spPr>
          <a:xfrm>
            <a:off x="401760" y="6093000"/>
            <a:ext cx="21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4623"/>
                </a:solidFill>
                <a:latin typeface="Comic Sans MS"/>
              </a:rPr>
              <a:t>Биссектри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16000" y="2276640"/>
            <a:ext cx="3095640" cy="2447640"/>
          </a:xfrm>
          <a:custGeom>
            <a:avLst/>
            <a:gdLst/>
            <a:ahLst/>
            <a:rect l="l" t="t" r="r" b="b"/>
            <a:pathLst>
              <a:path w="1950" h="1542">
                <a:moveTo>
                  <a:pt x="0" y="1542"/>
                </a:moveTo>
                <a:lnTo>
                  <a:pt x="1950" y="1542"/>
                </a:lnTo>
                <a:lnTo>
                  <a:pt x="272" y="0"/>
                </a:lnTo>
                <a:lnTo>
                  <a:pt x="0" y="154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47640" y="2276640"/>
            <a:ext cx="936720" cy="244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386000" y="1792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265640" y="4745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81280" y="4745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42320" y="4745160"/>
            <a:ext cx="406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063400" y="1360440"/>
            <a:ext cx="3927960" cy="3247920"/>
            <a:chOff x="5063400" y="1360440"/>
            <a:chExt cx="3927960" cy="3247920"/>
          </a:xfrm>
        </p:grpSpPr>
        <p:sp>
          <p:nvSpPr>
            <p:cNvPr id="181" name=""/>
            <p:cNvSpPr/>
            <p:nvPr/>
          </p:nvSpPr>
          <p:spPr>
            <a:xfrm>
              <a:off x="5292720" y="1844640"/>
              <a:ext cx="3240000" cy="2305080"/>
            </a:xfrm>
            <a:custGeom>
              <a:avLst/>
              <a:gdLst/>
              <a:ahLst/>
              <a:rect l="l" t="t" r="r" b="b"/>
              <a:pathLst>
                <a:path w="2041" h="1452">
                  <a:moveTo>
                    <a:pt x="0" y="1452"/>
                  </a:moveTo>
                  <a:lnTo>
                    <a:pt x="2041" y="817"/>
                  </a:lnTo>
                  <a:lnTo>
                    <a:pt x="408" y="0"/>
                  </a:lnTo>
                  <a:lnTo>
                    <a:pt x="0" y="145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940360" y="1844640"/>
              <a:ext cx="792360" cy="187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5292720" y="2349000"/>
              <a:ext cx="1655640" cy="180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 flipV="1">
              <a:off x="5651280" y="2852280"/>
              <a:ext cx="2881080" cy="28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776920" y="13604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658360" y="29448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274000" y="42400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935040" y="380844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063400" y="280044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224120" y="200808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 flipV="1">
            <a:off x="1548360" y="2564640"/>
            <a:ext cx="57384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1356120" y="2635920"/>
            <a:ext cx="51336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84" y="4561"/>
                </a:moveTo>
                <a:arcTo wR="10800" hR="10800" stAng="-8682814" swAng="7000916"/>
                <a:lnTo>
                  <a:pt x="10800" y="10800"/>
                </a:lnTo>
                <a:close/>
              </a:path>
              <a:path fill="none" w="21600" h="21600">
                <a:moveTo>
                  <a:pt x="1984" y="4561"/>
                </a:moveTo>
                <a:arcTo wR="10800" hR="10800" stAng="-8682814" swAng="7000916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6633"/>
                </a:solidFill>
                <a:latin typeface="Comic Sans MS"/>
              </a:rPr>
              <a:t>Медианы, биссектрисы и высоты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4" name=""/>
          <p:cNvSpPr/>
          <p:nvPr/>
        </p:nvSpPr>
        <p:spPr>
          <a:xfrm>
            <a:off x="403560" y="60930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4623"/>
                </a:solidFill>
                <a:latin typeface="Comic Sans MS"/>
              </a:rPr>
              <a:t>Выс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116000" y="2276640"/>
            <a:ext cx="3095640" cy="2447640"/>
          </a:xfrm>
          <a:custGeom>
            <a:avLst/>
            <a:gdLst/>
            <a:ahLst/>
            <a:rect l="l" t="t" r="r" b="b"/>
            <a:pathLst>
              <a:path w="1950" h="1542">
                <a:moveTo>
                  <a:pt x="0" y="1542"/>
                </a:moveTo>
                <a:lnTo>
                  <a:pt x="1950" y="1542"/>
                </a:lnTo>
                <a:lnTo>
                  <a:pt x="272" y="0"/>
                </a:lnTo>
                <a:lnTo>
                  <a:pt x="0" y="154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547640" y="2276640"/>
            <a:ext cx="0" cy="244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86000" y="1792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265640" y="4745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81280" y="4745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333800" y="4797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5155920" y="1360440"/>
            <a:ext cx="3835440" cy="3247920"/>
            <a:chOff x="5155920" y="1360440"/>
            <a:chExt cx="3835440" cy="3247920"/>
          </a:xfrm>
        </p:grpSpPr>
        <p:sp>
          <p:nvSpPr>
            <p:cNvPr id="202" name=""/>
            <p:cNvSpPr/>
            <p:nvPr/>
          </p:nvSpPr>
          <p:spPr>
            <a:xfrm>
              <a:off x="5292720" y="1844640"/>
              <a:ext cx="3240000" cy="2305080"/>
            </a:xfrm>
            <a:custGeom>
              <a:avLst/>
              <a:gdLst/>
              <a:ahLst/>
              <a:rect l="l" t="t" r="r" b="b"/>
              <a:pathLst>
                <a:path w="2041" h="1452">
                  <a:moveTo>
                    <a:pt x="0" y="1452"/>
                  </a:moveTo>
                  <a:lnTo>
                    <a:pt x="2041" y="817"/>
                  </a:lnTo>
                  <a:lnTo>
                    <a:pt x="408" y="0"/>
                  </a:lnTo>
                  <a:lnTo>
                    <a:pt x="0" y="145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0360" y="1844640"/>
              <a:ext cx="576360" cy="194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5292720" y="2133720"/>
              <a:ext cx="1224000" cy="20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 flipV="1">
              <a:off x="5724000" y="2565000"/>
              <a:ext cx="2808360" cy="5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76920" y="13604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658360" y="29448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274000" y="42400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379560" y="393372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155920" y="242100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524280" y="170028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1547640" y="4508640"/>
            <a:ext cx="216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6633"/>
                </a:solidFill>
                <a:latin typeface="Comic Sans MS"/>
              </a:rPr>
              <a:t>Равнобедренный треугольник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4" name=""/>
          <p:cNvSpPr/>
          <p:nvPr/>
        </p:nvSpPr>
        <p:spPr>
          <a:xfrm>
            <a:off x="478440" y="6093000"/>
            <a:ext cx="218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4623"/>
                </a:solidFill>
                <a:latin typeface="Comic Sans MS"/>
              </a:rPr>
              <a:t>Опред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340000" y="1773360"/>
            <a:ext cx="2448000" cy="34560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889280" y="5321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637080" y="1413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913640" y="5321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771640" y="3573360"/>
            <a:ext cx="21600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66920" y="3573360"/>
            <a:ext cx="21564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2340000" y="1773360"/>
            <a:ext cx="2448000" cy="3456000"/>
            <a:chOff x="2340000" y="1773360"/>
            <a:chExt cx="2448000" cy="3456000"/>
          </a:xfrm>
        </p:grpSpPr>
        <p:sp>
          <p:nvSpPr>
            <p:cNvPr id="222" name=""/>
            <p:cNvSpPr/>
            <p:nvPr/>
          </p:nvSpPr>
          <p:spPr>
            <a:xfrm flipH="1" flipV="1">
              <a:off x="3564000" y="1773360"/>
              <a:ext cx="1224000" cy="3456000"/>
            </a:xfrm>
            <a:prstGeom prst="line">
              <a:avLst/>
            </a:prstGeom>
            <a:ln w="5724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2340000" y="1773360"/>
              <a:ext cx="1224000" cy="3456000"/>
            </a:xfrm>
            <a:prstGeom prst="line">
              <a:avLst/>
            </a:prstGeom>
            <a:ln w="5724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 rot="4240200">
            <a:off x="3014640" y="3177000"/>
            <a:ext cx="27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Monotype Corsiva"/>
              </a:rPr>
              <a:t>Боковая стор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17353800">
            <a:off x="1432800" y="3177000"/>
            <a:ext cx="27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Monotype Corsiva"/>
              </a:rPr>
              <a:t>Боковая стор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2340000" y="4869000"/>
            <a:ext cx="2448000" cy="459720"/>
            <a:chOff x="2340000" y="4869000"/>
            <a:chExt cx="2448000" cy="459720"/>
          </a:xfrm>
        </p:grpSpPr>
        <p:sp>
          <p:nvSpPr>
            <p:cNvPr id="227" name=""/>
            <p:cNvSpPr/>
            <p:nvPr/>
          </p:nvSpPr>
          <p:spPr>
            <a:xfrm>
              <a:off x="2340000" y="5229360"/>
              <a:ext cx="24480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594880" y="4869000"/>
              <a:ext cx="185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Monotype Corsiva"/>
                </a:rPr>
                <a:t>Основа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5090400" y="1232280"/>
            <a:ext cx="3124080" cy="3206160"/>
            <a:chOff x="5090400" y="1232280"/>
            <a:chExt cx="3124080" cy="3206160"/>
          </a:xfrm>
        </p:grpSpPr>
        <p:sp>
          <p:nvSpPr>
            <p:cNvPr id="230" name=""/>
            <p:cNvSpPr/>
            <p:nvPr/>
          </p:nvSpPr>
          <p:spPr>
            <a:xfrm rot="18345000">
              <a:off x="5428440" y="1791720"/>
              <a:ext cx="2448000" cy="208728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093080" y="220500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6156360" y="3213000"/>
              <a:ext cx="21600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380360" y="3357720"/>
              <a:ext cx="21600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6633"/>
                </a:solidFill>
                <a:latin typeface="Comic Sans MS"/>
              </a:rPr>
              <a:t>Равнобедренный треугольник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5" name=""/>
          <p:cNvSpPr/>
          <p:nvPr/>
        </p:nvSpPr>
        <p:spPr>
          <a:xfrm>
            <a:off x="497880" y="6093000"/>
            <a:ext cx="63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4623"/>
                </a:solidFill>
                <a:latin typeface="Comic Sans MS"/>
              </a:rPr>
              <a:t>Свойство 1 (углы при основании равн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340000" y="1773360"/>
            <a:ext cx="2448000" cy="34560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889280" y="5321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637080" y="1413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913640" y="5321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771640" y="3573360"/>
            <a:ext cx="21600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4066920" y="3573360"/>
            <a:ext cx="21564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909840" y="1413000"/>
            <a:ext cx="1636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Да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АВ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АВ=В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Доказа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А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6227640" y="141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227640" y="256536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3132000" y="1773360"/>
            <a:ext cx="862920" cy="3843360"/>
            <a:chOff x="3132000" y="1773360"/>
            <a:chExt cx="862920" cy="3843360"/>
          </a:xfrm>
        </p:grpSpPr>
        <p:grpSp>
          <p:nvGrpSpPr>
            <p:cNvPr id="246" name=""/>
            <p:cNvGrpSpPr/>
            <p:nvPr/>
          </p:nvGrpSpPr>
          <p:grpSpPr>
            <a:xfrm>
              <a:off x="3132000" y="1773360"/>
              <a:ext cx="862920" cy="3843360"/>
              <a:chOff x="3132000" y="1773360"/>
              <a:chExt cx="862920" cy="3843360"/>
            </a:xfrm>
          </p:grpSpPr>
          <p:sp>
            <p:nvSpPr>
              <p:cNvPr id="247" name=""/>
              <p:cNvSpPr/>
              <p:nvPr/>
            </p:nvSpPr>
            <p:spPr>
              <a:xfrm>
                <a:off x="3564000" y="1773360"/>
                <a:ext cx="0" cy="3456000"/>
              </a:xfrm>
              <a:prstGeom prst="line">
                <a:avLst/>
              </a:prstGeom>
              <a:ln w="9360">
                <a:solidFill>
                  <a:srgbClr val="3b81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 flipV="1">
                <a:off x="3274200" y="2569680"/>
                <a:ext cx="720360" cy="13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688" y="393"/>
                    </a:moveTo>
                    <a:arcTo wR="10800" hR="10800" stAng="-4469333" swAng="446933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688" y="393"/>
                    </a:moveTo>
                    <a:arcTo wR="10800" hR="10800" stAng="-4469333" swAng="4469333"/>
                  </a:path>
                </a:pathLst>
              </a:custGeom>
              <a:noFill/>
              <a:ln w="9360">
                <a:solidFill>
                  <a:srgbClr val="3b81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V="1">
                <a:off x="3132000" y="2568240"/>
                <a:ext cx="720360" cy="13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688" y="393"/>
                    </a:moveTo>
                    <a:arcTo wR="10800" hR="10800" stAng="-4469333" swAng="446933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688" y="393"/>
                    </a:moveTo>
                    <a:arcTo wR="10800" hR="10800" stAng="-4469333" swAng="4469333"/>
                  </a:path>
                </a:pathLst>
              </a:custGeom>
              <a:noFill/>
              <a:ln w="9360">
                <a:solidFill>
                  <a:srgbClr val="3b81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402360" y="52484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6633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3258000" y="2800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33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618360" y="2800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33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6633"/>
                </a:solidFill>
                <a:latin typeface="Comic Sans MS"/>
              </a:rPr>
              <a:t>Равнобедренный треугольник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4" name=""/>
          <p:cNvSpPr/>
          <p:nvPr/>
        </p:nvSpPr>
        <p:spPr>
          <a:xfrm>
            <a:off x="290160" y="6093000"/>
            <a:ext cx="89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4623"/>
                </a:solidFill>
                <a:latin typeface="Comic Sans MS"/>
              </a:rPr>
              <a:t>Свойство 2(биссектриса является медианой и высот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340000" y="1773360"/>
            <a:ext cx="2448000" cy="34560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889280" y="5321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37080" y="1413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913640" y="5321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771640" y="3573360"/>
            <a:ext cx="21600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4066920" y="3573360"/>
            <a:ext cx="21564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797800" y="1413000"/>
            <a:ext cx="3713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Да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АВ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BD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- биссектри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Доказа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BD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– медиана и выс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6227640" y="141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227640" y="256536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3132000" y="1773360"/>
            <a:ext cx="862920" cy="3843360"/>
            <a:chOff x="3132000" y="1773360"/>
            <a:chExt cx="862920" cy="3843360"/>
          </a:xfrm>
        </p:grpSpPr>
        <p:sp>
          <p:nvSpPr>
            <p:cNvPr id="265" name=""/>
            <p:cNvSpPr/>
            <p:nvPr/>
          </p:nvSpPr>
          <p:spPr>
            <a:xfrm>
              <a:off x="3564000" y="1773360"/>
              <a:ext cx="0" cy="3456000"/>
            </a:xfrm>
            <a:prstGeom prst="line">
              <a:avLst/>
            </a:prstGeom>
            <a:ln w="936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 flipV="1">
              <a:off x="3274200" y="2569680"/>
              <a:ext cx="720360" cy="137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88" y="393"/>
                  </a:moveTo>
                  <a:arcTo wR="10800" hR="10800" stAng="-4469333" swAng="44693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88" y="393"/>
                  </a:moveTo>
                  <a:arcTo wR="10800" hR="10800" stAng="-4469333" swAng="4469333"/>
                </a:path>
              </a:pathLst>
            </a:custGeom>
            <a:noFill/>
            <a:ln w="936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3132000" y="2568240"/>
              <a:ext cx="720360" cy="137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88" y="393"/>
                  </a:moveTo>
                  <a:arcTo wR="10800" hR="10800" stAng="-4469333" swAng="44693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88" y="393"/>
                  </a:moveTo>
                  <a:arcTo wR="10800" hR="10800" stAng="-4469333" swAng="4469333"/>
                </a:path>
              </a:pathLst>
            </a:custGeom>
            <a:noFill/>
            <a:ln w="936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02360" y="52484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33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3205440" y="270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637440" y="270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13416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63744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08:15:29Z</dcterms:created>
  <dc:creator>olga</dc:creator>
  <dc:description/>
  <dc:language>en-US</dc:language>
  <cp:lastModifiedBy>olga</cp:lastModifiedBy>
  <dcterms:modified xsi:type="dcterms:W3CDTF">2006-08-02T10:51:01Z</dcterms:modified>
  <cp:revision>5</cp:revision>
  <dc:subject/>
  <dc:title>Перпендикуляр к прямой</dc:title>
</cp:coreProperties>
</file>