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D06-9089-4573-8C6D-09A9B01B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8F5-D051-40E9-A7C7-0983149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BE1-41A3-49ED-88A4-A876835F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C34-002F-46F3-9152-95473064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CADE-443C-4642-8272-8082CB52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6363-2835-449F-AB00-6C8B8334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B628-79B8-48A9-967D-CF470818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B86B-A0CE-456B-9F66-0E42D1F3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62D3-393E-4893-9200-3257B9B5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9F1C-11EE-407A-8E4C-FAB4C6DB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7D3D-C267-47E6-8C41-5F617A24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F9D-2B00-44BA-8267-79FB0D2A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CF50-E66E-49A9-8E59-EF6EBA1F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F85A-7663-4E90-B328-4C600B4D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EF5B-43BB-44D6-8FED-42D1493C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EB04-B157-467F-85FA-EB373B75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325F-51B7-4C2C-9E18-6D1441CF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A9D6-0FE2-4688-A469-FFCF4A9A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FBC0-BDC6-42DE-9C07-16C89E06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256D-43C7-4ACD-BDD3-4297E358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8EDD-89C4-4716-B32D-0318CE32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3035-22CE-451F-8BD4-D200A647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A45-51EE-4962-A2E5-7A1B8A49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EEA5-2BF1-4BBF-9D30-0E1316A0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3AE3-C742-45A0-BDD1-481A76ED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592E-874A-4058-98B1-727839F2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E812-9651-45EE-A931-97A4A67D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64DC-CD6E-496B-BEDA-6332D5EE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70B49-6143-49A7-84B9-A6EB092E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600A-724E-4BA5-9270-2A3CA55A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8A6E-0DA6-40F2-995F-209F8EDC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632F1-E86A-417C-B967-1885AE3C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0AD9-78E9-4EBE-BCCB-8FE5D031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AC4-AC99-48AC-A93F-9FBB4689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8D1F1-B97B-4ACD-A7C3-0CB89869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BCC8-9CB3-411B-85A5-5731C832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DE01-EA64-4BA9-A0FC-5338126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DA819-5AD2-4D46-A813-663CF48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91CC-2D42-4C99-8BAA-6E3F9C00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E91A-2C4D-4123-8C90-3F738843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BC31B-376B-4E7B-8F82-96F9BCCC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A997-AAD6-4E56-A80C-813681DF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E891-F3CA-411A-8715-3EDE1A5E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65497-74A5-4B11-87E9-A928219D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316-65F6-4FFA-9AF0-1A451E6A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C5E0D-0D16-4994-935A-7BDA05E6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206B3-FBD1-49BF-AD78-9632575A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D1D5A-76E8-4AB0-81F7-313E3374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94245-9155-4CA7-832F-20CCB958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EB65F-5458-4D9D-BCB4-864AD81D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CBEA-0A51-4A1F-B166-05E8A484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C3030-C048-4144-811C-DF0B3DAF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2D86A-9336-43C8-9B65-F7258BC0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65A92-3B32-4EB4-989D-FFC316ED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1D34D-046F-49CA-AC1D-4652B52E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1C5-4B0E-4D69-A6A0-1AA9832C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B6F46-4BD2-45A0-8FD6-FE3D2DE7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92A-1414-43C7-ADF1-2C9A8E2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C36-0679-40D0-8D2E-36680C64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BEC-58A7-4E9D-A7B4-899D80E0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3EDD-B41F-4915-81D4-C716C86010F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B977-04D1-49C9-AAEE-F1A29283E2E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6FDA-C3A8-43CA-822E-857EF68BE46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D284-2431-4586-860B-65F2173B01C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D6FA-13FE-4805-9922-7FE3CBBC34B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87952"/>
                </a:solidFill>
                <a:latin typeface="Times New Roman"/>
                <a:ea typeface="Times New Roman"/>
              </a:rPr>
              <a:t>Evgeny Plushenko – my favourite athlete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Рисунок 3" descr="3020101043.jpg"/>
          <p:cNvPicPr/>
          <p:nvPr/>
        </p:nvPicPr>
        <p:blipFill>
          <a:blip r:embed="rId1"/>
          <a:stretch/>
        </p:blipFill>
        <p:spPr>
          <a:xfrm>
            <a:off x="2036880" y="2779560"/>
            <a:ext cx="4827600" cy="237204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1"/>
          <p:cNvSpPr/>
          <p:nvPr/>
        </p:nvSpPr>
        <p:spPr>
          <a:xfrm>
            <a:off x="5715000" y="5643720"/>
            <a:ext cx="3062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743a"/>
                </a:solidFill>
                <a:latin typeface="Verdana"/>
              </a:rPr>
              <a:t>This presentation is made by Koveshnikov Nik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743a"/>
                </a:solidFill>
                <a:latin typeface="Verdana"/>
              </a:rPr>
              <a:t>school 6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743a"/>
                </a:solidFill>
                <a:latin typeface="Verdana"/>
              </a:rPr>
              <a:t>11</a:t>
            </a:r>
            <a:r>
              <a:rPr b="0" lang="ru-RU" sz="1400" spc="-1" strike="noStrike">
                <a:solidFill>
                  <a:srgbClr val="9a743a"/>
                </a:solidFill>
                <a:latin typeface="Verdana"/>
              </a:rPr>
              <a:t> «</a:t>
            </a:r>
            <a:r>
              <a:rPr b="0" lang="en-US" sz="1400" spc="-1" strike="noStrike">
                <a:solidFill>
                  <a:srgbClr val="9a743a"/>
                </a:solidFill>
                <a:latin typeface="Verdana"/>
              </a:rPr>
              <a:t>a</a:t>
            </a:r>
            <a:r>
              <a:rPr b="0" lang="ru-RU" sz="1400" spc="-1" strike="noStrike">
                <a:solidFill>
                  <a:srgbClr val="9a743a"/>
                </a:solidFill>
                <a:latin typeface="Verdana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00040" y="642960"/>
            <a:ext cx="3857760" cy="524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The athlete, strong-willed traits of character, the relation to the work, which skill impose me, is Evgeny Plushenk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In 1996 when Eugene was 13 years old, it became the sixth on a Junior World Championship in Australia. In 1997 I won the junior World Cup in South Korea and I became the youngest champion for all history of figure skating. In Evgenia's next season already I debuted in the adult European championships and the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Содержимое 5" descr="plush_43599952.jpg"/>
          <p:cNvPicPr/>
          <p:nvPr/>
        </p:nvPicPr>
        <p:blipFill>
          <a:blip r:embed="rId1"/>
          <a:stretch/>
        </p:blipFill>
        <p:spPr>
          <a:xfrm>
            <a:off x="5353200" y="1706400"/>
            <a:ext cx="2668320" cy="244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71320" y="571680"/>
            <a:ext cx="3857400" cy="524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Plushenko - the sevenfold champion of Russia, the fivefold champion and the double runner-up of the European championship. Three-time world champion, runner-up of the World Cup. Champion and runner-up of the ISU "Grand Prix" series. The runner-up of Olympic Games in Salt Lake C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Содержимое 5" descr="plush_43599952.jpg"/>
          <p:cNvPicPr/>
          <p:nvPr/>
        </p:nvPicPr>
        <p:blipFill>
          <a:blip r:embed="rId1"/>
          <a:stretch/>
        </p:blipFill>
        <p:spPr>
          <a:xfrm>
            <a:off x="5353200" y="1066680"/>
            <a:ext cx="2084400" cy="306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071720" y="4143240"/>
            <a:ext cx="7000560" cy="18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Here skill, ottochennost of movement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Spotlights light, skates and blue ic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Fine and strange instant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Figured driving - feelings fligh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Рисунок 3" descr="img_29424cecc560c032481146fb73c95dca.jpg"/>
          <p:cNvPicPr/>
          <p:nvPr/>
        </p:nvPicPr>
        <p:blipFill>
          <a:blip r:embed="rId1"/>
          <a:stretch/>
        </p:blipFill>
        <p:spPr>
          <a:xfrm>
            <a:off x="2139840" y="1371600"/>
            <a:ext cx="1938600" cy="24192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0_517aa_ea30ff47_XL.jpeg"/>
          <p:cNvPicPr/>
          <p:nvPr/>
        </p:nvPicPr>
        <p:blipFill>
          <a:blip r:embed="rId2"/>
          <a:stretch/>
        </p:blipFill>
        <p:spPr>
          <a:xfrm>
            <a:off x="5138640" y="1279440"/>
            <a:ext cx="1725840" cy="279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13920" y="4500720"/>
            <a:ext cx="7000920" cy="1714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Harmony in everything, also isn't present a doub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That it is the real star b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He presented all pleasure, pleasur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And the star ray to us got to hea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Рисунок 7" descr="0_517aa_ea30ff47_XL.jpeg"/>
          <p:cNvPicPr/>
          <p:nvPr/>
        </p:nvPicPr>
        <p:blipFill>
          <a:blip r:embed="rId1"/>
          <a:stretch/>
        </p:blipFill>
        <p:spPr>
          <a:xfrm>
            <a:off x="3352680" y="1066680"/>
            <a:ext cx="2724120" cy="323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7:53:19Z</dcterms:created>
  <dc:creator>User</dc:creator>
  <dc:description/>
  <dc:language>en-US</dc:language>
  <cp:lastModifiedBy>Дина</cp:lastModifiedBy>
  <dcterms:modified xsi:type="dcterms:W3CDTF">2014-01-31T15:21:47Z</dcterms:modified>
  <cp:revision>18</cp:revision>
  <dc:subject/>
  <dc:title>II межрегиональная Интернет-конференция "Если хочешь быть здоров - будь им!"</dc:title>
</cp:coreProperties>
</file>