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F25-2CC3-4364-9EB5-CDFCDACC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084-5F6C-4300-BFE6-B9500A0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E8B-1E63-472B-9BEF-C402653E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884-510B-4F64-BF27-F918878F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55F6-D3F7-4AAA-99B0-CD8A606D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28E2-BCB5-4C22-A260-961DA32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679-F364-44E9-BE85-35D5B8A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41DA-7412-4D8F-9788-FF7A6F54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ECDC-16F6-4197-8756-8373502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9ED6-0E73-43E8-AB00-A807C27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7154-C427-48BC-8A07-47062DD2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249-30A0-46F5-8E36-FF52B248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ED3F-09D8-4362-9053-0946F437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2920-4896-4E45-95D6-E42927C2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4179-AF82-4110-BB6A-878698E8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3D92-CBE6-426C-A6FE-E20D59BB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33C-2297-4048-B412-CAE82E02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E4AA-36E1-4623-9BF0-5CCD5BBE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7A59-B8C0-4C4D-BEB9-40727692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393F-6D79-4B3F-88DE-D14DBF08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781E-A036-4C6F-8847-46EF038F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2043-2F5A-40C7-A0AF-2C00FDE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C30-3F5B-4EC6-8A24-8FD158FC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845B-C540-4458-AAFF-80B5748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A5EA-2885-497A-908B-DB5E71E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AC91-8FA6-4DAC-B69C-0DC8129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A4F2-AD2A-48FA-ACF8-406FAF9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0FD3-9DE0-40A9-8DF9-39ABB92E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B2BA-F0D4-4F0F-9988-7D051919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B3C5-87DA-4E54-92D9-4450B910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3C8B-4477-4F88-BEB1-8F5D1A98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9F7F-A5A5-4ED0-96DC-525C4E31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43DC-C8D1-4815-95DB-1FB0BF1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0F1-F8C7-44F1-8DEA-2C903D3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51D7-8E68-4AAC-B6F4-BD85D2E2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7A48-891B-4D73-8BF1-5342F8F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D78E-FEDD-4367-9AFD-7B35BDAA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628B-E445-4DE5-97A1-72A08B9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6B19-60C8-47DE-9EC8-67EA173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51C33-44A9-4DF1-8636-6EBD498E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D780-455E-420E-9894-9C25258C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54BE-5027-447C-A53D-446D7BE8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8EDC7-0DD4-4D99-B072-82CC46BF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37EC5-7709-46D3-AF99-86D96D65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3F4-A486-42C9-BBA2-E54A1758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07DD-4786-46BA-AE3E-BE7F0774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FEB0-53AB-4881-87A8-5B2CAE32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8AFD7-629F-4D9A-A0E2-FC453DC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3A58D-36BC-4460-B0AD-CADF7199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0920-1B82-4E1A-9C7D-D71EDB4D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6BBC-DDF3-4937-8FA1-793D531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2306-8F75-41DA-A6B8-8A73865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5C24C-32E7-41D4-8BE9-65F6D1C9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342A1-814A-4345-AD88-E1C11E37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D96A-AB6C-4ED3-AB0C-AB3A05A2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3C7-5220-4A44-B0D4-858F90FF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CD50-DAC1-4D77-8047-CAE2868A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103-8103-43FE-ABE5-945008D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5DC-E4E8-4CEE-B307-57DB4483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075-5A8C-41A1-89DF-EE00E6B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0AA1-696E-421B-BFCA-E2A7F2D60CF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9E86-56E7-4BD5-BDB7-A96A25389C7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F564-BE2E-4DFC-96E8-9613C40CEB9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F590-CAF9-4EC5-9159-286483ADDB2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142-BA98-4387-BC47-ED0141516A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87952"/>
                </a:solidFill>
                <a:latin typeface="Times New Roman"/>
                <a:ea typeface="Times New Roman"/>
              </a:rPr>
              <a:t>Evgeny Plushenko – my favourite athlete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Рисунок 3" descr="3020101043.jpg"/>
          <p:cNvPicPr/>
          <p:nvPr/>
        </p:nvPicPr>
        <p:blipFill>
          <a:blip r:embed="rId1"/>
          <a:stretch/>
        </p:blipFill>
        <p:spPr>
          <a:xfrm>
            <a:off x="2036880" y="2779560"/>
            <a:ext cx="4827600" cy="237204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1"/>
          <p:cNvSpPr/>
          <p:nvPr/>
        </p:nvSpPr>
        <p:spPr>
          <a:xfrm>
            <a:off x="5715000" y="5643720"/>
            <a:ext cx="3062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This presentation is made by Koveshnikov Nik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school 6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11</a:t>
            </a:r>
            <a:r>
              <a:rPr b="0" lang="ru-RU" sz="1400" spc="-1" strike="noStrike">
                <a:solidFill>
                  <a:srgbClr val="9a743a"/>
                </a:solidFill>
                <a:latin typeface="Verdana"/>
              </a:rPr>
              <a:t> «</a:t>
            </a:r>
            <a:r>
              <a:rPr b="0" lang="en-US" sz="1400" spc="-1" strike="noStrike">
                <a:solidFill>
                  <a:srgbClr val="9a743a"/>
                </a:solidFill>
                <a:latin typeface="Verdana"/>
              </a:rPr>
              <a:t>a</a:t>
            </a:r>
            <a:r>
              <a:rPr b="0" lang="ru-RU" sz="1400" spc="-1" strike="noStrike">
                <a:solidFill>
                  <a:srgbClr val="9a743a"/>
                </a:solidFill>
                <a:latin typeface="Verdana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00040" y="642960"/>
            <a:ext cx="3857760" cy="524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The athlete, strong-willed traits of character, the relation to the work, which skill impose me, is Evgeny Plushenk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In 1996 when Eugene was 13 years old, it became the sixth on a Junior World Championship in Australia. In 1997 I won the junior World Cup in South Korea and I became the youngest champion for all history of figure skating. In Evgenia's next season already I debuted in the adult European championships and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Содержимое 5" descr="plush_43599952.jpg"/>
          <p:cNvPicPr/>
          <p:nvPr/>
        </p:nvPicPr>
        <p:blipFill>
          <a:blip r:embed="rId1"/>
          <a:stretch/>
        </p:blipFill>
        <p:spPr>
          <a:xfrm>
            <a:off x="5353200" y="1706400"/>
            <a:ext cx="266832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71320" y="571680"/>
            <a:ext cx="3857400" cy="52480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Plushenko - the sevenfold champion of Russia, the fivefold champion and the double runner-up of the European championship. Three-time world champion, runner-up of the World Cup. Champion and runner-up of the ISU "Grand Prix" series. The runner-up of Olympic Games in Salt Lake C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одержимое 5" descr="plush_43599952.jpg"/>
          <p:cNvPicPr/>
          <p:nvPr/>
        </p:nvPicPr>
        <p:blipFill>
          <a:blip r:embed="rId1"/>
          <a:stretch/>
        </p:blipFill>
        <p:spPr>
          <a:xfrm>
            <a:off x="5353200" y="1066680"/>
            <a:ext cx="2084400" cy="306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071720" y="4143240"/>
            <a:ext cx="7000560" cy="1890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Here skill, ottochennost of movement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Spotlights light, skates and blue ic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Fine and strange instant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Figured driving - feelings fligh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Рисунок 3" descr="img_29424cecc560c032481146fb73c95dca.jpg"/>
          <p:cNvPicPr/>
          <p:nvPr/>
        </p:nvPicPr>
        <p:blipFill>
          <a:blip r:embed="rId1"/>
          <a:stretch/>
        </p:blipFill>
        <p:spPr>
          <a:xfrm>
            <a:off x="2139840" y="1371600"/>
            <a:ext cx="1938600" cy="2419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0_517aa_ea30ff47_XL.jpeg"/>
          <p:cNvPicPr/>
          <p:nvPr/>
        </p:nvPicPr>
        <p:blipFill>
          <a:blip r:embed="rId2"/>
          <a:stretch/>
        </p:blipFill>
        <p:spPr>
          <a:xfrm>
            <a:off x="5138640" y="1279440"/>
            <a:ext cx="172584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3920" y="4500720"/>
            <a:ext cx="7000920" cy="17143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Harmony in everything, also isn't present a doub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That it is the real star ba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He presented all pleasure, pleasur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3f04"/>
                </a:solidFill>
                <a:latin typeface="Times New Roman"/>
                <a:ea typeface="Times New Roman"/>
              </a:rPr>
              <a:t>And the star ray to us got to hea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Рисунок 7" descr="0_517aa_ea30ff47_XL.jpeg"/>
          <p:cNvPicPr/>
          <p:nvPr/>
        </p:nvPicPr>
        <p:blipFill>
          <a:blip r:embed="rId1"/>
          <a:stretch/>
        </p:blipFill>
        <p:spPr>
          <a:xfrm>
            <a:off x="3352680" y="1066680"/>
            <a:ext cx="2724120" cy="32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7:53:19Z</dcterms:created>
  <dc:creator>User</dc:creator>
  <dc:description/>
  <dc:language>en-US</dc:language>
  <cp:lastModifiedBy>Дина</cp:lastModifiedBy>
  <dcterms:modified xsi:type="dcterms:W3CDTF">2014-01-31T15:21:47Z</dcterms:modified>
  <cp:revision>18</cp:revision>
  <dc:subject/>
  <dc:title>II межрегиональная Интернет-конференция "Если хочешь быть здоров - будь им!"</dc:title>
</cp:coreProperties>
</file>