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AE0D-E607-4201-9D26-29ABE3B8E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9C90-16B6-4207-993B-5699AA4A91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A3B-4A07-4FDF-B76B-F5E3A17E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975-8414-459D-AD34-8D415C75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B17-8A2E-4883-813D-56BAD296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9CE-FF31-48BF-B370-5FE78DD6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227E-01D8-482E-B7E7-C33E7FA8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2FE2-4668-4BEE-A8E2-7BB67C14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CA92-2F4E-45DB-A0C0-CB89214A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25DF-5723-4F24-81B8-CCD1D5F7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87BA-BB53-4A8F-A60E-F2E20343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6935-2C9F-46D1-97F1-D9A3E857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5B7C-9A82-4AA8-A7D8-6A758174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E07-3742-4C48-90D4-16B13DA7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08A4-F0D1-43C2-B7FA-29A5501F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8254-3035-4DB9-939C-2994D18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8669-8611-40C4-A5DE-DCC624B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FDB0-2555-4E27-8318-BC7A5DA7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F86A-5F23-43B0-A409-446E8E34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988-11C7-41F1-B853-23608BA0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6B1-27DC-46E4-B542-7F6DB529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700-B86B-488D-A8B4-950B4685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512-E3E5-4B5F-8E8D-6375F87B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5DB-3059-4507-A4EB-4CE2DBF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FEF-50A4-4638-90A4-4F6DE546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A2E-99DE-4D37-AC29-B93DF699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B8D0-6DFB-46C0-AF90-2B8F789A48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D81A-F7B5-4769-BA02-220453D202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5e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000" y="2998440"/>
            <a:ext cx="8157960" cy="2662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0000">
                <a:alpha val="50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Verdana"/>
              </a:rPr>
              <a:t>3 клас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Verdana"/>
              </a:rPr>
              <a:t>Решение задач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2340000" y="1484280"/>
            <a:ext cx="43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24000" y="1557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468360" y="177336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ешите задачу разными способам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На сколько минут дольше длится игра в футбол, чем в баскетбол, если в игре в футбол 2 тайма по 45 мин, а в игре в баскетбол 2 тайма по 20 мин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8000" y="1600200"/>
          <a:ext cx="8856720" cy="4530600"/>
        </p:xfrm>
        <a:graphic>
          <a:graphicData uri="http://schemas.openxmlformats.org/drawingml/2006/table">
            <a:tbl>
              <a:tblPr/>
              <a:tblGrid>
                <a:gridCol w="4608360"/>
                <a:gridCol w="4248360"/>
              </a:tblGrid>
              <a:tr h="453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способ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) 45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 =90(мин)-в футб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) 20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 2 = 40(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ин)-в баскетб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) 90 – 40 = 50(м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вет: на 50 минут дольш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I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пособ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45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) – (20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 2) =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(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и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вет: на 50 минут дольш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24000" y="15573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68360" y="177336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ривезли – 50 к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Осталось – 5 ящ. по 6 к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родали - 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Реши уравнения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8 =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: 12 =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 : Х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роверь себя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8 =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= 90 : 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Х 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 18 =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 = 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: 12 =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= 7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 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Х = 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 : 12 =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 =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 : Х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Х = 84 :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Х = 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4 : 42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2556000" y="5516640"/>
            <a:ext cx="407988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 наших руках - наше здоровье.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4901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4"/>
          <p:cNvSpPr txBox="1"/>
          <p:nvPr/>
        </p:nvSpPr>
        <p:spPr>
          <a:xfrm>
            <a:off x="900000" y="1700280"/>
            <a:ext cx="70567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Схема 11" descr=""/>
          <p:cNvPicPr/>
          <p:nvPr/>
        </p:nvPicPr>
        <p:blipFill>
          <a:blip r:embed="rId1"/>
          <a:stretch/>
        </p:blipFill>
        <p:spPr>
          <a:xfrm>
            <a:off x="49320" y="328680"/>
            <a:ext cx="9326520" cy="5870520"/>
          </a:xfrm>
          <a:prstGeom prst="rect">
            <a:avLst/>
          </a:prstGeom>
          <a:ln w="0">
            <a:noFill/>
          </a:ln>
        </p:spPr>
      </p:pic>
      <p:sp>
        <p:nvSpPr>
          <p:cNvPr id="170" name="Oval 34"/>
          <p:cNvSpPr/>
          <p:nvPr/>
        </p:nvSpPr>
        <p:spPr>
          <a:xfrm>
            <a:off x="1116000" y="4437000"/>
            <a:ext cx="914400" cy="914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179280" y="4437000"/>
            <a:ext cx="914400" cy="9144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Oval 37"/>
          <p:cNvSpPr/>
          <p:nvPr/>
        </p:nvSpPr>
        <p:spPr>
          <a:xfrm>
            <a:off x="2124000" y="4437000"/>
            <a:ext cx="914400" cy="914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Oval 38"/>
          <p:cNvSpPr/>
          <p:nvPr/>
        </p:nvSpPr>
        <p:spPr>
          <a:xfrm>
            <a:off x="3132000" y="4437000"/>
            <a:ext cx="914400" cy="914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4067280" y="4437000"/>
            <a:ext cx="914400" cy="9144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5076720" y="4437000"/>
            <a:ext cx="914400" cy="9144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Oval 41"/>
          <p:cNvSpPr/>
          <p:nvPr/>
        </p:nvSpPr>
        <p:spPr>
          <a:xfrm>
            <a:off x="6084720" y="4437000"/>
            <a:ext cx="914400" cy="914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Oval 42"/>
          <p:cNvSpPr/>
          <p:nvPr/>
        </p:nvSpPr>
        <p:spPr>
          <a:xfrm>
            <a:off x="7093080" y="4437000"/>
            <a:ext cx="914400" cy="9144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3"/>
          <p:cNvSpPr/>
          <p:nvPr/>
        </p:nvSpPr>
        <p:spPr>
          <a:xfrm>
            <a:off x="8101080" y="4437000"/>
            <a:ext cx="914400" cy="9144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46836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57 – 36) : 3 =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2 -34) x 3 =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31 – 28)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9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45 + 5)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 5 =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78 – 60) : 2 =                        (45 – 5) : 10 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75 – 51) : 3 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395280" y="476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Расшифруйте запись, расположив ответы в порядке убыв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15"/>
          <p:cNvSpPr/>
          <p:nvPr/>
        </p:nvSpPr>
        <p:spPr>
          <a:xfrm flipV="1">
            <a:off x="684360" y="5733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55640" y="5661000"/>
          <a:ext cx="7848720" cy="1036800"/>
        </p:xfrm>
        <a:graphic>
          <a:graphicData uri="http://schemas.openxmlformats.org/drawingml/2006/table">
            <a:tbl>
              <a:tblPr/>
              <a:tblGrid>
                <a:gridCol w="1122480"/>
                <a:gridCol w="1109520"/>
                <a:gridCol w="1131840"/>
                <a:gridCol w="1120680"/>
                <a:gridCol w="1122480"/>
                <a:gridCol w="1119240"/>
                <a:gridCol w="112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</a:tbl>
          </a:graphicData>
        </a:graphic>
      </p:graphicFrame>
      <p:sp>
        <p:nvSpPr>
          <p:cNvPr id="183" name="Rectangle 50"/>
          <p:cNvSpPr/>
          <p:nvPr/>
        </p:nvSpPr>
        <p:spPr>
          <a:xfrm>
            <a:off x="2411280" y="2060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3059280" y="2060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2411280" y="285264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3059280" y="2852640"/>
            <a:ext cx="50472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54"/>
          <p:cNvSpPr/>
          <p:nvPr/>
        </p:nvSpPr>
        <p:spPr>
          <a:xfrm>
            <a:off x="2411280" y="371628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55"/>
          <p:cNvSpPr/>
          <p:nvPr/>
        </p:nvSpPr>
        <p:spPr>
          <a:xfrm>
            <a:off x="3059280" y="371628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56"/>
          <p:cNvSpPr/>
          <p:nvPr/>
        </p:nvSpPr>
        <p:spPr>
          <a:xfrm>
            <a:off x="2411280" y="4508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3059280" y="4508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58"/>
          <p:cNvSpPr/>
          <p:nvPr/>
        </p:nvSpPr>
        <p:spPr>
          <a:xfrm>
            <a:off x="6084720" y="2060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59"/>
          <p:cNvSpPr/>
          <p:nvPr/>
        </p:nvSpPr>
        <p:spPr>
          <a:xfrm>
            <a:off x="6732720" y="2060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60"/>
          <p:cNvSpPr/>
          <p:nvPr/>
        </p:nvSpPr>
        <p:spPr>
          <a:xfrm>
            <a:off x="6084720" y="285264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6732720" y="285264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Ш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62"/>
          <p:cNvSpPr/>
          <p:nvPr/>
        </p:nvSpPr>
        <p:spPr>
          <a:xfrm>
            <a:off x="6084720" y="371628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63"/>
          <p:cNvSpPr/>
          <p:nvPr/>
        </p:nvSpPr>
        <p:spPr>
          <a:xfrm>
            <a:off x="6732720" y="371628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64"/>
          <p:cNvSpPr/>
          <p:nvPr/>
        </p:nvSpPr>
        <p:spPr>
          <a:xfrm>
            <a:off x="3059280" y="285264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6836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57 – 36) : 3 =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42 -34) x 3 =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31 – 28)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9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45 + 5)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 5 =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78 – 60) : 2 =                        (45 – 5) : 10 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75 – 51) : 3 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4"/>
          <p:cNvSpPr/>
          <p:nvPr/>
        </p:nvSpPr>
        <p:spPr>
          <a:xfrm flipV="1">
            <a:off x="684360" y="5733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55640" y="5661000"/>
          <a:ext cx="7848720" cy="1036800"/>
        </p:xfrm>
        <a:graphic>
          <a:graphicData uri="http://schemas.openxmlformats.org/drawingml/2006/table">
            <a:tbl>
              <a:tblPr/>
              <a:tblGrid>
                <a:gridCol w="1122480"/>
                <a:gridCol w="1109520"/>
                <a:gridCol w="1131840"/>
                <a:gridCol w="1120680"/>
                <a:gridCol w="1122480"/>
                <a:gridCol w="1119240"/>
                <a:gridCol w="112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1"/>
          <p:cNvSpPr/>
          <p:nvPr/>
        </p:nvSpPr>
        <p:spPr>
          <a:xfrm>
            <a:off x="2411280" y="2060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32"/>
          <p:cNvSpPr/>
          <p:nvPr/>
        </p:nvSpPr>
        <p:spPr>
          <a:xfrm>
            <a:off x="3059280" y="2060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2411280" y="285264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3059280" y="2852640"/>
            <a:ext cx="50472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2411280" y="371628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36"/>
          <p:cNvSpPr/>
          <p:nvPr/>
        </p:nvSpPr>
        <p:spPr>
          <a:xfrm>
            <a:off x="3059280" y="371628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37"/>
          <p:cNvSpPr/>
          <p:nvPr/>
        </p:nvSpPr>
        <p:spPr>
          <a:xfrm>
            <a:off x="2411280" y="4508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tangle 38"/>
          <p:cNvSpPr/>
          <p:nvPr/>
        </p:nvSpPr>
        <p:spPr>
          <a:xfrm>
            <a:off x="3059280" y="4508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39"/>
          <p:cNvSpPr/>
          <p:nvPr/>
        </p:nvSpPr>
        <p:spPr>
          <a:xfrm>
            <a:off x="6084720" y="2060640"/>
            <a:ext cx="50508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6732720" y="2060640"/>
            <a:ext cx="504720" cy="4316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1"/>
          <p:cNvSpPr/>
          <p:nvPr/>
        </p:nvSpPr>
        <p:spPr>
          <a:xfrm>
            <a:off x="6084720" y="285264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42"/>
          <p:cNvSpPr/>
          <p:nvPr/>
        </p:nvSpPr>
        <p:spPr>
          <a:xfrm>
            <a:off x="6732720" y="285264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Ш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6084720" y="3716280"/>
            <a:ext cx="505080" cy="43200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44"/>
          <p:cNvSpPr/>
          <p:nvPr/>
        </p:nvSpPr>
        <p:spPr>
          <a:xfrm>
            <a:off x="6732720" y="371628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45"/>
          <p:cNvSpPr/>
          <p:nvPr/>
        </p:nvSpPr>
        <p:spPr>
          <a:xfrm>
            <a:off x="3059280" y="2852640"/>
            <a:ext cx="504720" cy="4320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7"/>
          <p:cNvSpPr/>
          <p:nvPr/>
        </p:nvSpPr>
        <p:spPr>
          <a:xfrm>
            <a:off x="468360" y="1890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Проверь себ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621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042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4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Блиц – турнир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2494080"/>
          <a:ext cx="8229600" cy="1654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6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09:59:43Z</dcterms:created>
  <dc:creator>Настя</dc:creator>
  <dc:description/>
  <dc:language>en-US</dc:language>
  <cp:lastModifiedBy>DILARA</cp:lastModifiedBy>
  <dcterms:modified xsi:type="dcterms:W3CDTF">2009-04-10T10:02:46Z</dcterms:modified>
  <cp:revision>34</cp:revision>
  <dc:subject/>
  <dc:title>Слайд 1</dc:title>
</cp:coreProperties>
</file>