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0113-EA63-4C1D-9826-872D4B826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277-0E95-4431-B992-5A6E0DC9A2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694-0277-4347-91C9-27AF5353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521-F74A-4ABE-A088-219F110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8F3-EFE3-44CE-B597-5651E816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27A-668F-4278-BE5A-47395922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E11-80CA-432B-AAA1-7E98EAA5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E0BC-7431-4F04-965F-FE83069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0B60-47F3-4CAA-8CB2-A4BCDA5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14CF-1040-4E3F-B189-E5B9706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8AB-DD32-41AC-8DF2-D19027E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820-C2F6-4D8C-99AE-2FF0A66A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211E-3097-426E-9F67-D576FE2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6EF-8B03-4C08-A21E-AC3E1CA6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DCE-7371-4A81-837D-F34C7E86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236A-AAC5-4EC5-B08D-346D8F6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52D-F920-4798-A631-9FDB88F7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6BB7-B076-4FBA-AE10-1D53CBD4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DA94-10FC-4993-91BC-79357115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AE8-FA6A-426D-9CF9-E85CE3F8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0C3-437A-40BD-A413-A21B0091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5B6-3DF6-4EA9-A966-C6A2501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B2E-DB77-4871-8E6E-C1730EB4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3D8-2DBD-4240-839C-386C69E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47A-14FA-4AA2-A618-03AFEC7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63F-78AC-48DB-84E3-3CE9BFE7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6E8-8236-446A-AF02-440FA2522E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C16-4F1A-40F8-930A-9AA0AC24CC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2998440"/>
            <a:ext cx="8157960" cy="266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>
                <a:alpha val="5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Решение зада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340000" y="148428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24000" y="1557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8360" y="177336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шите задачу разными способа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 сколько минут дольше длится игра в футбол, чем в баскетбол, если в игре в футбол 2 тайма по 45 мин, а в игре в баскетбол 2 тайма по 20 мин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1600200"/>
          <a:ext cx="8856720" cy="4530600"/>
        </p:xfrm>
        <a:graphic>
          <a:graphicData uri="http://schemas.openxmlformats.org/drawingml/2006/table">
            <a:tbl>
              <a:tblPr/>
              <a:tblGrid>
                <a:gridCol w="4608360"/>
                <a:gridCol w="424836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способ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) 4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 =90(мин)-в фут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) 2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2 = 40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н)-в баскет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) 90 – 40 = 50(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т: на 50 минут дольш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4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) – (2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2) =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т: на 50 минут дольш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24000" y="1557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8360" y="1773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везли – 50 к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сталось – 5 ящ. по 6 к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одали - 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еши уравнени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Х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оверь себ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90 : 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7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 =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Х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84 :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42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2556000" y="5516640"/>
            <a:ext cx="40798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наших руках - наше здоровье.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90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900000" y="1700280"/>
            <a:ext cx="7056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хема 11" descr=""/>
          <p:cNvPicPr/>
          <p:nvPr/>
        </p:nvPicPr>
        <p:blipFill>
          <a:blip r:embed="rId1"/>
          <a:stretch/>
        </p:blipFill>
        <p:spPr>
          <a:xfrm>
            <a:off x="49320" y="328680"/>
            <a:ext cx="9326520" cy="5870520"/>
          </a:xfrm>
          <a:prstGeom prst="rect">
            <a:avLst/>
          </a:prstGeom>
          <a:ln w="0">
            <a:noFill/>
          </a:ln>
        </p:spPr>
      </p:pic>
      <p:sp>
        <p:nvSpPr>
          <p:cNvPr id="170" name="Oval 34"/>
          <p:cNvSpPr/>
          <p:nvPr/>
        </p:nvSpPr>
        <p:spPr>
          <a:xfrm>
            <a:off x="1116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1792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Oval 37"/>
          <p:cNvSpPr/>
          <p:nvPr/>
        </p:nvSpPr>
        <p:spPr>
          <a:xfrm>
            <a:off x="2124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Oval 38"/>
          <p:cNvSpPr/>
          <p:nvPr/>
        </p:nvSpPr>
        <p:spPr>
          <a:xfrm>
            <a:off x="3132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40672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507672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41"/>
          <p:cNvSpPr/>
          <p:nvPr/>
        </p:nvSpPr>
        <p:spPr>
          <a:xfrm>
            <a:off x="608472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42"/>
          <p:cNvSpPr/>
          <p:nvPr/>
        </p:nvSpPr>
        <p:spPr>
          <a:xfrm>
            <a:off x="709308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3"/>
          <p:cNvSpPr/>
          <p:nvPr/>
        </p:nvSpPr>
        <p:spPr>
          <a:xfrm>
            <a:off x="81010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46836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57 – 36) : 3 =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2 -34) x 3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31 – 28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45 + 5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5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8 – 60) : 2 =                        (45 – 5) : 10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5 – 51) : 3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95280" y="47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Расшифруйте запись, расположив ответы в порядке убы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5"/>
          <p:cNvSpPr/>
          <p:nvPr/>
        </p:nvSpPr>
        <p:spPr>
          <a:xfrm flipV="1">
            <a:off x="684360" y="57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55640" y="5661000"/>
          <a:ext cx="7848720" cy="1036800"/>
        </p:xfrm>
        <a:graphic>
          <a:graphicData uri="http://schemas.openxmlformats.org/drawingml/2006/table">
            <a:tbl>
              <a:tblPr/>
              <a:tblGrid>
                <a:gridCol w="1122480"/>
                <a:gridCol w="1109520"/>
                <a:gridCol w="1131840"/>
                <a:gridCol w="1120680"/>
                <a:gridCol w="1122480"/>
                <a:gridCol w="1119240"/>
                <a:gridCol w="112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183" name="Rectangle 50"/>
          <p:cNvSpPr/>
          <p:nvPr/>
        </p:nvSpPr>
        <p:spPr>
          <a:xfrm>
            <a:off x="241128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305928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41128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241128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05928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2411280" y="4508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059280" y="4508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58"/>
          <p:cNvSpPr/>
          <p:nvPr/>
        </p:nvSpPr>
        <p:spPr>
          <a:xfrm>
            <a:off x="608472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673272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608472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673272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62"/>
          <p:cNvSpPr/>
          <p:nvPr/>
        </p:nvSpPr>
        <p:spPr>
          <a:xfrm>
            <a:off x="608472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63"/>
          <p:cNvSpPr/>
          <p:nvPr/>
        </p:nvSpPr>
        <p:spPr>
          <a:xfrm>
            <a:off x="673272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64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6836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57 – 36) : 3 =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2 -34) x 3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31 – 28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45 + 5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5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8 – 60) : 2 =                        (45 – 5) : 10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5 – 51) : 3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 flipV="1">
            <a:off x="684360" y="57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5640" y="5661000"/>
          <a:ext cx="7848720" cy="1036800"/>
        </p:xfrm>
        <a:graphic>
          <a:graphicData uri="http://schemas.openxmlformats.org/drawingml/2006/table">
            <a:tbl>
              <a:tblPr/>
              <a:tblGrid>
                <a:gridCol w="1122480"/>
                <a:gridCol w="1109520"/>
                <a:gridCol w="1131840"/>
                <a:gridCol w="1120680"/>
                <a:gridCol w="1122480"/>
                <a:gridCol w="1119240"/>
                <a:gridCol w="112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1"/>
          <p:cNvSpPr/>
          <p:nvPr/>
        </p:nvSpPr>
        <p:spPr>
          <a:xfrm>
            <a:off x="241128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305928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241128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241128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305928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2411280" y="4508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38"/>
          <p:cNvSpPr/>
          <p:nvPr/>
        </p:nvSpPr>
        <p:spPr>
          <a:xfrm>
            <a:off x="3059280" y="4508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608472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673272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608472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673272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608472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44"/>
          <p:cNvSpPr/>
          <p:nvPr/>
        </p:nvSpPr>
        <p:spPr>
          <a:xfrm>
            <a:off x="673272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45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68360" y="189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Проверь себ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21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042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4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лиц – турни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2494080"/>
          <a:ext cx="8229600" cy="1654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9:59:43Z</dcterms:created>
  <dc:creator>Настя</dc:creator>
  <dc:description/>
  <dc:language>en-US</dc:language>
  <cp:lastModifiedBy>DILARA</cp:lastModifiedBy>
  <dcterms:modified xsi:type="dcterms:W3CDTF">2009-04-10T10:02:46Z</dcterms:modified>
  <cp:revision>34</cp:revision>
  <dc:subject/>
  <dc:title>Слайд 1</dc:title>
</cp:coreProperties>
</file>