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ABE-346E-45D4-AEAB-5BE8FAF4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748E-011C-48B7-962E-A342BC98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4F0-0FAE-44D5-AA61-492E208C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096-2B8F-4C47-8DF7-F18A0F89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0C02-5CAE-4EB9-A668-F403BA23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641E-3D84-48A5-982A-3FE05409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6F26-31D6-4E8C-BA53-2BA3F816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628E-01A5-4C9B-957A-04C1C865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3EE6-FD9E-44D2-A203-567985D9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5B42-5855-49F9-A3BC-C0FC26AD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6E33-E013-4174-96D6-DE814D4C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B25-0FFC-4FB1-847E-7B991450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9E15-041D-4F66-9A1F-995C5009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92FB-90A9-429A-963E-E3E99687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9D7D-930B-4C15-ACEC-C6A4E501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54BA-DCE5-433E-AA18-28D9FE41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0165-185D-4E3C-AEE1-99BEA39E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80A6-DF20-4E71-BD40-DA0562D8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392-875F-4960-8C3E-796A01EC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1868-028E-410E-93E0-EEE93766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196A-1179-432A-9800-D9136C6B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AA6-FE00-4F28-B275-751EE9AD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9EF-E16A-499A-A8A4-9A46E747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38AC-D282-40EE-8B71-1CF6352E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int1234ыярфенш"/>
          <p:cNvPicPr/>
          <p:nvPr/>
        </p:nvPicPr>
        <p:blipFill>
          <a:blip r:embed="rId2"/>
          <a:stretch/>
        </p:blipFill>
        <p:spPr>
          <a:xfrm>
            <a:off x="0" y="0"/>
            <a:ext cx="2335320" cy="179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7DD9-74EC-45FB-8DB9-DF5EE9C3463E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24B3-E514-4FB8-9622-87ED7D1553BA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936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МБОУ « Федоровская СОШ №2 с углубленным изучением отдельных предметов»</a:t>
            </a:r>
            <a:endParaRPr b="1" lang="en-US" sz="2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8760" y="3214440"/>
            <a:ext cx="82864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Тема: Буквы О и Е после шипящих в суффиксах существительных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143240" y="4572000"/>
            <a:ext cx="474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акова Арузат Емурзаевна Федоровская СОШ №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500040" y="5786280"/>
            <a:ext cx="76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.Федоровский, 2013 го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epfn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66ff"/>
                </a:solidFill>
                <a:latin typeface="Century Gothic"/>
              </a:rPr>
              <a:t>суффикс придает уменьшительное значение</a:t>
            </a:r>
            <a:br>
              <a:rPr sz="6000"/>
            </a:br>
            <a:endParaRPr b="1" lang="en-US" sz="36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360" y="1628280"/>
            <a:ext cx="4038480" cy="453708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Башмак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Друг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запах  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пята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600200"/>
            <a:ext cx="4038480" cy="45655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Башмачо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Дружо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Запашо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пятачо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Century Gothic"/>
              </a:rPr>
              <a:t>суффикс обозначает детёнышей животных</a:t>
            </a:r>
            <a:endParaRPr b="1" lang="en-US" sz="36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Медведь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Кукуш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Гал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лягуш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600200"/>
            <a:ext cx="4171680" cy="45259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Медвежоно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Кукушон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Галчон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лягушон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3399ff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0066ff"/>
                </a:solidFill>
                <a:latin typeface="Century Gothic"/>
              </a:rPr>
              <a:t>суффикс придает пренебрежительное значение</a:t>
            </a:r>
            <a:br>
              <a:rPr sz="3600"/>
            </a:br>
            <a:endParaRPr b="1" lang="en-US" sz="36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кепка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одежд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книга  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шап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1.кепчон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2. одежон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3. книжон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4. шапчон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Century Gothic"/>
              </a:rPr>
              <a:t>Загадки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Ш..рст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Ч..рн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Ш..л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Ч..рный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Мужич..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Порош..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Червяч..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Суч..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рубаш..нка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1" name="Прямоугольник 5" descr=""/>
          <p:cNvPicPr/>
          <p:nvPr/>
        </p:nvPicPr>
        <p:blipFill>
          <a:blip r:embed="rId1"/>
          <a:stretch/>
        </p:blipFill>
        <p:spPr>
          <a:xfrm>
            <a:off x="1030320" y="1432080"/>
            <a:ext cx="963720" cy="86040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6" descr=""/>
          <p:cNvPicPr/>
          <p:nvPr/>
        </p:nvPicPr>
        <p:blipFill>
          <a:blip r:embed="rId2"/>
          <a:stretch/>
        </p:blipFill>
        <p:spPr>
          <a:xfrm>
            <a:off x="3876840" y="2762280"/>
            <a:ext cx="1371600" cy="11872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7"/>
          <p:cNvSpPr/>
          <p:nvPr/>
        </p:nvSpPr>
        <p:spPr>
          <a:xfrm>
            <a:off x="1071720" y="23572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Прямоугольник 8" descr=""/>
          <p:cNvPicPr/>
          <p:nvPr/>
        </p:nvPicPr>
        <p:blipFill>
          <a:blip r:embed="rId3"/>
          <a:stretch/>
        </p:blipFill>
        <p:spPr>
          <a:xfrm>
            <a:off x="1066680" y="2955960"/>
            <a:ext cx="901800" cy="83016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9" descr=""/>
          <p:cNvPicPr/>
          <p:nvPr/>
        </p:nvPicPr>
        <p:blipFill>
          <a:blip r:embed="rId4"/>
          <a:stretch/>
        </p:blipFill>
        <p:spPr>
          <a:xfrm>
            <a:off x="835200" y="3651120"/>
            <a:ext cx="963360" cy="84780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10" descr=""/>
          <p:cNvPicPr/>
          <p:nvPr/>
        </p:nvPicPr>
        <p:blipFill>
          <a:blip r:embed="rId5"/>
          <a:stretch/>
        </p:blipFill>
        <p:spPr>
          <a:xfrm>
            <a:off x="6486480" y="1438200"/>
            <a:ext cx="1023840" cy="86688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12" descr=""/>
          <p:cNvPicPr/>
          <p:nvPr/>
        </p:nvPicPr>
        <p:blipFill>
          <a:blip r:embed="rId6"/>
          <a:stretch/>
        </p:blipFill>
        <p:spPr>
          <a:xfrm>
            <a:off x="6504120" y="2938320"/>
            <a:ext cx="1023840" cy="86544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13" descr=""/>
          <p:cNvPicPr/>
          <p:nvPr/>
        </p:nvPicPr>
        <p:blipFill>
          <a:blip r:embed="rId7"/>
          <a:stretch/>
        </p:blipFill>
        <p:spPr>
          <a:xfrm>
            <a:off x="5688000" y="3895560"/>
            <a:ext cx="1023840" cy="865440"/>
          </a:xfrm>
          <a:prstGeom prst="rect">
            <a:avLst/>
          </a:prstGeom>
          <a:ln w="0">
            <a:noFill/>
          </a:ln>
        </p:spPr>
      </p:pic>
      <p:pic>
        <p:nvPicPr>
          <p:cNvPr id="169" name="Прямоугольник 14" descr=""/>
          <p:cNvPicPr/>
          <p:nvPr/>
        </p:nvPicPr>
        <p:blipFill>
          <a:blip r:embed="rId8"/>
          <a:stretch/>
        </p:blipFill>
        <p:spPr>
          <a:xfrm>
            <a:off x="6504120" y="2225520"/>
            <a:ext cx="1023840" cy="86544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15" descr=""/>
          <p:cNvPicPr/>
          <p:nvPr/>
        </p:nvPicPr>
        <p:blipFill>
          <a:blip r:embed="rId9"/>
          <a:stretch/>
        </p:blipFill>
        <p:spPr>
          <a:xfrm>
            <a:off x="6626160" y="4370400"/>
            <a:ext cx="10238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99ff"/>
                </a:solidFill>
                <a:latin typeface="Century Gothic"/>
              </a:rPr>
              <a:t>Устная работа с текстом</a:t>
            </a:r>
            <a:endParaRPr b="1" lang="en-US" sz="36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80640"/>
            <a:ext cx="9144000" cy="554364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Тяжело идти по лесу с поклаж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.й. Начинается мелкий дождь. Вы накрылись плащ..м. Где разбить лагерь? Каждое деревце предлагает свой кров. Но в грозу опасно находиться под деревом. Надо построить шалаш. У вас нет времени возиться с большим шалаш..м? Тогда возьмите больш..й кол и привяжите его к разветвлению дерева. К колу привяжите палки, а на палки кладите черепицей еловые или сосновые ветки. Шалаш на скорую руку готов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1) определите тему, основную мысль, стиль текста; тип речи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2) Объясните значение выражения "</a:t>
            </a: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на скорую руку"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3" name="Прямоугольник 3" descr=""/>
          <p:cNvPicPr/>
          <p:nvPr/>
        </p:nvPicPr>
        <p:blipFill>
          <a:blip r:embed="rId1"/>
          <a:stretch/>
        </p:blipFill>
        <p:spPr>
          <a:xfrm>
            <a:off x="6900840" y="3060720"/>
            <a:ext cx="731880" cy="62064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4" descr=""/>
          <p:cNvPicPr/>
          <p:nvPr/>
        </p:nvPicPr>
        <p:blipFill>
          <a:blip r:embed="rId2"/>
          <a:stretch/>
        </p:blipFill>
        <p:spPr>
          <a:xfrm>
            <a:off x="6540480" y="1328760"/>
            <a:ext cx="731880" cy="62244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5" descr=""/>
          <p:cNvPicPr/>
          <p:nvPr/>
        </p:nvPicPr>
        <p:blipFill>
          <a:blip r:embed="rId3"/>
          <a:stretch/>
        </p:blipFill>
        <p:spPr>
          <a:xfrm>
            <a:off x="5614920" y="895320"/>
            <a:ext cx="712800" cy="62244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6" descr=""/>
          <p:cNvPicPr/>
          <p:nvPr/>
        </p:nvPicPr>
        <p:blipFill>
          <a:blip r:embed="rId4"/>
          <a:stretch/>
        </p:blipFill>
        <p:spPr>
          <a:xfrm>
            <a:off x="3084480" y="3492360"/>
            <a:ext cx="7318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Century Gothic"/>
              </a:rPr>
              <a:t>VII</a:t>
            </a:r>
            <a:r>
              <a:rPr b="1" i="1" lang="ru-RU" sz="4400" spc="-1" strike="noStrike">
                <a:solidFill>
                  <a:srgbClr val="3399ff"/>
                </a:solidFill>
                <a:latin typeface="Century Gothic"/>
              </a:rPr>
              <a:t>. Домашнее задание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Подготовить ответы на контрольные вопросы и задания по вариантам: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 вариант - № 1, 3,5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2 вариант - № 2, 6,8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3 вариант - № 4, 7,9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Упражнение № 254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Century Gothic"/>
              </a:rPr>
              <a:t>Актуальность работы 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Century Gothic"/>
              </a:rPr>
              <a:t>Орфографическая грамотность учащихся – это одна из актуальных проблем, стоящая перед школой на протяжении всего ее исторического развития.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Century Gothic"/>
              </a:rPr>
              <a:t>Изучение данной темы предусматривает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Century Gothic"/>
              </a:rPr>
              <a:t>1) развитие умения видеть ошибкоопасные места в словах различных частей речи, зависимость правописания от состава слова и словообразования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Century Gothic"/>
              </a:rPr>
              <a:t>2) умения применять полученные знания на практике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Century Gothic"/>
              </a:rPr>
              <a:t>Цели урока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Обучающая цель: познакомить учащихся с новой орфограммой: буквы О,Е после шипящих в суффиксах существительных; научить правильно обозначать орфограмму; обобщить правописание О,Е после шипящих в корне, окончании; расширить лексический запас учащихс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Развивающая цель: развивать внимание, память, логическое мышление, умение сравнивать, классифицировать, обобщать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оспитывающая цель: вызвать интерес к урокам русского язык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 algn="ctr"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Century Gothic"/>
              </a:rPr>
              <a:t>орфографическая разминка. 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507520" cy="4853160"/>
          </a:xfrm>
          <a:prstGeom prst="rect">
            <a:avLst/>
          </a:prstGeom>
          <a:solidFill>
            <a:srgbClr val="bbe0e3"/>
          </a:soli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1) как называется плод дуба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2) цвет одуванчика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3) предмет для чистки зубов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4) тонкая веревка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5) сильное потрясение, расстройство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6) профессиональный наездник на скачках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7) мастер по изготовлению ременной упряжи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8)  водитель автомобиля 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spcBef>
                <a:spcPts val="4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Century Gothic"/>
              </a:rPr>
              <a:t>Запись на доске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b">
            <a:normAutofit fontScale="9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жёлудь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жёлтый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щёт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бечёв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b">
            <a:normAutofit fontScale="9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Ё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шок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жокей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шорник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шофер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Century Gothic"/>
              </a:rPr>
              <a:t>Вывод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в корне после шипящих под ударением пишется  буква </a:t>
            </a:r>
            <a:r>
              <a:rPr b="1" lang="ru-RU" sz="4000" spc="-1" strike="noStrike">
                <a:solidFill>
                  <a:srgbClr val="0066ff"/>
                </a:solidFill>
                <a:latin typeface="Century Gothic"/>
              </a:rPr>
              <a:t>Ё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буква </a:t>
            </a:r>
            <a:r>
              <a:rPr b="1" lang="ru-RU" sz="4000" spc="-1" strike="noStrike">
                <a:solidFill>
                  <a:srgbClr val="0066ff"/>
                </a:solidFill>
                <a:latin typeface="Century Gothic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- только в словах исключениях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Century Gothic"/>
              </a:rPr>
              <a:t>Объяснение нового материала.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Мужичок, доченька, рученька, мышонок, книжонка, замочек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РАСПРЕДЕЛИТЕ ПО ГРУППАМ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1 группа – 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слова, где гласная в суффиксе находится в сильной позици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2 группа – </a:t>
            </a:r>
            <a:r>
              <a:rPr b="1" i="1" lang="ru-RU" sz="3200" spc="-1" strike="noStrike">
                <a:solidFill>
                  <a:srgbClr val="000000"/>
                </a:solidFill>
                <a:latin typeface="Century Gothic"/>
              </a:rPr>
              <a:t>слова, где гласная в суффиксе находится в слабой позици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Прямая соединительная линия 4"/>
          <p:cNvSpPr/>
          <p:nvPr/>
        </p:nvSpPr>
        <p:spPr>
          <a:xfrm flipH="1">
            <a:off x="2356920" y="1643040"/>
            <a:ext cx="71640" cy="141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9"/>
          <p:cNvSpPr/>
          <p:nvPr/>
        </p:nvSpPr>
        <p:spPr>
          <a:xfrm flipH="1">
            <a:off x="6286680" y="2071800"/>
            <a:ext cx="72720" cy="141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0"/>
          <p:cNvSpPr/>
          <p:nvPr/>
        </p:nvSpPr>
        <p:spPr>
          <a:xfrm flipH="1">
            <a:off x="4285800" y="2143080"/>
            <a:ext cx="71640" cy="141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1"/>
          <p:cNvSpPr/>
          <p:nvPr/>
        </p:nvSpPr>
        <p:spPr>
          <a:xfrm flipH="1">
            <a:off x="2071800" y="2071800"/>
            <a:ext cx="71280" cy="141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2"/>
          <p:cNvSpPr/>
          <p:nvPr/>
        </p:nvSpPr>
        <p:spPr>
          <a:xfrm flipH="1">
            <a:off x="5357520" y="1643040"/>
            <a:ext cx="73080" cy="141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3"/>
          <p:cNvSpPr/>
          <p:nvPr/>
        </p:nvSpPr>
        <p:spPr>
          <a:xfrm flipH="1">
            <a:off x="3357720" y="1643040"/>
            <a:ext cx="71280" cy="141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Группа 18"/>
          <p:cNvGrpSpPr/>
          <p:nvPr/>
        </p:nvGrpSpPr>
        <p:grpSpPr>
          <a:xfrm>
            <a:off x="4214880" y="1928880"/>
            <a:ext cx="570600" cy="357120"/>
            <a:chOff x="4214880" y="1928880"/>
            <a:chExt cx="570600" cy="357120"/>
          </a:xfrm>
        </p:grpSpPr>
        <p:sp>
          <p:nvSpPr>
            <p:cNvPr id="109" name="Прямая соединительная линия 15"/>
            <p:cNvSpPr/>
            <p:nvPr/>
          </p:nvSpPr>
          <p:spPr>
            <a:xfrm flipV="1">
              <a:off x="4214880" y="1928880"/>
              <a:ext cx="342720" cy="3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Прямая соединительная линия 17"/>
            <p:cNvSpPr/>
            <p:nvPr/>
          </p:nvSpPr>
          <p:spPr>
            <a:xfrm>
              <a:off x="4556880" y="1928880"/>
              <a:ext cx="228600" cy="3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Группа 19"/>
          <p:cNvGrpSpPr/>
          <p:nvPr/>
        </p:nvGrpSpPr>
        <p:grpSpPr>
          <a:xfrm>
            <a:off x="2071800" y="1928880"/>
            <a:ext cx="642960" cy="357120"/>
            <a:chOff x="2071800" y="1928880"/>
            <a:chExt cx="642960" cy="357120"/>
          </a:xfrm>
        </p:grpSpPr>
        <p:sp>
          <p:nvSpPr>
            <p:cNvPr id="112" name="Прямая соединительная линия 20"/>
            <p:cNvSpPr/>
            <p:nvPr/>
          </p:nvSpPr>
          <p:spPr>
            <a:xfrm flipV="1">
              <a:off x="2071800" y="1928880"/>
              <a:ext cx="385920" cy="3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рямая соединительная линия 21"/>
            <p:cNvSpPr/>
            <p:nvPr/>
          </p:nvSpPr>
          <p:spPr>
            <a:xfrm>
              <a:off x="2457720" y="1928880"/>
              <a:ext cx="257040" cy="3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Группа 22"/>
          <p:cNvGrpSpPr/>
          <p:nvPr/>
        </p:nvGrpSpPr>
        <p:grpSpPr>
          <a:xfrm>
            <a:off x="3714840" y="1500120"/>
            <a:ext cx="642960" cy="285840"/>
            <a:chOff x="3714840" y="1500120"/>
            <a:chExt cx="642960" cy="285840"/>
          </a:xfrm>
        </p:grpSpPr>
        <p:sp>
          <p:nvSpPr>
            <p:cNvPr id="115" name="Прямая соединительная линия 23"/>
            <p:cNvSpPr/>
            <p:nvPr/>
          </p:nvSpPr>
          <p:spPr>
            <a:xfrm flipV="1">
              <a:off x="3714840" y="1500120"/>
              <a:ext cx="38592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Прямая соединительная линия 24"/>
            <p:cNvSpPr/>
            <p:nvPr/>
          </p:nvSpPr>
          <p:spPr>
            <a:xfrm>
              <a:off x="4100760" y="1500120"/>
              <a:ext cx="25704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25"/>
          <p:cNvGrpSpPr/>
          <p:nvPr/>
        </p:nvGrpSpPr>
        <p:grpSpPr>
          <a:xfrm>
            <a:off x="2285280" y="1500120"/>
            <a:ext cx="357120" cy="285840"/>
            <a:chOff x="2285280" y="1500120"/>
            <a:chExt cx="357120" cy="285840"/>
          </a:xfrm>
        </p:grpSpPr>
        <p:sp>
          <p:nvSpPr>
            <p:cNvPr id="118" name="Прямая соединительная линия 26"/>
            <p:cNvSpPr/>
            <p:nvPr/>
          </p:nvSpPr>
          <p:spPr>
            <a:xfrm flipV="1">
              <a:off x="2285280" y="1500120"/>
              <a:ext cx="21420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Прямая соединительная линия 27"/>
            <p:cNvSpPr/>
            <p:nvPr/>
          </p:nvSpPr>
          <p:spPr>
            <a:xfrm>
              <a:off x="2499480" y="1500120"/>
              <a:ext cx="14292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28"/>
          <p:cNvGrpSpPr/>
          <p:nvPr/>
        </p:nvGrpSpPr>
        <p:grpSpPr>
          <a:xfrm>
            <a:off x="5857920" y="1500120"/>
            <a:ext cx="642960" cy="357120"/>
            <a:chOff x="5857920" y="1500120"/>
            <a:chExt cx="642960" cy="357120"/>
          </a:xfrm>
        </p:grpSpPr>
        <p:sp>
          <p:nvSpPr>
            <p:cNvPr id="121" name="Прямая соединительная линия 29"/>
            <p:cNvSpPr/>
            <p:nvPr/>
          </p:nvSpPr>
          <p:spPr>
            <a:xfrm flipV="1">
              <a:off x="5857920" y="1500120"/>
              <a:ext cx="385920" cy="3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ая соединительная линия 30"/>
            <p:cNvSpPr/>
            <p:nvPr/>
          </p:nvSpPr>
          <p:spPr>
            <a:xfrm>
              <a:off x="6243840" y="1500120"/>
              <a:ext cx="257040" cy="3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Группа 31"/>
          <p:cNvGrpSpPr/>
          <p:nvPr/>
        </p:nvGrpSpPr>
        <p:grpSpPr>
          <a:xfrm>
            <a:off x="6643080" y="2000160"/>
            <a:ext cx="357120" cy="285840"/>
            <a:chOff x="6643080" y="2000160"/>
            <a:chExt cx="357120" cy="285840"/>
          </a:xfrm>
        </p:grpSpPr>
        <p:sp>
          <p:nvSpPr>
            <p:cNvPr id="124" name="Прямая соединительная линия 32"/>
            <p:cNvSpPr/>
            <p:nvPr/>
          </p:nvSpPr>
          <p:spPr>
            <a:xfrm flipV="1">
              <a:off x="6643080" y="2000160"/>
              <a:ext cx="21420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Прямая соединительная линия 33"/>
            <p:cNvSpPr/>
            <p:nvPr/>
          </p:nvSpPr>
          <p:spPr>
            <a:xfrm>
              <a:off x="6857280" y="2000160"/>
              <a:ext cx="14292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3399ff"/>
                </a:solidFill>
                <a:latin typeface="Century Gothic"/>
              </a:rPr>
              <a:t>Запись на доске: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5280" y="1484280"/>
            <a:ext cx="4038480" cy="45259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Мужич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Мыш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но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Книж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н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484280"/>
            <a:ext cx="4038480" cy="464184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Зам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чек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Д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чень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Р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ченьк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29" name="Группа 25"/>
          <p:cNvGrpSpPr/>
          <p:nvPr/>
        </p:nvGrpSpPr>
        <p:grpSpPr>
          <a:xfrm>
            <a:off x="2699640" y="1484280"/>
            <a:ext cx="357120" cy="285840"/>
            <a:chOff x="2699640" y="1484280"/>
            <a:chExt cx="357120" cy="285840"/>
          </a:xfrm>
        </p:grpSpPr>
        <p:sp>
          <p:nvSpPr>
            <p:cNvPr id="130" name="Прямая соединительная линия 5"/>
            <p:cNvSpPr/>
            <p:nvPr/>
          </p:nvSpPr>
          <p:spPr>
            <a:xfrm flipV="1">
              <a:off x="2699640" y="1484280"/>
              <a:ext cx="21420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ая соединительная линия 6"/>
            <p:cNvSpPr/>
            <p:nvPr/>
          </p:nvSpPr>
          <p:spPr>
            <a:xfrm>
              <a:off x="2913840" y="1484280"/>
              <a:ext cx="14292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Группа 25"/>
          <p:cNvGrpSpPr/>
          <p:nvPr/>
        </p:nvGrpSpPr>
        <p:grpSpPr>
          <a:xfrm>
            <a:off x="2410560" y="2276640"/>
            <a:ext cx="936720" cy="288720"/>
            <a:chOff x="2410560" y="2276640"/>
            <a:chExt cx="936720" cy="288720"/>
          </a:xfrm>
        </p:grpSpPr>
        <p:sp>
          <p:nvSpPr>
            <p:cNvPr id="133" name="Прямая соединительная линия 8"/>
            <p:cNvSpPr/>
            <p:nvPr/>
          </p:nvSpPr>
          <p:spPr>
            <a:xfrm flipV="1">
              <a:off x="2410560" y="2276640"/>
              <a:ext cx="56196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ая соединительная линия 9"/>
            <p:cNvSpPr/>
            <p:nvPr/>
          </p:nvSpPr>
          <p:spPr>
            <a:xfrm>
              <a:off x="2972520" y="2276640"/>
              <a:ext cx="37476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Группа 25"/>
          <p:cNvGrpSpPr/>
          <p:nvPr/>
        </p:nvGrpSpPr>
        <p:grpSpPr>
          <a:xfrm>
            <a:off x="2195640" y="2852280"/>
            <a:ext cx="862920" cy="289440"/>
            <a:chOff x="2195640" y="2852280"/>
            <a:chExt cx="862920" cy="289440"/>
          </a:xfrm>
        </p:grpSpPr>
        <p:sp>
          <p:nvSpPr>
            <p:cNvPr id="136" name="Прямая соединительная линия 11"/>
            <p:cNvSpPr/>
            <p:nvPr/>
          </p:nvSpPr>
          <p:spPr>
            <a:xfrm flipV="1">
              <a:off x="2195640" y="2852280"/>
              <a:ext cx="51768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ая соединительная линия 12"/>
            <p:cNvSpPr/>
            <p:nvPr/>
          </p:nvSpPr>
          <p:spPr>
            <a:xfrm>
              <a:off x="2712600" y="2852640"/>
              <a:ext cx="34596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Группа 25"/>
          <p:cNvGrpSpPr/>
          <p:nvPr/>
        </p:nvGrpSpPr>
        <p:grpSpPr>
          <a:xfrm>
            <a:off x="6732000" y="1484280"/>
            <a:ext cx="357120" cy="285840"/>
            <a:chOff x="6732000" y="1484280"/>
            <a:chExt cx="357120" cy="285840"/>
          </a:xfrm>
        </p:grpSpPr>
        <p:sp>
          <p:nvSpPr>
            <p:cNvPr id="139" name="Прямая соединительная линия 14"/>
            <p:cNvSpPr/>
            <p:nvPr/>
          </p:nvSpPr>
          <p:spPr>
            <a:xfrm flipV="1">
              <a:off x="6732000" y="1484280"/>
              <a:ext cx="21420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ая соединительная линия 15"/>
            <p:cNvSpPr/>
            <p:nvPr/>
          </p:nvSpPr>
          <p:spPr>
            <a:xfrm>
              <a:off x="6946200" y="1484280"/>
              <a:ext cx="14292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Группа 25"/>
          <p:cNvGrpSpPr/>
          <p:nvPr/>
        </p:nvGrpSpPr>
        <p:grpSpPr>
          <a:xfrm>
            <a:off x="6300000" y="2133360"/>
            <a:ext cx="793080" cy="285840"/>
            <a:chOff x="6300000" y="2133360"/>
            <a:chExt cx="793080" cy="285840"/>
          </a:xfrm>
        </p:grpSpPr>
        <p:sp>
          <p:nvSpPr>
            <p:cNvPr id="142" name="Прямая соединительная линия 17"/>
            <p:cNvSpPr/>
            <p:nvPr/>
          </p:nvSpPr>
          <p:spPr>
            <a:xfrm flipV="1">
              <a:off x="6300000" y="2133360"/>
              <a:ext cx="47484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ая соединительная линия 18"/>
            <p:cNvSpPr/>
            <p:nvPr/>
          </p:nvSpPr>
          <p:spPr>
            <a:xfrm>
              <a:off x="6775560" y="2133720"/>
              <a:ext cx="31752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Группа 25"/>
          <p:cNvGrpSpPr/>
          <p:nvPr/>
        </p:nvGrpSpPr>
        <p:grpSpPr>
          <a:xfrm>
            <a:off x="6227640" y="2923920"/>
            <a:ext cx="865440" cy="285840"/>
            <a:chOff x="6227640" y="2923920"/>
            <a:chExt cx="865440" cy="285840"/>
          </a:xfrm>
        </p:grpSpPr>
        <p:sp>
          <p:nvSpPr>
            <p:cNvPr id="145" name="Прямая соединительная линия 20"/>
            <p:cNvSpPr/>
            <p:nvPr/>
          </p:nvSpPr>
          <p:spPr>
            <a:xfrm flipV="1">
              <a:off x="6227640" y="2923920"/>
              <a:ext cx="51912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Прямая соединительная линия 21"/>
            <p:cNvSpPr/>
            <p:nvPr/>
          </p:nvSpPr>
          <p:spPr>
            <a:xfrm>
              <a:off x="6746760" y="2924280"/>
              <a:ext cx="34632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Century Gothic"/>
              </a:rPr>
              <a:t>Вывод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в суффиксе существительных после шипящих под ударением пишется буква </a:t>
            </a:r>
            <a:r>
              <a:rPr b="1" lang="ru-RU" sz="4000" spc="-1" strike="noStrike">
                <a:solidFill>
                  <a:srgbClr val="0066ff"/>
                </a:solidFill>
                <a:latin typeface="Century Gothic"/>
              </a:rPr>
              <a:t>О,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а в безударном положении пишется  буква </a:t>
            </a:r>
            <a:r>
              <a:rPr b="1" lang="ru-RU" sz="4000" spc="-1" strike="noStrike">
                <a:solidFill>
                  <a:srgbClr val="0066ff"/>
                </a:solidFill>
                <a:latin typeface="Century Gothic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53:29Z</dcterms:created>
  <dc:creator>Old_School</dc:creator>
  <dc:description/>
  <dc:language>en-US</dc:language>
  <cp:lastModifiedBy>Дом</cp:lastModifiedBy>
  <dcterms:modified xsi:type="dcterms:W3CDTF">2013-03-30T15:54:28Z</dcterms:modified>
  <cp:revision>118</cp:revision>
  <dc:subject/>
  <dc:title>Образование без границ</dc:title>
</cp:coreProperties>
</file>