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521-8076-4D1B-866A-5CED9489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3AF-242C-4397-9259-FE72ACE4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182-9029-4B9E-A5C8-4E3E6606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0C7-68B7-42AB-BE7A-13F75A50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03F9-499D-4E0A-B7A9-21B0C6EA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15CD-6C38-4E0C-844E-D63F08F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BA1D-A451-4355-8AEE-66C590D3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5579-CFE0-49FF-9CAB-584BDD58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1059-FFDF-4D63-9909-A8BB9679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54B9-BFF4-4A54-B520-0C074C8B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532B-2288-4B51-8717-0E1EC3A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CF0-E7B0-41AC-87BE-2D4CF9D3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7D42-A399-48C7-9A1C-6AF2C437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4133-085B-400D-93D3-D11AE557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31B7-AFD2-4FBC-8DED-027E93D8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86C6-5CB2-4C15-BD28-0C97DA8C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0682-504D-4C6E-9FF9-1CF0242C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731-EE19-4245-88A9-7DC9DCF5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C01-129C-4174-BF2E-20A72176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EB6-9C1C-4CA1-9F35-CB2764C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802-2EDA-471D-91FB-1C812490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7BF-A049-4B4F-987A-D84D39D1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290-85EA-401A-A24C-CA699BC8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ED2-563D-4399-BF20-9494151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6758-E9D4-46AF-8BD7-91EEA7E6F906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1B0E-D2B6-410F-A524-79FDBC84D375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93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МБОУ « Федоровская СОШ №2 с углубленным изучением отдельных предметов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760" y="321444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Тема: Буквы О и Е после шипящих в суффиксах существительных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143240" y="4572000"/>
            <a:ext cx="474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кова Арузат Емурзаевна Федоровская СОШ №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00040" y="5786280"/>
            <a:ext cx="76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Федоровский, 2013 г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epfn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Century Gothic"/>
              </a:rPr>
              <a:t>суффикс придает уменьшительное значение</a:t>
            </a:r>
            <a:br>
              <a:rPr sz="6000"/>
            </a:br>
            <a:endParaRPr b="1" lang="en-US" sz="36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628280"/>
            <a:ext cx="4038480" cy="453708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Башмак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запах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ята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655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Башмач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Друж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Запаш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ятач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Century Gothic"/>
              </a:rPr>
              <a:t>суффикс обозначает детёнышей животных</a:t>
            </a:r>
            <a:endParaRPr b="1" lang="en-US" sz="36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едведь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укуш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Гал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лягуш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едвежон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укуш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Галч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лягуш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99ff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0066ff"/>
                </a:solidFill>
                <a:latin typeface="Century Gothic"/>
              </a:rPr>
              <a:t>суффикс придает пренебрежительное значение</a:t>
            </a:r>
            <a:br>
              <a:rPr sz="3600"/>
            </a:br>
            <a:endParaRPr b="1" lang="en-US" sz="36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епка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дежд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нига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шап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1.кепч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2. одеж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3. книж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4. шапч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Загадки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Ш..рст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..рн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Ш..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..рный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ужич..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орош..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ервяч..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Суч..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рубаш..нка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1" name="Прямоугольник 5" descr=""/>
          <p:cNvPicPr/>
          <p:nvPr/>
        </p:nvPicPr>
        <p:blipFill>
          <a:blip r:embed="rId1"/>
          <a:stretch/>
        </p:blipFill>
        <p:spPr>
          <a:xfrm>
            <a:off x="1030320" y="143208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6" descr=""/>
          <p:cNvPicPr/>
          <p:nvPr/>
        </p:nvPicPr>
        <p:blipFill>
          <a:blip r:embed="rId2"/>
          <a:stretch/>
        </p:blipFill>
        <p:spPr>
          <a:xfrm>
            <a:off x="3876840" y="2762280"/>
            <a:ext cx="1371600" cy="1187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7"/>
          <p:cNvSpPr/>
          <p:nvPr/>
        </p:nvSpPr>
        <p:spPr>
          <a:xfrm>
            <a:off x="1071720" y="23572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8" descr=""/>
          <p:cNvPicPr/>
          <p:nvPr/>
        </p:nvPicPr>
        <p:blipFill>
          <a:blip r:embed="rId3"/>
          <a:stretch/>
        </p:blipFill>
        <p:spPr>
          <a:xfrm>
            <a:off x="1066680" y="2955960"/>
            <a:ext cx="901800" cy="8301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9" descr=""/>
          <p:cNvPicPr/>
          <p:nvPr/>
        </p:nvPicPr>
        <p:blipFill>
          <a:blip r:embed="rId4"/>
          <a:stretch/>
        </p:blipFill>
        <p:spPr>
          <a:xfrm>
            <a:off x="835200" y="3651120"/>
            <a:ext cx="963360" cy="84780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10" descr=""/>
          <p:cNvPicPr/>
          <p:nvPr/>
        </p:nvPicPr>
        <p:blipFill>
          <a:blip r:embed="rId5"/>
          <a:stretch/>
        </p:blipFill>
        <p:spPr>
          <a:xfrm>
            <a:off x="6486480" y="1438200"/>
            <a:ext cx="1023840" cy="8668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12" descr=""/>
          <p:cNvPicPr/>
          <p:nvPr/>
        </p:nvPicPr>
        <p:blipFill>
          <a:blip r:embed="rId6"/>
          <a:stretch/>
        </p:blipFill>
        <p:spPr>
          <a:xfrm>
            <a:off x="6504120" y="29383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3" descr=""/>
          <p:cNvPicPr/>
          <p:nvPr/>
        </p:nvPicPr>
        <p:blipFill>
          <a:blip r:embed="rId7"/>
          <a:stretch/>
        </p:blipFill>
        <p:spPr>
          <a:xfrm>
            <a:off x="5688000" y="389556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14" descr=""/>
          <p:cNvPicPr/>
          <p:nvPr/>
        </p:nvPicPr>
        <p:blipFill>
          <a:blip r:embed="rId8"/>
          <a:stretch/>
        </p:blipFill>
        <p:spPr>
          <a:xfrm>
            <a:off x="6504120" y="22255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15" descr=""/>
          <p:cNvPicPr/>
          <p:nvPr/>
        </p:nvPicPr>
        <p:blipFill>
          <a:blip r:embed="rId9"/>
          <a:stretch/>
        </p:blipFill>
        <p:spPr>
          <a:xfrm>
            <a:off x="6626160" y="4370400"/>
            <a:ext cx="1023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ff"/>
                </a:solidFill>
                <a:latin typeface="Century Gothic"/>
              </a:rPr>
              <a:t>Устная работа с текстом</a:t>
            </a:r>
            <a:endParaRPr b="1" lang="en-US" sz="36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яжело идти по лесу с поклаж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.й. Начинается мелкий дождь. Вы накрылись плащ..м. Где разбить лагерь? Каждое деревце предлагает свой кров. Но в грозу опасно находиться под деревом. Надо построить шалаш. У вас нет времени возиться с большим шалаш..м? Тогда возьмите больш..й кол и привяжите его к разветвлению дерева. К колу привяжите палки, а на палки кладите черепицей еловые или сосновые ветки. Шалаш на скорую руку готов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) определите тему, основную мысль, стиль текста; тип реч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2) Объясните значение выражения "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на скорую руку"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3" name="Прямоугольник 3" descr=""/>
          <p:cNvPicPr/>
          <p:nvPr/>
        </p:nvPicPr>
        <p:blipFill>
          <a:blip r:embed="rId1"/>
          <a:stretch/>
        </p:blipFill>
        <p:spPr>
          <a:xfrm>
            <a:off x="6900840" y="3060720"/>
            <a:ext cx="731880" cy="62064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" descr=""/>
          <p:cNvPicPr/>
          <p:nvPr/>
        </p:nvPicPr>
        <p:blipFill>
          <a:blip r:embed="rId2"/>
          <a:stretch/>
        </p:blipFill>
        <p:spPr>
          <a:xfrm>
            <a:off x="6540480" y="1328760"/>
            <a:ext cx="731880" cy="62244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5" descr=""/>
          <p:cNvPicPr/>
          <p:nvPr/>
        </p:nvPicPr>
        <p:blipFill>
          <a:blip r:embed="rId3"/>
          <a:stretch/>
        </p:blipFill>
        <p:spPr>
          <a:xfrm>
            <a:off x="5614920" y="895320"/>
            <a:ext cx="712800" cy="62244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6" descr=""/>
          <p:cNvPicPr/>
          <p:nvPr/>
        </p:nvPicPr>
        <p:blipFill>
          <a:blip r:embed="rId4"/>
          <a:stretch/>
        </p:blipFill>
        <p:spPr>
          <a:xfrm>
            <a:off x="3084480" y="3492360"/>
            <a:ext cx="7318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Century Gothic"/>
              </a:rPr>
              <a:t>VII</a:t>
            </a:r>
            <a:r>
              <a:rPr b="1" i="1" lang="ru-RU" sz="4400" spc="-1" strike="noStrike">
                <a:solidFill>
                  <a:srgbClr val="3399ff"/>
                </a:solidFill>
                <a:latin typeface="Century Gothic"/>
              </a:rPr>
              <a:t>. Домашнее задание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одготовить ответы на контрольные вопросы и задания по вариантам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 вариант - № 1, 3,5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 вариант - № 2, 6,8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3 вариант - № 4, 7,9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пражнение № 254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Актуальность работы 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entury Gothic"/>
              </a:rPr>
              <a:t>Орфографическая грамотность учащихся – это одна из актуальных проблем, стоящая перед школой на протяжении всего ее исторического развития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entury Gothic"/>
              </a:rPr>
              <a:t>Изучение данной темы предусматривает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entury Gothic"/>
              </a:rPr>
              <a:t>1) развитие умения видеть ошибкоопасные места в словах различных частей речи, зависимость правописания от состава слова и словообразования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entury Gothic"/>
              </a:rPr>
              <a:t>2) умения применять полученные знания на практик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Цели урока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учающая цель: познакомить учащихся с новой орфограммой: буквы О,Е после шипящих в суффиксах существительных; научить правильно обозначать орфограмму; обобщить правописание О,Е после шипящих в корне, окончании; расширить лексический запас учащихс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азвивающая цель: развивать внимание, память, логическое мышление, умение сравнивать, классифицировать, обобщать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спитывающая цель: вызвать интерес к урокам русского язы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 algn="ctr"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орфографическая разминка. 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solidFill>
            <a:srgbClr val="bbe0e3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как называется плод дуба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цвет одуванчика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предмет для чистки зубов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тонкая веревка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5) сильное потрясение, расстройство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6) профессиональный наездник на скачках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7) мастер по изготовлению ременной упряжи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8)  водитель автомобиля 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Запись на доске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жёлудь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жёлты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щёт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бечё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шок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жоке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шорник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шофер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Вывод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в корне после шипящих под ударением пишется  буква </a:t>
            </a:r>
            <a:r>
              <a:rPr b="1" lang="ru-RU" sz="4000" spc="-1" strike="noStrike">
                <a:solidFill>
                  <a:srgbClr val="0066ff"/>
                </a:solidFill>
                <a:latin typeface="Century Gothic"/>
              </a:rPr>
              <a:t>Ё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буква </a:t>
            </a:r>
            <a:r>
              <a:rPr b="1" lang="ru-RU" sz="4000" spc="-1" strike="noStrike">
                <a:solidFill>
                  <a:srgbClr val="0066ff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- только в словах исключениях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Объяснение нового материала.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ужичок, доченька, рученька, мышонок, книжонка, замочек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РАСПРЕДЕЛИТЕ ПО ГРУППАМ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 группа –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где гласная в суффиксе находится в сильной позиц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 группа –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где гласная в суффиксе находится в слабой позиц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Прямая соединительная линия 4"/>
          <p:cNvSpPr/>
          <p:nvPr/>
        </p:nvSpPr>
        <p:spPr>
          <a:xfrm flipH="1">
            <a:off x="2356920" y="1643040"/>
            <a:ext cx="71640" cy="141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 flipH="1">
            <a:off x="6286680" y="2071800"/>
            <a:ext cx="7272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 flipH="1">
            <a:off x="4285800" y="2143080"/>
            <a:ext cx="71640" cy="141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1"/>
          <p:cNvSpPr/>
          <p:nvPr/>
        </p:nvSpPr>
        <p:spPr>
          <a:xfrm flipH="1">
            <a:off x="2071800" y="2071800"/>
            <a:ext cx="7128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2"/>
          <p:cNvSpPr/>
          <p:nvPr/>
        </p:nvSpPr>
        <p:spPr>
          <a:xfrm flipH="1">
            <a:off x="5357520" y="1643040"/>
            <a:ext cx="73080" cy="141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3"/>
          <p:cNvSpPr/>
          <p:nvPr/>
        </p:nvSpPr>
        <p:spPr>
          <a:xfrm flipH="1">
            <a:off x="3357720" y="1643040"/>
            <a:ext cx="71280" cy="141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18"/>
          <p:cNvGrpSpPr/>
          <p:nvPr/>
        </p:nvGrpSpPr>
        <p:grpSpPr>
          <a:xfrm>
            <a:off x="4214880" y="1928880"/>
            <a:ext cx="570600" cy="357120"/>
            <a:chOff x="4214880" y="1928880"/>
            <a:chExt cx="570600" cy="357120"/>
          </a:xfrm>
        </p:grpSpPr>
        <p:sp>
          <p:nvSpPr>
            <p:cNvPr id="109" name="Прямая соединительная линия 15"/>
            <p:cNvSpPr/>
            <p:nvPr/>
          </p:nvSpPr>
          <p:spPr>
            <a:xfrm flipV="1">
              <a:off x="4214880" y="1928880"/>
              <a:ext cx="34272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17"/>
            <p:cNvSpPr/>
            <p:nvPr/>
          </p:nvSpPr>
          <p:spPr>
            <a:xfrm>
              <a:off x="4556880" y="1928880"/>
              <a:ext cx="22860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19"/>
          <p:cNvGrpSpPr/>
          <p:nvPr/>
        </p:nvGrpSpPr>
        <p:grpSpPr>
          <a:xfrm>
            <a:off x="2071800" y="1928880"/>
            <a:ext cx="642960" cy="357120"/>
            <a:chOff x="2071800" y="1928880"/>
            <a:chExt cx="642960" cy="357120"/>
          </a:xfrm>
        </p:grpSpPr>
        <p:sp>
          <p:nvSpPr>
            <p:cNvPr id="112" name="Прямая соединительная линия 20"/>
            <p:cNvSpPr/>
            <p:nvPr/>
          </p:nvSpPr>
          <p:spPr>
            <a:xfrm flipV="1">
              <a:off x="2071800" y="1928880"/>
              <a:ext cx="38592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21"/>
            <p:cNvSpPr/>
            <p:nvPr/>
          </p:nvSpPr>
          <p:spPr>
            <a:xfrm>
              <a:off x="2457720" y="1928880"/>
              <a:ext cx="25704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22"/>
          <p:cNvGrpSpPr/>
          <p:nvPr/>
        </p:nvGrpSpPr>
        <p:grpSpPr>
          <a:xfrm>
            <a:off x="3714840" y="1500120"/>
            <a:ext cx="642960" cy="285840"/>
            <a:chOff x="3714840" y="1500120"/>
            <a:chExt cx="642960" cy="285840"/>
          </a:xfrm>
        </p:grpSpPr>
        <p:sp>
          <p:nvSpPr>
            <p:cNvPr id="115" name="Прямая соединительная линия 23"/>
            <p:cNvSpPr/>
            <p:nvPr/>
          </p:nvSpPr>
          <p:spPr>
            <a:xfrm flipV="1">
              <a:off x="3714840" y="1500120"/>
              <a:ext cx="385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24"/>
            <p:cNvSpPr/>
            <p:nvPr/>
          </p:nvSpPr>
          <p:spPr>
            <a:xfrm>
              <a:off x="4100760" y="1500120"/>
              <a:ext cx="2570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25"/>
          <p:cNvGrpSpPr/>
          <p:nvPr/>
        </p:nvGrpSpPr>
        <p:grpSpPr>
          <a:xfrm>
            <a:off x="2285280" y="1500120"/>
            <a:ext cx="357120" cy="285840"/>
            <a:chOff x="2285280" y="1500120"/>
            <a:chExt cx="357120" cy="285840"/>
          </a:xfrm>
        </p:grpSpPr>
        <p:sp>
          <p:nvSpPr>
            <p:cNvPr id="118" name="Прямая соединительная линия 26"/>
            <p:cNvSpPr/>
            <p:nvPr/>
          </p:nvSpPr>
          <p:spPr>
            <a:xfrm flipV="1">
              <a:off x="2285280" y="1500120"/>
              <a:ext cx="2142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27"/>
            <p:cNvSpPr/>
            <p:nvPr/>
          </p:nvSpPr>
          <p:spPr>
            <a:xfrm>
              <a:off x="2499480" y="1500120"/>
              <a:ext cx="142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28"/>
          <p:cNvGrpSpPr/>
          <p:nvPr/>
        </p:nvGrpSpPr>
        <p:grpSpPr>
          <a:xfrm>
            <a:off x="5857920" y="1500120"/>
            <a:ext cx="642960" cy="357120"/>
            <a:chOff x="5857920" y="1500120"/>
            <a:chExt cx="642960" cy="357120"/>
          </a:xfrm>
        </p:grpSpPr>
        <p:sp>
          <p:nvSpPr>
            <p:cNvPr id="121" name="Прямая соединительная линия 29"/>
            <p:cNvSpPr/>
            <p:nvPr/>
          </p:nvSpPr>
          <p:spPr>
            <a:xfrm flipV="1">
              <a:off x="5857920" y="1500120"/>
              <a:ext cx="38592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ая соединительная линия 30"/>
            <p:cNvSpPr/>
            <p:nvPr/>
          </p:nvSpPr>
          <p:spPr>
            <a:xfrm>
              <a:off x="6243840" y="1500120"/>
              <a:ext cx="25704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31"/>
          <p:cNvGrpSpPr/>
          <p:nvPr/>
        </p:nvGrpSpPr>
        <p:grpSpPr>
          <a:xfrm>
            <a:off x="6643080" y="2000160"/>
            <a:ext cx="357120" cy="285840"/>
            <a:chOff x="6643080" y="2000160"/>
            <a:chExt cx="357120" cy="285840"/>
          </a:xfrm>
        </p:grpSpPr>
        <p:sp>
          <p:nvSpPr>
            <p:cNvPr id="124" name="Прямая соединительная линия 32"/>
            <p:cNvSpPr/>
            <p:nvPr/>
          </p:nvSpPr>
          <p:spPr>
            <a:xfrm flipV="1">
              <a:off x="6643080" y="2000160"/>
              <a:ext cx="2142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ая соединительная линия 33"/>
            <p:cNvSpPr/>
            <p:nvPr/>
          </p:nvSpPr>
          <p:spPr>
            <a:xfrm>
              <a:off x="6857280" y="2000160"/>
              <a:ext cx="142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Запись на доске: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48428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ужич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ыш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ниж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Зам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ек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ень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ень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9" name="Группа 25"/>
          <p:cNvGrpSpPr/>
          <p:nvPr/>
        </p:nvGrpSpPr>
        <p:grpSpPr>
          <a:xfrm>
            <a:off x="2699640" y="1484280"/>
            <a:ext cx="357120" cy="285840"/>
            <a:chOff x="2699640" y="1484280"/>
            <a:chExt cx="357120" cy="285840"/>
          </a:xfrm>
        </p:grpSpPr>
        <p:sp>
          <p:nvSpPr>
            <p:cNvPr id="130" name="Прямая соединительная линия 5"/>
            <p:cNvSpPr/>
            <p:nvPr/>
          </p:nvSpPr>
          <p:spPr>
            <a:xfrm flipV="1">
              <a:off x="2699640" y="1484280"/>
              <a:ext cx="2142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6"/>
            <p:cNvSpPr/>
            <p:nvPr/>
          </p:nvSpPr>
          <p:spPr>
            <a:xfrm>
              <a:off x="2913840" y="1484280"/>
              <a:ext cx="142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25"/>
          <p:cNvGrpSpPr/>
          <p:nvPr/>
        </p:nvGrpSpPr>
        <p:grpSpPr>
          <a:xfrm>
            <a:off x="2410560" y="2276640"/>
            <a:ext cx="936720" cy="288720"/>
            <a:chOff x="2410560" y="2276640"/>
            <a:chExt cx="936720" cy="288720"/>
          </a:xfrm>
        </p:grpSpPr>
        <p:sp>
          <p:nvSpPr>
            <p:cNvPr id="133" name="Прямая соединительная линия 8"/>
            <p:cNvSpPr/>
            <p:nvPr/>
          </p:nvSpPr>
          <p:spPr>
            <a:xfrm flipV="1">
              <a:off x="2410560" y="2276640"/>
              <a:ext cx="5619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9"/>
            <p:cNvSpPr/>
            <p:nvPr/>
          </p:nvSpPr>
          <p:spPr>
            <a:xfrm>
              <a:off x="2972520" y="2276640"/>
              <a:ext cx="3747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25"/>
          <p:cNvGrpSpPr/>
          <p:nvPr/>
        </p:nvGrpSpPr>
        <p:grpSpPr>
          <a:xfrm>
            <a:off x="2195640" y="2852280"/>
            <a:ext cx="862920" cy="289440"/>
            <a:chOff x="2195640" y="2852280"/>
            <a:chExt cx="862920" cy="289440"/>
          </a:xfrm>
        </p:grpSpPr>
        <p:sp>
          <p:nvSpPr>
            <p:cNvPr id="136" name="Прямая соединительная линия 11"/>
            <p:cNvSpPr/>
            <p:nvPr/>
          </p:nvSpPr>
          <p:spPr>
            <a:xfrm flipV="1">
              <a:off x="2195640" y="2852280"/>
              <a:ext cx="51768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12"/>
            <p:cNvSpPr/>
            <p:nvPr/>
          </p:nvSpPr>
          <p:spPr>
            <a:xfrm>
              <a:off x="2712600" y="2852640"/>
              <a:ext cx="3459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Группа 25"/>
          <p:cNvGrpSpPr/>
          <p:nvPr/>
        </p:nvGrpSpPr>
        <p:grpSpPr>
          <a:xfrm>
            <a:off x="6732000" y="1484280"/>
            <a:ext cx="357120" cy="285840"/>
            <a:chOff x="6732000" y="1484280"/>
            <a:chExt cx="357120" cy="285840"/>
          </a:xfrm>
        </p:grpSpPr>
        <p:sp>
          <p:nvSpPr>
            <p:cNvPr id="139" name="Прямая соединительная линия 14"/>
            <p:cNvSpPr/>
            <p:nvPr/>
          </p:nvSpPr>
          <p:spPr>
            <a:xfrm flipV="1">
              <a:off x="6732000" y="1484280"/>
              <a:ext cx="2142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15"/>
            <p:cNvSpPr/>
            <p:nvPr/>
          </p:nvSpPr>
          <p:spPr>
            <a:xfrm>
              <a:off x="6946200" y="1484280"/>
              <a:ext cx="142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25"/>
          <p:cNvGrpSpPr/>
          <p:nvPr/>
        </p:nvGrpSpPr>
        <p:grpSpPr>
          <a:xfrm>
            <a:off x="6300000" y="2133360"/>
            <a:ext cx="793080" cy="285840"/>
            <a:chOff x="6300000" y="2133360"/>
            <a:chExt cx="793080" cy="285840"/>
          </a:xfrm>
        </p:grpSpPr>
        <p:sp>
          <p:nvSpPr>
            <p:cNvPr id="142" name="Прямая соединительная линия 17"/>
            <p:cNvSpPr/>
            <p:nvPr/>
          </p:nvSpPr>
          <p:spPr>
            <a:xfrm flipV="1">
              <a:off x="6300000" y="2133360"/>
              <a:ext cx="4748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18"/>
            <p:cNvSpPr/>
            <p:nvPr/>
          </p:nvSpPr>
          <p:spPr>
            <a:xfrm>
              <a:off x="6775560" y="2133720"/>
              <a:ext cx="31752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25"/>
          <p:cNvGrpSpPr/>
          <p:nvPr/>
        </p:nvGrpSpPr>
        <p:grpSpPr>
          <a:xfrm>
            <a:off x="6227640" y="2923920"/>
            <a:ext cx="865440" cy="285840"/>
            <a:chOff x="6227640" y="2923920"/>
            <a:chExt cx="865440" cy="285840"/>
          </a:xfrm>
        </p:grpSpPr>
        <p:sp>
          <p:nvSpPr>
            <p:cNvPr id="145" name="Прямая соединительная линия 20"/>
            <p:cNvSpPr/>
            <p:nvPr/>
          </p:nvSpPr>
          <p:spPr>
            <a:xfrm flipV="1">
              <a:off x="6227640" y="2923920"/>
              <a:ext cx="51912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ая соединительная линия 21"/>
            <p:cNvSpPr/>
            <p:nvPr/>
          </p:nvSpPr>
          <p:spPr>
            <a:xfrm>
              <a:off x="6746760" y="2924280"/>
              <a:ext cx="34632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Вывод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в суффиксе существительных после шипящих под ударением пишется буква </a:t>
            </a:r>
            <a:r>
              <a:rPr b="1" lang="ru-RU" sz="4000" spc="-1" strike="noStrike">
                <a:solidFill>
                  <a:srgbClr val="0066ff"/>
                </a:solidFill>
                <a:latin typeface="Century Gothic"/>
              </a:rPr>
              <a:t>О,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а в безударном положении пишется  буква </a:t>
            </a:r>
            <a:r>
              <a:rPr b="1" lang="ru-RU" sz="4000" spc="-1" strike="noStrike">
                <a:solidFill>
                  <a:srgbClr val="0066ff"/>
                </a:solidFill>
                <a:latin typeface="Century Gothic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Дом</cp:lastModifiedBy>
  <dcterms:modified xsi:type="dcterms:W3CDTF">2013-03-30T15:54:28Z</dcterms:modified>
  <cp:revision>118</cp:revision>
  <dc:subject/>
  <dc:title>Образование без границ</dc:title>
</cp:coreProperties>
</file>