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D6F2-BFF9-4E13-92FB-F803BA33D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D6A0-8EAF-4209-8088-D71CC21D0C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D427-1538-4E47-A0C7-2BFF2A423F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6A3C-B1A3-42E4-B5DB-6312705638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5449-7490-417E-A3E6-F14A873BD8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09A4-2C10-45DA-ADD6-A86DE7C2E3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42A7-A41E-4E57-8F00-D45FC9124D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A4C9-84E8-4B63-A0F4-CFF3AFD526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F129-AC00-4157-9FE2-6B484E3B61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0A9F-70D7-4DD4-9837-481795D8CC4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D02D-05CC-4FF6-9EB3-0173CC2F3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164B-C016-4877-9CE3-CB0086170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A551-56EF-4798-94D6-6637078DF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F7A4-1649-43C3-A4CF-1DDDA0B16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574F-5A70-44AF-9D09-8BBD750E6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F6EA-3878-413E-A5F6-DFB27F274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02A9-EE5F-48FD-B1B1-2F7D6D151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FEB2-3FF2-4B31-96AD-1B03DA4C7E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9772-65FF-42AD-8CBC-1288C3733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BCC1-F988-481D-9772-32300FBCB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8238-729E-496E-A904-E838E85E7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F62C-62F8-4EDE-8A12-185617AFC1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5FF4-991A-42E5-8F75-ED0C33606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CBAE-A858-4D3A-B2F9-D0B163D9F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E888-FEF0-4DFE-A958-E3BB303A59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1EF8-8DB5-4953-BB71-D9130995D3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3D7-498E-49E2-9BB8-D30F0CF64E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D09-BA81-4368-9B45-B7A434CB3A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FAA-B9E3-4CC0-B650-904666E56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34F-10C5-438F-9657-573F01970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224-98F6-4BD9-829A-EF1F5251B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0193-E5EC-49E5-97FB-560050B325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0F8-C612-4706-A951-4A70F20DC4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EE9-E585-4DDE-9674-B6D82D7862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526-9619-4744-B71D-81CF020350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C27-F7B8-498C-BBA3-6147252953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FB3-9077-4717-961B-255C3FC17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9F1-3012-4EAB-8C5A-DCD8F6543E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2F1-505E-4ECD-96EB-C081491B5D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7FD3C-8728-426C-86B3-ED58C6E22B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A12FD-1224-49BB-BF18-FAE1B8EFE8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0FD1-7DF0-479B-A784-91409F1D1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531E-8919-4A36-86BA-89A619C282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F27E1-B746-4647-A4EF-2EDDFB37C2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74BE5-6D74-464B-A96D-0B71ED441F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7636-EF90-4831-94AE-99E01ED80D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C6D5A-5662-4A16-B082-68476A91B7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30DBC-8D4A-4041-8CEA-D42A5BCA8C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FF069-5F67-42C4-8604-0CFE1E413C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D1BF0-1039-4C96-85F3-5710C5F905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A6556-767A-461A-A389-61030E149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0D540-9AE2-4678-9B37-A6C0CB754F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8F0E-6083-42B0-9C55-D4B4846D7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718D-733D-44C5-B5AA-DB804DFF44D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D62C-FD40-49DC-8130-8C9822857C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35B86-EB1B-4024-9A88-B65251E987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3929-F3AA-47E5-A09F-A8DCB659F6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9F5C2-C1CD-4A82-B538-CC70174231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5A9D-B4B3-47DE-B8C7-BA793D30E4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67C7B-EFE9-4420-A5B0-5F2673C88B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CD849-7E2D-4F2D-93DF-64DEA3B178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B0B6E-022F-42E7-8DE6-C754CC10D5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147F6-A275-4D4F-BA2D-FF5A48B67A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4C5DC-271D-4502-AADC-988BE85E5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349D-3EF9-4438-A3C1-CDF7F9C923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C56B-3A91-4FC4-ADCE-C8303E284D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6935-784F-4A0F-9470-EEB61FBD92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FD90-AB54-4FA6-9E3A-EF48437798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42AB-CF56-44E4-89DD-B32079CE58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14DA-E24B-4A60-91A2-03789850E7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12C0-F4BE-4442-8140-580D734BCC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0DD-77C9-4766-89B6-3EABBA5963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ACBB-BEEF-4A71-9142-711374030C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932-7957-4973-9BCB-77567F26A3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FB5-0763-42C4-BB04-7CD67F52A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B2BD-5EA7-4435-8E65-7C1BAD6979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D59A-12D5-4162-A313-89FC3D8E9A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38E-9E48-4108-BF56-DED4CE14C8B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113F-CC29-43B5-886D-81A656F3C7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E2FF7-E099-4A3C-92F8-67E8C7745A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9BDF2-BE33-4422-99DE-930CE17FFBB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3E6BF-BC63-42C9-B95A-B76C5DC032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202A2-2332-4391-BBDD-6BC3B3ABBE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FB042-F1CF-4923-9C7D-21CBB90255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D5428-F69A-4485-94FF-761BFA5BF9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7386D-B885-402E-B067-59BE4D7ED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3C49-5788-4462-8DEA-25189896E3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35134-4906-4EA3-8E47-E4C3FD7275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75F2E-7953-4BF6-BE66-6A7B2E45C2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02681-10D6-4236-AD6F-7B2D5E9BD6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42E36-26C4-416F-8366-D9CD948D82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8D47E-17AC-44D6-8CA2-A3A4A9432C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FB9BC-57EE-4B18-9319-4208004C5D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165FE-DE63-4AD5-B804-34FB61328D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3E194-0E60-4C50-B9CE-23324159D5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668D5-B255-489B-A2C1-E5A8607AF1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4AC58-88FE-451A-825A-BA301F8AD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EE40-FC1D-451E-B638-289D872F49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276C1-5509-43DA-B6C9-DE7ABEA36A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476C0-56F4-485E-9AB5-9A5903C0C1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BE8BC-9B1C-4D5D-9B42-B7A612953B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CA3FD-B065-4CCC-A6CE-FFE1D1F7DF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3D0BA-7061-494A-9309-1D2F7C4387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91482-E8B0-4F29-AB91-05DBF398FF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CDFBE-D7C2-4EB0-B499-0A81BBCB9F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C790-FEF9-4F70-992D-459C1EB29D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032A-5144-4BDC-AB22-BDC70A0CD8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C0C0-C6FB-4F0B-BF54-8BA089873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"/>
          <p:cNvSpPr/>
          <p:nvPr/>
        </p:nvSpPr>
        <p:spPr>
          <a:xfrm>
            <a:off x="5164200" y="62485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3680" y="62485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3990960" y="6248520"/>
            <a:ext cx="1152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B435-CEB2-421F-8369-F0FAAB5AFBB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"/>
            <p:cNvSpPr/>
            <p:nvPr/>
          </p:nvSpPr>
          <p:spPr>
            <a:xfrm>
              <a:off x="6054840" y="549900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22600" y="537228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2120" y="5383080"/>
              <a:ext cx="547380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6720" y="5370480"/>
              <a:ext cx="331128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966E351-8EC5-4C95-9513-4686D917FC84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AF91A4-81FE-401A-865F-098AB681D38A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"/>
            <p:cNvSpPr/>
            <p:nvPr/>
          </p:nvSpPr>
          <p:spPr>
            <a:xfrm>
              <a:off x="6046920" y="85896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19360" y="73188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8880" y="74304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73008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2A39709-1DBB-4BE3-9601-F007F68D91DA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"/>
            <p:cNvSpPr/>
            <p:nvPr/>
          </p:nvSpPr>
          <p:spPr>
            <a:xfrm>
              <a:off x="6054840" y="8604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2600" y="731880"/>
              <a:ext cx="555156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2120" y="743040"/>
              <a:ext cx="5473800" cy="776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6720" y="730080"/>
              <a:ext cx="3311280" cy="65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76512E8-82E6-40B5-9317-5D1DDDD7CA31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"/>
            <p:cNvSpPr/>
            <p:nvPr/>
          </p:nvSpPr>
          <p:spPr>
            <a:xfrm>
              <a:off x="6054840" y="549900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2600" y="537228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2120" y="5383080"/>
              <a:ext cx="547380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16720" y="5370480"/>
              <a:ext cx="331128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15EDB87-D625-449B-9A9A-FE1C20C99B88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"/>
            <p:cNvSpPr/>
            <p:nvPr/>
          </p:nvSpPr>
          <p:spPr>
            <a:xfrm>
              <a:off x="6054840" y="8604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2600" y="731880"/>
              <a:ext cx="555156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32120" y="743040"/>
              <a:ext cx="5473800" cy="776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6720" y="730080"/>
              <a:ext cx="3311280" cy="65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7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AA5EE5C-18C1-4825-A3B3-896D9BA5865B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7C72F3-55D3-4D6D-A1EB-A8FEDED23FF5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7EF1DA-F6B6-4E46-AA88-291B6D8A3173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57200" y="338040"/>
            <a:ext cx="82296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Развиваем пространственные и временные предста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28840" y="2622600"/>
            <a:ext cx="6286320" cy="4235400"/>
            <a:chOff x="1428840" y="2622600"/>
            <a:chExt cx="6286320" cy="423540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428840" y="2622600"/>
              <a:ext cx="6286320" cy="42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428840" y="2622600"/>
              <a:ext cx="628632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84360" y="2349360"/>
            <a:ext cx="8002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Игра: «Покажи, гд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опросите ребёнка показать различные части тела: правую руку, левую руку, правый глаз, левую б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«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Оглянись вокру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редложите ребёнку навести порядок в комнате. Пусть он выполнит несколько инструкций: положи полотенце в шкаф, на полку; поставь часы за книгой; тапочки поставь на кровать; картинку повесь над стол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139680"/>
            <a:ext cx="81471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 u="sng">
                <a:solidFill>
                  <a:srgbClr val="002060"/>
                </a:solidFill>
                <a:uFillTx/>
                <a:latin typeface="Candara"/>
                <a:ea typeface="SimSun"/>
              </a:rPr>
              <a:t>Что такое пространственные представления?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ndara"/>
                <a:ea typeface="SimSun"/>
              </a:rPr>
              <a:t>Это представления о расположении предметов в окружающем пространстве по отношению к ребенку и друг к друг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«Что - гд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640" y="1500120"/>
            <a:ext cx="8604360" cy="5164200"/>
            <a:chOff x="539640" y="1500120"/>
            <a:chExt cx="8604360" cy="5164200"/>
          </a:xfrm>
        </p:grpSpPr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539640" y="1500120"/>
              <a:ext cx="860436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39640" y="1500120"/>
              <a:ext cx="8604360" cy="51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277920"/>
            <a:ext cx="9144000" cy="5848200"/>
            <a:chOff x="0" y="277920"/>
            <a:chExt cx="9144000" cy="5848200"/>
          </a:xfrm>
        </p:grpSpPr>
        <p:pic>
          <p:nvPicPr>
            <p:cNvPr id="443" name="" descr=""/>
            <p:cNvPicPr/>
            <p:nvPr/>
          </p:nvPicPr>
          <p:blipFill>
            <a:blip r:embed="rId1"/>
            <a:stretch/>
          </p:blipFill>
          <p:spPr>
            <a:xfrm>
              <a:off x="0" y="277920"/>
              <a:ext cx="9144000" cy="58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277920"/>
              <a:ext cx="914400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Звери идут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2000160" y="2328840"/>
            <a:ext cx="5214960" cy="3743280"/>
            <a:chOff x="2000160" y="2328840"/>
            <a:chExt cx="5214960" cy="374328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2000160" y="2328840"/>
              <a:ext cx="521496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000160" y="2328840"/>
              <a:ext cx="521496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254160"/>
            <a:ext cx="8229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ndara"/>
                <a:ea typeface="SimSun"/>
              </a:rPr>
              <a:t>Временные представления: времена года ,части суток, дни недели, меся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871560" y="2674800"/>
            <a:ext cx="7408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Опиши приметы осени(зимы, весны, лет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Когда это бывает? (медведь спит? Зайчик меняет шубку? Дети загорают? Птицы улетают в тёплые края?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Читая с ребёнком сказки, обращайте внимание в какое время года происходят собы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Игра «Одень куклу» -пусть ребёнок оденет куклу соответственно погоде определённого времени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ndara"/>
                <a:ea typeface="SimSun"/>
              </a:rPr>
              <a:t>Игры и упражнения для закрепления времён г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4:33:52Z</dcterms:created>
  <dc:creator>Comp</dc:creator>
  <dc:description/>
  <dc:language>en-US</dc:language>
  <cp:lastModifiedBy>Пользователь</cp:lastModifiedBy>
  <dcterms:modified xsi:type="dcterms:W3CDTF">2014-01-23T09:51:39Z</dcterms:modified>
  <cp:revision>11</cp:revision>
  <dc:subject/>
  <dc:title>Слайд 1</dc:title>
</cp:coreProperties>
</file>