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ACC0-536A-4822-9F4F-E26E83622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3E52-826E-42ED-9632-213B18F8AA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80DB-3AA7-43F3-979C-CCF8611F34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2747-F26B-4307-B58F-510B455ACA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6938-D411-42D0-92E8-FD0D1A21EB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AFAA-B174-4098-93D6-9BEE85B236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C15A-A7D1-40F3-8B9B-94CBE753F9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AB96-DF45-4C89-85CA-DE9349751E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B421-2C71-434B-927E-EBAB502D6E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CFA5-A69B-4DBC-8D08-3D3876A171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880B-A70D-486E-A05A-5EEC39CA3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1036-27DB-48CD-AFF5-2B9452430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8645-3EA3-4BA8-A4EA-57966B035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E3ED-B9E9-4554-8248-30045CA75A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E34A-4D5D-46C3-936E-610AECF4C9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997F-0225-4E78-992B-F4430B74F3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34C5-C6C8-4AAF-94A4-7CA69B1AD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B7CE-CEBF-451C-A0E9-13C9DD0CC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3509-DBA7-47F2-A3C4-AA349A5320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31CF-CD0E-4E4C-993F-425DCFE55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DAB3-EDEF-4107-96B0-D2F75FF88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EFC7-ADDD-4085-B866-F34A6291A8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E7A8-C290-4AA6-9289-089B68B3F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EC4A-1A22-4000-8407-10324D2CB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C28E-FDB1-4CF3-BD25-6C760BFC1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06A1-FFA7-4C29-A566-D91492C593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194-D7CC-4F46-8606-2ADE727623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BA0-8DE7-490E-BC97-3F5861C1FA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DED-A50A-4BC3-994A-AE95505B00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47F-9EE4-46A2-92C8-6EFF40B633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F76-BD9E-47E4-BAF1-9C2F738F3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4783-B0D9-4E98-A988-E75246CB22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87E-05BA-4937-BD02-AA7B7F6542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A20-09F6-45D3-9B01-866FCEC614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D48-9DDD-45EE-8171-767BD2D2A5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6A1-3CD8-4338-B00D-3C145ABF55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C1A-8549-4580-98EF-3EA47537A3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319-9FDD-4CDB-BC8E-14E3053094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445-2A90-4EBE-8353-BF54F9E6F4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D64A8-233D-4F28-83E5-F553467ADA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2FF26-3BAC-4128-8FA7-189C88F654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B3C0E-51C9-4971-8780-0985EB2EF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1567-9FC0-4F19-8505-90C0652F12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44583-DAC9-43B5-98B2-7B0D5B5FC7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85624-2E11-4CCE-9E8C-B20CE3C194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EB0D-925D-410D-84C6-F498DA3364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8216-2866-48E0-8AA3-7CC2A5C8B0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B7DFE-C387-4B20-A824-91BBAEBF7B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1DB00-A3A1-4B64-9DEB-3FC9FB1101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BBC01-8059-4662-B275-8C58CAA6D0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5808C-88F1-45F9-9E8C-A961AAD06C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F0F94-F0CB-4E3C-940C-9DF8C81A9B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EC13-FFE6-42C1-AD0F-111FD39E5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E904-2FC6-4296-9699-547180C04A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CC85B-5390-41FB-8C29-230FC36421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1FE8B-6382-4C3D-9C99-355C5B0115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E9C32-FF97-4087-8B61-44819984DC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FD96-8A63-4BAA-BB4D-09B307A6D2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8CFD1-F35C-459A-98A9-BCCE8E5A22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3DEF8-5CB6-4A62-99BB-1412634463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C035D-7B98-4C9F-B2B9-FCE8A41E3E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489E-9FC9-4E58-AD50-78C3833B82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8392-1142-45FF-9D56-2C60EBF5E3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7881E-9DDA-4D1F-83E9-9726CE95E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F5A8-A4B4-4E6C-ADE2-8AE0E67F35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7F0F-F453-4B3E-9AA0-CF7F9A5141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96E-1AC8-48B3-9E7E-0FF853B497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D14B-221F-490E-AD1E-8DBA54AD5F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2751-19DC-41DB-ADEF-9DE184BBD63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7FD8-41B2-4A77-88BD-A6D40CEECF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929-5C72-4573-9F55-0C2A188E94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A5F5-658F-48E1-8E59-F54DD8854F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995B-BC85-49F1-B79E-1E8E147E2B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251-7485-484F-9F90-57BFC6E9A0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B2B-A7A1-477C-9CA3-B2748FFC8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589-3D80-4D38-ACF0-887E905CEA4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0181-19A4-4746-8AA0-974C99F760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CDCB-BD9F-49D7-BDA7-1407F06A68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9D05-C52C-491E-88B3-6FEF3F50AB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231A4-BD34-4FDA-83B0-F90F1D76AE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3165C-510D-405E-98F8-DD5068F390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E7FFA-616C-4D9F-84BA-F8F5928051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8BA58-D761-4912-A769-8623821696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800BD-324B-415D-9EF5-62B95A7E429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2C5E9-FBC1-41EC-94C9-21533FC587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617CD-EF5C-4ED0-829E-10CB366CD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62F8-9D22-4BB2-AB08-5783E29860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8B693-A123-45CA-B4F7-92D3F9E89A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8B950-6472-4605-9351-6AADA991D4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D920A-EE64-4263-AE37-DB206F8CC9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66656-5EC2-4248-9ACA-76F746A00C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E2FA7-089F-4F44-AF9A-9EFCBFA5E4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3F3BB-0D57-4D5E-B2B6-663EA54A29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C029B-376E-4985-918E-27AB053C90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9910C-E75C-40BD-B34E-D352FF11D4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E3482-9A20-4823-9ECD-79568713BF5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BE29E-6F3B-4D7C-A22F-082AAE646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C326-DC06-4621-AE1B-80621C053E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4768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04698-A377-4257-9F58-C33EFDB2ED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13F2D-0CF1-40DD-9D63-68E5D43B1BB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5CDF5-4C41-4903-9874-1B593D3B8D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7851-C1C7-4C73-93B0-D9DAC0B28C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2280"/>
            <a:ext cx="7399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97D2F-1F53-4274-AB0C-7DE28BEE2A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3440" y="267444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3440" y="4472280"/>
            <a:ext cx="361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ABF5F-D526-4624-BA9F-065EF383C7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3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75560" y="267444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3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75560" y="4472280"/>
            <a:ext cx="23824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73D32-F049-437F-8220-31B35D8F3A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12B2-97B7-4030-AAD3-623B57335F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EEBB-5D5E-4D87-B450-6CBF6B2CCD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831E-10DF-4580-A9EA-EF0AAD871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"/>
          <p:cNvSpPr/>
          <p:nvPr/>
        </p:nvSpPr>
        <p:spPr>
          <a:xfrm>
            <a:off x="5164200" y="62485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3680" y="62485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3990960" y="6248520"/>
            <a:ext cx="1152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C6ED5-792A-4486-91B4-AEA6D485E4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"/>
            <p:cNvSpPr/>
            <p:nvPr/>
          </p:nvSpPr>
          <p:spPr>
            <a:xfrm>
              <a:off x="6054840" y="549900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22600" y="537228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2120" y="5383080"/>
              <a:ext cx="547380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6720" y="5370480"/>
              <a:ext cx="331128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B96615-259C-4234-A4A4-FAC85993CE4C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9F34F52-8669-471D-92F4-6425B2A96BE2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"/>
            <p:cNvSpPr/>
            <p:nvPr/>
          </p:nvSpPr>
          <p:spPr>
            <a:xfrm>
              <a:off x="6046920" y="85896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19360" y="73188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8880" y="74304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73008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A16E18-3697-43D0-B52F-714B9E2DEC1C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"/>
            <p:cNvSpPr/>
            <p:nvPr/>
          </p:nvSpPr>
          <p:spPr>
            <a:xfrm>
              <a:off x="6054840" y="8604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2600" y="731880"/>
              <a:ext cx="555156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2120" y="743040"/>
              <a:ext cx="5473800" cy="776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6720" y="730080"/>
              <a:ext cx="3311280" cy="65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5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7E7F70-F362-4796-9316-0B7D2350EBA7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"/>
            <p:cNvSpPr/>
            <p:nvPr/>
          </p:nvSpPr>
          <p:spPr>
            <a:xfrm>
              <a:off x="6054840" y="549900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2600" y="537228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2120" y="5383080"/>
              <a:ext cx="547380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16720" y="5370480"/>
              <a:ext cx="331128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C2CA83E-AAD1-472B-9ED8-37328F0FA8B6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"/>
            <p:cNvSpPr/>
            <p:nvPr/>
          </p:nvSpPr>
          <p:spPr>
            <a:xfrm>
              <a:off x="6054840" y="8604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2600" y="731880"/>
              <a:ext cx="555156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32120" y="743040"/>
              <a:ext cx="5473800" cy="776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6720" y="730080"/>
              <a:ext cx="3311280" cy="652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7"/>
          </p:nvPr>
        </p:nvSpPr>
        <p:spPr>
          <a:xfrm>
            <a:off x="3990960" y="6249960"/>
            <a:ext cx="1152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A46880-E4C3-4C39-B5DC-2C5C2DB49978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87BEAD-4D13-4146-9FDA-B7568E5188F6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83d3fe"/>
              </a:gs>
              <a:gs pos="100000">
                <a:srgbClr val="0293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"/>
            <p:cNvSpPr/>
            <p:nvPr/>
          </p:nvSpPr>
          <p:spPr>
            <a:xfrm>
              <a:off x="6046920" y="18241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9360" y="1697040"/>
              <a:ext cx="554364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8880" y="1708200"/>
              <a:ext cx="5467320" cy="774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8800" y="1695600"/>
              <a:ext cx="330804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99440" cy="34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98624B-18EF-4E32-A8C5-1E304606DE8E}" type="slidenum">
              <a:rPr b="0" lang="ru-RU" sz="1000" spc="-1" strike="noStrike">
                <a:solidFill>
                  <a:srgbClr val="073e87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57200" y="338040"/>
            <a:ext cx="82296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Развиваем пространственные и временные предста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28840" y="2622600"/>
            <a:ext cx="6286320" cy="4235400"/>
            <a:chOff x="1428840" y="2622600"/>
            <a:chExt cx="6286320" cy="4235400"/>
          </a:xfrm>
        </p:grpSpPr>
        <p:pic>
          <p:nvPicPr>
            <p:cNvPr id="433" name="" descr=""/>
            <p:cNvPicPr/>
            <p:nvPr/>
          </p:nvPicPr>
          <p:blipFill>
            <a:blip r:embed="rId1"/>
            <a:stretch/>
          </p:blipFill>
          <p:spPr>
            <a:xfrm>
              <a:off x="1428840" y="2622600"/>
              <a:ext cx="6286320" cy="42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428840" y="2622600"/>
              <a:ext cx="628632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84360" y="2349360"/>
            <a:ext cx="8002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Игра: «Покажи, гд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опросите ребёнка показать различные части тела: правую руку, левую руку, правый глаз, левую б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«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  <a:ea typeface="SimSun"/>
              </a:rPr>
              <a:t>Оглянись вокру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  <a:ea typeface="SimSun"/>
              </a:rPr>
              <a:t>Предложите ребёнку навести порядок в комнате. Пусть он выполнит несколько инструкций: положи полотенце в шкаф, на полку; поставь часы за книгой; тапочки поставь на кровать; картинку повесь над стол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139680"/>
            <a:ext cx="81471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 u="sng">
                <a:solidFill>
                  <a:srgbClr val="002060"/>
                </a:solidFill>
                <a:uFillTx/>
                <a:latin typeface="Candara"/>
                <a:ea typeface="SimSun"/>
              </a:rPr>
              <a:t>Что такое пространственные представления?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ndara"/>
                <a:ea typeface="SimSun"/>
              </a:rPr>
              <a:t>Это представления о расположении предметов в окружающем пространстве по отношению к ребенку и друг к друг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«Что - где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9640" y="1500120"/>
            <a:ext cx="8604360" cy="5164200"/>
            <a:chOff x="539640" y="1500120"/>
            <a:chExt cx="8604360" cy="5164200"/>
          </a:xfrm>
        </p:grpSpPr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539640" y="1500120"/>
              <a:ext cx="8604360" cy="51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39640" y="1500120"/>
              <a:ext cx="8604360" cy="51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0" y="277920"/>
            <a:ext cx="9144000" cy="5848200"/>
            <a:chOff x="0" y="277920"/>
            <a:chExt cx="9144000" cy="5848200"/>
          </a:xfrm>
        </p:grpSpPr>
        <p:pic>
          <p:nvPicPr>
            <p:cNvPr id="443" name="" descr=""/>
            <p:cNvPicPr/>
            <p:nvPr/>
          </p:nvPicPr>
          <p:blipFill>
            <a:blip r:embed="rId1"/>
            <a:stretch/>
          </p:blipFill>
          <p:spPr>
            <a:xfrm>
              <a:off x="0" y="277920"/>
              <a:ext cx="9144000" cy="58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0" y="277920"/>
              <a:ext cx="914400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  <a:ea typeface="SimSun"/>
              </a:rPr>
              <a:t>Звери идут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2000160" y="2328840"/>
            <a:ext cx="5214960" cy="3743280"/>
            <a:chOff x="2000160" y="2328840"/>
            <a:chExt cx="5214960" cy="374328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2000160" y="2328840"/>
              <a:ext cx="521496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000160" y="2328840"/>
              <a:ext cx="521496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254160"/>
            <a:ext cx="8229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ndara"/>
                <a:ea typeface="SimSun"/>
              </a:rPr>
              <a:t>Временные представления: времена года ,части суток, дни недели, меся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871560" y="2674800"/>
            <a:ext cx="7408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Опиши приметы осени(зимы, весны, лет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Когда это бывает? (медведь спит? Зайчик меняет шубку? Дети загорают? Птицы улетают в тёплые края?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Читая с ребёнком сказки, обращайте внимание в какое время года происходят собы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  <a:ea typeface="SimSun"/>
              </a:rPr>
              <a:t>Игра «Одень куклу» -пусть ребёнок оденет куклу соответственно погоде определённого времени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ndara"/>
                <a:ea typeface="SimSun"/>
              </a:rPr>
              <a:t>Игры и упражнения для закрепления времён г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4:33:52Z</dcterms:created>
  <dc:creator>Comp</dc:creator>
  <dc:description/>
  <dc:language>en-US</dc:language>
  <cp:lastModifiedBy>Пользователь</cp:lastModifiedBy>
  <dcterms:modified xsi:type="dcterms:W3CDTF">2014-01-23T09:51:39Z</dcterms:modified>
  <cp:revision>11</cp:revision>
  <dc:subject/>
  <dc:title>Слайд 1</dc:title>
</cp:coreProperties>
</file>