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D0B2-7EFC-430E-9991-EFB7A00A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3EE9-14F6-443F-9252-1078DDE3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606F-C0B3-434B-8B4B-A6FBF6B2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46D7-245B-45A2-BC33-6B629FC3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1EDD-73E3-4FF8-B65F-AB75496A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5C4F-DF93-496C-B46A-D97CE141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79DB-169C-4996-8AB3-F4BFA364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2F97-94BF-407F-9B1F-A71278E9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C868-828A-483A-A09C-12AD24A2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736B-BF20-4427-9B60-F6A0DB17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61A3-7800-4E98-A775-5477FDA6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C2F-6405-4A27-BBB5-CE43C466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BFCB-5CA6-4819-BF4A-D7F73C91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65C8-4610-4200-9619-CC8416F1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F9AB-10EB-495F-B064-E0E38D3F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823A-98FF-4D9D-BB64-E707826D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0CCB-4663-4852-8629-8223BCE7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5624A-9AD6-47EC-B2A0-1B663CB6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D4DF7-77BD-4BDD-9ED9-40FC1297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6642D-E9BE-4EA4-A935-5C722D2D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1DA98-F4EA-415B-B449-6C421431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D87D5-EE6F-48DD-A328-CFCD4C67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B7BC-4E30-4BF8-B3CF-95245341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8D601-52EC-4082-A6A6-53577ADE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D8B55-E597-41BA-A3FF-104D41BD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C9470-70A5-4975-AFD8-5A507D11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EFF09-FE5F-4A2A-AFA4-1001887A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00CE8-9942-49D0-A7C8-1F5BB565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67123-1AD2-43F2-9AB7-462E5118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78711-0CD1-4313-9DF9-CA2E88F5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11DD-1865-4E37-96E4-05B40A00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D6C-94BF-44BF-9820-FFD4EB0E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B2A4-1379-4CB4-905F-647F848E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FFFE-D9BD-4377-88D6-08488E0C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CC43-9748-43FC-B19F-4F63A311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374-4D93-4AD1-AF44-3A185C1B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ED1E-C2CD-47A1-B011-851B585B8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77A2-B97A-4CFA-A969-A689B684F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8F56-0B7B-4E10-805F-903A1D9C9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4964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f497d"/>
                </a:solidFill>
                <a:latin typeface="Blackoak Std"/>
              </a:rPr>
              <a:t>Радуга</a:t>
            </a:r>
            <a:endParaRPr b="1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661760" y="1628640"/>
            <a:ext cx="74818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Constantia"/>
              </a:rPr>
              <a:t>Тут, если солнце блеснет во мгле непогоды лучами </a:t>
            </a:r>
            <a:endParaRPr b="1" lang="en-US" sz="2000" spc="-1" strike="noStrike">
              <a:solidFill>
                <a:srgbClr val="17375e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Constantia"/>
              </a:rPr>
              <a:t>Прямо против дождя, из тучи кропящего капли, </a:t>
            </a:r>
            <a:endParaRPr b="1" lang="en-US" sz="2000" spc="-1" strike="noStrike">
              <a:solidFill>
                <a:srgbClr val="17375e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Constantia"/>
              </a:rPr>
              <a:t>Радуги яркой цвета появляются в облаке чёрном.       Лукрецкий</a:t>
            </a:r>
            <a:endParaRPr b="1" lang="en-US" sz="2000" spc="-1" strike="noStrike">
              <a:solidFill>
                <a:srgbClr val="17375e"/>
              </a:solidFill>
              <a:latin typeface="Constanti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4360" y="2689200"/>
            <a:ext cx="597528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497d"/>
                </a:solidFill>
                <a:latin typeface="Constantia"/>
              </a:rPr>
              <a:t>Радуга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7375e"/>
                </a:solidFill>
                <a:latin typeface="Constantia"/>
              </a:rPr>
              <a:t>это оптическое явление, возникающее в атмосфере и имеющее вид разноцветной дуги на небесном своде. Наблюдается она в тех случаях, когда солнечные лучи освещают завесу дождя, расположенную на противоположной Солнцу стороне неба.</a:t>
            </a:r>
            <a:r>
              <a:rPr b="1" i="1" lang="en-US" sz="2000" spc="-1" strike="noStrike">
                <a:solidFill>
                  <a:srgbClr val="17375e"/>
                </a:solidFill>
                <a:latin typeface="Constantia"/>
              </a:rPr>
              <a:t> </a:t>
            </a:r>
            <a:endParaRPr b="1" lang="en-US" sz="2000" spc="-1" strike="noStrike">
              <a:solidFill>
                <a:srgbClr val="17375e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Там разноцветною дугой,</a:t>
            </a:r>
            <a:endParaRPr b="1" lang="en-US" sz="2800" spc="-1" strike="noStrike">
              <a:solidFill>
                <a:srgbClr val="17375e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Развеселясь, нередко дивы </a:t>
            </a:r>
            <a:endParaRPr b="1" lang="en-US" sz="2800" spc="-1" strike="noStrike">
              <a:solidFill>
                <a:srgbClr val="17375e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На тучах строят мост красивый, </a:t>
            </a:r>
            <a:endParaRPr b="1" lang="en-US" sz="2800" spc="-1" strike="noStrike">
              <a:solidFill>
                <a:srgbClr val="17375e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Чтоб от одной скалы к другой </a:t>
            </a:r>
            <a:endParaRPr b="1" lang="en-US" sz="2800" spc="-1" strike="noStrike">
              <a:solidFill>
                <a:srgbClr val="17375e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Пройти воздушною тропой.</a:t>
            </a:r>
            <a:endParaRPr b="1" lang="en-US" sz="2800" spc="-1" strike="noStrike">
              <a:solidFill>
                <a:srgbClr val="17375e"/>
              </a:solidFill>
              <a:latin typeface="Constanti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219640" y="3860640"/>
            <a:ext cx="367344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91516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Constantia"/>
              </a:rPr>
              <a:t>Все цветы лесов зелёных,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Constantia"/>
              </a:rPr>
              <a:t>Все болотные кувшинки,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Constantia"/>
              </a:rPr>
              <a:t>На земле когда увянут,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Constantia"/>
              </a:rPr>
              <a:t>Расцветают снова в небе.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87280" y="3789360"/>
            <a:ext cx="432144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6309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-214920"/>
            <a:ext cx="7859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19280" y="3500280"/>
            <a:ext cx="77040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                                                                                                         </a:t>
            </a: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Как средь прозрачных облачных пелён</a:t>
            </a:r>
            <a:endParaRPr b="1" lang="en-US" sz="2800" spc="-1" strike="noStrike">
              <a:solidFill>
                <a:srgbClr val="17375e"/>
              </a:solidFill>
              <a:latin typeface="Constanti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Над луком лук соцветный и сокружный</a:t>
            </a:r>
            <a:endParaRPr b="1" lang="en-US" sz="2800" spc="-1" strike="noStrike">
              <a:solidFill>
                <a:srgbClr val="17375e"/>
              </a:solidFill>
              <a:latin typeface="Constanti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Посланницей Юноны вознесен,</a:t>
            </a:r>
            <a:endParaRPr b="1" lang="en-US" sz="2800" spc="-1" strike="noStrike">
              <a:solidFill>
                <a:srgbClr val="17375e"/>
              </a:solidFill>
              <a:latin typeface="Constanti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Constantia"/>
              </a:rPr>
              <a:t>И образован внутренним наружный.</a:t>
            </a:r>
            <a:endParaRPr b="1" lang="en-US" sz="2800" spc="-1" strike="noStrike">
              <a:solidFill>
                <a:srgbClr val="17375e"/>
              </a:solidFill>
              <a:latin typeface="Constanti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440676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Constantia"/>
              </a:rPr>
              <a:t>«Радуга- это очень просто, это солнечные лучи, преломляющиеся в каплях дождя.»</a:t>
            </a:r>
            <a:endParaRPr b="1" lang="en-US" sz="3200" spc="-1" strike="noStrike">
              <a:solidFill>
                <a:srgbClr val="17375e"/>
              </a:solidFill>
              <a:latin typeface="Constanti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708360" y="2577960"/>
            <a:ext cx="492588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4T20:37:01Z</dcterms:created>
  <dc:creator>Ученик</dc:creator>
  <dc:description/>
  <dc:language>en-US</dc:language>
  <cp:lastModifiedBy>Ученик</cp:lastModifiedBy>
  <dcterms:modified xsi:type="dcterms:W3CDTF">2002-05-24T21:06:23Z</dcterms:modified>
  <cp:revision>2</cp:revision>
  <dc:subject/>
  <dc:title>Радуга</dc:title>
</cp:coreProperties>
</file>