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2D8-CF0E-4FC2-8691-CE9689AF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092-6D2E-4307-BF67-6A1268B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002-86A6-480F-B429-CD36FF19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E87-E04E-49C2-97AC-12245464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B32-3FCE-411D-9069-4E176504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0618-09A7-4AD0-97E6-060C088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09F9-AB6A-480B-B036-9DDEBCF8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839B-EAA2-48EA-A049-FC4A0BA5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9CB-47C1-4539-A04B-360646F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BCF-BC3B-4D7E-BBB5-4D96CBA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A96F-56F5-4905-B061-D824D5B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D49-E5E8-41DA-BC6D-2BBEAACA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E4C-4098-4D46-9CBA-4B7A067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25A0-CA36-473A-AC78-4A0F0D3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94F2-36E0-4137-A025-B550C416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AFA-8F27-4B31-BF0E-03505822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4082-0ED9-4474-B913-9A87ECE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F79A-B6EF-4DB2-A74E-D013415A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9DCA-F481-4A92-A9A3-F62C6F0A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1983-B456-40D8-A99C-D76535F1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B76A-CF93-44C3-8480-FE38B80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6CB0-F4A9-4869-BD39-9457DAB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638-9B0E-4AD5-8828-90BA14AC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8E1C-0FF2-45DB-AF79-E7129B9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E523F-547E-4691-8B93-16A75CD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D73B-1180-4EBA-8BD6-A418016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4B9B-4C62-4A4F-BB31-C0180C1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232B-0B8F-4600-B094-218ADA6B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7B70-98EF-44DB-8B9C-8CD39C95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B1D1-05D5-465B-8D5F-F4806AA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060-938B-405C-AC85-929016C0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B33-8F8F-423E-A365-3160DAAA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A7B-9010-4887-9647-CBB5DBA8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E85-4020-497C-B7BA-F221CFB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A13-50CE-439C-923D-4851D29A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3A8-6882-480C-A7F5-7A41093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ABC6-0713-4D9F-AE40-EC5E1478C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C76-15E1-41AF-B45F-79520F36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5A3-76AD-4719-AEA0-A92502887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964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Blackoak Std"/>
              </a:rPr>
              <a:t>Радуга</a:t>
            </a:r>
            <a:endParaRPr b="1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61760" y="1628640"/>
            <a:ext cx="7481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Тут, если солнце блеснет во мгле непогоды лучами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Прямо против дождя, из тучи кропящего капли,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Радуги яркой цвета появляются в облаке чёрном.       Лукрецкий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2689200"/>
            <a:ext cx="5975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Constantia"/>
              </a:rPr>
              <a:t>Радуга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7375e"/>
                </a:solidFill>
                <a:latin typeface="Constantia"/>
              </a:rPr>
              <a:t>это оптическое явление, возникающее в атмосфере и имеющее вид разноцветной дуги на небесном своде. Наблюдается она в тех случаях, когда солнечные лучи освещают завесу дождя, расположенную на противоположной Солнцу стороне неба.</a:t>
            </a:r>
            <a:r>
              <a:rPr b="1" i="1" lang="en-US" sz="2000" spc="-1" strike="noStrike">
                <a:solidFill>
                  <a:srgbClr val="17375e"/>
                </a:solidFill>
                <a:latin typeface="Constantia"/>
              </a:rPr>
              <a:t>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Там разноцветною дугой,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Развеселясь, нередко дивы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тучах строят мост красивый,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б от одной скалы к другой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ройти воздушною тропой.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36734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Все цветы лесов зелёных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Все болотные кувшинки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На земле когда увянут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Расцветают снова в небе.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43214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6309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-214920"/>
            <a:ext cx="785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19280" y="3500280"/>
            <a:ext cx="7704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Как средь прозрачных облачных пелён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д луком лук соцветный и сокружный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осланницей Юноны вознесен,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 образован внутренним наружный.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4067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«Радуга- это очень просто, это солнечные лучи, преломляющиеся в каплях дождя.»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08360" y="2577960"/>
            <a:ext cx="49258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20:37:01Z</dcterms:created>
  <dc:creator>Ученик</dc:creator>
  <dc:description/>
  <dc:language>en-US</dc:language>
  <cp:lastModifiedBy>Ученик</cp:lastModifiedBy>
  <dcterms:modified xsi:type="dcterms:W3CDTF">2002-05-24T21:06:23Z</dcterms:modified>
  <cp:revision>2</cp:revision>
  <dc:subject/>
  <dc:title>Радуга</dc:title>
</cp:coreProperties>
</file>