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13C-9C5F-409D-8994-225B0E99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7A5-B0B0-489F-ACFF-F7DD7CE2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C90-B26A-48CE-A71D-950821A7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F76-CD7F-4730-8B1B-104631E8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1FD1-D55F-47EB-8E61-4D4FC586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0DF5-923E-43B8-9743-1BDFA26E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C9A0-8F8E-470C-A73E-F28C720D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64DB-EE5D-4D69-8EFC-B542E227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DDCA-3D4B-4F90-A1C9-67C688B4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A2F2-72EE-4003-B242-43B60A58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5FDE-0809-4C56-84D6-1370B37A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38F-B48D-478C-BA7A-0C74D8B2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1F29-A35A-45B2-BD58-0E65BE7F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AD73-09E6-4E7B-A5E3-A8F759CF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0061-B054-44A9-AF6B-9A7D614E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1725-04A2-4465-9CA7-054A74F0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8D60-863F-4BBD-B36B-34FC8F46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485-5714-4B1F-8FA2-6E168E40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877-39E8-4529-AC24-0CDC2DFF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9D5-C032-49E7-9A16-E93F063A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75A-9576-4353-9FE2-67E8C253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BED-9778-4C9F-9CA0-C15338E2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AC9-F221-43C7-8C80-A09594BB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D01-7E46-4436-A598-0A78987D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7EA-99F6-49C2-B5DF-8BD6968BBB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F8FC-29CA-4863-AD61-D987D179B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62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МОУ «Хомутовская средняя общеобразовательная школа № 1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87280" y="1230120"/>
            <a:ext cx="96123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ff53"/>
                </a:solidFill>
                <a:latin typeface="Monotype Corsiva"/>
              </a:rPr>
              <a:t>Реклама</a:t>
            </a:r>
            <a:r>
              <a:rPr b="1" lang="en-US" sz="4800" spc="-1" strike="noStrike">
                <a:solidFill>
                  <a:srgbClr val="53ff53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ff53"/>
                </a:solidFill>
                <a:latin typeface="Monotype Corsiva"/>
              </a:rPr>
              <a:t>в местах  продаж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ff53"/>
                </a:solidFill>
                <a:latin typeface="Monotype Corsiva"/>
              </a:rPr>
              <a:t>      </a:t>
            </a:r>
            <a:r>
              <a:rPr b="1" lang="en-US" sz="4800" spc="-1" strike="noStrike">
                <a:solidFill>
                  <a:srgbClr val="53ff53"/>
                </a:solidFill>
                <a:latin typeface="Monotype Corsiva"/>
              </a:rPr>
              <a:t>как  жанр  устной разговорной реч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55920" y="4586400"/>
            <a:ext cx="870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Автор: Черепанова Галина Владимиров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ученица 8б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Руководит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Тропина Алёна Александровн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учитель русского языка и литературы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Картинка 75 из 345"/>
          <p:cNvPicPr/>
          <p:nvPr/>
        </p:nvPicPr>
        <p:blipFill>
          <a:blip r:embed="rId1"/>
          <a:stretch/>
        </p:blipFill>
        <p:spPr>
          <a:xfrm>
            <a:off x="106200" y="4078440"/>
            <a:ext cx="3097440" cy="2663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5280" y="1197000"/>
            <a:ext cx="8748720" cy="67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мол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Ну что вы всё ходите? // Ну купите же хоть картошку / хоть морковку на салатик что ли?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Купите лучше этот пенал // Он для девочки как раз подойдёт / и качество лучше //(магазин «Продалитъ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охв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ртошечка / адретта / жёлтая / рассыпчатая / самая вкусная / без масла кушать можно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ригла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Уважаемые покупатели // Приглашаем Вас в павильон № 358 / третий этаж // Вас приятно удивят цены /  на демисезонные пальто / и куртки / как для мужчин / так и для женщин // («Торговый комплекс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144360" y="0"/>
            <a:ext cx="9756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3ff53"/>
                </a:solidFill>
                <a:latin typeface="Monotype Corsiva"/>
              </a:rPr>
              <a:t>Жанры устной разговорной речи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770840" y="199800"/>
            <a:ext cx="125524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3ff53"/>
                </a:solidFill>
                <a:latin typeface="Monotype Corsiva"/>
              </a:rPr>
              <a:t>Классификация речевых жанр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3ff53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53ff53"/>
                </a:solidFill>
                <a:latin typeface="Monotype Corsiva"/>
              </a:rPr>
              <a:t>(по цели воздействия на эмоции или разум адресата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6200"/>
            <a:ext cx="903780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53ff53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побуждающие адресата к какому-либо действию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росьба,   уговоры, мольба, просьба-приказ, требование, прик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направленные на обязательность действия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овет, предложение,   разрешение, поуче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3.</a:t>
            </a:r>
            <a:r>
              <a:rPr b="0" lang="en-US" sz="2400" spc="-1" strike="noStrike">
                <a:solidFill>
                  <a:srgbClr val="53ff53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направленные на положительную оценку объект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одобрение, похвала, ободр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4. Жанры, направленные на отрицательную оценку объект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замечание, порицание, упрёк, выговор, обвинение, осуждение, оскорбление, угроза, проклят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5. Жанры, вызывающие расположение адресат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риветствие, представление, знакомство, проща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6</a:t>
            </a: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направленные на то, чтобы склонить мнение адресата в свою сторону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-  доказательство,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объясне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убеждение.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1035000"/>
            <a:ext cx="8964720" cy="10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7. Жанры, направленные на вызов сочувствия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-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етование, жалоб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извинение.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8. Жанры, направленные на выражение дружеских отношений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оздравление, пожелание,  напутствие, выражение благодар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ригла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9. Жанры, дающие информацию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ообщение, объя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0</a:t>
            </a: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ы, дающие оценку речи говорящего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возражение, соглас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ответы на просьбу, ответное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1. Жанры, дающие оценку ситуации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рогноз, предсказа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2. Жанры, направленные на улучшение эмоциональ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состояния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оболезнование,  сочувствие, утешение, обещ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3. Жанры, направленные на защиту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заговор, обере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4</a:t>
            </a: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.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Жанр, направленный на то, чтобы развеселить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шу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15</a:t>
            </a: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Жанр приказа по установленной форм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команда.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289080" y="0"/>
            <a:ext cx="95410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53ff53"/>
                </a:solidFill>
                <a:latin typeface="Monotype Corsiva"/>
              </a:rPr>
              <a:t>Классификация речевых жанр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3ff53"/>
                </a:solidFill>
                <a:latin typeface="Monotype Corsiva"/>
              </a:rPr>
              <a:t> </a:t>
            </a:r>
            <a:r>
              <a:rPr b="0" lang="en-US" sz="3600" spc="-1" strike="noStrike">
                <a:solidFill>
                  <a:srgbClr val="53ff53"/>
                </a:solidFill>
                <a:latin typeface="Monotype Corsiva"/>
              </a:rPr>
              <a:t>(по цели воздействия на эмоции или разум адресата)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-5029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Реклама в местах продаж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26160"/>
            <a:ext cx="8607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53ff53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POS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-реклама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печатные рекламные материа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цель которых  - поддержать розничную  торговл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19200"/>
            <a:ext cx="9144000" cy="24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buClr>
                <a:srgbClr val="53ff53"/>
              </a:buClr>
              <a:buFont typeface="Monotype Corsiv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PRO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-реклама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громкие зазывные речи молод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людей –  «промоутеров»,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оводящих  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лотерея,  подарки, скидки)  с целью рекла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кого-либо товара  как на улице, так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 в крупных магазинах,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тличитель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черта таких акций  – работа оплачивается компанией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екламирующей или  производящей продукци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3709800"/>
            <a:ext cx="8964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                     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3)  торгово-розничная реклама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(носи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локальный характер и сфокусирована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а торговой  точке, продавец сам рекламируе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вой  товар совершенно бесплатн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В самую точку. Реклама в местах продаж куда эффективнее обычной"/>
          <p:cNvPicPr/>
          <p:nvPr/>
        </p:nvPicPr>
        <p:blipFill>
          <a:blip r:embed="rId1"/>
          <a:stretch/>
        </p:blipFill>
        <p:spPr>
          <a:xfrm>
            <a:off x="6948360" y="982800"/>
            <a:ext cx="2016360" cy="15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Картинка 4 из 285"/>
          <p:cNvPicPr/>
          <p:nvPr/>
        </p:nvPicPr>
        <p:blipFill>
          <a:blip r:embed="rId2"/>
          <a:stretch/>
        </p:blipFill>
        <p:spPr>
          <a:xfrm>
            <a:off x="6516720" y="2637000"/>
            <a:ext cx="2496960" cy="1573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85 из 184"/>
          <p:cNvPicPr/>
          <p:nvPr/>
        </p:nvPicPr>
        <p:blipFill>
          <a:blip r:embed="rId3"/>
          <a:stretch/>
        </p:blipFill>
        <p:spPr>
          <a:xfrm>
            <a:off x="108000" y="4842000"/>
            <a:ext cx="251928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324000" y="-442440"/>
            <a:ext cx="979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800" spc="-1" strike="noStrike">
                <a:solidFill>
                  <a:srgbClr val="53ff53"/>
                </a:solidFill>
                <a:latin typeface="Monotype Corsiva"/>
              </a:rPr>
              <a:t>Стилистика рекламного текста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232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есмотря на такой малый объём текста, реклама располагает богатейшим фондом стилистических  средств язы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7336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чень важен для рекламного текста выбор формы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обращени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и даже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структуры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. Молодёжь, например, хорошо воспринимает краткие, молниеносные «речёвки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дключись на ТЕЛЕ 2 / И крутым будешь всегда ! //  (улица Урицког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844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А к «солидным» покупателям нужно уважительное обращение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обстоятельное объяс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Купите бруснику / или клюкву // Очень полезная ягода // Сам собирал /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тайге / в экологически чистой зоне / у Байкала // Это же кладез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витаминов! // Берите / женщина / мы Вам хорошую скидку  сделаем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08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322416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-2142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трицательная роль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эмоций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ассоциаций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1)Женщина// Кофточки/ блузочки / рубашки // Подходите / у нас и большие размеры имеются/  на вас подберём .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/(Торговая площадь Павла Чекот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12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2)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Картошка // Кому картошку? // Чистая / без нитратов / без проволочника // (Центральный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7156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ff53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Суффикс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мидор</a:t>
            </a: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чик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и / Огурч</a:t>
            </a: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ик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и / Картош</a:t>
            </a: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ечк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 // Только что с гряд</a:t>
            </a: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очк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и // Хомутовские //   (Центральный рынок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ереносное значение сл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ff53"/>
                </a:solidFill>
                <a:latin typeface="Monotype Corsiv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Сегодня у нас суперакция! // Милые дамы! / для вас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море подарков/ и сюрпризов!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    («Торговый комплекс»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0053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Повтор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365720"/>
            <a:ext cx="8964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) Платочки / носовые платочки // Платочки / носовые платочки //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-зы / бе-ля-ши / вкусные / свежие / горячие! // По-зы / бе-ля-ши / вкусные /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вежие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 горячие! // (район Центрального рын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3ff53"/>
                </a:solidFill>
                <a:latin typeface="Monotype Corsiva"/>
              </a:rPr>
              <a:t>Просторечные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Свининку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покупаем! // Покупаем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свининку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68600" y="2133000"/>
            <a:ext cx="38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Красочные эпитеты</a:t>
            </a:r>
            <a:r>
              <a:rPr b="0" lang="en-US" sz="2800" spc="-1" strike="noStrike">
                <a:solidFill>
                  <a:srgbClr val="53ff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523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уникальный случай, уникальное предложение, замечательную  расчёску, отличное советское  шампанско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4612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2800" spc="-1" strike="noStrike">
                <a:solidFill>
                  <a:srgbClr val="53ff53"/>
                </a:solidFill>
                <a:latin typeface="Monotype Corsiva"/>
              </a:rPr>
              <a:t>Фразеологиз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На вкус и цвет / товарищи есть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Мы поможем вам подобрать новогодние подарки // 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Мешки для мусора / Мешки для мусора / Новое решение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выносить сор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избы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(рынок 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3) Мыло Дуру / мыло Дуру// Покупайте мыло Дуру //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Одна пачка хорошо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а набор лучше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 (Глаз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92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Господа / Внимание !// Купите блок Петра / и вы станете участником розыгрыша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призов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/ среди которых сумки / зонты / аудиоплееры / и много других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приятных мелочей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 нужных  в хозяйстве // (рынок «Ручей»)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5760" y="0"/>
            <a:ext cx="199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Перифра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-1119240" y="-360"/>
            <a:ext cx="1149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Лексика рекламного текст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133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Антонимы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(создают эффект контрас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Берите рыбку / эта по тридцать / но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маленькая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// Эта по пятьдесят / но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большая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// 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92716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Глаголы повелительного наклонения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(служат для выражения волеизъявления -  повеления, просьбы, пожелания, приглашения, приказа 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«покупайте, посмотрите, сделайте, подходи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е пропустите, выбирай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8373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рилагательные в превосходной степе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подчёркивают высокое качество предме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«нежнейший кабачок, самая качественная обув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очень вкусные»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68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ри создании рекламного текста  в полном объёме задействов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лексика русского я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Картинка 754 из 802"/>
          <p:cNvPicPr/>
          <p:nvPr/>
        </p:nvPicPr>
        <p:blipFill>
          <a:blip r:embed="rId1"/>
          <a:stretch/>
        </p:blipFill>
        <p:spPr>
          <a:xfrm>
            <a:off x="6156360" y="3933720"/>
            <a:ext cx="2725560" cy="2725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1141560" y="-720"/>
            <a:ext cx="11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3ff53"/>
                </a:solidFill>
                <a:latin typeface="Monotype Corsiva"/>
              </a:rPr>
              <a:t>Синтаксис рекламного текс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0520"/>
            <a:ext cx="9144000" cy="73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интаксис рекламных текстов рассчитан на быстрое восприят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этому в рекламном тексте происходит предельное упро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интаксических  единиц. Употребляются </a:t>
            </a: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простые, назывные, неполн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нераспространённые предлож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Отрицательные констр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Пицца / горячая пицца // Возьмите пиццу / Нельз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не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соблазниться // (район Центрального  рынк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Обращени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1)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Девочки!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Шапочки выбираем! // Красивые / нарядные !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Китай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Милые дамы!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// У нас сегодня суперакция // Покупая порошок Сорти / вы получаете в подарок губку для мытья посуды // Если вы покупаете две пачки порошка / то получаете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т / такую / упаковку порошка для стирки шерстяных вещей // (Мельни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144360" y="765000"/>
            <a:ext cx="9288360" cy="75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1) Пирожки / горячие / с пылу / с жару / очень вкусные // На любой вкус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с мясом / с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картошкой / с капустой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2) Девочки! // Шапочки выбираем! // Красивые / нарядные !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(Китай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3) Шапки / мужские / женские // Подходите // Выбирайте / меряйте /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окупайте //  (Китайский 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Вопросительные предлож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А вы желаете приобрести свежие / вкусные / помидо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?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Центральный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ff5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Восклицательные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Куры ангарские! // Купите сейчас / придёте ещё раз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53840" y="0"/>
            <a:ext cx="61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Однородные члены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2360" y="109440"/>
            <a:ext cx="864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3ff53"/>
                </a:solidFill>
                <a:uFillTx/>
                <a:latin typeface="Monotype Corsiva"/>
              </a:rPr>
              <a:t>Цель</a:t>
            </a:r>
            <a:r>
              <a:rPr b="1" lang="en-US" sz="2800" spc="-1" strike="noStrike" u="sng">
                <a:solidFill>
                  <a:srgbClr val="d9ffd9"/>
                </a:solidFill>
                <a:uFillTx/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нашей работы – доказать, что устная реклама в местах прода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  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является одним из жанров устной разговорной речи.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22240"/>
            <a:ext cx="9144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Для осуществления цели мы выделили следующие  </a:t>
            </a:r>
            <a:r>
              <a:rPr b="1" lang="en-US" sz="2800" spc="-1" strike="noStrike" u="sng">
                <a:solidFill>
                  <a:srgbClr val="53ff53"/>
                </a:solidFill>
                <a:uFillTx/>
                <a:latin typeface="Monotype Corsiva"/>
              </a:rPr>
              <a:t>задачи</a:t>
            </a:r>
            <a:r>
              <a:rPr b="1" lang="en-US" sz="2800" spc="-1" strike="noStrike" u="sng">
                <a:solidFill>
                  <a:srgbClr val="d9ffd9"/>
                </a:solidFill>
                <a:uFillTx/>
                <a:latin typeface="Monotype Corsiva"/>
              </a:rPr>
              <a:t>:</a:t>
            </a:r>
            <a:r>
              <a:rPr b="1" lang="en-US" sz="2400" spc="-1" strike="noStrike" u="sng">
                <a:solidFill>
                  <a:srgbClr val="d9ffd9"/>
                </a:solidFill>
                <a:uFillTx/>
                <a:latin typeface="Monotype Corsiva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1 - проанализировать жанры рекламных текстов, услышанных на рын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и в магазинах  г. Иркутс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2 - определить какие художественные средства использу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в современной рекламе;                                                                                                                         3 - показать  эффективность средств художественной выразительности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рекламном тексте;                                                                                                                                        4 - выявить общие признаки рекламных текстов, используемых в мест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продаж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222880"/>
            <a:ext cx="896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Выдвигаем  </a:t>
            </a:r>
            <a:r>
              <a:rPr b="1" lang="en-US" sz="2800" spc="-1" strike="noStrike" u="sng">
                <a:solidFill>
                  <a:srgbClr val="53ff53"/>
                </a:solidFill>
                <a:uFillTx/>
                <a:latin typeface="Monotype Corsiva"/>
              </a:rPr>
              <a:t>гипотезу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-   устная реклама в местах прода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                                             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стала особой формой  проявления устной ре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0840"/>
            <a:ext cx="91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Инверсия</a:t>
            </a:r>
            <a:r>
              <a:rPr b="0" lang="en-US" sz="2400" spc="-1" strike="noStrike">
                <a:solidFill>
                  <a:srgbClr val="66ff66"/>
                </a:solidFill>
                <a:latin typeface="Monotype Corsiv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(привлекает внимание необычным построением фраз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1) Шапки / мужские / женские // Подходите // Выбирайте / меряйте / покупайте //  (Китайский 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2) Вязаные шарфы / варежки / перчатки // Купите / шерстяные // (район Центрального рын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89440"/>
            <a:ext cx="914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ff53"/>
                </a:solidFill>
                <a:latin typeface="Monotype Corsiva"/>
              </a:rPr>
              <a:t>Цитирование</a:t>
            </a:r>
            <a:r>
              <a:rPr b="0" lang="ru-RU" sz="2400" spc="-1" strike="noStrike">
                <a:solidFill>
                  <a:srgbClr val="66ff66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неточ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) Подходи / торопись // Покупай наш ирис // (рынок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) Скоро новогодняя ночь / а вы без шампанского? // Покупайте у нас отличное советское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шампанское // (Рынок «Северны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3) Коль возьмёте чая пачку / карамелька вам впридачу // (Мельни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1x1" descr=""/>
          <p:cNvPicPr/>
          <p:nvPr/>
        </p:nvPicPr>
        <p:blipFill>
          <a:blip r:embed="rId1"/>
          <a:stretch/>
        </p:blipFill>
        <p:spPr>
          <a:xfrm>
            <a:off x="-1703520" y="3699000"/>
            <a:ext cx="9720" cy="9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-490320"/>
            <a:ext cx="9468000" cy="85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Нам удалось выявить общие языковые и жанровые  призна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екламных  текстов, используемых в местах продаж.  На их основе 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оставили следующую классифик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Предлож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(привлечение внимания, необязательность покупк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arenR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-зы / бе-ля-ши / вкусные / свежие / горячие! // По-зы / бе-ля-ши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вкусные / свежие /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горячие! // (район Центрального рын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Эмали // Краски // Доступные цены //Всё для Вас от отечественных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роизводителей//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3) Распродажа / распродажа // Любая вещь / за десять рублей!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Китай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4) Пирожки / горячие / с пылу / с жару / очень вкусные // На любой вкус //  С мясом / с  картошкой / с капустой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5) Платочки / носовые платочки // Платочки / носовые платочки //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692360" y="476280"/>
            <a:ext cx="12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3ff53"/>
                </a:solidFill>
                <a:latin typeface="Monotype Corsiva"/>
              </a:rPr>
              <a:t>Классификация рекламных тек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-1087200"/>
            <a:ext cx="9144000" cy="89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Жанры, побуждающие адресата к какому-либо действию - просьба, уговоры, мольб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Покупаем варенье / огурчики // Варенье / огурчики покупаем! // 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Носки / чистый хлопок // Покупайте мужьям и любовникам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рынок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3) Чебуреки / самые горячие! // Покупаем чебуреки! // По двенадцать рубле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// Чебуреки / горячие! // Покупаем по двенадцать рублей! // (рай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Центрального рын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4) Девочки! // Шапочки выбираем! // Красивые / нарядные !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Китайский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5) Свининку покупаем! // Покупаем свининку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6) Выбирайте // Курочки / котлеты / печень // Подходите / выбирайте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7) Не проходите мимо // Ёлки только что из лесу // Сделайте подарок детям к Новому году// (Глаз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9280" y="-475920"/>
            <a:ext cx="8964720" cy="83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66"/>
                </a:solidFill>
                <a:latin typeface="Monotype Corsiva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Жанры, направленные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                                     </a:t>
            </a: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обязательность приобретения -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                                       </a:t>
            </a: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совет,  предложение (пром-акц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1) Не проходите мимо // Купите средство для мытья окон / Мистер Мускул / и вы получите бесплатно специальную ткань для мытья окон / которая не оставляет разводов на стекле // 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Милые дамы! // У нас сегодня суперакция // Покупая порошок Сорти / вы получаете в подарок губку для мытья посуды // Если вы покупаете две пачки порошка / то получаете вот / такую / упаковку порошка для стирки шерстяных вещей // (Мельни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Картинка 1 из 7"/>
          <p:cNvPicPr/>
          <p:nvPr/>
        </p:nvPicPr>
        <p:blipFill>
          <a:blip r:embed="rId1"/>
          <a:stretch/>
        </p:blipFill>
        <p:spPr>
          <a:xfrm>
            <a:off x="179280" y="152280"/>
            <a:ext cx="345600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-354960"/>
            <a:ext cx="9468000" cy="77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ff53"/>
                </a:solidFill>
                <a:latin typeface="Monotype Corsiva"/>
              </a:rPr>
              <a:t>Жанры, направленные на обязательность приобретения  -  совет, предложение  (использование ритма и риф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) Чтобы не мёрзнуть в сибирскую стужу / купите шапку / себе и мужу // (Китайский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) Покупайте бананы / будете счастливы в год обезьяны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3) Шапки / мужские / женские // Подходите // Выбирайте / меряйте / покупайте //  (Китайский 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4) Шарфы и платочки / для жены и дочки // (рынок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5) Подходите / поспешите / мимо нас не проходите / сапоги приобретите // (Китайский 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6) Куры ангарские! // Купите сейчас / придёте ещё раз!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7) Купите шампунь / от блох и блошек / для любимых собак и кошек // (Глаз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8) Наши шашлыки / просто праздник для души // (Знаменс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9) Скорей поспеши/ подарки к Восьмому марта / для тела и души // (Русиновский рынок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-373680"/>
            <a:ext cx="878544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Жанры, дающие информацию - сообщение, объя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( использование фразеологизмов, поговоро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3ff53"/>
                </a:solidFill>
                <a:latin typeface="Monotype Corsiva"/>
              </a:rPr>
              <a:t>крылатых выражен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Распродажа // Распродажа // Туфли / босоножки // Дешевле только даром // (обувной рынок «Меркури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2) Чистота / залог здоровья // Покупайте мыло Сэйфгарт // (рынок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3) Мясо / куры / утки // Дешевле искать / только время терять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4) На вкус и цвет / товарищи есть // Мы поможем вам подобрать новогодние подарки //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Русин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5) Делу время / вам часы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Мельниковски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6) Мешки для мусора / Мешки для мусора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Новое решение выносить сор из избы /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(рынок  «Ручей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Картинка 25 из 184"/>
          <p:cNvPicPr/>
          <p:nvPr/>
        </p:nvPicPr>
        <p:blipFill>
          <a:blip r:embed="rId1"/>
          <a:srcRect l="0" t="0" r="0" b="16490"/>
          <a:stretch/>
        </p:blipFill>
        <p:spPr>
          <a:xfrm>
            <a:off x="5351400" y="4200480"/>
            <a:ext cx="3684600" cy="2613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2629440"/>
            <a:ext cx="91440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Анализируя тексты рекламы на месте продажи, можно сделать вывод: неиссякаема народная выдумка и смека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ходство жанров  общения и устной рекламы в местах продаж очевидно. Она обладает  всеми присущими разговор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речи признак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оэтому,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устную рекламу в мест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продаж  можно считать жанр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      </a:t>
            </a:r>
            <a:r>
              <a:rPr b="0" lang="en-US" sz="2800" spc="-1" strike="noStrike">
                <a:solidFill>
                  <a:srgbClr val="53ff53"/>
                </a:solidFill>
                <a:latin typeface="Monotype Corsiva"/>
              </a:rPr>
              <a:t>устной разговорной ре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Monotype Corsiva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-80964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Заключе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оздание рекламы – это весьма сложное искусство, которое подчиняется не только своим законам, но и литературной н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Реклама — творческий процесс, требующий и коммерческих знаний, и соответствующего образования,  и художественного вкуса. Одними из основных требований к рекламному тексту являются краткость, сжатость, выразительность слога, стиля, доступность для поним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08720" y="4152960"/>
            <a:ext cx="3450960" cy="2482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-1279800"/>
            <a:ext cx="91440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ff53"/>
                </a:solidFill>
                <a:latin typeface="Monotype Corsiva"/>
              </a:rPr>
              <a:t>Список лит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. Альбеткова Р.И. Русская словесность: От слова к словесности: Учеб. для 8 кл. общеобразоват. учреждений. – 4-е изд., стереотип. – М.: Дрофа, 2004. – 32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. Барлас Л.Г. Русский язык. Стилистика. – М., 1978. 256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. Бахтин М.М. Проблема речевых жанров. – М., 198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4. Бушелева Б. Поговорим о воспитанности. – М.: Просвещение, 1980. – 156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5. Гергесова Л. Промоутер как двигатель торговли// СМ Номер один. – 2004.  –  от 15 апр.– с.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6. Гузина О.С. Лингвистический анализ текста: Пособие для вузов. – Иркутск, 2002. – 193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7.  Дубовицкая Ю.В. Русский язык: Рекламный текст. М.: Материк-Альфа, 2007.- 152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8. Кожина М.Н. Стилистика русского языка: Учеб. пособие для студентов фак. рус. яз.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литературы пед. ин-тов. – М.: Просвещение, 1977. – 223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9. Мудров А.Н. Основы рекламы: Учебник для вузов. – М.: Экономистъ, 2006.- 319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0. Незайкин А.Н. Рекламное дело. – М., 2006. – 32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1. Плёнкин Н.А. Стилистика русского языка в старших классах: Пособие для учителя.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М.: Просвещение, 1975. – 143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2. Розенталь Д.Э. Практическая стилистика русского языка. – М., 1968. – 416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3. Сиротинина О.Б. Что и зачем нужно знать учителю о русской разговорной речи: Пособ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ля учителя. – М.: Просвещение, 1996. – 175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4. Толковый словарь русского языка / Под ред. Д.Н. Ушакова. – М., 1973. – Т.1-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6. Федосюк М.Ю. Нерешённые вопросы теории речевых жанров // Вопросы языкознания.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997. - №5 . – с. 102 – 11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7. Формановская Н.И. Вы сказали: «Здравствуйте!» Речевой этикет в нашем общении.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М.: Знание, 198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912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ffd9"/>
                </a:solidFill>
                <a:latin typeface="Monotype Corsiva"/>
              </a:rPr>
              <a:t>       </a:t>
            </a:r>
            <a:r>
              <a:rPr b="0" lang="ru-RU" sz="2400" spc="-1" strike="noStrike">
                <a:solidFill>
                  <a:srgbClr val="d9ffd9"/>
                </a:solidFill>
                <a:latin typeface="Monotype Corsiva"/>
              </a:rPr>
              <a:t>Термин </a:t>
            </a:r>
            <a:r>
              <a:rPr b="1" lang="ru-RU" sz="2800" spc="-1" strike="noStrike">
                <a:solidFill>
                  <a:srgbClr val="53ff53"/>
                </a:solidFill>
                <a:latin typeface="Monotype Corsiva"/>
              </a:rPr>
              <a:t>«реклама»</a:t>
            </a:r>
            <a:r>
              <a:rPr b="0" lang="ru-RU" sz="2400" spc="-1" strike="noStrike">
                <a:solidFill>
                  <a:srgbClr val="d9ffd9"/>
                </a:solidFill>
                <a:latin typeface="Monotype Corsiva"/>
              </a:rPr>
              <a:t> происходит от латинского слова «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reklamare</a:t>
            </a:r>
            <a:r>
              <a:rPr b="0" lang="ru-RU" sz="2400" spc="-1" strike="noStrike">
                <a:solidFill>
                  <a:srgbClr val="d9ffd9"/>
                </a:solidFill>
                <a:latin typeface="Monotype Corsiva"/>
              </a:rPr>
              <a:t>», что значит «громко кричать» или «извещать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67520" y="21600"/>
            <a:ext cx="462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ff53"/>
                </a:solidFill>
                <a:latin typeface="Monotype Corsiva"/>
              </a:rPr>
              <a:t>Основы  рекла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3380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Устный рекламный текст совмещает в себе функции </a:t>
            </a:r>
            <a:r>
              <a:rPr b="1" lang="en-US" sz="2800" spc="-1" strike="noStrike">
                <a:solidFill>
                  <a:srgbClr val="53ff53"/>
                </a:solidFill>
                <a:latin typeface="Monotype Corsiva"/>
              </a:rPr>
              <a:t>публицистического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и </a:t>
            </a:r>
            <a:r>
              <a:rPr b="1" lang="en-US" sz="2800" spc="-1" strike="noStrike">
                <a:solidFill>
                  <a:srgbClr val="53ff53"/>
                </a:solidFill>
                <a:latin typeface="Monotype Corsiva"/>
              </a:rPr>
              <a:t>разговорного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стилей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(</a:t>
            </a:r>
            <a:r>
              <a:rPr b="0" lang="en-US" sz="2400" spc="-1" strike="noStrike">
                <a:solidFill>
                  <a:srgbClr val="d9ffd9"/>
                </a:solidFill>
                <a:latin typeface="Monotype Corsiva"/>
              </a:rPr>
              <a:t>информативную, воздействующую и коммуникативную) и становится особым жанром устной разговорной ре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Картинка 49 из 345"/>
          <p:cNvPicPr/>
          <p:nvPr/>
        </p:nvPicPr>
        <p:blipFill>
          <a:blip r:embed="rId1"/>
          <a:stretch/>
        </p:blipFill>
        <p:spPr>
          <a:xfrm>
            <a:off x="4211640" y="3319560"/>
            <a:ext cx="4608360" cy="33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Картинка 1 из 37"/>
          <p:cNvPicPr/>
          <p:nvPr/>
        </p:nvPicPr>
        <p:blipFill>
          <a:blip r:embed="rId2"/>
          <a:stretch/>
        </p:blipFill>
        <p:spPr>
          <a:xfrm>
            <a:off x="144360" y="3346560"/>
            <a:ext cx="3851280" cy="3298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8604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ff53"/>
                </a:solidFill>
                <a:latin typeface="Monotype Corsiva"/>
              </a:rPr>
              <a:t>        </a:t>
            </a:r>
            <a:r>
              <a:rPr b="1" lang="en-US" sz="6600" spc="-1" strike="noStrike">
                <a:solidFill>
                  <a:srgbClr val="53ff53"/>
                </a:solidFill>
                <a:latin typeface="Monotype Corsiva"/>
              </a:rPr>
              <a:t>Виды  реклам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03280" y="1884240"/>
            <a:ext cx="187344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81296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1812960"/>
            <a:ext cx="151128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4044960"/>
            <a:ext cx="367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политическ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99600" y="3036240"/>
            <a:ext cx="40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социальн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1440" y="3181320"/>
            <a:ext cx="4643640" cy="1922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Monotype Corsiva"/>
              </a:rPr>
              <a:t>коммерческа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81080" y="87480"/>
            <a:ext cx="9325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3ff53"/>
                </a:solidFill>
                <a:latin typeface="Monotype Corsiva"/>
              </a:rPr>
              <a:t>Реклама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ff53"/>
                </a:solidFill>
                <a:latin typeface="Monotype Corsiva"/>
              </a:rPr>
              <a:t>по восприятию информации</a:t>
            </a: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238932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260496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0496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4360" y="238932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46860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слухов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39480" y="4765320"/>
            <a:ext cx="559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изобразительна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8680" y="4765320"/>
            <a:ext cx="50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ffd9"/>
                </a:solidFill>
                <a:latin typeface="Monotype Corsiva"/>
              </a:rPr>
              <a:t>аудивизуальн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4160" y="3377520"/>
            <a:ext cx="4638600" cy="1008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Monotype Corsiva"/>
              </a:rPr>
              <a:t>вербальна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333360"/>
            <a:ext cx="34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640" y="431640"/>
            <a:ext cx="763272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Формы рекламы</a:t>
            </a:r>
            <a:br>
              <a:rPr sz="6600"/>
            </a:b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249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1.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сувенирная рекла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календ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изделия с надпис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деловые пода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2. прямая рекла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почт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 электро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3.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d9ffd9"/>
                </a:solidFill>
                <a:latin typeface="Monotype Corsiva"/>
              </a:rPr>
              <a:t>наружная рекла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плака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жидкокристалл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- реклама на транспор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6000" y="792000"/>
            <a:ext cx="43974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ffd9"/>
                </a:solidFill>
                <a:latin typeface="Monotype Corsiva"/>
              </a:rPr>
              <a:t>4.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9ffd9"/>
                </a:solidFill>
                <a:latin typeface="Monotype Corsiva"/>
              </a:rPr>
              <a:t>печатная рекла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лист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букл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просп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каталоги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афи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выве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ffd9"/>
                </a:solidFill>
                <a:latin typeface="Monotype Corsiva"/>
              </a:rPr>
              <a:t>5.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d9ffd9"/>
                </a:solidFill>
                <a:latin typeface="Monotype Corsiva"/>
              </a:rPr>
              <a:t>реклама в Интернет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банн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микросай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всплывающая рекл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оплачиваемая рекл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        </a:t>
            </a:r>
            <a:r>
              <a:rPr b="0" lang="ru-RU" sz="2800" spc="-1" strike="noStrike">
                <a:solidFill>
                  <a:srgbClr val="d9ffd9"/>
                </a:solidFill>
                <a:latin typeface="Monotype Corsiva"/>
              </a:rPr>
              <a:t>-  совместные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1757520"/>
            <a:ext cx="561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6.     реклама в пре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7.     реклама в журнал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8.     телевизионная рекл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9.     телефонная реклама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10.   радиорекл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11.   рекламные справочники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12.     </a:t>
            </a: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рекламные брошю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ffd9"/>
                </a:solidFill>
                <a:latin typeface="Monotype Corsiva"/>
              </a:rPr>
              <a:t>13.  информационные бюллет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792000"/>
            <a:ext cx="763272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Формы рекламы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1138320" y="5524560"/>
            <a:ext cx="10146240" cy="916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3ff53"/>
                </a:solidFill>
                <a:latin typeface="Monotype Corsiva"/>
              </a:rPr>
              <a:t>14.  реклама в местах прода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Картинка 13 из 345"/>
          <p:cNvPicPr/>
          <p:nvPr/>
        </p:nvPicPr>
        <p:blipFill>
          <a:blip r:embed="rId1"/>
          <a:stretch/>
        </p:blipFill>
        <p:spPr>
          <a:xfrm>
            <a:off x="4932360" y="2060640"/>
            <a:ext cx="414036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240520" y="105192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устная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53800" y="1844280"/>
            <a:ext cx="304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разгово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98720" y="1844280"/>
            <a:ext cx="36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неразговорн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076360" y="170028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1700280"/>
            <a:ext cx="647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07720"/>
            <a:ext cx="91440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53ff53"/>
                </a:solidFill>
                <a:latin typeface="Monotype Corsiva"/>
              </a:rPr>
              <a:t>Основные признаки устной разговорной реч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неофициа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непринуждён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неподготовлен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 спонтан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 диалоги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0"/>
            <a:ext cx="187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3ff53"/>
                </a:solidFill>
                <a:latin typeface="Monotype Corsiva"/>
              </a:rPr>
              <a:t>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981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исьмен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4920" y="907920"/>
            <a:ext cx="5749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907920"/>
            <a:ext cx="50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492280"/>
            <a:ext cx="58327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художе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науч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делов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ffff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ублицист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729360"/>
            <a:ext cx="9144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На основании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теории речевых жанров М.М. Бахтин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заключаем: сходство жанров общения и устной рекламы в местах продаж очевидно. Ведь реклама в местах продаж -  это е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со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Пластиковые окна //  Скидка 20% // Только у нас / и только до 15 марта // (ТЦ «Город мастеров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Дорогие покупатели // Предлагаем вашему вниманию большой выбор детских летних вещей// Всё для сыночка и дочки! // Они будут неотразимы ! // (магазин «Детский мир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3ff53"/>
                </a:solidFill>
                <a:latin typeface="Monotype Corsiva"/>
              </a:rPr>
              <a:t>прось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Хозяюшка / покупай картошечку // (Центральный рыно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541440" y="0"/>
            <a:ext cx="102268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3ff53"/>
                </a:solidFill>
                <a:latin typeface="Monotype Corsiva"/>
              </a:rPr>
              <a:t>Жанры устной разговорной речи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5:18:14Z</dcterms:created>
  <dc:creator>Гость</dc:creator>
  <dc:description/>
  <dc:language>en-US</dc:language>
  <cp:lastModifiedBy>Рома</cp:lastModifiedBy>
  <dcterms:modified xsi:type="dcterms:W3CDTF">2009-03-12T13:35:27Z</dcterms:modified>
  <cp:revision>24</cp:revision>
  <dc:subject/>
  <dc:title>Слайд 1</dc:title>
</cp:coreProperties>
</file>