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164-0C1A-406C-9011-18D5E362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D3B-CF44-4314-AF34-D6DEDB52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305-B0D6-49E7-82B9-41A244DF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8A9-E87F-4441-AC10-6AF7D642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321-2345-4FD7-B65D-45847348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C69-3A87-44A1-A50B-B8177549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2189-6EA7-47EA-A015-3A4BD21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8C70-C2C2-42C4-9CE3-9B0453B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9EF-E032-4DD6-B750-D357E07C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E1A-D022-45BF-8AD9-870C2416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1E06-E92E-4D52-B22A-0180BD0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94F-3B92-44B0-9EA4-B4015CF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730A-1564-4151-A3CC-16F43EE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C1D-D0A0-4B69-A211-D1129F3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8E9-32D3-44D6-B93D-9B4D7D97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9FD3-9D86-46F5-88A3-AC1C404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2BD6-C94C-4AB4-A512-43ADB2AB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0C2-0CEE-4161-AFA5-62373C1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0CD-3167-46B9-A81B-E4F3632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867-DB65-4FE4-9B31-A51C0DA2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B8D-277A-4BCA-B766-3807BFDA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564-7424-49DF-B446-B9FF570C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D74-296F-49B2-A449-367F324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A29-7F7D-46AE-986F-7FE481B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F88-D872-4485-AE26-5074E847AF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47ED-320A-4580-9E82-27FE705711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62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МОУ «Хомутовская средняя общеобразовательная школа № 1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87280" y="1230120"/>
            <a:ext cx="9612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ff53"/>
                </a:solidFill>
                <a:latin typeface="Monotype Corsiva"/>
              </a:rPr>
              <a:t>Реклама</a:t>
            </a: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в местах  продаж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как  жанр  устной разговорной реч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5920" y="4586400"/>
            <a:ext cx="870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Автор: Черепанова Галина Владимиро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ученица 8б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Руководит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Тропина Алёна Александров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учитель русского языка и литературы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Картинка 75 из 345"/>
          <p:cNvPicPr/>
          <p:nvPr/>
        </p:nvPicPr>
        <p:blipFill>
          <a:blip r:embed="rId1"/>
          <a:stretch/>
        </p:blipFill>
        <p:spPr>
          <a:xfrm>
            <a:off x="106200" y="4078440"/>
            <a:ext cx="309744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1197000"/>
            <a:ext cx="8748720" cy="67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мол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Ну что вы всё ходите? // Ну купите же хоть картошку / хоть морковку на салатик что ли?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Купите лучше этот пенал // Он для девочки как раз подойдёт / и качество лучше //(магазин «Продалитъ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охв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ртошечка / адретта / жёлтая / рассыпчатая / самая вкусная / без масла кушать можно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игла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Уважаемые покупатели // Приглашаем Вас в павильон № 358 / третий этаж // Вас приятно удивят цены /  на демисезонные пальто / и куртки / как для мужчин / так и для женщин // («Торговый комплекс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44360" y="0"/>
            <a:ext cx="975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Жанры устной разговорной речи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770840" y="199800"/>
            <a:ext cx="12552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3ff53"/>
                </a:solidFill>
                <a:latin typeface="Monotype Corsiva"/>
              </a:rPr>
              <a:t>Классификация речевых жан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(по цели воздействия на эмоции или разум адресата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6200"/>
            <a:ext cx="90378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3ff5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побуждающие адресата к какому-либо действию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осьба,   уговоры, мольба, просьба-приказ, требование, прик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обязательность действ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вет, предложение,   разрешение, поуче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3.</a:t>
            </a:r>
            <a:r>
              <a:rPr b="0" lang="en-US" sz="2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положительную оценку объек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одобрение, похвала, обод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4. Жанры, направленные на отрицательную оценку объек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замечание, порицание, упрёк, выговор, обвинение, осуждение, оскорбление, угроза, прокля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5. Жанры, вызывающие расположение адреса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иветствие, представление, знакомство, прощ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6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то, чтобы склонить мнение адресата в свою сторону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 доказательство,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объясне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убеждение.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035000"/>
            <a:ext cx="8964720" cy="10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7. Жанры, направленные на вызов сочувств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етование, жалоб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извинение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8. Жанры, направленные на выражение дружеских отношений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оздравление, пожелание,  напутствие, выражение благодар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игла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9. Жанры, дающие информацию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общение, объя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0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дающие оценку речи говорящего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возражение, соглас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ответы на просьбу, ответ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1. Жанры, дающие оценку ситуации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огноз, предсказ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2. Жанры, направленные на улучшение эмоциона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состоян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болезнование,  сочувствие, утешение, обещ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3. Жанры, направленные на защиту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заговор, обер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4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Жанр, направленный на то, чтобы развеселить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шу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5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 приказа по установленной форм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оманда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89080" y="0"/>
            <a:ext cx="9541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3ff53"/>
                </a:solidFill>
                <a:latin typeface="Monotype Corsiva"/>
              </a:rPr>
              <a:t>Классификация речевых жан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(по цели воздействия на эмоции или разум адресата)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502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Реклама в местах продаж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26160"/>
            <a:ext cx="860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3ff53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POS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-реклам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печатные рекламные материа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цель которых  - поддержать розничную  торговл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19200"/>
            <a:ext cx="914400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buClr>
                <a:srgbClr val="53ff53"/>
              </a:buClr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PRO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-реклам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громкие зазывные речи молод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юдей –  «промоутеров»,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оводящих  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лотерея,  подарки, скидки)  с целью рекла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ого-либо товара  как на улице, так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в крупных магазинах,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личи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ерта таких акций  – работа оплачивается компанией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кламирующей или  производящей продукци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09800"/>
            <a:ext cx="8964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3)  торгово-розничная реклама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носи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локальный характер и сфокусирована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а торговой  точке, продавец сам рекламиру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вой  товар совершенно бесплатн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В самую точку. Реклама в местах продаж куда эффективнее обычной"/>
          <p:cNvPicPr/>
          <p:nvPr/>
        </p:nvPicPr>
        <p:blipFill>
          <a:blip r:embed="rId1"/>
          <a:stretch/>
        </p:blipFill>
        <p:spPr>
          <a:xfrm>
            <a:off x="6948360" y="982800"/>
            <a:ext cx="2016360" cy="15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4 из 285"/>
          <p:cNvPicPr/>
          <p:nvPr/>
        </p:nvPicPr>
        <p:blipFill>
          <a:blip r:embed="rId2"/>
          <a:stretch/>
        </p:blipFill>
        <p:spPr>
          <a:xfrm>
            <a:off x="6516720" y="2637000"/>
            <a:ext cx="2496960" cy="157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85 из 184"/>
          <p:cNvPicPr/>
          <p:nvPr/>
        </p:nvPicPr>
        <p:blipFill>
          <a:blip r:embed="rId3"/>
          <a:stretch/>
        </p:blipFill>
        <p:spPr>
          <a:xfrm>
            <a:off x="108000" y="4842000"/>
            <a:ext cx="2519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324000" y="-442440"/>
            <a:ext cx="979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Стилистика рекламного текста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2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есмотря на такой малый объём текста, реклама располагает богатейшим фондом стилистических  средств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7336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чень важен для рекламного текста выбор формы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бращ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и даже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труктуры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. Молодёжь, например, хорошо воспринимает краткие, молниеносные «речёвки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дключись на ТЕЛЕ 2 / И крутым будешь всегда ! //  (улица Урицк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44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 к «солидным» покупателям нужно уважительное обращени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обстоятельное объяс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упите бруснику / или клюкву // Очень полезная ягода // Сам собирал /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тайге / в экологически чистой зоне / у Байкала // Это же кладез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витаминов! // Берите / женщина / мы Вам хорошую скидку  сделаем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8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322416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2142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рицательная роль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эмоций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ассоциаций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Женщина// Кофточки/ блузочки / рубашки // Подходите / у нас и большие размеры имеются/  на вас подберём .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(Торговая площадь Павла Чекот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2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2)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артошка // Кому картошку? // Чистая / без нитратов / без проволочника // (Центральны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7156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уффикс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мидор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чи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 Огурч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и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 Картош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еч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 // Только что с гряд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оч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/ Хомутовские //   (Центральный рынок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ереносное значение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Сегодня у нас суперакция! // Милые дамы! / для вас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оре подарков/ и сюрпризов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    («Торговый комплекс»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05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овт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65720"/>
            <a:ext cx="8964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Платочки / носовые платочки // Платочки / носовые платочки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-зы / бе-ля-ши / вкусные / свежие / горячие! // По-зы / бе-ля-ши / вкусные /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вежи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 горячие!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3ff53"/>
                </a:solidFill>
                <a:latin typeface="Monotype Corsiva"/>
              </a:rPr>
              <a:t>Просторечны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Свининку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покупаем! // Покупае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свининку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68600" y="21330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Красочные эпитеты</a:t>
            </a:r>
            <a:r>
              <a:rPr b="0" lang="en-US" sz="2800" spc="-1" strike="noStrike">
                <a:solidFill>
                  <a:srgbClr val="53ff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523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уникальный случай, уникальное предложение, замечательную  расчёску, отличное советское  шампанско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461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53ff53"/>
                </a:solidFill>
                <a:latin typeface="Monotype Corsiva"/>
              </a:rPr>
              <a:t>Фразеологиз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На вкус и цвет / товарищи есть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Мы поможем вам подобрать новогодние подарки // 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Мешки для мусора / Мешки для мусора / Новое решение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выносить сор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избы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(рынок 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Мыло Дуру / мыло Дуру// Покупайте мыло Дуру //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Одна пачка хорошо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а набор лучш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Господа / Внимание !// Купите блок Петра / и вы станете участником розыгрыш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призов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 среди которых сумки / зонты / аудиоплееры / и много других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приятных мелочей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 нужных  в хозяйстве // (рынок «Ручей»)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5760" y="0"/>
            <a:ext cx="19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ерифра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1119240" y="-360"/>
            <a:ext cx="1149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Лексика рекламного тек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133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Антонимы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(создают эффект контрас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Берите рыбку / эта по тридцать / но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аленькая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// Эта по пятьдесят / но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большая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// 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92716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Глаголы повелительного наклонен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(служат для выражения волеизъявления -  повеления, просьбы, пожелания, приглашения, приказа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«покупайте, посмотрите, сделайте, подходи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е пропустите, выбирай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8373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илагательные в превосходной степе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подчёркивают высокое качество предме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нежнейший кабачок, самая качественная обув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очень вкусные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68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ри создании рекламного текста  в полном объёме задействов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лексика 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Картинка 754 из 802"/>
          <p:cNvPicPr/>
          <p:nvPr/>
        </p:nvPicPr>
        <p:blipFill>
          <a:blip r:embed="rId1"/>
          <a:stretch/>
        </p:blipFill>
        <p:spPr>
          <a:xfrm>
            <a:off x="6156360" y="3933720"/>
            <a:ext cx="2725560" cy="2725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141560" y="-720"/>
            <a:ext cx="11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3ff53"/>
                </a:solidFill>
                <a:latin typeface="Monotype Corsiva"/>
              </a:rPr>
              <a:t>Синтаксис рекламного текс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0520"/>
            <a:ext cx="914400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нтаксис рекламных текстов рассчитан на быстрое восприят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этому в рекламном тексте происходит предельное упро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нтаксических  единиц. Употребляются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остые, назывные, непол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нераспространённые предлож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трицательные констр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Пицца / горячая пицца // Возьмите пиццу / Нельз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н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соблазниться // (район Центрального  рынк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бращ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Девочки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илые дамы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У нас сегодня суперакция // Покупая порошок Сорти / вы получаете в подарок губку для мытья посуды // Если вы покупаете две пачки порошка / то получаете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т / такую / упаковку порошка для стирки шерстяных вещей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144360" y="765000"/>
            <a:ext cx="928836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1) Пирожки / горячие / с пылу / с жару / очень вкусные // На любой вкус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 мясом / с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картошкой / с капустой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2) Девочки!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3) Шапки / мужские / женские // Подходите // Выбирайте / меряйте /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Вопросительные предло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 вы желаете приобрести свежие / вкусные / помидо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?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Центральный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ff5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Восклицательные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Куры ангарские! // Купите сейчас / придёте ещё раз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53840" y="0"/>
            <a:ext cx="61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Однород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2360" y="109440"/>
            <a:ext cx="864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Цель</a:t>
            </a:r>
            <a:r>
              <a:rPr b="1" lang="en-US" sz="2800" spc="-1" strike="noStrike" u="sng">
                <a:solidFill>
                  <a:srgbClr val="d9ffd9"/>
                </a:solidFill>
                <a:uFillTx/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нашей работы – доказать, что устная реклама в местах прода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является одним из жанров устной разговорной речи.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22240"/>
            <a:ext cx="914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Для осуществления цели мы выделили следующие  </a:t>
            </a: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задачи</a:t>
            </a:r>
            <a:r>
              <a:rPr b="1" lang="en-US" sz="2800" spc="-1" strike="noStrike" u="sng">
                <a:solidFill>
                  <a:srgbClr val="d9ffd9"/>
                </a:solidFill>
                <a:uFillTx/>
                <a:latin typeface="Monotype Corsiva"/>
              </a:rPr>
              <a:t>:</a:t>
            </a:r>
            <a:r>
              <a:rPr b="1" lang="en-US" sz="2400" spc="-1" strike="noStrike" u="sng">
                <a:solidFill>
                  <a:srgbClr val="d9ffd9"/>
                </a:solidFill>
                <a:uFillTx/>
                <a:latin typeface="Monotype Corsiva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1 - проанализировать жанры рекламных текстов, услышанных на рын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 в магазинах  г. Иркутс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2 - определить какие художественные средства использу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в современной рекламе;                                                                                                                         3 - показать  эффективность средств художественной выразительности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рекламном тексте;                                                                                                                                        4 - выявить общие признаки рекламных текстов, используемых в мест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продаж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222880"/>
            <a:ext cx="896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Выдвигаем  </a:t>
            </a: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гипотезу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-   устная реклама в местах прода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                              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стала особой формой  проявления устной ре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084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Инверсия</a:t>
            </a:r>
            <a:r>
              <a:rPr b="0" lang="en-US" sz="2400" spc="-1" strike="noStrike">
                <a:solidFill>
                  <a:srgbClr val="66ff66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привлекает внимание необычным построением фраз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1) Шапки / мужские / женские // Подходите // Выбирайте / меряйте / 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2) Вязаные шарфы / варежки / перчатки // Купите / шерстяные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8944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Цитирование</a:t>
            </a:r>
            <a:r>
              <a:rPr b="0" lang="ru-RU" sz="2400" spc="-1" strike="noStrike">
                <a:solidFill>
                  <a:srgbClr val="66ff66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неточ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Подходи / торопись // Покупай наш ирис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 Скоро новогодняя ночь / а вы без шампанского? // Покупайте у нас отличное советское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шампанское // (Рынок «Северны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) Коль возьмёте чая пачку / карамелька вам впридачу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x1" descr=""/>
          <p:cNvPicPr/>
          <p:nvPr/>
        </p:nvPicPr>
        <p:blipFill>
          <a:blip r:embed="rId1"/>
          <a:stretch/>
        </p:blipFill>
        <p:spPr>
          <a:xfrm>
            <a:off x="-1703520" y="36990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-490320"/>
            <a:ext cx="946800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м удалось выявить общие языковые и жанровые  призна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кламных  текстов, используемых в местах продаж.  На их основе 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ставили следующую классифик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Предло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(привлечение внимания, необязательность покупк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-зы / бе-ля-ши / вкусные / свежие / горячие! // По-зы / бе-ля-ши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вкусные / свежие /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орячие!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Эмали // Краски // Доступные цены //Всё для Вас от отечествен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роизводителей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Распродажа / распродажа // Любая вещь / за десять рублей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Пирожки / горячие / с пылу / с жару / очень вкусные // На любой вкус //  С мясом / с  картошкой / с капустой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Платочки / носовые платочки // Платочки / носовые платочки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92360" y="476280"/>
            <a:ext cx="12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3ff53"/>
                </a:solidFill>
                <a:latin typeface="Monotype Corsiva"/>
              </a:rPr>
              <a:t>Классификация рекламных тек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-1087200"/>
            <a:ext cx="9144000" cy="89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побуждающие адресата к какому-либо действию - просьба, уговоры, мольб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купаем варенье / огурчики // Варенье / огурчики покупаем! // 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Носки / чистый хлопок // Покупайте мужьям и любовникам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Чебуреки / самые горячие! // Покупаем чебуреки! // По двенадцать рубл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/ Чебуреки / горячие! // Покупаем по двенадцать рублей! // (рай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Девочки!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Свининку покупаем! // Покупаем свининку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6) Выбирайте // Курочки / котлеты / печень // Подходите / выбирайте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7) Не проходите мимо // Ёлки только что из лесу // Сделайте подарок детям к Новому году//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9280" y="-475920"/>
            <a:ext cx="8964720" cy="83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66"/>
                </a:solidFill>
                <a:latin typeface="Monotype Corsiva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направленные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обязательность приобретения 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  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совет,  предложение (пром-ак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 Не проходите мимо // Купите средство для мытья окон / Мистер Мускул / и вы получите бесплатно специальную ткань для мытья окон / которая не оставляет разводов на стекле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Милые дамы! // У нас сегодня суперакция // Покупая порошок Сорти / вы получаете в подарок губку для мытья посуды // Если вы покупаете две пачки порошка / то получаете вот / такую / упаковку порошка для стирки шерстяных вещей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Картинка 1 из 7"/>
          <p:cNvPicPr/>
          <p:nvPr/>
        </p:nvPicPr>
        <p:blipFill>
          <a:blip r:embed="rId1"/>
          <a:stretch/>
        </p:blipFill>
        <p:spPr>
          <a:xfrm>
            <a:off x="179280" y="152280"/>
            <a:ext cx="34560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354960"/>
            <a:ext cx="946800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направленные на обязательность приобретения  -  совет, предложение  (использование ритма и риф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Чтобы не мёрзнуть в сибирскую стужу / купите шапку / себе и мужу // 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 Покупайте бананы / будете счастливы в год обезьян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) Шапки / мужские / женские // Подходите // Выбирайте / меряйте / 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4) Шарфы и платочки / для жены и дочки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5) Подходите / поспешите / мимо нас не проходите / сапоги приобретите // 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6) Куры ангарские! // Купите сейчас / придёте ещё раз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7) Купите шампунь / от блох и блошек / для любимых собак и кошек //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8) Наши шашлыки / просто праздник для души // (Знаменс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9) Скорей поспеши/ подарки к Восьмому марта / для тела и души // (Русиновский рынок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-373680"/>
            <a:ext cx="878544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Жанры, дающие информацию - сообщение, объя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( использование фразеологизмов, поговоро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крылатых выраже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Распродажа // Распродажа // Туфли / босоножки // Дешевле только даром // (обувной рынок «Меркури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Чистота / залог здоровья // Покупайте мыло Сэйфгарт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Мясо / куры / утки // Дешевле искать / только время терять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На вкус и цвет / товарищи есть // Мы поможем вам подобрать новогодние подарки //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Делу время / вам час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6) Мешки для мусора / Мешки для мусора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Новое решение выносить сор из изб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ынок 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Картинка 25 из 184"/>
          <p:cNvPicPr/>
          <p:nvPr/>
        </p:nvPicPr>
        <p:blipFill>
          <a:blip r:embed="rId1"/>
          <a:srcRect l="0" t="0" r="0" b="16490"/>
          <a:stretch/>
        </p:blipFill>
        <p:spPr>
          <a:xfrm>
            <a:off x="5351400" y="4200480"/>
            <a:ext cx="368460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629440"/>
            <a:ext cx="91440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нализируя тексты рекламы на месте продажи, можно сделать вывод: неиссякаема народная выдумка и смека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ходство жанров  общения и устной рекламы в местах продаж очевидно. Она обладает  всеми присущими разговор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ечи признак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оэтому,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устную рекламу в мест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родаж  можно считать жан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устной разговорной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Monotype Corsiv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-80964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Заключе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оздание рекламы – это весьма сложное искусство, которое подчиняется не только своим законам, но и литературной н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еклама — творческий процесс, требующий и коммерческих знаний, и соответствующего образования,  и художественного вкуса. Одними из основных требований к рекламному тексту являются краткость, сжатость, выразительность слога, стиля, доступность для поним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08720" y="4152960"/>
            <a:ext cx="34509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-1279800"/>
            <a:ext cx="9144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ff53"/>
                </a:solidFill>
                <a:latin typeface="Monotype Corsiv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. Альбеткова Р.И. Русская словесность: От слова к словесности: Учеб. для 8 кл. общеобразоват. учреждений. – 4-е изд., стереотип. – М.: Дрофа, 2004. – 32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. Барлас Л.Г. Русский язык. Стилистика. – М., 1978. 25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. Бахтин М.М. Проблема речевых жанров. – М., 198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. Бушелева Б. Поговорим о воспитанности. – М.: Просвещение, 1980. – 15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5. Гергесова Л. Промоутер как двигатель торговли// СМ Номер один. – 2004.  –  от 15 апр.– с.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6. Гузина О.С. Лингвистический анализ текста: Пособие для вузов. – Иркутск, 2002. – 19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7.  Дубовицкая Ю.В. Русский язык: Рекламный текст. М.: Материк-Альфа, 2007.- 15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8. Кожина М.Н. Стилистика русского языка: Учеб. пособие для студентов фак. рус. яз.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литературы пед. ин-тов. – М.: Просвещение, 1977. – 22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9. Мудров А.Н. Основы рекламы: Учебник для вузов. – М.: Экономистъ, 2006.- 319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0. Незайкин А.Н. Рекламное дело. – М., 2006. – 3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1. Плёнкин Н.А. Стилистика русского языка в старших классах: Пособие для учителя.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М.: Просвещение, 1975. – 14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2. Розенталь Д.Э. Практическая стилистика русского языка. – М., 1968. – 41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3. Сиротинина О.Б. Что и зачем нужно знать учителю о русской разговорной речи: Пособ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ля учителя. – М.: Просвещение, 1996. – 175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4. Толковый словарь русского языка / Под ред. Д.Н. Ушакова. – М., 1973. – Т.1-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6. Федосюк М.Ю. Нерешённые вопросы теории речевых жанров // Вопросы языкознания.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997. - №5 . – с. 102 – 11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7. Формановская Н.И. Вы сказали: «Здравствуйте!» Речевой этикет в нашем общении.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М.: Знание, 198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912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       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Термин </a:t>
            </a:r>
            <a:r>
              <a:rPr b="1" lang="ru-RU" sz="2800" spc="-1" strike="noStrike">
                <a:solidFill>
                  <a:srgbClr val="53ff53"/>
                </a:solidFill>
                <a:latin typeface="Monotype Corsiva"/>
              </a:rPr>
              <a:t>«реклама»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 происходит от латинского слова «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reklamare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», что значит «громко кричать» или «извещать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7520" y="21600"/>
            <a:ext cx="462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ff53"/>
                </a:solidFill>
                <a:latin typeface="Monotype Corsiva"/>
              </a:rPr>
              <a:t>Основы  рекла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3380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Устный рекламный текст совмещает в себе функции </a:t>
            </a:r>
            <a:r>
              <a:rPr b="1" lang="en-US" sz="2800" spc="-1" strike="noStrike">
                <a:solidFill>
                  <a:srgbClr val="53ff53"/>
                </a:solidFill>
                <a:latin typeface="Monotype Corsiva"/>
              </a:rPr>
              <a:t>публицистического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 </a:t>
            </a:r>
            <a:r>
              <a:rPr b="1" lang="en-US" sz="2800" spc="-1" strike="noStrike">
                <a:solidFill>
                  <a:srgbClr val="53ff53"/>
                </a:solidFill>
                <a:latin typeface="Monotype Corsiva"/>
              </a:rPr>
              <a:t>разговорного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стилей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(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нформативную, воздействующую и коммуникативную) и становится особым жанром устной разговорной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Картинка 49 из 345"/>
          <p:cNvPicPr/>
          <p:nvPr/>
        </p:nvPicPr>
        <p:blipFill>
          <a:blip r:embed="rId1"/>
          <a:stretch/>
        </p:blipFill>
        <p:spPr>
          <a:xfrm>
            <a:off x="4211640" y="3319560"/>
            <a:ext cx="4608360" cy="33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 из 37"/>
          <p:cNvPicPr/>
          <p:nvPr/>
        </p:nvPicPr>
        <p:blipFill>
          <a:blip r:embed="rId2"/>
          <a:stretch/>
        </p:blipFill>
        <p:spPr>
          <a:xfrm>
            <a:off x="144360" y="3346560"/>
            <a:ext cx="3851280" cy="3298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8604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ff53"/>
                </a:solidFill>
                <a:latin typeface="Monotype Corsiva"/>
              </a:rPr>
              <a:t>        </a:t>
            </a:r>
            <a:r>
              <a:rPr b="1" lang="en-US" sz="6600" spc="-1" strike="noStrike">
                <a:solidFill>
                  <a:srgbClr val="53ff53"/>
                </a:solidFill>
                <a:latin typeface="Monotype Corsiva"/>
              </a:rPr>
              <a:t>Виды  реклам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3280" y="1884240"/>
            <a:ext cx="18734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129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1812960"/>
            <a:ext cx="15112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4044960"/>
            <a:ext cx="36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политическ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9600" y="3036240"/>
            <a:ext cx="40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социальн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1440" y="3181320"/>
            <a:ext cx="4643640" cy="192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Monotype Corsiva"/>
              </a:rPr>
              <a:t>коммерческа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81080" y="87480"/>
            <a:ext cx="9325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3ff53"/>
                </a:solidFill>
                <a:latin typeface="Monotype Corsiva"/>
              </a:rPr>
              <a:t>Реклам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ff53"/>
                </a:solidFill>
                <a:latin typeface="Monotype Corsiva"/>
              </a:rPr>
              <a:t>по восприятию информации</a:t>
            </a: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238932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260496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0496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238932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686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слухов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39480" y="4765320"/>
            <a:ext cx="559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изобразительн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8680" y="476532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аудивизуаль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4160" y="3377520"/>
            <a:ext cx="4638600" cy="100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Monotype Corsiva"/>
              </a:rPr>
              <a:t>вербальн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34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431640"/>
            <a:ext cx="76327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Формы рекламы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249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1.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сувенир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календ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изделия с надпис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деловые под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2. прям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почт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электр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3.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наруж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плака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жидкокрис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реклама на транспор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6000" y="792000"/>
            <a:ext cx="43974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4.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печат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лист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букл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просп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каталоги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афи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выв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5.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реклама в Интерне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банн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микрос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всплывающ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оплачиваем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совместны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757520"/>
            <a:ext cx="56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6.     реклама в пре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7.     реклама в журна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8.     телевизионн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9.     телефонная реклама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0.   радио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1.   рекламные справочники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12.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рекламные брошю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3.  информационные бюллет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792000"/>
            <a:ext cx="76327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Формы рекламы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1138320" y="5524560"/>
            <a:ext cx="10146240" cy="916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14.  реклама в местах прода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13 из 345"/>
          <p:cNvPicPr/>
          <p:nvPr/>
        </p:nvPicPr>
        <p:blipFill>
          <a:blip r:embed="rId1"/>
          <a:stretch/>
        </p:blipFill>
        <p:spPr>
          <a:xfrm>
            <a:off x="4932360" y="2060640"/>
            <a:ext cx="414036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40520" y="105192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устная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53800" y="1844280"/>
            <a:ext cx="304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разгово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98720" y="1844280"/>
            <a:ext cx="36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неразговор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76360" y="170028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170028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7720"/>
            <a:ext cx="91440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Основные признаки устной разговорной ре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официа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принуждё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подготовлен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 спонта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 диалоги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0"/>
            <a:ext cx="18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981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исьме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4920" y="907920"/>
            <a:ext cx="574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907920"/>
            <a:ext cx="50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492280"/>
            <a:ext cx="58327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худож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науч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дело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ублицист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72936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а основании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теории речевых жанров М.М. Бахтин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заключаем: сходство жанров общения и устной рекламы в местах продаж очевидно. Ведь реклама в местах продаж -  это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со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ластиковые окна //  Скидка 20% // Только у нас / и только до 15 марта // (ТЦ «Город мастеров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Дорогие покупатели // Предлагаем вашему вниманию большой выбор детских летних вещей// Всё для сыночка и дочки! // Они будут неотразимы ! // (магазин «Детский мир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прос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Хозяюшка / покупай картошечку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541440" y="0"/>
            <a:ext cx="10226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Жанры устной разговорной речи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5:18:14Z</dcterms:created>
  <dc:creator>Гость</dc:creator>
  <dc:description/>
  <dc:language>en-US</dc:language>
  <cp:lastModifiedBy>Рома</cp:lastModifiedBy>
  <dcterms:modified xsi:type="dcterms:W3CDTF">2009-03-12T13:35:27Z</dcterms:modified>
  <cp:revision>24</cp:revision>
  <dc:subject/>
  <dc:title>Слайд 1</dc:title>
</cp:coreProperties>
</file>