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58.jpeg" ContentType="image/jpeg"/>
  <Override PartName="/ppt/media/image28.jpeg" ContentType="image/jpeg"/>
  <Override PartName="/ppt/media/image51.jpeg" ContentType="image/jpeg"/>
  <Override PartName="/ppt/media/image11.gif" ContentType="image/gif"/>
  <Override PartName="/ppt/media/image5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61.jpeg" ContentType="image/jpeg"/>
  <Override PartName="/ppt/media/image25.jpeg" ContentType="image/jpeg"/>
  <Override PartName="/ppt/media/image32.png" ContentType="image/png"/>
  <Override PartName="/ppt/media/image36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27.png" ContentType="image/png"/>
  <Override PartName="/ppt/media/image33.jpeg" ContentType="image/jpeg"/>
  <Override PartName="/ppt/media/image6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7.jpeg" ContentType="image/jpeg"/>
  <Override PartName="/ppt/media/image38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9.jpeg" ContentType="image/jpeg"/>
  <Override PartName="/ppt/media/image54.jpeg" ContentType="image/jpeg"/>
  <Override PartName="/ppt/media/image52.jpeg" ContentType="image/jpeg"/>
  <Override PartName="/ppt/media/image13.png" ContentType="image/png"/>
  <Override PartName="/ppt/media/image1.png" ContentType="image/png"/>
  <Override PartName="/ppt/media/image10.gif" ContentType="image/gif"/>
  <Override PartName="/ppt/media/image53.jpeg" ContentType="image/jpeg"/>
  <Override PartName="/ppt/media/image20.jpeg" ContentType="image/jpeg"/>
  <Override PartName="/ppt/media/image30.jpeg" ContentType="image/jpeg"/>
  <Override PartName="/ppt/media/image31.jpeg" ContentType="image/jpeg"/>
  <Override PartName="/ppt/media/image34.jpeg" ContentType="image/jpeg"/>
  <Override PartName="/ppt/media/image35.jpeg" ContentType="image/jpeg"/>
  <Override PartName="/ppt/media/image47.png" ContentType="image/png"/>
  <Override PartName="/ppt/media/image40.jpeg" ContentType="image/jpeg"/>
  <Override PartName="/ppt/media/image44.png" ContentType="image/png"/>
  <Override PartName="/ppt/media/image57.jpeg" ContentType="image/jpeg"/>
  <Override PartName="/ppt/media/image45.png" ContentType="image/png"/>
  <Override PartName="/ppt/media/image46.png" ContentType="image/png"/>
  <Override PartName="/ppt/media/image48.jpeg" ContentType="image/jpeg"/>
  <Override PartName="/ppt/media/image49.jpeg" ContentType="image/jpeg"/>
  <Override PartName="/ppt/media/image50.jpeg" ContentType="image/jpeg"/>
  <Override PartName="/ppt/media/image43.png" ContentType="image/png"/>
  <Override PartName="/ppt/media/image55.jpeg" ContentType="image/jpeg"/>
  <Override PartName="/ppt/media/image5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1FE3E-7954-44BC-8F51-92CCAD3AF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8CEA4-5839-404C-8BE6-3BE88FDF6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3E3D3-6604-472B-B001-BE52FB2E4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A02FF-8F08-4CC3-A151-DECF2F983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A5CD6-96AE-40BF-87B4-B1C1C41EE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ACE2C-493C-48C3-8FBE-DF7F7816A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36A02-DAC3-4413-B4ED-66AE94C52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D48CC-00CB-4786-8245-4BD34D80C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59B8B-972A-47CC-86B3-B0B9AB19F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4150E-F4A5-4F88-A2E7-0B9FC57A6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A40DD-4902-47CC-B1B4-20FFAEE2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BB604-391E-494C-8087-5928790A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137CC-D209-43BB-91DE-2A138EAE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38009-3947-4D6A-8C5A-3475C954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3122F-7A65-4166-BC71-2F060A9A4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927D4-3405-4C7A-A2B9-9AB7A5B11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CE444-5AE4-4C03-8BAB-7B66BBF5B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9E919-0B3B-4F5A-BFB6-A37CD1A64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769B8-72BE-4700-92EA-7D932F94D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81A4F-7F63-465D-A0A7-9456BE650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D1522-A7E1-47BD-9C90-ABC4EFE0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235DE-626D-4AFA-A993-7339B533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D39CF-A00E-48A8-A250-02EC5EA0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184F6-E78B-4FB5-8E54-1C784DEA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BDCB4-8D1E-4663-AA97-D80B0CEE18D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0533F-DB50-44EC-A162-DBDB7FC95A6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00360" y="1371600"/>
            <a:ext cx="590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рок черчения:</a:t>
            </a:r>
            <a:r>
              <a:rPr b="0" lang="ru-RU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i="1" lang="ru-RU" sz="5400" spc="-1" strike="noStrike">
                <a:solidFill>
                  <a:srgbClr val="ffffff"/>
                </a:solidFill>
                <a:latin typeface="Arial"/>
              </a:rPr>
              <a:t>«Построение видов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16360" y="4653000"/>
            <a:ext cx="579096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форме деловой игры «Путешествие по странам, где зарождалась наука черчение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Рисунок 8" descr="C:\Documents and Settings\1\Рабочий стол\Новая папка (4)\8.jpg"/>
          <p:cNvPicPr/>
          <p:nvPr/>
        </p:nvPicPr>
        <p:blipFill>
          <a:blip r:embed="rId1"/>
          <a:stretch/>
        </p:blipFill>
        <p:spPr>
          <a:xfrm>
            <a:off x="6300720" y="1916280"/>
            <a:ext cx="2667240" cy="3456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03280" y="457200"/>
            <a:ext cx="3816360" cy="26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Все храмы древнего Египта имели в интерьере роспись.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Рисунок 5" descr="C:\Documents and Settings\1\Рабочий стол\Новая папка (4)\new-6.jpg"/>
          <p:cNvPicPr/>
          <p:nvPr/>
        </p:nvPicPr>
        <p:blipFill>
          <a:blip r:embed="rId2"/>
          <a:stretch/>
        </p:blipFill>
        <p:spPr>
          <a:xfrm>
            <a:off x="250920" y="404640"/>
            <a:ext cx="3025800" cy="274824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6" descr="C:\Documents and Settings\1\Рабочий стол\Новая папка (4)\12.gif"/>
          <p:cNvPicPr/>
          <p:nvPr/>
        </p:nvPicPr>
        <p:blipFill>
          <a:blip r:embed="rId3"/>
          <a:stretch/>
        </p:blipFill>
        <p:spPr>
          <a:xfrm>
            <a:off x="684360" y="3284640"/>
            <a:ext cx="2205000" cy="273672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7" descr="C:\Documents and Settings\1\Рабочий стол\Новая папка (4)\11.gif"/>
          <p:cNvPicPr/>
          <p:nvPr/>
        </p:nvPicPr>
        <p:blipFill>
          <a:blip r:embed="rId4"/>
          <a:stretch/>
        </p:blipFill>
        <p:spPr>
          <a:xfrm>
            <a:off x="3564000" y="3141720"/>
            <a:ext cx="2279520" cy="2808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435640" y="456840"/>
            <a:ext cx="3457440" cy="24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500" spc="-1" strike="noStrike">
                <a:solidFill>
                  <a:srgbClr val="ffffff"/>
                </a:solidFill>
                <a:latin typeface="Arial"/>
              </a:rPr>
              <a:t>Колонна- изобретение египетских архитекторов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Рисунок 9" descr="C:\Documents and Settings\1\Рабочий стол\Новая папка (4)\img6.gif"/>
          <p:cNvPicPr/>
          <p:nvPr/>
        </p:nvPicPr>
        <p:blipFill>
          <a:blip r:embed="rId1"/>
          <a:stretch/>
        </p:blipFill>
        <p:spPr>
          <a:xfrm>
            <a:off x="1403280" y="836640"/>
            <a:ext cx="3765600" cy="491796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10" descr="C:\Documents and Settings\1\Рабочий стол\Новая папка (4)\1.gif"/>
          <p:cNvPicPr/>
          <p:nvPr/>
        </p:nvPicPr>
        <p:blipFill>
          <a:blip r:embed="rId2"/>
          <a:stretch/>
        </p:blipFill>
        <p:spPr>
          <a:xfrm>
            <a:off x="4716360" y="2924280"/>
            <a:ext cx="4114800" cy="3017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2608200" cy="513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Задание для экипажей, инженеров: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 наглядным изображениям деталей найти среди заданных изображений главные виды,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иды сверху,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лева и смонтировать на классной доске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проекционной связ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00360" y="476280"/>
            <a:ext cx="38163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5" descr="DSC08223"/>
          <p:cNvPicPr/>
          <p:nvPr/>
        </p:nvPicPr>
        <p:blipFill>
          <a:blip r:embed="rId1"/>
          <a:stretch/>
        </p:blipFill>
        <p:spPr>
          <a:xfrm>
            <a:off x="4500720" y="476280"/>
            <a:ext cx="3816360" cy="5551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Задание штурманам: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гадать кроссворд и прочитать название страны, в которую мы ед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spcBef>
                <a:spcPts val="601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 чего всегда необходимо начинать построение чертежа деталей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8120" indent="-528120">
              <a:spcBef>
                <a:spcPts val="601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Обозначение на чертеже горизонтальной плоскости проекц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8120" indent="-528120">
              <a:spcBef>
                <a:spcPts val="601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Название вида на чертеже, содержащего наибольшую информацию о предмет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8120" indent="-528120">
              <a:spcBef>
                <a:spcPts val="601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ростейший чертежный инструмен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8120" indent="-528120">
              <a:spcBef>
                <a:spcPts val="601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Инструмент для измер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8120" indent="-528120">
              <a:spcBef>
                <a:spcPts val="601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одина оригами – искусства создания форм из бумаги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148000" y="476280"/>
            <a:ext cx="3538440" cy="455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английской архитектур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на протяжении 16 в. готическая традиция изживалась медленно и постепенно. Приглашенные Генрихом VIII итальянские мастера познакомили Англию с искусством Ренессанса.</a:t>
            </a: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7" descr="19"/>
          <p:cNvPicPr/>
          <p:nvPr/>
        </p:nvPicPr>
        <p:blipFill>
          <a:blip r:embed="rId1"/>
          <a:stretch/>
        </p:blipFill>
        <p:spPr>
          <a:xfrm>
            <a:off x="324000" y="333360"/>
            <a:ext cx="4824360" cy="5832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едущим типом в английской архитектуре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 начала 17 в. оставался загородный замок,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де особенно ярко проявился характерный для Англии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ульт дома и домашнего уют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4" descr="1238356481_pic_id2015"/>
          <p:cNvPicPr/>
          <p:nvPr/>
        </p:nvPicPr>
        <p:blipFill>
          <a:blip r:embed="rId1"/>
          <a:stretch/>
        </p:blipFill>
        <p:spPr>
          <a:xfrm>
            <a:off x="250920" y="2276640"/>
            <a:ext cx="4392360" cy="3267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1238356549_pic_id2012"/>
          <p:cNvPicPr/>
          <p:nvPr/>
        </p:nvPicPr>
        <p:blipFill>
          <a:blip r:embed="rId2"/>
          <a:stretch/>
        </p:blipFill>
        <p:spPr>
          <a:xfrm>
            <a:off x="4716360" y="2276640"/>
            <a:ext cx="4248360" cy="3152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0920" y="4437000"/>
            <a:ext cx="590544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ак выглядит выстроенный в 1605—1612 гг. Хэтфилд-хауз (архитектор Роберт Лайминг) с нарядным южным фасадом — здесь арки первого этажа и прямоугольные окна расчлененного пилястрами и завершенного ажурной балюстрадой второго этажа обнаруживают воздействие раннего французского Ренессанса.</a:t>
            </a: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Рисунок 1" descr="C:\Documents and Settings\1\Рабочий стол\Новая папка (4)\000522.jpg"/>
          <p:cNvPicPr/>
          <p:nvPr/>
        </p:nvPicPr>
        <p:blipFill>
          <a:blip r:embed="rId1"/>
          <a:stretch/>
        </p:blipFill>
        <p:spPr>
          <a:xfrm>
            <a:off x="1835280" y="404640"/>
            <a:ext cx="6526080" cy="373572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2" descr="C:\Documents and Settings\1\Рабочий стол\Новая папка (4)\000064.jpg"/>
          <p:cNvPicPr/>
          <p:nvPr/>
        </p:nvPicPr>
        <p:blipFill>
          <a:blip r:embed="rId2"/>
          <a:stretch/>
        </p:blipFill>
        <p:spPr>
          <a:xfrm>
            <a:off x="6300720" y="4292640"/>
            <a:ext cx="2530440" cy="1712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замке Холланд-хауз того же времени преобладают нидерландские, а проявляются ренессансные черты, восходящие к традициям тех или иных континентальных государств, где в это время завершавшая свое развитие архитектура Возрождения вытеснялась уже стилем барокко.</a:t>
            </a: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Рисунок 3" descr="C:\Documents and Settings\1\Рабочий стол\Новая папка (4)\000523.jpg"/>
          <p:cNvPicPr/>
          <p:nvPr/>
        </p:nvPicPr>
        <p:blipFill>
          <a:blip r:embed="rId1"/>
          <a:stretch/>
        </p:blipFill>
        <p:spPr>
          <a:xfrm>
            <a:off x="1763640" y="1844640"/>
            <a:ext cx="6264360" cy="4280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18920" y="457200"/>
            <a:ext cx="2521080" cy="549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длеянская библиотека в Оксфорде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613-1618 гг. Центральная часть фасада.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университетских городах Оксфорде и Кембридже интерес к античности отражается в новых пристройках к старым готическим колледжа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Рисунок 4" descr="C:\Documents and Settings\1\Рабочий стол\Новая папка (4)\000524.jpg"/>
          <p:cNvPicPr/>
          <p:nvPr/>
        </p:nvPicPr>
        <p:blipFill>
          <a:blip r:embed="rId1"/>
          <a:stretch/>
        </p:blipFill>
        <p:spPr>
          <a:xfrm>
            <a:off x="4643280" y="404640"/>
            <a:ext cx="4075200" cy="5627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03640" y="475920"/>
            <a:ext cx="382752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Иниго Джонс. Дворец Уайтхолл в Лондоне. Проект. До 1619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1280" y="3644640"/>
            <a:ext cx="4365360" cy="23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рупнейшая архитектурная работа Иниго Джонса — дворец Уайтхолл в Лондоне — не была осуществлена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з всего этого замысла была осуществлена лишь небольшая часть. Однако и этот фрагмент, известный под названием Банкеттинг-хауз (Дом для банкетов, 1619—1622), вполне характеризует творчество Иниго Джонс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Рисунок 7" descr="C:\Documents and Settings\1\Рабочий стол\Новая папка (4)\000065.jpg"/>
          <p:cNvPicPr/>
          <p:nvPr/>
        </p:nvPicPr>
        <p:blipFill>
          <a:blip r:embed="rId1"/>
          <a:stretch/>
        </p:blipFill>
        <p:spPr>
          <a:xfrm>
            <a:off x="179280" y="404640"/>
            <a:ext cx="4824360" cy="259272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6" descr="C:\Documents and Settings\1\Рабочий стол\Новая папка (4)\000525.jpg"/>
          <p:cNvPicPr/>
          <p:nvPr/>
        </p:nvPicPr>
        <p:blipFill>
          <a:blip r:embed="rId2"/>
          <a:stretch/>
        </p:blipFill>
        <p:spPr>
          <a:xfrm>
            <a:off x="5330880" y="2349360"/>
            <a:ext cx="3483000" cy="3700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95480" y="1371240"/>
            <a:ext cx="5997600" cy="277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«Чтобы понять настоящее, изучайте прошлое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788000" y="4869000"/>
            <a:ext cx="3744720" cy="84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и слова принадлежат историку Полибе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292720" y="333000"/>
            <a:ext cx="3851280" cy="33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 же черты сказались и в третьей работе Джонса — небольшой лондонской церкви св. Павла в Ковентгардене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Лондон, закончена в 1631г.).</a:t>
            </a: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6920" y="4508280"/>
            <a:ext cx="4032360" cy="13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 английский архитектор снова истолковал по-своему традиционную фасадную композицию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Рисунок 8" descr="C:\Documents and Settings\1\Рабочий стол\Новая папка (4)\000066.jpg"/>
          <p:cNvPicPr/>
          <p:nvPr/>
        </p:nvPicPr>
        <p:blipFill>
          <a:blip r:embed="rId1"/>
          <a:stretch/>
        </p:blipFill>
        <p:spPr>
          <a:xfrm>
            <a:off x="179280" y="404640"/>
            <a:ext cx="4897440" cy="384516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9" descr="C:\Documents and Settings\1\Рабочий стол\Новая папка (4)\000067.jpg"/>
          <p:cNvPicPr/>
          <p:nvPr/>
        </p:nvPicPr>
        <p:blipFill>
          <a:blip r:embed="rId2"/>
          <a:stretch/>
        </p:blipFill>
        <p:spPr>
          <a:xfrm>
            <a:off x="5508720" y="3646440"/>
            <a:ext cx="3171600" cy="2282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2679840" cy="30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сно связанным с архитектурой было английское прикладное искусство</a:t>
            </a: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99640" y="4941720"/>
            <a:ext cx="3429000" cy="9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Алтарная преграда капеллы Королевского колледжа в Кембридже. 1533-1535 г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Рисунок 10" descr="C:\Documents and Settings\1\Рабочий стол\Новая папка (4)\000521.jpg"/>
          <p:cNvPicPr/>
          <p:nvPr/>
        </p:nvPicPr>
        <p:blipFill>
          <a:blip r:embed="rId1"/>
          <a:stretch/>
        </p:blipFill>
        <p:spPr>
          <a:xfrm>
            <a:off x="4332240" y="476280"/>
            <a:ext cx="4403880" cy="5616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Задание для экипажей, инженеров: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ано пять проекций и пять моделей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йдите один и тот же ползун на чертеже и на техническом рисунк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678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4" descr="DSC08221"/>
          <p:cNvPicPr/>
          <p:nvPr/>
        </p:nvPicPr>
        <p:blipFill>
          <a:blip r:embed="rId1"/>
          <a:stretch/>
        </p:blipFill>
        <p:spPr>
          <a:xfrm>
            <a:off x="1692360" y="1986120"/>
            <a:ext cx="6767280" cy="4108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87280" y="1916280"/>
            <a:ext cx="3313440" cy="34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Задание штурманам: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ределите какому рисунку, обозначенному цифрой, соответствует чертеж, обозначенный букв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32360" y="404280"/>
            <a:ext cx="3903840" cy="56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4" descr="DSC08217"/>
          <p:cNvPicPr/>
          <p:nvPr/>
        </p:nvPicPr>
        <p:blipFill>
          <a:blip r:embed="rId1"/>
          <a:stretch/>
        </p:blipFill>
        <p:spPr>
          <a:xfrm>
            <a:off x="4859280" y="333360"/>
            <a:ext cx="3973680" cy="5732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55280" y="2637000"/>
            <a:ext cx="2895480" cy="15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Людвиг ван Бетховен</a:t>
            </a:r>
            <a:br>
              <a:rPr sz="35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1770-1875 гг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708360" y="333000"/>
            <a:ext cx="439272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3708360" y="404640"/>
            <a:ext cx="4425840" cy="5732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Герман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типично большое количество сооружений, воздвигнутых в переходном от романского к готическому  стилю.</a:t>
            </a: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8" descr="лимбург на лане1"/>
          <p:cNvPicPr/>
          <p:nvPr/>
        </p:nvPicPr>
        <p:blipFill>
          <a:blip r:embed="rId1"/>
          <a:stretch/>
        </p:blipFill>
        <p:spPr>
          <a:xfrm>
            <a:off x="1692360" y="1773360"/>
            <a:ext cx="3241440" cy="43225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лимбург на лане2"/>
          <p:cNvPicPr/>
          <p:nvPr/>
        </p:nvPicPr>
        <p:blipFill>
          <a:blip r:embed="rId2"/>
          <a:stretch/>
        </p:blipFill>
        <p:spPr>
          <a:xfrm>
            <a:off x="5430960" y="1773360"/>
            <a:ext cx="3238200" cy="4322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716000" y="3644640"/>
            <a:ext cx="4211640" cy="225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вым зданием Рейнской области, в котором ярко выражены принципы готического стиля, является церковь Богоматери в Трире</a:t>
            </a: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6" descr="церковь Богоматери в Трире3"/>
          <p:cNvPicPr/>
          <p:nvPr/>
        </p:nvPicPr>
        <p:blipFill>
          <a:blip r:embed="rId1"/>
          <a:srcRect l="0" t="59259" r="0" b="7115"/>
          <a:stretch/>
        </p:blipFill>
        <p:spPr>
          <a:xfrm>
            <a:off x="2987640" y="476280"/>
            <a:ext cx="5145120" cy="2448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церковь Богоматери в Трире2"/>
          <p:cNvPicPr/>
          <p:nvPr/>
        </p:nvPicPr>
        <p:blipFill>
          <a:blip r:embed="rId2"/>
          <a:stretch/>
        </p:blipFill>
        <p:spPr>
          <a:xfrm>
            <a:off x="179280" y="2997360"/>
            <a:ext cx="4535640" cy="3065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3111480" cy="24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амятником более зрелого стиля является церковь св. Елизаветы в Марбурге (один из самых ранних готических храмов зального типа).</a:t>
            </a: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6" descr="церковь Елизаветы в Марбурге"/>
          <p:cNvPicPr/>
          <p:nvPr/>
        </p:nvPicPr>
        <p:blipFill>
          <a:blip r:embed="rId1"/>
          <a:stretch/>
        </p:blipFill>
        <p:spPr>
          <a:xfrm>
            <a:off x="4897440" y="404640"/>
            <a:ext cx="3610080" cy="562644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2" descr="C:\Documents and Settings\1\Рабочий стол\Новая папка (4)\image002.jpg"/>
          <p:cNvPicPr/>
          <p:nvPr/>
        </p:nvPicPr>
        <p:blipFill>
          <a:blip r:embed="rId2"/>
          <a:stretch/>
        </p:blipFill>
        <p:spPr>
          <a:xfrm>
            <a:off x="1403280" y="3141720"/>
            <a:ext cx="1752840" cy="2701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3111480" cy="181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то вытянутое одноэтажное здание с изящной балюстрадой по карнизу — наиболее удачный пример немецкого рококо.</a:t>
            </a: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436720" y="3644640"/>
            <a:ext cx="370692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Бранденбургские ворота в Берлине (1788—1791 гг.), образцом для которых архитектор Карл Гот хард Лангханс (1732—1808) избрал Пропилеи — парадный вход на Акрополь в Афинах. Гигантское сооружение Лангханса с двенадцатью стоящими попарно колоннами, скорее мрачное, чем величественное, демонстративно торжественное, оказалось очень созвучно архитектуре следующего, XIX столетия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Рисунок 6" descr="C:\Documents and Settings\1\Рабочий стол\Новая папка (4)\pic221_italay.jpg"/>
          <p:cNvPicPr/>
          <p:nvPr/>
        </p:nvPicPr>
        <p:blipFill>
          <a:blip r:embed="rId1"/>
          <a:stretch/>
        </p:blipFill>
        <p:spPr>
          <a:xfrm>
            <a:off x="4211640" y="404640"/>
            <a:ext cx="4653000" cy="2602080"/>
          </a:xfrm>
          <a:prstGeom prst="rect">
            <a:avLst/>
          </a:prstGeom>
          <a:ln w="0">
            <a:noFill/>
          </a:ln>
        </p:spPr>
      </p:pic>
      <p:pic>
        <p:nvPicPr>
          <p:cNvPr id="193" name="Рисунок 12" descr="C:\Documents and Settings\1\Рабочий стол\Новая папка (4)\pic227_italay.jpg"/>
          <p:cNvPicPr/>
          <p:nvPr/>
        </p:nvPicPr>
        <p:blipFill>
          <a:blip r:embed="rId2"/>
          <a:stretch/>
        </p:blipFill>
        <p:spPr>
          <a:xfrm>
            <a:off x="324000" y="3284640"/>
            <a:ext cx="5076720" cy="2684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03640" y="549360"/>
            <a:ext cx="370872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ышность убранства, стремление к своеобразной архитектурной игре характерны для большинства построек Саксонии в стиле барокко, в том числе и храмовых. Такова дворцовая церковь в Дрездене (1738— 1756 гг.), созданная архитектором Гаэтано Кьявери (1689—1770).</a:t>
            </a: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24000" y="4114440"/>
            <a:ext cx="40320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ебольшой одноэтажный дворец Амалиенбург. Позднее он стал частью Нимфенбурга — загородной резиденции королей Баварии (она расположена к западу от Мюнхена). Интерьеры дворца выполнены в стиле рококо, однако по сравнению с французскими образцами они более пышные и немного тяжеловесные. Внешний облик дворца, напротив, отличается изящество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Рисунок 4" descr="C:\Documents and Settings\1\Рабочий стол\Новая папка (4)\pic219_italay.jpg"/>
          <p:cNvPicPr/>
          <p:nvPr/>
        </p:nvPicPr>
        <p:blipFill>
          <a:blip r:embed="rId1"/>
          <a:stretch/>
        </p:blipFill>
        <p:spPr>
          <a:xfrm>
            <a:off x="179280" y="404640"/>
            <a:ext cx="4608720" cy="305784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5" descr="C:\Documents and Settings\1\Рабочий стол\Новая папка (4)\pic220_italay.jpg"/>
          <p:cNvPicPr/>
          <p:nvPr/>
        </p:nvPicPr>
        <p:blipFill>
          <a:blip r:embed="rId2"/>
          <a:stretch/>
        </p:blipFill>
        <p:spPr>
          <a:xfrm>
            <a:off x="4427640" y="3645000"/>
            <a:ext cx="4392360" cy="2484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Задание штурманам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троить 3 вида и прочитать название стра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835280" y="1628640"/>
            <a:ext cx="540072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4" descr="DSC08213"/>
          <p:cNvPicPr/>
          <p:nvPr/>
        </p:nvPicPr>
        <p:blipFill>
          <a:blip r:embed="rId1"/>
          <a:stretch/>
        </p:blipFill>
        <p:spPr>
          <a:xfrm>
            <a:off x="1835280" y="1628640"/>
            <a:ext cx="5473440" cy="4800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Задание для всех: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троить чертеж в необходимом количестве вид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843280" y="1628640"/>
            <a:ext cx="44654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4" descr="DSC08220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2843280" y="1557360"/>
            <a:ext cx="4464000" cy="4172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42920" y="2637000"/>
            <a:ext cx="2602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тр Ильич Чайковский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1840-1893 гг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066920" y="475920"/>
            <a:ext cx="439236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4067280" y="476280"/>
            <a:ext cx="4362480" cy="5805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 истории возникновения графических способов изображений и чертежа</a:t>
            </a: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сматривая историю развития изображений, принятых в технике, следует обратиться к истокам — первобытным рисункам и древним пиктограммам. Именно в них берет свое начало, зарождается и формируется графический язык, основой которого являются способы изображени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Рисунок 1" descr="C:\Documents and Settings\1\Рабочий стол\Новая папка (4)\07_1.gif"/>
          <p:cNvPicPr/>
          <p:nvPr/>
        </p:nvPicPr>
        <p:blipFill>
          <a:blip r:embed="rId1"/>
          <a:stretch/>
        </p:blipFill>
        <p:spPr>
          <a:xfrm>
            <a:off x="4067280" y="1773360"/>
            <a:ext cx="4619520" cy="4282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788000" y="475920"/>
            <a:ext cx="3975120" cy="15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 временем перспективные рисунки трансформировались в особый вид графического изображения — технические рисун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714640" y="3141360"/>
            <a:ext cx="3429000" cy="28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ругие изображения — чертежи-рисунки, представляли собой вид на сооружение «с высоты птичьего полета» и широко использовались русскими мастерами и строителями. Примером может служить чертеж-план части Кремля, выполненный П. Годуновым в начале XVII в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Рисунок 2" descr="C:\Documents and Settings\1\Рабочий стол\Новая папка (4)\09_1.gif"/>
          <p:cNvPicPr/>
          <p:nvPr/>
        </p:nvPicPr>
        <p:blipFill>
          <a:blip r:embed="rId1"/>
          <a:stretch/>
        </p:blipFill>
        <p:spPr>
          <a:xfrm>
            <a:off x="179280" y="404640"/>
            <a:ext cx="4608720" cy="177192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3" descr="C:\Documents and Settings\1\Рабочий стол\Новая папка (4)\09_2.gif"/>
          <p:cNvPicPr/>
          <p:nvPr/>
        </p:nvPicPr>
        <p:blipFill>
          <a:blip r:embed="rId2"/>
          <a:stretch/>
        </p:blipFill>
        <p:spPr>
          <a:xfrm>
            <a:off x="179280" y="2781360"/>
            <a:ext cx="5616720" cy="2935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4624200" cy="145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России существовали графические способы, которые позволяли изобразить машину, архитектурное сооружение с нескольких сторон, чтобы получить более полное представление об их форме и размерах.</a:t>
            </a: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Рисунок 4" descr="C:\Documents and Settings\1\Рабочий стол\Новая папка (4)\10_1.gif"/>
          <p:cNvPicPr/>
          <p:nvPr/>
        </p:nvPicPr>
        <p:blipFill>
          <a:blip r:embed="rId1"/>
          <a:stretch/>
        </p:blipFill>
        <p:spPr>
          <a:xfrm>
            <a:off x="6443640" y="404640"/>
            <a:ext cx="2281320" cy="139248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6" descr="C:\Documents and Settings\1\Рабочий стол\Новая папка (4)\10_2.gif"/>
          <p:cNvPicPr/>
          <p:nvPr/>
        </p:nvPicPr>
        <p:blipFill>
          <a:blip r:embed="rId2"/>
          <a:stretch/>
        </p:blipFill>
        <p:spPr>
          <a:xfrm>
            <a:off x="4643280" y="2421000"/>
            <a:ext cx="4259520" cy="318456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42560" y="4005360"/>
            <a:ext cx="34290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явились новые виды изображений, названные профилями (профиль спереди, сверху) (рис. 6), которые стали прообразами современных изображений в системе трех проекций, используемых на чертежа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Рисунок 7" descr="C:\Documents and Settings\1\Рабочий стол\Новая папка (4)\11_1.gif"/>
          <p:cNvPicPr/>
          <p:nvPr/>
        </p:nvPicPr>
        <p:blipFill>
          <a:blip r:embed="rId3"/>
          <a:stretch/>
        </p:blipFill>
        <p:spPr>
          <a:xfrm>
            <a:off x="395280" y="1865160"/>
            <a:ext cx="3960720" cy="2000520"/>
          </a:xfrm>
          <a:prstGeom prst="rect">
            <a:avLst/>
          </a:prstGeom>
          <a:ln w="0">
            <a:noFill/>
          </a:ln>
        </p:spPr>
      </p:pic>
      <p:sp>
        <p:nvSpPr>
          <p:cNvPr id="216" name="AutoShape 12"/>
          <p:cNvSpPr/>
          <p:nvPr/>
        </p:nvSpPr>
        <p:spPr>
          <a:xfrm>
            <a:off x="395280" y="5734080"/>
            <a:ext cx="8497800" cy="1123920"/>
          </a:xfrm>
          <a:prstGeom prst="horizontalScroll">
            <a:avLst>
              <a:gd name="adj" fmla="val 12500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Графический язык часто называют международным техническим языком общения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потому что технически грамотные люди могут читать чертежи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выполненные в разных странах мир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555640" y="549000"/>
            <a:ext cx="367164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Древней Руси, стране бескрайних лесов, где дерево было самым доступным материалом, деревянное зодчество занимало исключительное положение, оно достигало высокого совершенства и оказало на русскую архитектуру значительное влияни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932000" y="3500280"/>
            <a:ext cx="3429000" cy="24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ек четырнадцатый – век возвышения Москвы и начала объединения Руси вокруг нее. Век подъема национального духа. Характеризуется некоторыми типовыми изменениями в храмовой архитектуре. Век начала становления великой России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Рисунок 1" descr="C:\Documents and Settings\1\Рабочий стол\Новая папка (4)\018.jpg"/>
          <p:cNvPicPr/>
          <p:nvPr/>
        </p:nvPicPr>
        <p:blipFill>
          <a:blip r:embed="rId1"/>
          <a:stretch/>
        </p:blipFill>
        <p:spPr>
          <a:xfrm>
            <a:off x="6372360" y="476280"/>
            <a:ext cx="2036520" cy="287964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12" descr="C:\Documents and Settings\1\Рабочий стол\Новая папка (4)\russian.jpg"/>
          <p:cNvPicPr/>
          <p:nvPr/>
        </p:nvPicPr>
        <p:blipFill>
          <a:blip r:embed="rId2"/>
          <a:stretch/>
        </p:blipFill>
        <p:spPr>
          <a:xfrm>
            <a:off x="468360" y="2720880"/>
            <a:ext cx="4392720" cy="3382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780000" y="456840"/>
            <a:ext cx="53640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одчество древней Руси – это большой и очень интересный том в энциклопедии истории русского искус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Рисунок 14" descr="C:\Documents and Settings\1\Рабочий стол\Новая папка (4)\5974.jpg"/>
          <p:cNvPicPr/>
          <p:nvPr/>
        </p:nvPicPr>
        <p:blipFill>
          <a:blip r:embed="rId1"/>
          <a:stretch/>
        </p:blipFill>
        <p:spPr>
          <a:xfrm>
            <a:off x="179280" y="404640"/>
            <a:ext cx="3600720" cy="540072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10" descr="C:\Documents and Settings\1\Рабочий стол\Новая папка (4)\к.jpeg"/>
          <p:cNvPicPr/>
          <p:nvPr/>
        </p:nvPicPr>
        <p:blipFill>
          <a:blip r:embed="rId2"/>
          <a:stretch/>
        </p:blipFill>
        <p:spPr>
          <a:xfrm>
            <a:off x="3924360" y="1484280"/>
            <a:ext cx="2566800" cy="343692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11" descr="C:\Documents and Settings\1\Рабочий стол\Новая папка (4)\с.jpeg"/>
          <p:cNvPicPr/>
          <p:nvPr/>
        </p:nvPicPr>
        <p:blipFill>
          <a:blip r:embed="rId3"/>
          <a:stretch/>
        </p:blipFill>
        <p:spPr>
          <a:xfrm>
            <a:off x="6156360" y="1916280"/>
            <a:ext cx="2808360" cy="4227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43280" y="188640"/>
            <a:ext cx="360072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и Петре I вначале преобладал прозаичный комфортабельный голландско-немецкий классицизм, но к концу его царствования (особенно npи его преемниках) стало утверждаться пышное, представительное зодчество барокко – </a:t>
            </a: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т методов проектирования, способов организации планов и объема зданий до форм и мотивов декоративного убранства их интерьеров и фасадо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Рисунок 13" descr="C:\Documents and Settings\1\Рабочий стол\Новая папка (4)\5973.jpg"/>
          <p:cNvPicPr/>
          <p:nvPr/>
        </p:nvPicPr>
        <p:blipFill>
          <a:blip r:embed="rId1"/>
          <a:stretch/>
        </p:blipFill>
        <p:spPr>
          <a:xfrm>
            <a:off x="250920" y="404640"/>
            <a:ext cx="4093920" cy="568836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9" descr="C:\Documents and Settings\1\Рабочий стол\Новая папка (4)\i.jpeg"/>
          <p:cNvPicPr/>
          <p:nvPr/>
        </p:nvPicPr>
        <p:blipFill>
          <a:blip r:embed="rId2"/>
          <a:stretch/>
        </p:blipFill>
        <p:spPr>
          <a:xfrm>
            <a:off x="5940360" y="3068640"/>
            <a:ext cx="2208240" cy="2955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3471840" cy="34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рубеже 20-30-х годов сталинский режим заменил эту утопию другой, основанной на парадных образах классицизма: Борис Иофан, создавший проект Дворца Советов, Дмитрий Чечулин, Аркадий Мордвинов изменили облик многих городов Советского Союз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Рисунок 15" descr="C:\Documents and Settings\1\Рабочий стол\Новая папка (4)\5975.jpg"/>
          <p:cNvPicPr/>
          <p:nvPr/>
        </p:nvPicPr>
        <p:blipFill>
          <a:blip r:embed="rId1"/>
          <a:stretch/>
        </p:blipFill>
        <p:spPr>
          <a:xfrm>
            <a:off x="4140360" y="476280"/>
            <a:ext cx="4055760" cy="5543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сле "перестройки" на лучшее места в городах выдвинулась банки, офисы в духе "постмодернизма" с башнями, криволинейными крышами, бетонно-стеклянными фасадами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пригородах появились причудливые коттеджи.</a:t>
            </a: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Рисунок 5" descr="C:\Documents and Settings\1\Рабочий стол\Новая папка (4)\020_L.jpg"/>
          <p:cNvPicPr/>
          <p:nvPr/>
        </p:nvPicPr>
        <p:blipFill>
          <a:blip r:embed="rId1"/>
          <a:stretch/>
        </p:blipFill>
        <p:spPr>
          <a:xfrm>
            <a:off x="324000" y="3068640"/>
            <a:ext cx="2282760" cy="289080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3" descr="C:\Documents and Settings\1\Рабочий стол\Новая папка (4)\022_L.jpg"/>
          <p:cNvPicPr/>
          <p:nvPr/>
        </p:nvPicPr>
        <p:blipFill>
          <a:blip r:embed="rId2"/>
          <a:stretch/>
        </p:blipFill>
        <p:spPr>
          <a:xfrm>
            <a:off x="6588000" y="1413000"/>
            <a:ext cx="2102040" cy="273528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16" descr="C:\Documents and Settings\1\Рабочий стол\Новая папка (4)\х.jpeg"/>
          <p:cNvPicPr/>
          <p:nvPr/>
        </p:nvPicPr>
        <p:blipFill>
          <a:blip r:embed="rId3"/>
          <a:stretch/>
        </p:blipFill>
        <p:spPr>
          <a:xfrm>
            <a:off x="2843280" y="2492280"/>
            <a:ext cx="3527280" cy="265752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16" descr="C:\Documents and Settings\1\Рабочий стол\Новая папка (4)\х.jpeg"/>
          <p:cNvPicPr/>
          <p:nvPr/>
        </p:nvPicPr>
        <p:blipFill>
          <a:blip r:embed="rId4"/>
          <a:stretch/>
        </p:blipFill>
        <p:spPr>
          <a:xfrm>
            <a:off x="2843280" y="2492280"/>
            <a:ext cx="3527280" cy="2657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15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Задание для экипажей и инэенеров: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дворе у дома лежали бочки и ящики. Пошел дождь. После дождя хозяин решил убрать их в сарай. После бочек и ящиков на земле остались следы. Сколько было бочек и сколько ящиков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700360" y="2060280"/>
            <a:ext cx="46800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4" descr="DSC08215"/>
          <p:cNvPicPr/>
          <p:nvPr/>
        </p:nvPicPr>
        <p:blipFill>
          <a:blip r:embed="rId1">
            <a:biLevel thresh="50000"/>
            <a:lum bright="12000"/>
          </a:blip>
          <a:stretch/>
        </p:blipFill>
        <p:spPr>
          <a:xfrm>
            <a:off x="2627280" y="2062080"/>
            <a:ext cx="4753080" cy="4111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5343480" cy="15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Лучшие зодчие наших дней ищут возможности стиля реконструируемых городов.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С появлением новых технологий, новых материалов, с переосмыслением прошлого опыта, происходит трансформация основ архитектурных стилей. Эти переходные периоды обозначаются термином «эклектика»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Рисунок 6" descr="C:\Documents and Settings\1\Рабочий стол\Новая папка (4)\035.jpg"/>
          <p:cNvPicPr/>
          <p:nvPr/>
        </p:nvPicPr>
        <p:blipFill>
          <a:blip r:embed="rId1"/>
          <a:stretch/>
        </p:blipFill>
        <p:spPr>
          <a:xfrm>
            <a:off x="250920" y="1989000"/>
            <a:ext cx="3058920" cy="404496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7" descr="C:\Documents and Settings\1\Рабочий стол\Новая папка (4)\034.jpg"/>
          <p:cNvPicPr/>
          <p:nvPr/>
        </p:nvPicPr>
        <p:blipFill>
          <a:blip r:embed="rId2"/>
          <a:stretch/>
        </p:blipFill>
        <p:spPr>
          <a:xfrm>
            <a:off x="6877080" y="404640"/>
            <a:ext cx="1533600" cy="202752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8" descr="C:\Documents and Settings\1\Рабочий стол\Новая папка (4)\033.jpg"/>
          <p:cNvPicPr/>
          <p:nvPr/>
        </p:nvPicPr>
        <p:blipFill>
          <a:blip r:embed="rId3"/>
          <a:stretch/>
        </p:blipFill>
        <p:spPr>
          <a:xfrm>
            <a:off x="3635280" y="2565360"/>
            <a:ext cx="4824360" cy="3508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. Н. Боув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38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«Немногие умы гибнут от износа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по большей части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они ржавеют от неупотребления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Задание для экипажей и инженеров: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еник по ошибке порвал чертеж, на котором изображены три проекции модели. Попробуйте восстановить взаимное расположение проекц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339640" y="1844280"/>
            <a:ext cx="482436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4" descr="DSC08216"/>
          <p:cNvPicPr/>
          <p:nvPr/>
        </p:nvPicPr>
        <p:blipFill>
          <a:blip r:embed="rId1"/>
          <a:stretch/>
        </p:blipFill>
        <p:spPr>
          <a:xfrm>
            <a:off x="2340000" y="1855800"/>
            <a:ext cx="4824360" cy="4289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ЕГИП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Рисунок 1" descr="C:\Documents and Settings\1\Рабочий стол\Новая папка (4)\new-1.jpg"/>
          <p:cNvPicPr/>
          <p:nvPr/>
        </p:nvPicPr>
        <p:blipFill>
          <a:blip r:embed="rId1"/>
          <a:stretch/>
        </p:blipFill>
        <p:spPr>
          <a:xfrm>
            <a:off x="4943520" y="333360"/>
            <a:ext cx="3895560" cy="57596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4360" y="2349000"/>
            <a:ext cx="40320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ревний Египет – одна из величайших цивилизаций, существовавших когда-либо на земл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на оставила человечеству богатое наслед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Гизе стоят три громадных геометрических тела – безупречно правильные четырехгранные пирамиды, гробницы фараонов Хеопса, Хефрена и Микери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Рисунок 1" descr="C:\Documents and Settings\1\Рабочий стол\Новая папка (4)\3.jpg"/>
          <p:cNvPicPr/>
          <p:nvPr/>
        </p:nvPicPr>
        <p:blipFill>
          <a:blip r:embed="rId1"/>
          <a:stretch/>
        </p:blipFill>
        <p:spPr>
          <a:xfrm>
            <a:off x="1547640" y="1700280"/>
            <a:ext cx="6769440" cy="4416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раницу пустыни и сейчас сторожит колоссальный сфинкс, лев с лицом фараона Хефрена, - прадед всех бесчисленных египетских сфинксов.</a:t>
            </a: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Рисунок 2" descr="C:\Documents and Settings\1\Рабочий стол\Новая папка (4)\6.jpg"/>
          <p:cNvPicPr/>
          <p:nvPr/>
        </p:nvPicPr>
        <p:blipFill>
          <a:blip r:embed="rId1"/>
          <a:stretch/>
        </p:blipFill>
        <p:spPr>
          <a:xfrm>
            <a:off x="2484360" y="1741320"/>
            <a:ext cx="5759640" cy="4319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6999120" cy="181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вое царство - эпоха третьего, и последнего, подъема египетского государства.  Вместо архитектуры гробниц расцветает архитектура храмов.</a:t>
            </a: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Рисунок 3" descr="C:\Documents and Settings\1\Рабочий стол\Новая папка (4)\7.jpg"/>
          <p:cNvPicPr/>
          <p:nvPr/>
        </p:nvPicPr>
        <p:blipFill>
          <a:blip r:embed="rId1"/>
          <a:stretch/>
        </p:blipFill>
        <p:spPr>
          <a:xfrm>
            <a:off x="611280" y="2708280"/>
            <a:ext cx="8066160" cy="2938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07:15:27Z</dcterms:created>
  <dc:creator>School06</dc:creator>
  <dc:description/>
  <dc:language>en-US</dc:language>
  <cp:lastModifiedBy>Rust</cp:lastModifiedBy>
  <dcterms:modified xsi:type="dcterms:W3CDTF">2014-01-30T23:47:01Z</dcterms:modified>
  <cp:revision>11</cp:revision>
  <dc:subject/>
  <dc:title>Урок черчения:  «Виды на чертежах»</dc:title>
</cp:coreProperties>
</file>