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F15E-656A-448D-9415-F5E92F3939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18F-708D-4457-AA02-3E7381C2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182-6018-404B-A3D9-1DE0F3C9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FBD-1C3B-4C85-A5B5-BA9769DA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1EE-C438-4126-A319-513BB70A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078-B4EB-43E6-BB1F-887ECF04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61F-3A2D-49F3-B0EE-69882ADD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558-A0F4-4DC5-9AA4-81161D96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A60-B06C-42C5-80C3-57045B48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BCE-191D-46DB-8F05-642D3C7B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8ED-69AB-464D-AE56-9A2C0C3D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C12-2CB6-47A1-810B-D64D3B5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438-161A-4B64-944B-9F1A4D2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B7D0-B958-45D4-B40C-B064AC428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094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еометрия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наука, изучающая формы, размеры и взаимное расположение фиг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3716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лово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еометри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греческое, оно означает “землемерие” (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е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земля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ре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измеряю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133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Геометрия состоит из двух разделов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ланиметрии и стерео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274320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ланиметри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средневековый термин, первая часть которого – "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лани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" – происходит от латинского слова "плоскость", а вторая –"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ри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" – от греческого "мерить", т.е. буквально планиметрия означает «плоскомерие». В планиметрии изучаются плоские фигуры, т.е. расположенные в одной плос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47242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00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реометри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греческое слово, составленное из «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ере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» – тело и «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ре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» – измеряю. Таким образом, стереометрия – это «теломерие». В стереометрии изучаются неплоские фигуры, т.е. не лежащие в одной плоскости. Чаще их называют пространственны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огда существовала Древняя Греци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581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II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. до н. эры –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II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. н. эр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огда жил Пифагор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5053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80 – 500 гг. до н. эр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ая геометрическая фигура была отличительным знаком пифагорейце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505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нтаграмма  - правильный звездчатый, пятиугольни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762120"/>
            <a:ext cx="7696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ую форму, по мнению пифагорейцев, имели атомы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а) огня; б) земли; в) воздуха; г) во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880" y="3124080"/>
            <a:ext cx="8610840" cy="3521160"/>
            <a:chOff x="380880" y="3124080"/>
            <a:chExt cx="8610840" cy="3521160"/>
          </a:xfrm>
        </p:grpSpPr>
        <p:sp>
          <p:nvSpPr>
            <p:cNvPr id="93" name=""/>
            <p:cNvSpPr/>
            <p:nvPr/>
          </p:nvSpPr>
          <p:spPr>
            <a:xfrm>
              <a:off x="380880" y="3124080"/>
              <a:ext cx="861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а) Тетраэдра; б) куба; в) октаэдра; г) икосаэдра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685800" y="4419720"/>
              <a:ext cx="7769160" cy="22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762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ую форму, по мнению пифагорейцев, имела вся Вселенна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590920"/>
            <a:ext cx="8610840" cy="4076640"/>
            <a:chOff x="380880" y="2590920"/>
            <a:chExt cx="8610840" cy="4076640"/>
          </a:xfrm>
        </p:grpSpPr>
        <p:sp>
          <p:nvSpPr>
            <p:cNvPr id="98" name=""/>
            <p:cNvSpPr/>
            <p:nvPr/>
          </p:nvSpPr>
          <p:spPr>
            <a:xfrm>
              <a:off x="380880" y="2590920"/>
              <a:ext cx="861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 Додекаэдра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819520" y="3124080"/>
              <a:ext cx="3581280" cy="354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звали ученого, впервые давшего аксиоматическое построение геометри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657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вклид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Вопрос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огда жил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вклид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5053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оло 300 г. до нашей эр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609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назывались книги Евклида, в которых давалось аксиоматическое построение геометри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657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Начал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685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Сколько граней (Г) име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352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943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9480" y="1219320"/>
            <a:ext cx="2133720" cy="2022480"/>
            <a:chOff x="609480" y="1219320"/>
            <a:chExt cx="2133720" cy="2022480"/>
          </a:xfrm>
        </p:grpSpPr>
        <p:sp>
          <p:nvSpPr>
            <p:cNvPr id="116" name=""/>
            <p:cNvSpPr/>
            <p:nvPr/>
          </p:nvSpPr>
          <p:spPr>
            <a:xfrm>
              <a:off x="609480" y="1219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а) тетраэдр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914400" y="1828800"/>
              <a:ext cx="1612800" cy="14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3657600" y="1219320"/>
            <a:ext cx="2133720" cy="1928520"/>
            <a:chOff x="3657600" y="1219320"/>
            <a:chExt cx="2133720" cy="1928520"/>
          </a:xfrm>
        </p:grpSpPr>
        <p:sp>
          <p:nvSpPr>
            <p:cNvPr id="119" name=""/>
            <p:cNvSpPr/>
            <p:nvPr/>
          </p:nvSpPr>
          <p:spPr>
            <a:xfrm>
              <a:off x="3657600" y="1219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б) куб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185840" cy="13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172200" y="1219320"/>
            <a:ext cx="2209680" cy="2049480"/>
            <a:chOff x="6172200" y="1219320"/>
            <a:chExt cx="2209680" cy="2049480"/>
          </a:xfrm>
        </p:grpSpPr>
        <p:sp>
          <p:nvSpPr>
            <p:cNvPr id="122" name=""/>
            <p:cNvSpPr/>
            <p:nvPr/>
          </p:nvSpPr>
          <p:spPr>
            <a:xfrm>
              <a:off x="6248520" y="121932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в) октаэдр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6172200" y="1676520"/>
              <a:ext cx="1784520" cy="159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1905120" y="3962520"/>
            <a:ext cx="2133360" cy="2081160"/>
            <a:chOff x="1905120" y="3962520"/>
            <a:chExt cx="2133360" cy="2081160"/>
          </a:xfrm>
        </p:grpSpPr>
        <p:sp>
          <p:nvSpPr>
            <p:cNvPr id="125" name=""/>
            <p:cNvSpPr/>
            <p:nvPr/>
          </p:nvSpPr>
          <p:spPr>
            <a:xfrm>
              <a:off x="1905120" y="396252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г) икосаэдр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2057400" y="4419720"/>
              <a:ext cx="1646280" cy="16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4952880" y="3962520"/>
            <a:ext cx="2667240" cy="2313000"/>
            <a:chOff x="4952880" y="3962520"/>
            <a:chExt cx="2667240" cy="2313000"/>
          </a:xfrm>
        </p:grpSpPr>
        <p:sp>
          <p:nvSpPr>
            <p:cNvPr id="128" name=""/>
            <p:cNvSpPr/>
            <p:nvPr/>
          </p:nvSpPr>
          <p:spPr>
            <a:xfrm>
              <a:off x="4952880" y="396252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д) додекаэдр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5029200" y="4419720"/>
              <a:ext cx="1881360" cy="185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51814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Сколько вершин (В) име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943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9480" y="1219320"/>
            <a:ext cx="2133720" cy="2030400"/>
            <a:chOff x="609480" y="1219320"/>
            <a:chExt cx="2133720" cy="2030400"/>
          </a:xfrm>
        </p:grpSpPr>
        <p:sp>
          <p:nvSpPr>
            <p:cNvPr id="139" name=""/>
            <p:cNvSpPr/>
            <p:nvPr/>
          </p:nvSpPr>
          <p:spPr>
            <a:xfrm>
              <a:off x="609480" y="1219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а) тетр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914400" y="1752480"/>
              <a:ext cx="1185840" cy="149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3657600" y="1219320"/>
            <a:ext cx="2133720" cy="2062080"/>
            <a:chOff x="3657600" y="1219320"/>
            <a:chExt cx="2133720" cy="2062080"/>
          </a:xfrm>
        </p:grpSpPr>
        <p:sp>
          <p:nvSpPr>
            <p:cNvPr id="142" name=""/>
            <p:cNvSpPr/>
            <p:nvPr/>
          </p:nvSpPr>
          <p:spPr>
            <a:xfrm>
              <a:off x="3657600" y="1219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 куб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657600" y="1752480"/>
              <a:ext cx="1346040" cy="152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6248520" y="1219320"/>
            <a:ext cx="2133360" cy="2009520"/>
            <a:chOff x="6248520" y="1219320"/>
            <a:chExt cx="2133360" cy="2009520"/>
          </a:xfrm>
        </p:grpSpPr>
        <p:sp>
          <p:nvSpPr>
            <p:cNvPr id="145" name=""/>
            <p:cNvSpPr/>
            <p:nvPr/>
          </p:nvSpPr>
          <p:spPr>
            <a:xfrm>
              <a:off x="6248520" y="1219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) окт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6477120" y="1752480"/>
              <a:ext cx="138888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1905120" y="3962520"/>
            <a:ext cx="2133360" cy="2070000"/>
            <a:chOff x="1905120" y="3962520"/>
            <a:chExt cx="2133360" cy="2070000"/>
          </a:xfrm>
        </p:grpSpPr>
        <p:sp>
          <p:nvSpPr>
            <p:cNvPr id="148" name=""/>
            <p:cNvSpPr/>
            <p:nvPr/>
          </p:nvSpPr>
          <p:spPr>
            <a:xfrm>
              <a:off x="1905120" y="3962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г) икос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209680" y="4419720"/>
              <a:ext cx="1303560" cy="161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4952880" y="3962520"/>
            <a:ext cx="2133720" cy="1985760"/>
            <a:chOff x="4952880" y="3962520"/>
            <a:chExt cx="2133720" cy="1985760"/>
          </a:xfrm>
        </p:grpSpPr>
        <p:sp>
          <p:nvSpPr>
            <p:cNvPr id="151" name=""/>
            <p:cNvSpPr/>
            <p:nvPr/>
          </p:nvSpPr>
          <p:spPr>
            <a:xfrm>
              <a:off x="4952880" y="3962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) додек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5257800" y="4419720"/>
              <a:ext cx="1474920" cy="15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Школа Пифаго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4749840"/>
            <a:ext cx="8572320" cy="210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3808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дной из самых первых и самых известных школ была пифагорейская (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I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в. до н.э.), названная так в честь своего основателя Пифаг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бъяснение устройства мира пифагорейцы тесно связывали с геометрией. Так, выделяя первоосновы бытия, они приписывали их атомам форму правильных многогранников, а именно: атомам огня - форму тетраэдра (рис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, земли – гексаэдра (куба, рис. 2), воздуха – октаэдра (рис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, воды – икосаэдра (рис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. Всей Вселенной приписывалась форма додекаэдра (рис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. В названиях этих многогранников указывается число граней (от греч.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эдр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грань):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тр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четыре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екс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шесть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кт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восемь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коси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двадцать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дек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двенадц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Сколько ребер (Р) име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276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5943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09480" y="1219320"/>
            <a:ext cx="2133720" cy="2030400"/>
            <a:chOff x="609480" y="1219320"/>
            <a:chExt cx="2133720" cy="2030400"/>
          </a:xfrm>
        </p:grpSpPr>
        <p:sp>
          <p:nvSpPr>
            <p:cNvPr id="161" name=""/>
            <p:cNvSpPr/>
            <p:nvPr/>
          </p:nvSpPr>
          <p:spPr>
            <a:xfrm>
              <a:off x="609480" y="1219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а) тетр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914400" y="1752480"/>
              <a:ext cx="1185840" cy="149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3657600" y="1219320"/>
            <a:ext cx="2133720" cy="2062080"/>
            <a:chOff x="3657600" y="1219320"/>
            <a:chExt cx="2133720" cy="2062080"/>
          </a:xfrm>
        </p:grpSpPr>
        <p:sp>
          <p:nvSpPr>
            <p:cNvPr id="164" name=""/>
            <p:cNvSpPr/>
            <p:nvPr/>
          </p:nvSpPr>
          <p:spPr>
            <a:xfrm>
              <a:off x="3657600" y="1219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 куб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657600" y="1752480"/>
              <a:ext cx="1346040" cy="152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6248520" y="1219320"/>
            <a:ext cx="2133360" cy="2009520"/>
            <a:chOff x="6248520" y="1219320"/>
            <a:chExt cx="2133360" cy="2009520"/>
          </a:xfrm>
        </p:grpSpPr>
        <p:sp>
          <p:nvSpPr>
            <p:cNvPr id="167" name=""/>
            <p:cNvSpPr/>
            <p:nvPr/>
          </p:nvSpPr>
          <p:spPr>
            <a:xfrm>
              <a:off x="6248520" y="1219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) окт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6477120" y="1752480"/>
              <a:ext cx="138888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1905120" y="3962520"/>
            <a:ext cx="2133360" cy="2070000"/>
            <a:chOff x="1905120" y="3962520"/>
            <a:chExt cx="2133360" cy="2070000"/>
          </a:xfrm>
        </p:grpSpPr>
        <p:sp>
          <p:nvSpPr>
            <p:cNvPr id="170" name=""/>
            <p:cNvSpPr/>
            <p:nvPr/>
          </p:nvSpPr>
          <p:spPr>
            <a:xfrm>
              <a:off x="1905120" y="3962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г) икос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2209680" y="4419720"/>
              <a:ext cx="1303560" cy="161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4952880" y="3962520"/>
            <a:ext cx="2133720" cy="1985760"/>
            <a:chOff x="4952880" y="3962520"/>
            <a:chExt cx="2133720" cy="1985760"/>
          </a:xfrm>
        </p:grpSpPr>
        <p:sp>
          <p:nvSpPr>
            <p:cNvPr id="173" name=""/>
            <p:cNvSpPr/>
            <p:nvPr/>
          </p:nvSpPr>
          <p:spPr>
            <a:xfrm>
              <a:off x="4952880" y="3962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) додек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5257800" y="4419720"/>
              <a:ext cx="1474920" cy="15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Евкли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вклид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– древнегреческий учены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живши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около 300 г. до нашей эры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9051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его тринадцати книгах «Начала»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первые было представлено аксиоматическое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по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троение геометрии. На протяжении около двух тысячелетий этот труд остается основой изучения систематического курса геометрии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Ц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рь Птолемей спросил у Евклида, нельзя ли найти более короткий и менее утомительный путь к изучению геометрии, чем его "Начала". Евклид на это ответил: "В геометрии нет царского пути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переводится греческое слово «геометрия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581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Землемерие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то изучает геометр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8954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Геометрия изучает формы, размеры и взаимное расположение фигу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143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з каких двух основных разделов состоит геометри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3581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аниметрия и стереометрия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14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то означает слово «планиметрия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581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«Плоскомерие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14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то означает слово «стереометрия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581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«Теломерие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Где зародилась геометри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581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Древней Греци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8-08-19T04:08:44Z</dcterms:modified>
  <cp:revision>15</cp:revision>
  <dc:subject/>
  <dc:title>Основные геометрические фигуры</dc:title>
</cp:coreProperties>
</file>