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FD0-D51B-429B-81E1-C30164DE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9B6-C29F-4718-86B2-4D7CA2D2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E8B-16C9-4A33-82CB-769FDB1B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21C-EAAD-4D83-A176-8AA04951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C344-B7BF-4D07-A661-9E63EA7C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4409-6587-4AC3-AD63-94E8644A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B68C-7543-4969-89E6-FA9FB7CD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DD24-F53B-4923-AF4C-07F0FBE1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6AEF-FDE4-494B-9391-73EA9F3C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B700-3EDA-49ED-90F4-A1138E59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26D7-66A1-482E-A25F-ED7E54A8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414-5FF7-4CC3-820E-C202EB0D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FEFB-EFC8-4DDB-BEA7-DF58337B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9BBB-CD10-4B56-9E64-9D80AFF1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E38A-62AB-4F04-88CB-AC5B69BF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E369-1B0C-4131-802F-40ED6CA8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D440-B0FB-4D58-A64B-8E729126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B48-5961-4EDC-9691-0E1005C9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28A-F4B1-4C4E-9905-B605920E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E2DF-20E8-48CE-9A75-D3576E62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9FE-E83E-4549-B96F-89C32EC3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F85-A7F3-4D76-BFA8-EC385F3B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8AC-E023-43F0-832D-D4114DB4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6B06-BD6D-4117-951B-3A4B01E8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7D5A-EA95-440C-A9AE-B5FC0372706D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0983-2E04-40A9-B800-05DC53BE13EC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42920" y="1844640"/>
            <a:ext cx="100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484360" y="1844640"/>
            <a:ext cx="86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64000" y="1916280"/>
            <a:ext cx="93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58560" y="1916280"/>
            <a:ext cx="934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27640" y="1916280"/>
            <a:ext cx="93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3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2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20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1267920"/>
            <a:ext cx="84582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В лес по ягоды пойдем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49016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287960" cy="5977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44798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8:45:12Z</dcterms:created>
  <dc:creator>User</dc:creator>
  <dc:description/>
  <dc:language>en-US</dc:language>
  <cp:lastModifiedBy>User</cp:lastModifiedBy>
  <dcterms:modified xsi:type="dcterms:W3CDTF">2009-01-30T19:03:38Z</dcterms:modified>
  <cp:revision>2</cp:revision>
  <dc:subject/>
  <dc:title>Слайд 1</dc:title>
</cp:coreProperties>
</file>