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97DE-1D09-4E9A-99F5-346280F07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A34E-B838-4EB3-BEB5-3510201E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627F-92AE-476D-AB6E-B16FBB24C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9A34-D90F-4B04-B837-7ED88AA54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5E91-3D1F-422F-AF75-113AA0730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AC4C-DAE8-49E2-A9AE-2F680202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BBF0-AB4B-40FB-B98E-A22F0220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4166-4205-487C-A1A0-0D8EB27A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17CC-F73A-452F-B66B-5B4A4A35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E6E3-E94B-4CC0-8BE1-A02B1428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39DC-56D6-45FA-80D6-982F5F44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2FBE-23EB-4F03-A4F9-C5F1F0EA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49F8-B9DA-4054-B6B4-61625268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CC9A-B7FF-4EA7-B826-5FCBDC10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43E6-45BA-46E4-AA90-4253BAA7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847A-4289-4A99-AFCD-F6222340F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DB4E-33EF-4932-B5F4-761B8336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4120-5603-4910-8625-DA45D3CA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432B-ACE9-4143-96B6-0F8F6579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C031-BDBB-4208-8B99-7A5841E2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D2B8-4283-484C-8E81-FA55BE20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2FBF-96D9-4680-871B-B4FEEFA6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25A2-26DE-45EB-8A6D-7BAA915B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33E7-267B-4435-B7C0-BAC92FCC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4A78-05E1-4CBB-806B-4F01E1040D33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3BBB-1C72-4763-80CC-5DAA5A0FC5F4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99cc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42920" y="1844640"/>
            <a:ext cx="1008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484360" y="1844640"/>
            <a:ext cx="863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564000" y="1916280"/>
            <a:ext cx="93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858560" y="1916280"/>
            <a:ext cx="9349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Arial"/>
              </a:rPr>
              <a:t>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227640" y="1916280"/>
            <a:ext cx="93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35344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2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200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8920" y="1267920"/>
            <a:ext cx="84582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В лес по ягоды пойдем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472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599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28036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490160" cy="61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2090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4287960" cy="5977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500720" y="333360"/>
            <a:ext cx="447984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18:45:12Z</dcterms:created>
  <dc:creator>User</dc:creator>
  <dc:description/>
  <dc:language>en-US</dc:language>
  <cp:lastModifiedBy>User</cp:lastModifiedBy>
  <dcterms:modified xsi:type="dcterms:W3CDTF">2009-01-30T19:03:38Z</dcterms:modified>
  <cp:revision>2</cp:revision>
  <dc:subject/>
  <dc:title>Слайд 1</dc:title>
</cp:coreProperties>
</file>