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4760" y="88660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E3D6ECB-0FEE-44D8-9F56-E234CCC7AB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4760" y="88660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5BFD133-012B-4F18-9AC1-E909C261B9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4760" y="88660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CE2B132D-B635-4547-BB55-2A37347AAA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4760" y="88660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4ECCCF6E-050C-4D0E-9E15-B8706E2ADE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0196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4708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0196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34708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09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0196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4708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0196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4708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09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90196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4708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90196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34708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09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0196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4708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0196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34708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09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09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90196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4708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290196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34708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150400" y="-6480"/>
            <a:ext cx="993600" cy="6864480"/>
            <a:chOff x="8150400" y="-6480"/>
            <a:chExt cx="993600" cy="686448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3600" cy="686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26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9968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152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664000" y="-6480"/>
            <a:ext cx="6480000" cy="6864480"/>
            <a:chOff x="2664000" y="-6480"/>
            <a:chExt cx="6480000" cy="6864480"/>
          </a:xfrm>
        </p:grpSpPr>
        <p:pic>
          <p:nvPicPr>
            <p:cNvPr id="41" name="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0000" cy="686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"/>
          <p:cNvSpPr/>
          <p:nvPr/>
        </p:nvSpPr>
        <p:spPr>
          <a:xfrm flipV="1">
            <a:off x="2666880" y="-7920"/>
            <a:ext cx="1800" cy="687384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26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9968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152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8150400" y="-6480"/>
            <a:ext cx="993600" cy="6864480"/>
            <a:chOff x="8150400" y="-6480"/>
            <a:chExt cx="993600" cy="686448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3600" cy="686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26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9968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152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rot="21240000">
            <a:off x="596880" y="1012680"/>
            <a:ext cx="4319640" cy="4311720"/>
          </a:xfrm>
          <a:prstGeom prst="roundRect">
            <a:avLst>
              <a:gd name="adj" fmla="val 32"/>
            </a:avLst>
          </a:prstGeom>
          <a:solidFill>
            <a:srgbClr val="fafafa"/>
          </a:solidFill>
          <a:ln w="1440">
            <a:solidFill>
              <a:srgbClr val="eaeaea"/>
            </a:solidFill>
            <a:miter/>
          </a:ln>
          <a:effectLst>
            <a:outerShdw dist="108732" dir="399265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1420000">
            <a:off x="596880" y="998280"/>
            <a:ext cx="4319640" cy="4313160"/>
          </a:xfrm>
          <a:prstGeom prst="roundRect">
            <a:avLst>
              <a:gd name="adj" fmla="val 32"/>
            </a:avLst>
          </a:prstGeom>
          <a:solidFill>
            <a:srgbClr val="fafafa"/>
          </a:solidFill>
          <a:ln w="1440">
            <a:solidFill>
              <a:srgbClr val="eaeaea"/>
            </a:solidFill>
            <a:miter/>
          </a:ln>
          <a:effectLst>
            <a:outerShdw dist="108732" dir="399265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126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096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9968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152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8150400" y="-6480"/>
            <a:ext cx="993600" cy="6864480"/>
            <a:chOff x="8150400" y="-6480"/>
            <a:chExt cx="993600" cy="686448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3600" cy="686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26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9968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152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19.png"/><Relationship Id="rId9" Type="http://schemas.openxmlformats.org/officeDocument/2006/relationships/image" Target="../media/image22.png"/><Relationship Id="rId10" Type="http://schemas.openxmlformats.org/officeDocument/2006/relationships/image" Target="../media/image24.png"/><Relationship Id="rId11" Type="http://schemas.openxmlformats.org/officeDocument/2006/relationships/image" Target="../media/image22.png"/><Relationship Id="rId12" Type="http://schemas.openxmlformats.org/officeDocument/2006/relationships/image" Target="../media/image20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47640" y="1628640"/>
            <a:ext cx="7417080" cy="3816360"/>
          </a:xfrm>
          <a:prstGeom prst="roundRect">
            <a:avLst>
              <a:gd name="adj" fmla="val 3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8360" y="692280"/>
            <a:ext cx="8526240" cy="5659200"/>
            <a:chOff x="468360" y="692280"/>
            <a:chExt cx="8526240" cy="5659200"/>
          </a:xfrm>
        </p:grpSpPr>
        <p:sp>
          <p:nvSpPr>
            <p:cNvPr id="211" name=""/>
            <p:cNvSpPr/>
            <p:nvPr/>
          </p:nvSpPr>
          <p:spPr>
            <a:xfrm>
              <a:off x="468360" y="692280"/>
              <a:ext cx="8526240" cy="5659200"/>
            </a:xfrm>
            <a:prstGeom prst="roundRect">
              <a:avLst>
                <a:gd name="adj" fmla="val 28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b83d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468360" y="692280"/>
              <a:ext cx="8521560" cy="5654520"/>
              <a:chOff x="468360" y="692280"/>
              <a:chExt cx="8521560" cy="5654520"/>
            </a:xfrm>
          </p:grpSpPr>
          <p:sp>
            <p:nvSpPr>
              <p:cNvPr id="213" name=""/>
              <p:cNvSpPr/>
              <p:nvPr/>
            </p:nvSpPr>
            <p:spPr>
              <a:xfrm>
                <a:off x="468360" y="692280"/>
                <a:ext cx="8521560" cy="5654520"/>
              </a:xfrm>
              <a:prstGeom prst="roundRect">
                <a:avLst>
                  <a:gd name="adj" fmla="val 2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8360" y="1796040"/>
                <a:ext cx="8521560" cy="344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Инновационные технологии,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применяемые для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оздоровления дошкольников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в группе общеразвивающей направленности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3-4-го года жизни «Г»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</a:t>
                </a: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Воспитатель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</a:t>
                </a: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Габибуллаева Ф.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731960" y="208080"/>
            <a:ext cx="7210440" cy="1133280"/>
            <a:chOff x="1731960" y="208080"/>
            <a:chExt cx="7210440" cy="113328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1731960" y="208080"/>
              <a:ext cx="7210440" cy="113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395280" y="2017800"/>
            <a:ext cx="855972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Сохранение и укрепления здоровья воспитанников. Повышение индекса здоров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en-GB" sz="3600" spc="-1" strike="noStrike">
                <a:solidFill>
                  <a:srgbClr val="b13f9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450720" y="317520"/>
            <a:ext cx="7248600" cy="1144440"/>
            <a:chOff x="450720" y="317520"/>
            <a:chExt cx="7248600" cy="114444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450720" y="317520"/>
              <a:ext cx="7248600" cy="114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"/>
          <p:cNvGrpSpPr/>
          <p:nvPr/>
        </p:nvGrpSpPr>
        <p:grpSpPr>
          <a:xfrm>
            <a:off x="357120" y="2239920"/>
            <a:ext cx="3922920" cy="2940120"/>
            <a:chOff x="357120" y="2239920"/>
            <a:chExt cx="3922920" cy="294012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357120" y="2239920"/>
              <a:ext cx="3922920" cy="2940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716360" y="2781360"/>
            <a:ext cx="4103640" cy="37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244440" y="317520"/>
            <a:ext cx="7454880" cy="1144440"/>
            <a:chOff x="244440" y="317520"/>
            <a:chExt cx="7454880" cy="114444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244440" y="317520"/>
              <a:ext cx="7454880" cy="114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"/>
          <p:cNvSpPr/>
          <p:nvPr/>
        </p:nvSpPr>
        <p:spPr>
          <a:xfrm>
            <a:off x="457200" y="1609560"/>
            <a:ext cx="723888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Цель: способствовать организм быстро изменять работу органов и систем связи с постоянно меняющейся средой. Способность организма приспосабливаться к определенным условиям внешней среды, вырабатываемым многократным повторением воздействия того или иного фактора (тепло, холодно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1146240" y="208080"/>
            <a:ext cx="7796160" cy="1706400"/>
            <a:chOff x="1146240" y="208080"/>
            <a:chExt cx="7796160" cy="170640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1146240" y="208080"/>
              <a:ext cx="7796160" cy="17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"/>
          <p:cNvGrpSpPr/>
          <p:nvPr/>
        </p:nvGrpSpPr>
        <p:grpSpPr>
          <a:xfrm>
            <a:off x="0" y="620640"/>
            <a:ext cx="4421160" cy="5692680"/>
            <a:chOff x="0" y="620640"/>
            <a:chExt cx="4421160" cy="569268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0" y="620640"/>
              <a:ext cx="4421160" cy="5692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500720" y="907920"/>
            <a:ext cx="439236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244440" y="291960"/>
            <a:ext cx="7454880" cy="1170000"/>
            <a:chOff x="244440" y="291960"/>
            <a:chExt cx="7454880" cy="117000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244440" y="291960"/>
              <a:ext cx="7454880" cy="11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"/>
          <p:cNvSpPr/>
          <p:nvPr/>
        </p:nvSpPr>
        <p:spPr>
          <a:xfrm>
            <a:off x="457200" y="1609560"/>
            <a:ext cx="72388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Цель: помочь детям снять сонное состояние. Пробудить его в интересной форме, способствовать укреплению здоровья детей через оздоровительные, закаливающие мероприятия. Усилить деятельность всех органов и систем организм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755640" y="404640"/>
            <a:ext cx="7697880" cy="6042240"/>
            <a:chOff x="755640" y="404640"/>
            <a:chExt cx="7697880" cy="604224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755640" y="404640"/>
              <a:ext cx="7697880" cy="6042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933480" y="208080"/>
            <a:ext cx="8008920" cy="2577960"/>
            <a:chOff x="933480" y="208080"/>
            <a:chExt cx="8008920" cy="257796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933480" y="208080"/>
              <a:ext cx="8008920" cy="257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"/>
          <p:cNvGrpSpPr/>
          <p:nvPr/>
        </p:nvGrpSpPr>
        <p:grpSpPr>
          <a:xfrm>
            <a:off x="1692360" y="2997360"/>
            <a:ext cx="5479920" cy="3603600"/>
            <a:chOff x="1692360" y="2997360"/>
            <a:chExt cx="5479920" cy="3603600"/>
          </a:xfrm>
        </p:grpSpPr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1692360" y="2997360"/>
              <a:ext cx="5479920" cy="3603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43000" y="2857680"/>
            <a:ext cx="7351560" cy="1141200"/>
            <a:chOff x="1143000" y="2857680"/>
            <a:chExt cx="7351560" cy="1141200"/>
          </a:xfrm>
        </p:grpSpPr>
        <p:sp>
          <p:nvSpPr>
            <p:cNvPr id="241" name=""/>
            <p:cNvSpPr/>
            <p:nvPr/>
          </p:nvSpPr>
          <p:spPr>
            <a:xfrm>
              <a:off x="1143000" y="2857680"/>
              <a:ext cx="441360" cy="984240"/>
            </a:xfrm>
            <a:custGeom>
              <a:avLst/>
              <a:gdLst/>
              <a:ahLst/>
              <a:rect l="l" t="t" r="r" b="b"/>
              <a:pathLst>
                <a:path w="1227" h="2732">
                  <a:moveTo>
                    <a:pt x="698" y="2004"/>
                  </a:moveTo>
                  <a:lnTo>
                    <a:pt x="698" y="1617"/>
                  </a:lnTo>
                  <a:lnTo>
                    <a:pt x="694" y="1532"/>
                  </a:lnTo>
                  <a:lnTo>
                    <a:pt x="690" y="1474"/>
                  </a:lnTo>
                  <a:lnTo>
                    <a:pt x="682" y="1431"/>
                  </a:lnTo>
                  <a:lnTo>
                    <a:pt x="673" y="1404"/>
                  </a:lnTo>
                  <a:lnTo>
                    <a:pt x="649" y="1388"/>
                  </a:lnTo>
                  <a:lnTo>
                    <a:pt x="621" y="1379"/>
                  </a:lnTo>
                  <a:lnTo>
                    <a:pt x="577" y="1368"/>
                  </a:lnTo>
                  <a:lnTo>
                    <a:pt x="529" y="1368"/>
                  </a:lnTo>
                  <a:lnTo>
                    <a:pt x="529" y="2258"/>
                  </a:lnTo>
                  <a:lnTo>
                    <a:pt x="573" y="2253"/>
                  </a:lnTo>
                  <a:lnTo>
                    <a:pt x="613" y="2247"/>
                  </a:lnTo>
                  <a:lnTo>
                    <a:pt x="641" y="2231"/>
                  </a:lnTo>
                  <a:lnTo>
                    <a:pt x="665" y="2215"/>
                  </a:lnTo>
                  <a:lnTo>
                    <a:pt x="678" y="2189"/>
                  </a:lnTo>
                  <a:lnTo>
                    <a:pt x="686" y="2147"/>
                  </a:lnTo>
                  <a:lnTo>
                    <a:pt x="694" y="2083"/>
                  </a:lnTo>
                  <a:lnTo>
                    <a:pt x="698" y="2004"/>
                  </a:lnTo>
                  <a:lnTo>
                    <a:pt x="698" y="2004"/>
                  </a:lnTo>
                  <a:lnTo>
                    <a:pt x="698" y="2004"/>
                  </a:lnTo>
                  <a:lnTo>
                    <a:pt x="698" y="2004"/>
                  </a:lnTo>
                  <a:lnTo>
                    <a:pt x="698" y="2004"/>
                  </a:lnTo>
                  <a:close/>
                  <a:moveTo>
                    <a:pt x="1226" y="2094"/>
                  </a:moveTo>
                  <a:lnTo>
                    <a:pt x="1222" y="2226"/>
                  </a:lnTo>
                  <a:lnTo>
                    <a:pt x="1210" y="2349"/>
                  </a:lnTo>
                  <a:lnTo>
                    <a:pt x="1190" y="2445"/>
                  </a:lnTo>
                  <a:lnTo>
                    <a:pt x="1170" y="2529"/>
                  </a:lnTo>
                  <a:lnTo>
                    <a:pt x="1134" y="2587"/>
                  </a:lnTo>
                  <a:lnTo>
                    <a:pt x="1093" y="2635"/>
                  </a:lnTo>
                  <a:lnTo>
                    <a:pt x="1045" y="2667"/>
                  </a:lnTo>
                  <a:lnTo>
                    <a:pt x="993" y="2699"/>
                  </a:lnTo>
                  <a:lnTo>
                    <a:pt x="920" y="2710"/>
                  </a:lnTo>
                  <a:lnTo>
                    <a:pt x="835" y="2721"/>
                  </a:lnTo>
                  <a:lnTo>
                    <a:pt x="730" y="2726"/>
                  </a:lnTo>
                  <a:lnTo>
                    <a:pt x="609" y="2731"/>
                  </a:lnTo>
                  <a:lnTo>
                    <a:pt x="0" y="2731"/>
                  </a:lnTo>
                  <a:lnTo>
                    <a:pt x="0" y="0"/>
                  </a:lnTo>
                  <a:lnTo>
                    <a:pt x="1033" y="0"/>
                  </a:lnTo>
                  <a:lnTo>
                    <a:pt x="1033" y="471"/>
                  </a:lnTo>
                  <a:lnTo>
                    <a:pt x="529" y="471"/>
                  </a:lnTo>
                  <a:lnTo>
                    <a:pt x="529" y="939"/>
                  </a:lnTo>
                  <a:lnTo>
                    <a:pt x="609" y="939"/>
                  </a:lnTo>
                  <a:lnTo>
                    <a:pt x="722" y="939"/>
                  </a:lnTo>
                  <a:lnTo>
                    <a:pt x="818" y="945"/>
                  </a:lnTo>
                  <a:lnTo>
                    <a:pt x="904" y="955"/>
                  </a:lnTo>
                  <a:lnTo>
                    <a:pt x="977" y="977"/>
                  </a:lnTo>
                  <a:lnTo>
                    <a:pt x="1033" y="997"/>
                  </a:lnTo>
                  <a:lnTo>
                    <a:pt x="1085" y="1034"/>
                  </a:lnTo>
                  <a:lnTo>
                    <a:pt x="1125" y="1082"/>
                  </a:lnTo>
                  <a:lnTo>
                    <a:pt x="1166" y="1146"/>
                  </a:lnTo>
                  <a:lnTo>
                    <a:pt x="1190" y="1218"/>
                  </a:lnTo>
                  <a:lnTo>
                    <a:pt x="1210" y="1309"/>
                  </a:lnTo>
                  <a:lnTo>
                    <a:pt x="1222" y="1426"/>
                  </a:lnTo>
                  <a:lnTo>
                    <a:pt x="1226" y="1559"/>
                  </a:lnTo>
                  <a:lnTo>
                    <a:pt x="1226" y="2094"/>
                  </a:lnTo>
                  <a:lnTo>
                    <a:pt x="1226" y="2094"/>
                  </a:lnTo>
                  <a:lnTo>
                    <a:pt x="1226" y="2094"/>
                  </a:lnTo>
                  <a:lnTo>
                    <a:pt x="1226" y="2094"/>
                  </a:lnTo>
                  <a:lnTo>
                    <a:pt x="1226" y="2094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8120" y="3038400"/>
              <a:ext cx="420840" cy="917640"/>
            </a:xfrm>
            <a:custGeom>
              <a:avLst/>
              <a:gdLst/>
              <a:ahLst/>
              <a:rect l="l" t="t" r="r" b="b"/>
              <a:pathLst>
                <a:path w="1169" h="2547">
                  <a:moveTo>
                    <a:pt x="1168" y="0"/>
                  </a:moveTo>
                  <a:lnTo>
                    <a:pt x="1023" y="1612"/>
                  </a:lnTo>
                  <a:lnTo>
                    <a:pt x="1003" y="1788"/>
                  </a:lnTo>
                  <a:lnTo>
                    <a:pt x="987" y="1932"/>
                  </a:lnTo>
                  <a:lnTo>
                    <a:pt x="975" y="2054"/>
                  </a:lnTo>
                  <a:lnTo>
                    <a:pt x="967" y="2138"/>
                  </a:lnTo>
                  <a:lnTo>
                    <a:pt x="951" y="2208"/>
                  </a:lnTo>
                  <a:lnTo>
                    <a:pt x="935" y="2261"/>
                  </a:lnTo>
                  <a:lnTo>
                    <a:pt x="915" y="2313"/>
                  </a:lnTo>
                  <a:lnTo>
                    <a:pt x="891" y="2366"/>
                  </a:lnTo>
                  <a:lnTo>
                    <a:pt x="858" y="2403"/>
                  </a:lnTo>
                  <a:lnTo>
                    <a:pt x="821" y="2440"/>
                  </a:lnTo>
                  <a:lnTo>
                    <a:pt x="781" y="2471"/>
                  </a:lnTo>
                  <a:lnTo>
                    <a:pt x="740" y="2497"/>
                  </a:lnTo>
                  <a:lnTo>
                    <a:pt x="683" y="2513"/>
                  </a:lnTo>
                  <a:lnTo>
                    <a:pt x="611" y="2529"/>
                  </a:lnTo>
                  <a:lnTo>
                    <a:pt x="525" y="2535"/>
                  </a:lnTo>
                  <a:lnTo>
                    <a:pt x="428" y="2546"/>
                  </a:lnTo>
                  <a:lnTo>
                    <a:pt x="121" y="2546"/>
                  </a:lnTo>
                  <a:lnTo>
                    <a:pt x="121" y="2186"/>
                  </a:lnTo>
                  <a:lnTo>
                    <a:pt x="173" y="2181"/>
                  </a:lnTo>
                  <a:lnTo>
                    <a:pt x="217" y="2181"/>
                  </a:lnTo>
                  <a:lnTo>
                    <a:pt x="253" y="2176"/>
                  </a:lnTo>
                  <a:lnTo>
                    <a:pt x="277" y="2170"/>
                  </a:lnTo>
                  <a:lnTo>
                    <a:pt x="290" y="2160"/>
                  </a:lnTo>
                  <a:lnTo>
                    <a:pt x="298" y="2144"/>
                  </a:lnTo>
                  <a:lnTo>
                    <a:pt x="306" y="2122"/>
                  </a:lnTo>
                  <a:lnTo>
                    <a:pt x="310" y="2101"/>
                  </a:lnTo>
                  <a:lnTo>
                    <a:pt x="306" y="2074"/>
                  </a:lnTo>
                  <a:lnTo>
                    <a:pt x="298" y="2027"/>
                  </a:lnTo>
                  <a:lnTo>
                    <a:pt x="290" y="1953"/>
                  </a:lnTo>
                  <a:lnTo>
                    <a:pt x="277" y="1868"/>
                  </a:lnTo>
                  <a:lnTo>
                    <a:pt x="0" y="0"/>
                  </a:lnTo>
                  <a:lnTo>
                    <a:pt x="465" y="0"/>
                  </a:lnTo>
                  <a:lnTo>
                    <a:pt x="631" y="1506"/>
                  </a:lnTo>
                  <a:lnTo>
                    <a:pt x="707" y="0"/>
                  </a:lnTo>
                  <a:lnTo>
                    <a:pt x="1168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39760" y="3038400"/>
              <a:ext cx="551160" cy="960480"/>
            </a:xfrm>
            <a:custGeom>
              <a:avLst/>
              <a:gdLst/>
              <a:ahLst/>
              <a:rect l="l" t="t" r="r" b="b"/>
              <a:pathLst>
                <a:path w="1530" h="2666">
                  <a:moveTo>
                    <a:pt x="920" y="1692"/>
                  </a:moveTo>
                  <a:lnTo>
                    <a:pt x="920" y="503"/>
                  </a:lnTo>
                  <a:lnTo>
                    <a:pt x="787" y="503"/>
                  </a:lnTo>
                  <a:lnTo>
                    <a:pt x="787" y="525"/>
                  </a:lnTo>
                  <a:lnTo>
                    <a:pt x="775" y="826"/>
                  </a:lnTo>
                  <a:lnTo>
                    <a:pt x="745" y="1131"/>
                  </a:lnTo>
                  <a:lnTo>
                    <a:pt x="700" y="1413"/>
                  </a:lnTo>
                  <a:lnTo>
                    <a:pt x="636" y="1692"/>
                  </a:lnTo>
                  <a:lnTo>
                    <a:pt x="920" y="1692"/>
                  </a:lnTo>
                  <a:lnTo>
                    <a:pt x="920" y="1692"/>
                  </a:lnTo>
                  <a:lnTo>
                    <a:pt x="920" y="1692"/>
                  </a:lnTo>
                  <a:lnTo>
                    <a:pt x="920" y="1692"/>
                  </a:lnTo>
                  <a:lnTo>
                    <a:pt x="920" y="1692"/>
                  </a:lnTo>
                  <a:close/>
                  <a:moveTo>
                    <a:pt x="1529" y="2665"/>
                  </a:moveTo>
                  <a:lnTo>
                    <a:pt x="1189" y="2665"/>
                  </a:lnTo>
                  <a:lnTo>
                    <a:pt x="1189" y="2236"/>
                  </a:lnTo>
                  <a:lnTo>
                    <a:pt x="337" y="2236"/>
                  </a:lnTo>
                  <a:lnTo>
                    <a:pt x="337" y="2665"/>
                  </a:lnTo>
                  <a:lnTo>
                    <a:pt x="0" y="2665"/>
                  </a:lnTo>
                  <a:lnTo>
                    <a:pt x="0" y="1697"/>
                  </a:lnTo>
                  <a:lnTo>
                    <a:pt x="107" y="1697"/>
                  </a:lnTo>
                  <a:lnTo>
                    <a:pt x="152" y="1581"/>
                  </a:lnTo>
                  <a:lnTo>
                    <a:pt x="192" y="1439"/>
                  </a:lnTo>
                  <a:lnTo>
                    <a:pt x="232" y="1269"/>
                  </a:lnTo>
                  <a:lnTo>
                    <a:pt x="268" y="1073"/>
                  </a:lnTo>
                  <a:lnTo>
                    <a:pt x="293" y="848"/>
                  </a:lnTo>
                  <a:lnTo>
                    <a:pt x="313" y="616"/>
                  </a:lnTo>
                  <a:lnTo>
                    <a:pt x="325" y="355"/>
                  </a:lnTo>
                  <a:lnTo>
                    <a:pt x="329" y="79"/>
                  </a:lnTo>
                  <a:lnTo>
                    <a:pt x="329" y="0"/>
                  </a:lnTo>
                  <a:lnTo>
                    <a:pt x="1420" y="0"/>
                  </a:lnTo>
                  <a:lnTo>
                    <a:pt x="1420" y="1692"/>
                  </a:lnTo>
                  <a:lnTo>
                    <a:pt x="1529" y="1692"/>
                  </a:lnTo>
                  <a:lnTo>
                    <a:pt x="1529" y="2665"/>
                  </a:lnTo>
                  <a:lnTo>
                    <a:pt x="1529" y="2665"/>
                  </a:lnTo>
                  <a:lnTo>
                    <a:pt x="1529" y="2665"/>
                  </a:lnTo>
                  <a:lnTo>
                    <a:pt x="1529" y="2665"/>
                  </a:lnTo>
                  <a:lnTo>
                    <a:pt x="1529" y="2665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35200" y="3038400"/>
              <a:ext cx="422280" cy="806400"/>
            </a:xfrm>
            <a:custGeom>
              <a:avLst/>
              <a:gdLst/>
              <a:ahLst/>
              <a:rect l="l" t="t" r="r" b="b"/>
              <a:pathLst>
                <a:path w="1173" h="2238">
                  <a:moveTo>
                    <a:pt x="668" y="1510"/>
                  </a:moveTo>
                  <a:lnTo>
                    <a:pt x="668" y="1425"/>
                  </a:lnTo>
                  <a:lnTo>
                    <a:pt x="664" y="1345"/>
                  </a:lnTo>
                  <a:lnTo>
                    <a:pt x="660" y="1282"/>
                  </a:lnTo>
                  <a:lnTo>
                    <a:pt x="652" y="1239"/>
                  </a:lnTo>
                  <a:lnTo>
                    <a:pt x="644" y="1213"/>
                  </a:lnTo>
                  <a:lnTo>
                    <a:pt x="620" y="1197"/>
                  </a:lnTo>
                  <a:lnTo>
                    <a:pt x="592" y="1186"/>
                  </a:lnTo>
                  <a:lnTo>
                    <a:pt x="547" y="1175"/>
                  </a:lnTo>
                  <a:lnTo>
                    <a:pt x="499" y="1175"/>
                  </a:lnTo>
                  <a:lnTo>
                    <a:pt x="499" y="1764"/>
                  </a:lnTo>
                  <a:lnTo>
                    <a:pt x="543" y="1759"/>
                  </a:lnTo>
                  <a:lnTo>
                    <a:pt x="583" y="1753"/>
                  </a:lnTo>
                  <a:lnTo>
                    <a:pt x="612" y="1737"/>
                  </a:lnTo>
                  <a:lnTo>
                    <a:pt x="636" y="1721"/>
                  </a:lnTo>
                  <a:lnTo>
                    <a:pt x="648" y="1695"/>
                  </a:lnTo>
                  <a:lnTo>
                    <a:pt x="656" y="1653"/>
                  </a:lnTo>
                  <a:lnTo>
                    <a:pt x="664" y="1589"/>
                  </a:lnTo>
                  <a:lnTo>
                    <a:pt x="668" y="1510"/>
                  </a:lnTo>
                  <a:lnTo>
                    <a:pt x="668" y="1510"/>
                  </a:lnTo>
                  <a:lnTo>
                    <a:pt x="668" y="1510"/>
                  </a:lnTo>
                  <a:lnTo>
                    <a:pt x="668" y="1510"/>
                  </a:lnTo>
                  <a:lnTo>
                    <a:pt x="668" y="1510"/>
                  </a:lnTo>
                  <a:close/>
                  <a:moveTo>
                    <a:pt x="1172" y="1600"/>
                  </a:moveTo>
                  <a:lnTo>
                    <a:pt x="1168" y="1732"/>
                  </a:lnTo>
                  <a:lnTo>
                    <a:pt x="1156" y="1855"/>
                  </a:lnTo>
                  <a:lnTo>
                    <a:pt x="1140" y="1951"/>
                  </a:lnTo>
                  <a:lnTo>
                    <a:pt x="1120" y="2035"/>
                  </a:lnTo>
                  <a:lnTo>
                    <a:pt x="1088" y="2093"/>
                  </a:lnTo>
                  <a:lnTo>
                    <a:pt x="1052" y="2141"/>
                  </a:lnTo>
                  <a:lnTo>
                    <a:pt x="1007" y="2173"/>
                  </a:lnTo>
                  <a:lnTo>
                    <a:pt x="955" y="2205"/>
                  </a:lnTo>
                  <a:lnTo>
                    <a:pt x="886" y="2216"/>
                  </a:lnTo>
                  <a:lnTo>
                    <a:pt x="802" y="2227"/>
                  </a:lnTo>
                  <a:lnTo>
                    <a:pt x="700" y="2232"/>
                  </a:lnTo>
                  <a:lnTo>
                    <a:pt x="583" y="2237"/>
                  </a:lnTo>
                  <a:lnTo>
                    <a:pt x="0" y="2237"/>
                  </a:lnTo>
                  <a:lnTo>
                    <a:pt x="0" y="0"/>
                  </a:lnTo>
                  <a:lnTo>
                    <a:pt x="499" y="0"/>
                  </a:lnTo>
                  <a:lnTo>
                    <a:pt x="499" y="742"/>
                  </a:lnTo>
                  <a:lnTo>
                    <a:pt x="579" y="742"/>
                  </a:lnTo>
                  <a:lnTo>
                    <a:pt x="692" y="742"/>
                  </a:lnTo>
                  <a:lnTo>
                    <a:pt x="789" y="748"/>
                  </a:lnTo>
                  <a:lnTo>
                    <a:pt x="874" y="759"/>
                  </a:lnTo>
                  <a:lnTo>
                    <a:pt x="943" y="780"/>
                  </a:lnTo>
                  <a:lnTo>
                    <a:pt x="995" y="801"/>
                  </a:lnTo>
                  <a:lnTo>
                    <a:pt x="1044" y="839"/>
                  </a:lnTo>
                  <a:lnTo>
                    <a:pt x="1084" y="891"/>
                  </a:lnTo>
                  <a:lnTo>
                    <a:pt x="1116" y="950"/>
                  </a:lnTo>
                  <a:lnTo>
                    <a:pt x="1136" y="1025"/>
                  </a:lnTo>
                  <a:lnTo>
                    <a:pt x="1156" y="1122"/>
                  </a:lnTo>
                  <a:lnTo>
                    <a:pt x="1168" y="1234"/>
                  </a:lnTo>
                  <a:lnTo>
                    <a:pt x="1172" y="1372"/>
                  </a:lnTo>
                  <a:lnTo>
                    <a:pt x="1172" y="1600"/>
                  </a:lnTo>
                  <a:lnTo>
                    <a:pt x="1172" y="1600"/>
                  </a:lnTo>
                  <a:lnTo>
                    <a:pt x="1172" y="1600"/>
                  </a:lnTo>
                  <a:lnTo>
                    <a:pt x="1172" y="1600"/>
                  </a:lnTo>
                  <a:lnTo>
                    <a:pt x="1172" y="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87720" y="3038400"/>
              <a:ext cx="390600" cy="806400"/>
            </a:xfrm>
            <a:custGeom>
              <a:avLst/>
              <a:gdLst/>
              <a:ahLst/>
              <a:rect l="l" t="t" r="r" b="b"/>
              <a:pathLst>
                <a:path w="1086" h="2238">
                  <a:moveTo>
                    <a:pt x="1085" y="0"/>
                  </a:moveTo>
                  <a:lnTo>
                    <a:pt x="1085" y="468"/>
                  </a:lnTo>
                  <a:lnTo>
                    <a:pt x="795" y="468"/>
                  </a:lnTo>
                  <a:lnTo>
                    <a:pt x="795" y="2237"/>
                  </a:lnTo>
                  <a:lnTo>
                    <a:pt x="290" y="2237"/>
                  </a:lnTo>
                  <a:lnTo>
                    <a:pt x="290" y="468"/>
                  </a:lnTo>
                  <a:lnTo>
                    <a:pt x="0" y="468"/>
                  </a:lnTo>
                  <a:lnTo>
                    <a:pt x="0" y="0"/>
                  </a:lnTo>
                  <a:lnTo>
                    <a:pt x="1085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10000" y="3021120"/>
              <a:ext cx="417600" cy="834840"/>
            </a:xfrm>
            <a:custGeom>
              <a:avLst/>
              <a:gdLst/>
              <a:ahLst/>
              <a:rect l="l" t="t" r="r" b="b"/>
              <a:pathLst>
                <a:path w="1159" h="2321">
                  <a:moveTo>
                    <a:pt x="656" y="833"/>
                  </a:moveTo>
                  <a:lnTo>
                    <a:pt x="656" y="669"/>
                  </a:lnTo>
                  <a:lnTo>
                    <a:pt x="652" y="589"/>
                  </a:lnTo>
                  <a:lnTo>
                    <a:pt x="652" y="526"/>
                  </a:lnTo>
                  <a:lnTo>
                    <a:pt x="648" y="478"/>
                  </a:lnTo>
                  <a:lnTo>
                    <a:pt x="644" y="446"/>
                  </a:lnTo>
                  <a:lnTo>
                    <a:pt x="632" y="424"/>
                  </a:lnTo>
                  <a:lnTo>
                    <a:pt x="620" y="408"/>
                  </a:lnTo>
                  <a:lnTo>
                    <a:pt x="600" y="397"/>
                  </a:lnTo>
                  <a:lnTo>
                    <a:pt x="584" y="397"/>
                  </a:lnTo>
                  <a:lnTo>
                    <a:pt x="553" y="397"/>
                  </a:lnTo>
                  <a:lnTo>
                    <a:pt x="537" y="408"/>
                  </a:lnTo>
                  <a:lnTo>
                    <a:pt x="525" y="419"/>
                  </a:lnTo>
                  <a:lnTo>
                    <a:pt x="517" y="440"/>
                  </a:lnTo>
                  <a:lnTo>
                    <a:pt x="509" y="472"/>
                  </a:lnTo>
                  <a:lnTo>
                    <a:pt x="505" y="520"/>
                  </a:lnTo>
                  <a:lnTo>
                    <a:pt x="505" y="583"/>
                  </a:lnTo>
                  <a:lnTo>
                    <a:pt x="505" y="669"/>
                  </a:lnTo>
                  <a:lnTo>
                    <a:pt x="505" y="833"/>
                  </a:lnTo>
                  <a:lnTo>
                    <a:pt x="656" y="833"/>
                  </a:lnTo>
                  <a:lnTo>
                    <a:pt x="656" y="833"/>
                  </a:lnTo>
                  <a:lnTo>
                    <a:pt x="656" y="833"/>
                  </a:lnTo>
                  <a:lnTo>
                    <a:pt x="656" y="833"/>
                  </a:lnTo>
                  <a:lnTo>
                    <a:pt x="656" y="833"/>
                  </a:lnTo>
                  <a:close/>
                  <a:moveTo>
                    <a:pt x="1158" y="1200"/>
                  </a:moveTo>
                  <a:lnTo>
                    <a:pt x="505" y="1200"/>
                  </a:lnTo>
                  <a:lnTo>
                    <a:pt x="505" y="1684"/>
                  </a:lnTo>
                  <a:lnTo>
                    <a:pt x="505" y="1747"/>
                  </a:lnTo>
                  <a:lnTo>
                    <a:pt x="505" y="1811"/>
                  </a:lnTo>
                  <a:lnTo>
                    <a:pt x="513" y="1848"/>
                  </a:lnTo>
                  <a:lnTo>
                    <a:pt x="521" y="1881"/>
                  </a:lnTo>
                  <a:lnTo>
                    <a:pt x="529" y="1897"/>
                  </a:lnTo>
                  <a:lnTo>
                    <a:pt x="545" y="1907"/>
                  </a:lnTo>
                  <a:lnTo>
                    <a:pt x="561" y="1918"/>
                  </a:lnTo>
                  <a:lnTo>
                    <a:pt x="584" y="1923"/>
                  </a:lnTo>
                  <a:lnTo>
                    <a:pt x="608" y="1918"/>
                  </a:lnTo>
                  <a:lnTo>
                    <a:pt x="628" y="1907"/>
                  </a:lnTo>
                  <a:lnTo>
                    <a:pt x="648" y="1886"/>
                  </a:lnTo>
                  <a:lnTo>
                    <a:pt x="660" y="1865"/>
                  </a:lnTo>
                  <a:lnTo>
                    <a:pt x="668" y="1827"/>
                  </a:lnTo>
                  <a:lnTo>
                    <a:pt x="672" y="1774"/>
                  </a:lnTo>
                  <a:lnTo>
                    <a:pt x="676" y="1716"/>
                  </a:lnTo>
                  <a:lnTo>
                    <a:pt x="680" y="1641"/>
                  </a:lnTo>
                  <a:lnTo>
                    <a:pt x="680" y="1343"/>
                  </a:lnTo>
                  <a:lnTo>
                    <a:pt x="1158" y="1343"/>
                  </a:lnTo>
                  <a:lnTo>
                    <a:pt x="1158" y="1509"/>
                  </a:lnTo>
                  <a:lnTo>
                    <a:pt x="1154" y="1604"/>
                  </a:lnTo>
                  <a:lnTo>
                    <a:pt x="1150" y="1689"/>
                  </a:lnTo>
                  <a:lnTo>
                    <a:pt x="1146" y="1758"/>
                  </a:lnTo>
                  <a:lnTo>
                    <a:pt x="1138" y="1827"/>
                  </a:lnTo>
                  <a:lnTo>
                    <a:pt x="1122" y="1881"/>
                  </a:lnTo>
                  <a:lnTo>
                    <a:pt x="1106" y="1939"/>
                  </a:lnTo>
                  <a:lnTo>
                    <a:pt x="1080" y="1998"/>
                  </a:lnTo>
                  <a:lnTo>
                    <a:pt x="1052" y="2066"/>
                  </a:lnTo>
                  <a:lnTo>
                    <a:pt x="1011" y="2124"/>
                  </a:lnTo>
                  <a:lnTo>
                    <a:pt x="967" y="2172"/>
                  </a:lnTo>
                  <a:lnTo>
                    <a:pt x="919" y="2215"/>
                  </a:lnTo>
                  <a:lnTo>
                    <a:pt x="871" y="2258"/>
                  </a:lnTo>
                  <a:lnTo>
                    <a:pt x="810" y="2279"/>
                  </a:lnTo>
                  <a:lnTo>
                    <a:pt x="744" y="2300"/>
                  </a:lnTo>
                  <a:lnTo>
                    <a:pt x="672" y="2311"/>
                  </a:lnTo>
                  <a:lnTo>
                    <a:pt x="596" y="2320"/>
                  </a:lnTo>
                  <a:lnTo>
                    <a:pt x="513" y="2311"/>
                  </a:lnTo>
                  <a:lnTo>
                    <a:pt x="441" y="2300"/>
                  </a:lnTo>
                  <a:lnTo>
                    <a:pt x="370" y="2279"/>
                  </a:lnTo>
                  <a:lnTo>
                    <a:pt x="310" y="2258"/>
                  </a:lnTo>
                  <a:lnTo>
                    <a:pt x="249" y="2220"/>
                  </a:lnTo>
                  <a:lnTo>
                    <a:pt x="201" y="2178"/>
                  </a:lnTo>
                  <a:lnTo>
                    <a:pt x="157" y="2135"/>
                  </a:lnTo>
                  <a:lnTo>
                    <a:pt x="121" y="2088"/>
                  </a:lnTo>
                  <a:lnTo>
                    <a:pt x="88" y="2030"/>
                  </a:lnTo>
                  <a:lnTo>
                    <a:pt x="60" y="1971"/>
                  </a:lnTo>
                  <a:lnTo>
                    <a:pt x="40" y="1907"/>
                  </a:lnTo>
                  <a:lnTo>
                    <a:pt x="28" y="1848"/>
                  </a:lnTo>
                  <a:lnTo>
                    <a:pt x="12" y="1768"/>
                  </a:lnTo>
                  <a:lnTo>
                    <a:pt x="4" y="1684"/>
                  </a:lnTo>
                  <a:lnTo>
                    <a:pt x="0" y="1583"/>
                  </a:lnTo>
                  <a:lnTo>
                    <a:pt x="0" y="1466"/>
                  </a:lnTo>
                  <a:lnTo>
                    <a:pt x="0" y="812"/>
                  </a:lnTo>
                  <a:lnTo>
                    <a:pt x="0" y="669"/>
                  </a:lnTo>
                  <a:lnTo>
                    <a:pt x="12" y="546"/>
                  </a:lnTo>
                  <a:lnTo>
                    <a:pt x="32" y="440"/>
                  </a:lnTo>
                  <a:lnTo>
                    <a:pt x="60" y="349"/>
                  </a:lnTo>
                  <a:lnTo>
                    <a:pt x="92" y="269"/>
                  </a:lnTo>
                  <a:lnTo>
                    <a:pt x="133" y="196"/>
                  </a:lnTo>
                  <a:lnTo>
                    <a:pt x="185" y="138"/>
                  </a:lnTo>
                  <a:lnTo>
                    <a:pt x="249" y="90"/>
                  </a:lnTo>
                  <a:lnTo>
                    <a:pt x="318" y="47"/>
                  </a:lnTo>
                  <a:lnTo>
                    <a:pt x="392" y="15"/>
                  </a:lnTo>
                  <a:lnTo>
                    <a:pt x="469" y="0"/>
                  </a:lnTo>
                  <a:lnTo>
                    <a:pt x="557" y="0"/>
                  </a:lnTo>
                  <a:lnTo>
                    <a:pt x="660" y="4"/>
                  </a:lnTo>
                  <a:lnTo>
                    <a:pt x="752" y="31"/>
                  </a:lnTo>
                  <a:lnTo>
                    <a:pt x="834" y="63"/>
                  </a:lnTo>
                  <a:lnTo>
                    <a:pt x="911" y="111"/>
                  </a:lnTo>
                  <a:lnTo>
                    <a:pt x="971" y="164"/>
                  </a:lnTo>
                  <a:lnTo>
                    <a:pt x="1028" y="232"/>
                  </a:lnTo>
                  <a:lnTo>
                    <a:pt x="1068" y="312"/>
                  </a:lnTo>
                  <a:lnTo>
                    <a:pt x="1102" y="397"/>
                  </a:lnTo>
                  <a:lnTo>
                    <a:pt x="1122" y="499"/>
                  </a:lnTo>
                  <a:lnTo>
                    <a:pt x="1142" y="610"/>
                  </a:lnTo>
                  <a:lnTo>
                    <a:pt x="1154" y="746"/>
                  </a:lnTo>
                  <a:lnTo>
                    <a:pt x="1158" y="903"/>
                  </a:lnTo>
                  <a:lnTo>
                    <a:pt x="1158" y="1200"/>
                  </a:lnTo>
                  <a:lnTo>
                    <a:pt x="1158" y="1200"/>
                  </a:lnTo>
                  <a:lnTo>
                    <a:pt x="1158" y="1200"/>
                  </a:lnTo>
                  <a:lnTo>
                    <a:pt x="1158" y="1200"/>
                  </a:lnTo>
                  <a:lnTo>
                    <a:pt x="1158" y="12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67240" y="3038400"/>
              <a:ext cx="411120" cy="806400"/>
            </a:xfrm>
            <a:custGeom>
              <a:avLst/>
              <a:gdLst/>
              <a:ahLst/>
              <a:rect l="l" t="t" r="r" b="b"/>
              <a:pathLst>
                <a:path w="1142" h="2238">
                  <a:moveTo>
                    <a:pt x="913" y="1035"/>
                  </a:moveTo>
                  <a:lnTo>
                    <a:pt x="966" y="1062"/>
                  </a:lnTo>
                  <a:lnTo>
                    <a:pt x="1012" y="1099"/>
                  </a:lnTo>
                  <a:lnTo>
                    <a:pt x="1052" y="1138"/>
                  </a:lnTo>
                  <a:lnTo>
                    <a:pt x="1085" y="1186"/>
                  </a:lnTo>
                  <a:lnTo>
                    <a:pt x="1105" y="1239"/>
                  </a:lnTo>
                  <a:lnTo>
                    <a:pt x="1125" y="1313"/>
                  </a:lnTo>
                  <a:lnTo>
                    <a:pt x="1137" y="1393"/>
                  </a:lnTo>
                  <a:lnTo>
                    <a:pt x="1141" y="1487"/>
                  </a:lnTo>
                  <a:lnTo>
                    <a:pt x="1137" y="1594"/>
                  </a:lnTo>
                  <a:lnTo>
                    <a:pt x="1133" y="1684"/>
                  </a:lnTo>
                  <a:lnTo>
                    <a:pt x="1125" y="1759"/>
                  </a:lnTo>
                  <a:lnTo>
                    <a:pt x="1117" y="1823"/>
                  </a:lnTo>
                  <a:lnTo>
                    <a:pt x="1101" y="1871"/>
                  </a:lnTo>
                  <a:lnTo>
                    <a:pt x="1081" y="1924"/>
                  </a:lnTo>
                  <a:lnTo>
                    <a:pt x="1052" y="1983"/>
                  </a:lnTo>
                  <a:lnTo>
                    <a:pt x="1020" y="2035"/>
                  </a:lnTo>
                  <a:lnTo>
                    <a:pt x="981" y="2083"/>
                  </a:lnTo>
                  <a:lnTo>
                    <a:pt x="933" y="2125"/>
                  </a:lnTo>
                  <a:lnTo>
                    <a:pt x="880" y="2157"/>
                  </a:lnTo>
                  <a:lnTo>
                    <a:pt x="824" y="2184"/>
                  </a:lnTo>
                  <a:lnTo>
                    <a:pt x="756" y="2205"/>
                  </a:lnTo>
                  <a:lnTo>
                    <a:pt x="691" y="2221"/>
                  </a:lnTo>
                  <a:lnTo>
                    <a:pt x="619" y="2232"/>
                  </a:lnTo>
                  <a:lnTo>
                    <a:pt x="545" y="2237"/>
                  </a:lnTo>
                  <a:lnTo>
                    <a:pt x="403" y="2227"/>
                  </a:lnTo>
                  <a:lnTo>
                    <a:pt x="286" y="2189"/>
                  </a:lnTo>
                  <a:lnTo>
                    <a:pt x="190" y="2141"/>
                  </a:lnTo>
                  <a:lnTo>
                    <a:pt x="120" y="2073"/>
                  </a:lnTo>
                  <a:lnTo>
                    <a:pt x="64" y="1978"/>
                  </a:lnTo>
                  <a:lnTo>
                    <a:pt x="28" y="1850"/>
                  </a:lnTo>
                  <a:lnTo>
                    <a:pt x="4" y="1684"/>
                  </a:lnTo>
                  <a:lnTo>
                    <a:pt x="0" y="1494"/>
                  </a:lnTo>
                  <a:lnTo>
                    <a:pt x="0" y="1335"/>
                  </a:lnTo>
                  <a:lnTo>
                    <a:pt x="480" y="1335"/>
                  </a:lnTo>
                  <a:lnTo>
                    <a:pt x="480" y="1642"/>
                  </a:lnTo>
                  <a:lnTo>
                    <a:pt x="484" y="1711"/>
                  </a:lnTo>
                  <a:lnTo>
                    <a:pt x="500" y="1769"/>
                  </a:lnTo>
                  <a:lnTo>
                    <a:pt x="528" y="1801"/>
                  </a:lnTo>
                  <a:lnTo>
                    <a:pt x="569" y="1812"/>
                  </a:lnTo>
                  <a:lnTo>
                    <a:pt x="590" y="1807"/>
                  </a:lnTo>
                  <a:lnTo>
                    <a:pt x="607" y="1796"/>
                  </a:lnTo>
                  <a:lnTo>
                    <a:pt x="623" y="1780"/>
                  </a:lnTo>
                  <a:lnTo>
                    <a:pt x="639" y="1764"/>
                  </a:lnTo>
                  <a:lnTo>
                    <a:pt x="647" y="1721"/>
                  </a:lnTo>
                  <a:lnTo>
                    <a:pt x="655" y="1674"/>
                  </a:lnTo>
                  <a:lnTo>
                    <a:pt x="659" y="1600"/>
                  </a:lnTo>
                  <a:lnTo>
                    <a:pt x="663" y="1510"/>
                  </a:lnTo>
                  <a:lnTo>
                    <a:pt x="663" y="1372"/>
                  </a:lnTo>
                  <a:lnTo>
                    <a:pt x="659" y="1329"/>
                  </a:lnTo>
                  <a:lnTo>
                    <a:pt x="651" y="1286"/>
                  </a:lnTo>
                  <a:lnTo>
                    <a:pt x="635" y="1261"/>
                  </a:lnTo>
                  <a:lnTo>
                    <a:pt x="615" y="1239"/>
                  </a:lnTo>
                  <a:lnTo>
                    <a:pt x="582" y="1218"/>
                  </a:lnTo>
                  <a:lnTo>
                    <a:pt x="536" y="1207"/>
                  </a:lnTo>
                  <a:lnTo>
                    <a:pt x="480" y="1202"/>
                  </a:lnTo>
                  <a:lnTo>
                    <a:pt x="411" y="1202"/>
                  </a:lnTo>
                  <a:lnTo>
                    <a:pt x="411" y="882"/>
                  </a:lnTo>
                  <a:lnTo>
                    <a:pt x="451" y="882"/>
                  </a:lnTo>
                  <a:lnTo>
                    <a:pt x="496" y="876"/>
                  </a:lnTo>
                  <a:lnTo>
                    <a:pt x="536" y="876"/>
                  </a:lnTo>
                  <a:lnTo>
                    <a:pt x="565" y="876"/>
                  </a:lnTo>
                  <a:lnTo>
                    <a:pt x="590" y="876"/>
                  </a:lnTo>
                  <a:lnTo>
                    <a:pt x="602" y="866"/>
                  </a:lnTo>
                  <a:lnTo>
                    <a:pt x="619" y="855"/>
                  </a:lnTo>
                  <a:lnTo>
                    <a:pt x="631" y="839"/>
                  </a:lnTo>
                  <a:lnTo>
                    <a:pt x="643" y="823"/>
                  </a:lnTo>
                  <a:lnTo>
                    <a:pt x="651" y="796"/>
                  </a:lnTo>
                  <a:lnTo>
                    <a:pt x="655" y="769"/>
                  </a:lnTo>
                  <a:lnTo>
                    <a:pt x="659" y="731"/>
                  </a:lnTo>
                  <a:lnTo>
                    <a:pt x="663" y="688"/>
                  </a:lnTo>
                  <a:lnTo>
                    <a:pt x="663" y="637"/>
                  </a:lnTo>
                  <a:lnTo>
                    <a:pt x="659" y="574"/>
                  </a:lnTo>
                  <a:lnTo>
                    <a:pt x="655" y="526"/>
                  </a:lnTo>
                  <a:lnTo>
                    <a:pt x="651" y="484"/>
                  </a:lnTo>
                  <a:lnTo>
                    <a:pt x="643" y="463"/>
                  </a:lnTo>
                  <a:lnTo>
                    <a:pt x="627" y="441"/>
                  </a:lnTo>
                  <a:lnTo>
                    <a:pt x="611" y="431"/>
                  </a:lnTo>
                  <a:lnTo>
                    <a:pt x="594" y="425"/>
                  </a:lnTo>
                  <a:lnTo>
                    <a:pt x="574" y="425"/>
                  </a:lnTo>
                  <a:lnTo>
                    <a:pt x="532" y="431"/>
                  </a:lnTo>
                  <a:lnTo>
                    <a:pt x="500" y="457"/>
                  </a:lnTo>
                  <a:lnTo>
                    <a:pt x="484" y="504"/>
                  </a:lnTo>
                  <a:lnTo>
                    <a:pt x="480" y="568"/>
                  </a:lnTo>
                  <a:lnTo>
                    <a:pt x="480" y="748"/>
                  </a:lnTo>
                  <a:lnTo>
                    <a:pt x="0" y="748"/>
                  </a:lnTo>
                  <a:lnTo>
                    <a:pt x="0" y="653"/>
                  </a:lnTo>
                  <a:lnTo>
                    <a:pt x="8" y="489"/>
                  </a:lnTo>
                  <a:lnTo>
                    <a:pt x="32" y="345"/>
                  </a:lnTo>
                  <a:lnTo>
                    <a:pt x="72" y="233"/>
                  </a:lnTo>
                  <a:lnTo>
                    <a:pt x="128" y="143"/>
                  </a:lnTo>
                  <a:lnTo>
                    <a:pt x="202" y="80"/>
                  </a:lnTo>
                  <a:lnTo>
                    <a:pt x="298" y="32"/>
                  </a:lnTo>
                  <a:lnTo>
                    <a:pt x="415" y="5"/>
                  </a:lnTo>
                  <a:lnTo>
                    <a:pt x="557" y="0"/>
                  </a:lnTo>
                  <a:lnTo>
                    <a:pt x="691" y="5"/>
                  </a:lnTo>
                  <a:lnTo>
                    <a:pt x="808" y="32"/>
                  </a:lnTo>
                  <a:lnTo>
                    <a:pt x="905" y="75"/>
                  </a:lnTo>
                  <a:lnTo>
                    <a:pt x="984" y="138"/>
                  </a:lnTo>
                  <a:lnTo>
                    <a:pt x="1044" y="222"/>
                  </a:lnTo>
                  <a:lnTo>
                    <a:pt x="1085" y="318"/>
                  </a:lnTo>
                  <a:lnTo>
                    <a:pt x="1109" y="447"/>
                  </a:lnTo>
                  <a:lnTo>
                    <a:pt x="1121" y="584"/>
                  </a:lnTo>
                  <a:lnTo>
                    <a:pt x="1117" y="680"/>
                  </a:lnTo>
                  <a:lnTo>
                    <a:pt x="1109" y="759"/>
                  </a:lnTo>
                  <a:lnTo>
                    <a:pt x="1093" y="823"/>
                  </a:lnTo>
                  <a:lnTo>
                    <a:pt x="1077" y="886"/>
                  </a:lnTo>
                  <a:lnTo>
                    <a:pt x="1048" y="929"/>
                  </a:lnTo>
                  <a:lnTo>
                    <a:pt x="1012" y="966"/>
                  </a:lnTo>
                  <a:lnTo>
                    <a:pt x="966" y="1003"/>
                  </a:lnTo>
                  <a:lnTo>
                    <a:pt x="913" y="1035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16520" y="3038400"/>
              <a:ext cx="550800" cy="960480"/>
            </a:xfrm>
            <a:custGeom>
              <a:avLst/>
              <a:gdLst/>
              <a:ahLst/>
              <a:rect l="l" t="t" r="r" b="b"/>
              <a:pathLst>
                <a:path w="1531" h="2666">
                  <a:moveTo>
                    <a:pt x="921" y="1692"/>
                  </a:moveTo>
                  <a:lnTo>
                    <a:pt x="921" y="503"/>
                  </a:lnTo>
                  <a:lnTo>
                    <a:pt x="787" y="503"/>
                  </a:lnTo>
                  <a:lnTo>
                    <a:pt x="787" y="525"/>
                  </a:lnTo>
                  <a:lnTo>
                    <a:pt x="775" y="826"/>
                  </a:lnTo>
                  <a:lnTo>
                    <a:pt x="747" y="1131"/>
                  </a:lnTo>
                  <a:lnTo>
                    <a:pt x="702" y="1413"/>
                  </a:lnTo>
                  <a:lnTo>
                    <a:pt x="638" y="1692"/>
                  </a:lnTo>
                  <a:lnTo>
                    <a:pt x="921" y="1692"/>
                  </a:lnTo>
                  <a:lnTo>
                    <a:pt x="921" y="1692"/>
                  </a:lnTo>
                  <a:lnTo>
                    <a:pt x="921" y="1692"/>
                  </a:lnTo>
                  <a:lnTo>
                    <a:pt x="921" y="1692"/>
                  </a:lnTo>
                  <a:lnTo>
                    <a:pt x="921" y="1692"/>
                  </a:lnTo>
                  <a:close/>
                  <a:moveTo>
                    <a:pt x="1530" y="2665"/>
                  </a:moveTo>
                  <a:lnTo>
                    <a:pt x="1191" y="2665"/>
                  </a:lnTo>
                  <a:lnTo>
                    <a:pt x="1191" y="2236"/>
                  </a:lnTo>
                  <a:lnTo>
                    <a:pt x="339" y="2236"/>
                  </a:lnTo>
                  <a:lnTo>
                    <a:pt x="339" y="2665"/>
                  </a:lnTo>
                  <a:lnTo>
                    <a:pt x="0" y="2665"/>
                  </a:lnTo>
                  <a:lnTo>
                    <a:pt x="0" y="1697"/>
                  </a:lnTo>
                  <a:lnTo>
                    <a:pt x="110" y="1697"/>
                  </a:lnTo>
                  <a:lnTo>
                    <a:pt x="154" y="1581"/>
                  </a:lnTo>
                  <a:lnTo>
                    <a:pt x="194" y="1439"/>
                  </a:lnTo>
                  <a:lnTo>
                    <a:pt x="234" y="1269"/>
                  </a:lnTo>
                  <a:lnTo>
                    <a:pt x="271" y="1073"/>
                  </a:lnTo>
                  <a:lnTo>
                    <a:pt x="295" y="848"/>
                  </a:lnTo>
                  <a:lnTo>
                    <a:pt x="315" y="616"/>
                  </a:lnTo>
                  <a:lnTo>
                    <a:pt x="327" y="355"/>
                  </a:lnTo>
                  <a:lnTo>
                    <a:pt x="331" y="79"/>
                  </a:lnTo>
                  <a:lnTo>
                    <a:pt x="331" y="0"/>
                  </a:lnTo>
                  <a:lnTo>
                    <a:pt x="1421" y="0"/>
                  </a:lnTo>
                  <a:lnTo>
                    <a:pt x="1421" y="1692"/>
                  </a:lnTo>
                  <a:lnTo>
                    <a:pt x="1530" y="1692"/>
                  </a:lnTo>
                  <a:lnTo>
                    <a:pt x="1530" y="2665"/>
                  </a:lnTo>
                  <a:lnTo>
                    <a:pt x="1530" y="2665"/>
                  </a:lnTo>
                  <a:lnTo>
                    <a:pt x="1530" y="2665"/>
                  </a:lnTo>
                  <a:lnTo>
                    <a:pt x="1530" y="2665"/>
                  </a:lnTo>
                  <a:lnTo>
                    <a:pt x="1530" y="2665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10160" y="3021120"/>
              <a:ext cx="417600" cy="834840"/>
            </a:xfrm>
            <a:custGeom>
              <a:avLst/>
              <a:gdLst/>
              <a:ahLst/>
              <a:rect l="l" t="t" r="r" b="b"/>
              <a:pathLst>
                <a:path w="1159" h="2321">
                  <a:moveTo>
                    <a:pt x="654" y="658"/>
                  </a:moveTo>
                  <a:lnTo>
                    <a:pt x="650" y="578"/>
                  </a:lnTo>
                  <a:lnTo>
                    <a:pt x="650" y="520"/>
                  </a:lnTo>
                  <a:lnTo>
                    <a:pt x="646" y="472"/>
                  </a:lnTo>
                  <a:lnTo>
                    <a:pt x="642" y="440"/>
                  </a:lnTo>
                  <a:lnTo>
                    <a:pt x="632" y="419"/>
                  </a:lnTo>
                  <a:lnTo>
                    <a:pt x="620" y="408"/>
                  </a:lnTo>
                  <a:lnTo>
                    <a:pt x="600" y="397"/>
                  </a:lnTo>
                  <a:lnTo>
                    <a:pt x="584" y="397"/>
                  </a:lnTo>
                  <a:lnTo>
                    <a:pt x="562" y="397"/>
                  </a:lnTo>
                  <a:lnTo>
                    <a:pt x="546" y="408"/>
                  </a:lnTo>
                  <a:lnTo>
                    <a:pt x="530" y="419"/>
                  </a:lnTo>
                  <a:lnTo>
                    <a:pt x="522" y="440"/>
                  </a:lnTo>
                  <a:lnTo>
                    <a:pt x="514" y="472"/>
                  </a:lnTo>
                  <a:lnTo>
                    <a:pt x="506" y="520"/>
                  </a:lnTo>
                  <a:lnTo>
                    <a:pt x="506" y="578"/>
                  </a:lnTo>
                  <a:lnTo>
                    <a:pt x="506" y="658"/>
                  </a:lnTo>
                  <a:lnTo>
                    <a:pt x="506" y="1668"/>
                  </a:lnTo>
                  <a:lnTo>
                    <a:pt x="506" y="1736"/>
                  </a:lnTo>
                  <a:lnTo>
                    <a:pt x="506" y="1790"/>
                  </a:lnTo>
                  <a:lnTo>
                    <a:pt x="514" y="1843"/>
                  </a:lnTo>
                  <a:lnTo>
                    <a:pt x="522" y="1875"/>
                  </a:lnTo>
                  <a:lnTo>
                    <a:pt x="530" y="1891"/>
                  </a:lnTo>
                  <a:lnTo>
                    <a:pt x="546" y="1907"/>
                  </a:lnTo>
                  <a:lnTo>
                    <a:pt x="562" y="1918"/>
                  </a:lnTo>
                  <a:lnTo>
                    <a:pt x="584" y="1923"/>
                  </a:lnTo>
                  <a:lnTo>
                    <a:pt x="600" y="1918"/>
                  </a:lnTo>
                  <a:lnTo>
                    <a:pt x="620" y="1907"/>
                  </a:lnTo>
                  <a:lnTo>
                    <a:pt x="632" y="1897"/>
                  </a:lnTo>
                  <a:lnTo>
                    <a:pt x="642" y="1881"/>
                  </a:lnTo>
                  <a:lnTo>
                    <a:pt x="646" y="1848"/>
                  </a:lnTo>
                  <a:lnTo>
                    <a:pt x="650" y="1811"/>
                  </a:lnTo>
                  <a:lnTo>
                    <a:pt x="650" y="1752"/>
                  </a:lnTo>
                  <a:lnTo>
                    <a:pt x="654" y="1689"/>
                  </a:lnTo>
                  <a:lnTo>
                    <a:pt x="654" y="658"/>
                  </a:lnTo>
                  <a:lnTo>
                    <a:pt x="654" y="658"/>
                  </a:lnTo>
                  <a:lnTo>
                    <a:pt x="654" y="658"/>
                  </a:lnTo>
                  <a:lnTo>
                    <a:pt x="654" y="658"/>
                  </a:lnTo>
                  <a:lnTo>
                    <a:pt x="654" y="658"/>
                  </a:lnTo>
                  <a:close/>
                  <a:moveTo>
                    <a:pt x="1158" y="828"/>
                  </a:moveTo>
                  <a:lnTo>
                    <a:pt x="1158" y="1375"/>
                  </a:lnTo>
                  <a:lnTo>
                    <a:pt x="1154" y="1514"/>
                  </a:lnTo>
                  <a:lnTo>
                    <a:pt x="1150" y="1636"/>
                  </a:lnTo>
                  <a:lnTo>
                    <a:pt x="1146" y="1736"/>
                  </a:lnTo>
                  <a:lnTo>
                    <a:pt x="1138" y="1822"/>
                  </a:lnTo>
                  <a:lnTo>
                    <a:pt x="1122" y="1886"/>
                  </a:lnTo>
                  <a:lnTo>
                    <a:pt x="1102" y="1950"/>
                  </a:lnTo>
                  <a:lnTo>
                    <a:pt x="1074" y="2014"/>
                  </a:lnTo>
                  <a:lnTo>
                    <a:pt x="1042" y="2082"/>
                  </a:lnTo>
                  <a:lnTo>
                    <a:pt x="998" y="2135"/>
                  </a:lnTo>
                  <a:lnTo>
                    <a:pt x="954" y="2183"/>
                  </a:lnTo>
                  <a:lnTo>
                    <a:pt x="906" y="2226"/>
                  </a:lnTo>
                  <a:lnTo>
                    <a:pt x="852" y="2263"/>
                  </a:lnTo>
                  <a:lnTo>
                    <a:pt x="792" y="2284"/>
                  </a:lnTo>
                  <a:lnTo>
                    <a:pt x="727" y="2300"/>
                  </a:lnTo>
                  <a:lnTo>
                    <a:pt x="658" y="2311"/>
                  </a:lnTo>
                  <a:lnTo>
                    <a:pt x="588" y="2320"/>
                  </a:lnTo>
                  <a:lnTo>
                    <a:pt x="502" y="2311"/>
                  </a:lnTo>
                  <a:lnTo>
                    <a:pt x="429" y="2306"/>
                  </a:lnTo>
                  <a:lnTo>
                    <a:pt x="363" y="2290"/>
                  </a:lnTo>
                  <a:lnTo>
                    <a:pt x="303" y="2274"/>
                  </a:lnTo>
                  <a:lnTo>
                    <a:pt x="246" y="2236"/>
                  </a:lnTo>
                  <a:lnTo>
                    <a:pt x="198" y="2204"/>
                  </a:lnTo>
                  <a:lnTo>
                    <a:pt x="158" y="2167"/>
                  </a:lnTo>
                  <a:lnTo>
                    <a:pt x="122" y="2120"/>
                  </a:lnTo>
                  <a:lnTo>
                    <a:pt x="89" y="2066"/>
                  </a:lnTo>
                  <a:lnTo>
                    <a:pt x="64" y="2003"/>
                  </a:lnTo>
                  <a:lnTo>
                    <a:pt x="44" y="1939"/>
                  </a:lnTo>
                  <a:lnTo>
                    <a:pt x="28" y="1875"/>
                  </a:lnTo>
                  <a:lnTo>
                    <a:pt x="12" y="1790"/>
                  </a:lnTo>
                  <a:lnTo>
                    <a:pt x="4" y="1695"/>
                  </a:lnTo>
                  <a:lnTo>
                    <a:pt x="0" y="1583"/>
                  </a:lnTo>
                  <a:lnTo>
                    <a:pt x="0" y="1450"/>
                  </a:lnTo>
                  <a:lnTo>
                    <a:pt x="0" y="876"/>
                  </a:lnTo>
                  <a:lnTo>
                    <a:pt x="0" y="727"/>
                  </a:lnTo>
                  <a:lnTo>
                    <a:pt x="12" y="594"/>
                  </a:lnTo>
                  <a:lnTo>
                    <a:pt x="28" y="483"/>
                  </a:lnTo>
                  <a:lnTo>
                    <a:pt x="52" y="387"/>
                  </a:lnTo>
                  <a:lnTo>
                    <a:pt x="81" y="301"/>
                  </a:lnTo>
                  <a:lnTo>
                    <a:pt x="122" y="227"/>
                  </a:lnTo>
                  <a:lnTo>
                    <a:pt x="170" y="158"/>
                  </a:lnTo>
                  <a:lnTo>
                    <a:pt x="230" y="106"/>
                  </a:lnTo>
                  <a:lnTo>
                    <a:pt x="299" y="58"/>
                  </a:lnTo>
                  <a:lnTo>
                    <a:pt x="375" y="20"/>
                  </a:lnTo>
                  <a:lnTo>
                    <a:pt x="465" y="4"/>
                  </a:lnTo>
                  <a:lnTo>
                    <a:pt x="562" y="0"/>
                  </a:lnTo>
                  <a:lnTo>
                    <a:pt x="642" y="0"/>
                  </a:lnTo>
                  <a:lnTo>
                    <a:pt x="719" y="15"/>
                  </a:lnTo>
                  <a:lnTo>
                    <a:pt x="792" y="36"/>
                  </a:lnTo>
                  <a:lnTo>
                    <a:pt x="856" y="68"/>
                  </a:lnTo>
                  <a:lnTo>
                    <a:pt x="914" y="106"/>
                  </a:lnTo>
                  <a:lnTo>
                    <a:pt x="962" y="147"/>
                  </a:lnTo>
                  <a:lnTo>
                    <a:pt x="1006" y="190"/>
                  </a:lnTo>
                  <a:lnTo>
                    <a:pt x="1046" y="248"/>
                  </a:lnTo>
                  <a:lnTo>
                    <a:pt x="1074" y="296"/>
                  </a:lnTo>
                  <a:lnTo>
                    <a:pt x="1098" y="355"/>
                  </a:lnTo>
                  <a:lnTo>
                    <a:pt x="1118" y="408"/>
                  </a:lnTo>
                  <a:lnTo>
                    <a:pt x="1134" y="472"/>
                  </a:lnTo>
                  <a:lnTo>
                    <a:pt x="1142" y="536"/>
                  </a:lnTo>
                  <a:lnTo>
                    <a:pt x="1150" y="615"/>
                  </a:lnTo>
                  <a:lnTo>
                    <a:pt x="1154" y="716"/>
                  </a:lnTo>
                  <a:lnTo>
                    <a:pt x="1158" y="828"/>
                  </a:lnTo>
                  <a:lnTo>
                    <a:pt x="1158" y="828"/>
                  </a:lnTo>
                  <a:lnTo>
                    <a:pt x="1158" y="828"/>
                  </a:lnTo>
                  <a:lnTo>
                    <a:pt x="1158" y="828"/>
                  </a:lnTo>
                  <a:lnTo>
                    <a:pt x="1158" y="828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83200" y="3021120"/>
              <a:ext cx="420840" cy="934920"/>
            </a:xfrm>
            <a:custGeom>
              <a:avLst/>
              <a:gdLst/>
              <a:ahLst/>
              <a:rect l="l" t="t" r="r" b="b"/>
              <a:pathLst>
                <a:path w="1169" h="2599">
                  <a:moveTo>
                    <a:pt x="662" y="695"/>
                  </a:moveTo>
                  <a:lnTo>
                    <a:pt x="658" y="594"/>
                  </a:lnTo>
                  <a:lnTo>
                    <a:pt x="658" y="526"/>
                  </a:lnTo>
                  <a:lnTo>
                    <a:pt x="654" y="472"/>
                  </a:lnTo>
                  <a:lnTo>
                    <a:pt x="650" y="440"/>
                  </a:lnTo>
                  <a:lnTo>
                    <a:pt x="638" y="419"/>
                  </a:lnTo>
                  <a:lnTo>
                    <a:pt x="626" y="408"/>
                  </a:lnTo>
                  <a:lnTo>
                    <a:pt x="610" y="397"/>
                  </a:lnTo>
                  <a:lnTo>
                    <a:pt x="585" y="397"/>
                  </a:lnTo>
                  <a:lnTo>
                    <a:pt x="557" y="397"/>
                  </a:lnTo>
                  <a:lnTo>
                    <a:pt x="541" y="408"/>
                  </a:lnTo>
                  <a:lnTo>
                    <a:pt x="529" y="424"/>
                  </a:lnTo>
                  <a:lnTo>
                    <a:pt x="521" y="446"/>
                  </a:lnTo>
                  <a:lnTo>
                    <a:pt x="513" y="483"/>
                  </a:lnTo>
                  <a:lnTo>
                    <a:pt x="505" y="536"/>
                  </a:lnTo>
                  <a:lnTo>
                    <a:pt x="505" y="605"/>
                  </a:lnTo>
                  <a:lnTo>
                    <a:pt x="505" y="695"/>
                  </a:lnTo>
                  <a:lnTo>
                    <a:pt x="505" y="1617"/>
                  </a:lnTo>
                  <a:lnTo>
                    <a:pt x="505" y="1702"/>
                  </a:lnTo>
                  <a:lnTo>
                    <a:pt x="505" y="1776"/>
                  </a:lnTo>
                  <a:lnTo>
                    <a:pt x="513" y="1829"/>
                  </a:lnTo>
                  <a:lnTo>
                    <a:pt x="521" y="1867"/>
                  </a:lnTo>
                  <a:lnTo>
                    <a:pt x="529" y="1888"/>
                  </a:lnTo>
                  <a:lnTo>
                    <a:pt x="545" y="1904"/>
                  </a:lnTo>
                  <a:lnTo>
                    <a:pt x="561" y="1915"/>
                  </a:lnTo>
                  <a:lnTo>
                    <a:pt x="585" y="1920"/>
                  </a:lnTo>
                  <a:lnTo>
                    <a:pt x="610" y="1915"/>
                  </a:lnTo>
                  <a:lnTo>
                    <a:pt x="626" y="1904"/>
                  </a:lnTo>
                  <a:lnTo>
                    <a:pt x="638" y="1888"/>
                  </a:lnTo>
                  <a:lnTo>
                    <a:pt x="650" y="1872"/>
                  </a:lnTo>
                  <a:lnTo>
                    <a:pt x="654" y="1840"/>
                  </a:lnTo>
                  <a:lnTo>
                    <a:pt x="658" y="1787"/>
                  </a:lnTo>
                  <a:lnTo>
                    <a:pt x="658" y="1723"/>
                  </a:lnTo>
                  <a:lnTo>
                    <a:pt x="662" y="1649"/>
                  </a:lnTo>
                  <a:lnTo>
                    <a:pt x="662" y="695"/>
                  </a:lnTo>
                  <a:lnTo>
                    <a:pt x="662" y="695"/>
                  </a:lnTo>
                  <a:lnTo>
                    <a:pt x="662" y="695"/>
                  </a:lnTo>
                  <a:lnTo>
                    <a:pt x="662" y="695"/>
                  </a:lnTo>
                  <a:lnTo>
                    <a:pt x="662" y="695"/>
                  </a:lnTo>
                  <a:close/>
                  <a:moveTo>
                    <a:pt x="513" y="47"/>
                  </a:moveTo>
                  <a:lnTo>
                    <a:pt x="505" y="237"/>
                  </a:lnTo>
                  <a:lnTo>
                    <a:pt x="537" y="180"/>
                  </a:lnTo>
                  <a:lnTo>
                    <a:pt x="573" y="132"/>
                  </a:lnTo>
                  <a:lnTo>
                    <a:pt x="614" y="95"/>
                  </a:lnTo>
                  <a:lnTo>
                    <a:pt x="654" y="63"/>
                  </a:lnTo>
                  <a:lnTo>
                    <a:pt x="694" y="36"/>
                  </a:lnTo>
                  <a:lnTo>
                    <a:pt x="734" y="10"/>
                  </a:lnTo>
                  <a:lnTo>
                    <a:pt x="785" y="0"/>
                  </a:lnTo>
                  <a:lnTo>
                    <a:pt x="833" y="0"/>
                  </a:lnTo>
                  <a:lnTo>
                    <a:pt x="889" y="0"/>
                  </a:lnTo>
                  <a:lnTo>
                    <a:pt x="942" y="15"/>
                  </a:lnTo>
                  <a:lnTo>
                    <a:pt x="990" y="47"/>
                  </a:lnTo>
                  <a:lnTo>
                    <a:pt x="1038" y="84"/>
                  </a:lnTo>
                  <a:lnTo>
                    <a:pt x="1075" y="127"/>
                  </a:lnTo>
                  <a:lnTo>
                    <a:pt x="1107" y="174"/>
                  </a:lnTo>
                  <a:lnTo>
                    <a:pt x="1131" y="222"/>
                  </a:lnTo>
                  <a:lnTo>
                    <a:pt x="1147" y="280"/>
                  </a:lnTo>
                  <a:lnTo>
                    <a:pt x="1155" y="344"/>
                  </a:lnTo>
                  <a:lnTo>
                    <a:pt x="1159" y="424"/>
                  </a:lnTo>
                  <a:lnTo>
                    <a:pt x="1164" y="536"/>
                  </a:lnTo>
                  <a:lnTo>
                    <a:pt x="1168" y="658"/>
                  </a:lnTo>
                  <a:lnTo>
                    <a:pt x="1168" y="1601"/>
                  </a:lnTo>
                  <a:lnTo>
                    <a:pt x="1164" y="1733"/>
                  </a:lnTo>
                  <a:lnTo>
                    <a:pt x="1159" y="1856"/>
                  </a:lnTo>
                  <a:lnTo>
                    <a:pt x="1151" y="1952"/>
                  </a:lnTo>
                  <a:lnTo>
                    <a:pt x="1143" y="2037"/>
                  </a:lnTo>
                  <a:lnTo>
                    <a:pt x="1123" y="2095"/>
                  </a:lnTo>
                  <a:lnTo>
                    <a:pt x="1099" y="2148"/>
                  </a:lnTo>
                  <a:lnTo>
                    <a:pt x="1067" y="2196"/>
                  </a:lnTo>
                  <a:lnTo>
                    <a:pt x="1030" y="2244"/>
                  </a:lnTo>
                  <a:lnTo>
                    <a:pt x="982" y="2271"/>
                  </a:lnTo>
                  <a:lnTo>
                    <a:pt x="934" y="2292"/>
                  </a:lnTo>
                  <a:lnTo>
                    <a:pt x="881" y="2308"/>
                  </a:lnTo>
                  <a:lnTo>
                    <a:pt x="829" y="2317"/>
                  </a:lnTo>
                  <a:lnTo>
                    <a:pt x="781" y="2308"/>
                  </a:lnTo>
                  <a:lnTo>
                    <a:pt x="734" y="2297"/>
                  </a:lnTo>
                  <a:lnTo>
                    <a:pt x="690" y="2281"/>
                  </a:lnTo>
                  <a:lnTo>
                    <a:pt x="654" y="2260"/>
                  </a:lnTo>
                  <a:lnTo>
                    <a:pt x="614" y="2223"/>
                  </a:lnTo>
                  <a:lnTo>
                    <a:pt x="573" y="2180"/>
                  </a:lnTo>
                  <a:lnTo>
                    <a:pt x="537" y="2132"/>
                  </a:lnTo>
                  <a:lnTo>
                    <a:pt x="505" y="2085"/>
                  </a:lnTo>
                  <a:lnTo>
                    <a:pt x="505" y="2598"/>
                  </a:lnTo>
                  <a:lnTo>
                    <a:pt x="0" y="2598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lnTo>
                    <a:pt x="513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58040" y="3021120"/>
              <a:ext cx="417600" cy="834840"/>
            </a:xfrm>
            <a:custGeom>
              <a:avLst/>
              <a:gdLst/>
              <a:ahLst/>
              <a:rect l="l" t="t" r="r" b="b"/>
              <a:pathLst>
                <a:path w="1160" h="2321">
                  <a:moveTo>
                    <a:pt x="655" y="658"/>
                  </a:moveTo>
                  <a:lnTo>
                    <a:pt x="651" y="578"/>
                  </a:lnTo>
                  <a:lnTo>
                    <a:pt x="651" y="520"/>
                  </a:lnTo>
                  <a:lnTo>
                    <a:pt x="646" y="472"/>
                  </a:lnTo>
                  <a:lnTo>
                    <a:pt x="642" y="440"/>
                  </a:lnTo>
                  <a:lnTo>
                    <a:pt x="630" y="419"/>
                  </a:lnTo>
                  <a:lnTo>
                    <a:pt x="617" y="408"/>
                  </a:lnTo>
                  <a:lnTo>
                    <a:pt x="597" y="397"/>
                  </a:lnTo>
                  <a:lnTo>
                    <a:pt x="581" y="397"/>
                  </a:lnTo>
                  <a:lnTo>
                    <a:pt x="561" y="397"/>
                  </a:lnTo>
                  <a:lnTo>
                    <a:pt x="545" y="408"/>
                  </a:lnTo>
                  <a:lnTo>
                    <a:pt x="529" y="419"/>
                  </a:lnTo>
                  <a:lnTo>
                    <a:pt x="521" y="440"/>
                  </a:lnTo>
                  <a:lnTo>
                    <a:pt x="513" y="472"/>
                  </a:lnTo>
                  <a:lnTo>
                    <a:pt x="505" y="520"/>
                  </a:lnTo>
                  <a:lnTo>
                    <a:pt x="505" y="578"/>
                  </a:lnTo>
                  <a:lnTo>
                    <a:pt x="505" y="658"/>
                  </a:lnTo>
                  <a:lnTo>
                    <a:pt x="505" y="1668"/>
                  </a:lnTo>
                  <a:lnTo>
                    <a:pt x="505" y="1736"/>
                  </a:lnTo>
                  <a:lnTo>
                    <a:pt x="505" y="1790"/>
                  </a:lnTo>
                  <a:lnTo>
                    <a:pt x="513" y="1843"/>
                  </a:lnTo>
                  <a:lnTo>
                    <a:pt x="521" y="1875"/>
                  </a:lnTo>
                  <a:lnTo>
                    <a:pt x="529" y="1891"/>
                  </a:lnTo>
                  <a:lnTo>
                    <a:pt x="545" y="1907"/>
                  </a:lnTo>
                  <a:lnTo>
                    <a:pt x="561" y="1918"/>
                  </a:lnTo>
                  <a:lnTo>
                    <a:pt x="581" y="1923"/>
                  </a:lnTo>
                  <a:lnTo>
                    <a:pt x="597" y="1918"/>
                  </a:lnTo>
                  <a:lnTo>
                    <a:pt x="617" y="1907"/>
                  </a:lnTo>
                  <a:lnTo>
                    <a:pt x="630" y="1897"/>
                  </a:lnTo>
                  <a:lnTo>
                    <a:pt x="642" y="1881"/>
                  </a:lnTo>
                  <a:lnTo>
                    <a:pt x="646" y="1848"/>
                  </a:lnTo>
                  <a:lnTo>
                    <a:pt x="651" y="1811"/>
                  </a:lnTo>
                  <a:lnTo>
                    <a:pt x="651" y="1752"/>
                  </a:lnTo>
                  <a:lnTo>
                    <a:pt x="655" y="1689"/>
                  </a:lnTo>
                  <a:lnTo>
                    <a:pt x="655" y="658"/>
                  </a:lnTo>
                  <a:lnTo>
                    <a:pt x="655" y="658"/>
                  </a:lnTo>
                  <a:lnTo>
                    <a:pt x="655" y="658"/>
                  </a:lnTo>
                  <a:lnTo>
                    <a:pt x="655" y="658"/>
                  </a:lnTo>
                  <a:lnTo>
                    <a:pt x="655" y="658"/>
                  </a:lnTo>
                  <a:close/>
                  <a:moveTo>
                    <a:pt x="1159" y="828"/>
                  </a:moveTo>
                  <a:lnTo>
                    <a:pt x="1159" y="1375"/>
                  </a:lnTo>
                  <a:lnTo>
                    <a:pt x="1155" y="1514"/>
                  </a:lnTo>
                  <a:lnTo>
                    <a:pt x="1151" y="1636"/>
                  </a:lnTo>
                  <a:lnTo>
                    <a:pt x="1147" y="1736"/>
                  </a:lnTo>
                  <a:lnTo>
                    <a:pt x="1139" y="1822"/>
                  </a:lnTo>
                  <a:lnTo>
                    <a:pt x="1123" y="1886"/>
                  </a:lnTo>
                  <a:lnTo>
                    <a:pt x="1103" y="1950"/>
                  </a:lnTo>
                  <a:lnTo>
                    <a:pt x="1074" y="2014"/>
                  </a:lnTo>
                  <a:lnTo>
                    <a:pt x="1041" y="2082"/>
                  </a:lnTo>
                  <a:lnTo>
                    <a:pt x="997" y="2135"/>
                  </a:lnTo>
                  <a:lnTo>
                    <a:pt x="953" y="2183"/>
                  </a:lnTo>
                  <a:lnTo>
                    <a:pt x="904" y="2226"/>
                  </a:lnTo>
                  <a:lnTo>
                    <a:pt x="852" y="2263"/>
                  </a:lnTo>
                  <a:lnTo>
                    <a:pt x="792" y="2284"/>
                  </a:lnTo>
                  <a:lnTo>
                    <a:pt x="727" y="2300"/>
                  </a:lnTo>
                  <a:lnTo>
                    <a:pt x="659" y="2311"/>
                  </a:lnTo>
                  <a:lnTo>
                    <a:pt x="585" y="2320"/>
                  </a:lnTo>
                  <a:lnTo>
                    <a:pt x="501" y="2311"/>
                  </a:lnTo>
                  <a:lnTo>
                    <a:pt x="428" y="2306"/>
                  </a:lnTo>
                  <a:lnTo>
                    <a:pt x="364" y="2290"/>
                  </a:lnTo>
                  <a:lnTo>
                    <a:pt x="303" y="2274"/>
                  </a:lnTo>
                  <a:lnTo>
                    <a:pt x="247" y="2236"/>
                  </a:lnTo>
                  <a:lnTo>
                    <a:pt x="198" y="2204"/>
                  </a:lnTo>
                  <a:lnTo>
                    <a:pt x="157" y="2167"/>
                  </a:lnTo>
                  <a:lnTo>
                    <a:pt x="121" y="2120"/>
                  </a:lnTo>
                  <a:lnTo>
                    <a:pt x="89" y="2066"/>
                  </a:lnTo>
                  <a:lnTo>
                    <a:pt x="65" y="2003"/>
                  </a:lnTo>
                  <a:lnTo>
                    <a:pt x="45" y="1939"/>
                  </a:lnTo>
                  <a:lnTo>
                    <a:pt x="29" y="1875"/>
                  </a:lnTo>
                  <a:lnTo>
                    <a:pt x="12" y="1790"/>
                  </a:lnTo>
                  <a:lnTo>
                    <a:pt x="4" y="1695"/>
                  </a:lnTo>
                  <a:lnTo>
                    <a:pt x="0" y="1583"/>
                  </a:lnTo>
                  <a:lnTo>
                    <a:pt x="0" y="1450"/>
                  </a:lnTo>
                  <a:lnTo>
                    <a:pt x="0" y="876"/>
                  </a:lnTo>
                  <a:lnTo>
                    <a:pt x="0" y="727"/>
                  </a:lnTo>
                  <a:lnTo>
                    <a:pt x="12" y="594"/>
                  </a:lnTo>
                  <a:lnTo>
                    <a:pt x="29" y="483"/>
                  </a:lnTo>
                  <a:lnTo>
                    <a:pt x="53" y="387"/>
                  </a:lnTo>
                  <a:lnTo>
                    <a:pt x="81" y="301"/>
                  </a:lnTo>
                  <a:lnTo>
                    <a:pt x="121" y="227"/>
                  </a:lnTo>
                  <a:lnTo>
                    <a:pt x="169" y="158"/>
                  </a:lnTo>
                  <a:lnTo>
                    <a:pt x="230" y="106"/>
                  </a:lnTo>
                  <a:lnTo>
                    <a:pt x="299" y="58"/>
                  </a:lnTo>
                  <a:lnTo>
                    <a:pt x="376" y="20"/>
                  </a:lnTo>
                  <a:lnTo>
                    <a:pt x="464" y="4"/>
                  </a:lnTo>
                  <a:lnTo>
                    <a:pt x="561" y="0"/>
                  </a:lnTo>
                  <a:lnTo>
                    <a:pt x="642" y="0"/>
                  </a:lnTo>
                  <a:lnTo>
                    <a:pt x="719" y="15"/>
                  </a:lnTo>
                  <a:lnTo>
                    <a:pt x="792" y="36"/>
                  </a:lnTo>
                  <a:lnTo>
                    <a:pt x="856" y="68"/>
                  </a:lnTo>
                  <a:lnTo>
                    <a:pt x="912" y="106"/>
                  </a:lnTo>
                  <a:lnTo>
                    <a:pt x="961" y="147"/>
                  </a:lnTo>
                  <a:lnTo>
                    <a:pt x="1005" y="190"/>
                  </a:lnTo>
                  <a:lnTo>
                    <a:pt x="1045" y="248"/>
                  </a:lnTo>
                  <a:lnTo>
                    <a:pt x="1074" y="296"/>
                  </a:lnTo>
                  <a:lnTo>
                    <a:pt x="1099" y="355"/>
                  </a:lnTo>
                  <a:lnTo>
                    <a:pt x="1119" y="408"/>
                  </a:lnTo>
                  <a:lnTo>
                    <a:pt x="1135" y="472"/>
                  </a:lnTo>
                  <a:lnTo>
                    <a:pt x="1143" y="536"/>
                  </a:lnTo>
                  <a:lnTo>
                    <a:pt x="1151" y="615"/>
                  </a:lnTo>
                  <a:lnTo>
                    <a:pt x="1155" y="716"/>
                  </a:lnTo>
                  <a:lnTo>
                    <a:pt x="1159" y="828"/>
                  </a:lnTo>
                  <a:lnTo>
                    <a:pt x="1159" y="828"/>
                  </a:lnTo>
                  <a:lnTo>
                    <a:pt x="1159" y="828"/>
                  </a:lnTo>
                  <a:lnTo>
                    <a:pt x="1159" y="828"/>
                  </a:lnTo>
                  <a:lnTo>
                    <a:pt x="1159" y="828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34320" y="3038400"/>
              <a:ext cx="422280" cy="806400"/>
            </a:xfrm>
            <a:custGeom>
              <a:avLst/>
              <a:gdLst/>
              <a:ahLst/>
              <a:rect l="l" t="t" r="r" b="b"/>
              <a:pathLst>
                <a:path w="1173" h="2238">
                  <a:moveTo>
                    <a:pt x="500" y="823"/>
                  </a:moveTo>
                  <a:lnTo>
                    <a:pt x="550" y="817"/>
                  </a:lnTo>
                  <a:lnTo>
                    <a:pt x="592" y="812"/>
                  </a:lnTo>
                  <a:lnTo>
                    <a:pt x="624" y="801"/>
                  </a:lnTo>
                  <a:lnTo>
                    <a:pt x="644" y="785"/>
                  </a:lnTo>
                  <a:lnTo>
                    <a:pt x="652" y="759"/>
                  </a:lnTo>
                  <a:lnTo>
                    <a:pt x="661" y="726"/>
                  </a:lnTo>
                  <a:lnTo>
                    <a:pt x="665" y="685"/>
                  </a:lnTo>
                  <a:lnTo>
                    <a:pt x="669" y="632"/>
                  </a:lnTo>
                  <a:lnTo>
                    <a:pt x="665" y="584"/>
                  </a:lnTo>
                  <a:lnTo>
                    <a:pt x="661" y="547"/>
                  </a:lnTo>
                  <a:lnTo>
                    <a:pt x="652" y="520"/>
                  </a:lnTo>
                  <a:lnTo>
                    <a:pt x="640" y="499"/>
                  </a:lnTo>
                  <a:lnTo>
                    <a:pt x="620" y="484"/>
                  </a:lnTo>
                  <a:lnTo>
                    <a:pt x="588" y="473"/>
                  </a:lnTo>
                  <a:lnTo>
                    <a:pt x="550" y="468"/>
                  </a:lnTo>
                  <a:lnTo>
                    <a:pt x="500" y="468"/>
                  </a:lnTo>
                  <a:lnTo>
                    <a:pt x="500" y="823"/>
                  </a:lnTo>
                  <a:lnTo>
                    <a:pt x="500" y="823"/>
                  </a:lnTo>
                  <a:lnTo>
                    <a:pt x="500" y="823"/>
                  </a:lnTo>
                  <a:lnTo>
                    <a:pt x="500" y="823"/>
                  </a:lnTo>
                  <a:lnTo>
                    <a:pt x="500" y="823"/>
                  </a:lnTo>
                  <a:close/>
                  <a:moveTo>
                    <a:pt x="669" y="1541"/>
                  </a:moveTo>
                  <a:lnTo>
                    <a:pt x="669" y="1463"/>
                  </a:lnTo>
                  <a:lnTo>
                    <a:pt x="665" y="1393"/>
                  </a:lnTo>
                  <a:lnTo>
                    <a:pt x="661" y="1345"/>
                  </a:lnTo>
                  <a:lnTo>
                    <a:pt x="652" y="1297"/>
                  </a:lnTo>
                  <a:lnTo>
                    <a:pt x="640" y="1277"/>
                  </a:lnTo>
                  <a:lnTo>
                    <a:pt x="620" y="1261"/>
                  </a:lnTo>
                  <a:lnTo>
                    <a:pt x="588" y="1250"/>
                  </a:lnTo>
                  <a:lnTo>
                    <a:pt x="550" y="1245"/>
                  </a:lnTo>
                  <a:lnTo>
                    <a:pt x="500" y="1245"/>
                  </a:lnTo>
                  <a:lnTo>
                    <a:pt x="500" y="1764"/>
                  </a:lnTo>
                  <a:lnTo>
                    <a:pt x="546" y="1759"/>
                  </a:lnTo>
                  <a:lnTo>
                    <a:pt x="588" y="1743"/>
                  </a:lnTo>
                  <a:lnTo>
                    <a:pt x="616" y="1732"/>
                  </a:lnTo>
                  <a:lnTo>
                    <a:pt x="636" y="1716"/>
                  </a:lnTo>
                  <a:lnTo>
                    <a:pt x="648" y="1689"/>
                  </a:lnTo>
                  <a:lnTo>
                    <a:pt x="657" y="1653"/>
                  </a:lnTo>
                  <a:lnTo>
                    <a:pt x="665" y="1600"/>
                  </a:lnTo>
                  <a:lnTo>
                    <a:pt x="669" y="1541"/>
                  </a:lnTo>
                  <a:lnTo>
                    <a:pt x="669" y="1541"/>
                  </a:lnTo>
                  <a:lnTo>
                    <a:pt x="669" y="1541"/>
                  </a:lnTo>
                  <a:lnTo>
                    <a:pt x="669" y="1541"/>
                  </a:lnTo>
                  <a:lnTo>
                    <a:pt x="669" y="1541"/>
                  </a:lnTo>
                  <a:close/>
                  <a:moveTo>
                    <a:pt x="1172" y="1642"/>
                  </a:moveTo>
                  <a:lnTo>
                    <a:pt x="1164" y="1801"/>
                  </a:lnTo>
                  <a:lnTo>
                    <a:pt x="1144" y="1930"/>
                  </a:lnTo>
                  <a:lnTo>
                    <a:pt x="1108" y="2035"/>
                  </a:lnTo>
                  <a:lnTo>
                    <a:pt x="1063" y="2109"/>
                  </a:lnTo>
                  <a:lnTo>
                    <a:pt x="987" y="2157"/>
                  </a:lnTo>
                  <a:lnTo>
                    <a:pt x="882" y="2205"/>
                  </a:lnTo>
                  <a:lnTo>
                    <a:pt x="745" y="2227"/>
                  </a:lnTo>
                  <a:lnTo>
                    <a:pt x="578" y="2237"/>
                  </a:lnTo>
                  <a:lnTo>
                    <a:pt x="0" y="2237"/>
                  </a:lnTo>
                  <a:lnTo>
                    <a:pt x="0" y="0"/>
                  </a:lnTo>
                  <a:lnTo>
                    <a:pt x="600" y="0"/>
                  </a:lnTo>
                  <a:lnTo>
                    <a:pt x="741" y="5"/>
                  </a:lnTo>
                  <a:lnTo>
                    <a:pt x="858" y="32"/>
                  </a:lnTo>
                  <a:lnTo>
                    <a:pt x="950" y="69"/>
                  </a:lnTo>
                  <a:lnTo>
                    <a:pt x="1023" y="133"/>
                  </a:lnTo>
                  <a:lnTo>
                    <a:pt x="1071" y="212"/>
                  </a:lnTo>
                  <a:lnTo>
                    <a:pt x="1108" y="318"/>
                  </a:lnTo>
                  <a:lnTo>
                    <a:pt x="1128" y="447"/>
                  </a:lnTo>
                  <a:lnTo>
                    <a:pt x="1136" y="601"/>
                  </a:lnTo>
                  <a:lnTo>
                    <a:pt x="1116" y="764"/>
                  </a:lnTo>
                  <a:lnTo>
                    <a:pt x="1059" y="897"/>
                  </a:lnTo>
                  <a:lnTo>
                    <a:pt x="971" y="982"/>
                  </a:lnTo>
                  <a:lnTo>
                    <a:pt x="842" y="1030"/>
                  </a:lnTo>
                  <a:lnTo>
                    <a:pt x="910" y="1051"/>
                  </a:lnTo>
                  <a:lnTo>
                    <a:pt x="975" y="1088"/>
                  </a:lnTo>
                  <a:lnTo>
                    <a:pt x="1031" y="1133"/>
                  </a:lnTo>
                  <a:lnTo>
                    <a:pt x="1083" y="1191"/>
                  </a:lnTo>
                  <a:lnTo>
                    <a:pt x="1120" y="1255"/>
                  </a:lnTo>
                  <a:lnTo>
                    <a:pt x="1148" y="1335"/>
                  </a:lnTo>
                  <a:lnTo>
                    <a:pt x="1164" y="1420"/>
                  </a:lnTo>
                  <a:lnTo>
                    <a:pt x="1172" y="1510"/>
                  </a:lnTo>
                  <a:lnTo>
                    <a:pt x="1172" y="1642"/>
                  </a:lnTo>
                  <a:lnTo>
                    <a:pt x="1172" y="1642"/>
                  </a:lnTo>
                  <a:lnTo>
                    <a:pt x="1172" y="1642"/>
                  </a:lnTo>
                  <a:lnTo>
                    <a:pt x="1172" y="1642"/>
                  </a:lnTo>
                  <a:lnTo>
                    <a:pt x="1172" y="1642"/>
                  </a:ln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07360" y="3038400"/>
              <a:ext cx="660240" cy="806400"/>
            </a:xfrm>
            <a:custGeom>
              <a:avLst/>
              <a:gdLst/>
              <a:ahLst/>
              <a:rect l="l" t="t" r="r" b="b"/>
              <a:pathLst>
                <a:path w="1834" h="2238">
                  <a:moveTo>
                    <a:pt x="672" y="1510"/>
                  </a:moveTo>
                  <a:lnTo>
                    <a:pt x="672" y="1425"/>
                  </a:lnTo>
                  <a:lnTo>
                    <a:pt x="668" y="1345"/>
                  </a:lnTo>
                  <a:lnTo>
                    <a:pt x="664" y="1282"/>
                  </a:lnTo>
                  <a:lnTo>
                    <a:pt x="656" y="1239"/>
                  </a:lnTo>
                  <a:lnTo>
                    <a:pt x="648" y="1213"/>
                  </a:lnTo>
                  <a:lnTo>
                    <a:pt x="624" y="1197"/>
                  </a:lnTo>
                  <a:lnTo>
                    <a:pt x="596" y="1186"/>
                  </a:lnTo>
                  <a:lnTo>
                    <a:pt x="552" y="1175"/>
                  </a:lnTo>
                  <a:lnTo>
                    <a:pt x="499" y="1175"/>
                  </a:lnTo>
                  <a:lnTo>
                    <a:pt x="499" y="1764"/>
                  </a:lnTo>
                  <a:lnTo>
                    <a:pt x="544" y="1759"/>
                  </a:lnTo>
                  <a:lnTo>
                    <a:pt x="584" y="1753"/>
                  </a:lnTo>
                  <a:lnTo>
                    <a:pt x="612" y="1737"/>
                  </a:lnTo>
                  <a:lnTo>
                    <a:pt x="636" y="1721"/>
                  </a:lnTo>
                  <a:lnTo>
                    <a:pt x="648" y="1695"/>
                  </a:lnTo>
                  <a:lnTo>
                    <a:pt x="660" y="1653"/>
                  </a:lnTo>
                  <a:lnTo>
                    <a:pt x="668" y="1589"/>
                  </a:lnTo>
                  <a:lnTo>
                    <a:pt x="672" y="1510"/>
                  </a:lnTo>
                  <a:lnTo>
                    <a:pt x="672" y="1510"/>
                  </a:lnTo>
                  <a:lnTo>
                    <a:pt x="672" y="1510"/>
                  </a:lnTo>
                  <a:lnTo>
                    <a:pt x="672" y="1510"/>
                  </a:lnTo>
                  <a:lnTo>
                    <a:pt x="672" y="1510"/>
                  </a:lnTo>
                  <a:close/>
                  <a:moveTo>
                    <a:pt x="1833" y="2237"/>
                  </a:moveTo>
                  <a:lnTo>
                    <a:pt x="1334" y="2237"/>
                  </a:lnTo>
                  <a:lnTo>
                    <a:pt x="1334" y="0"/>
                  </a:lnTo>
                  <a:lnTo>
                    <a:pt x="1833" y="0"/>
                  </a:lnTo>
                  <a:lnTo>
                    <a:pt x="1833" y="2237"/>
                  </a:lnTo>
                  <a:lnTo>
                    <a:pt x="1833" y="2237"/>
                  </a:lnTo>
                  <a:lnTo>
                    <a:pt x="1833" y="2237"/>
                  </a:lnTo>
                  <a:lnTo>
                    <a:pt x="1833" y="2237"/>
                  </a:lnTo>
                  <a:lnTo>
                    <a:pt x="1833" y="2237"/>
                  </a:lnTo>
                  <a:close/>
                  <a:moveTo>
                    <a:pt x="1180" y="1600"/>
                  </a:moveTo>
                  <a:lnTo>
                    <a:pt x="1176" y="1732"/>
                  </a:lnTo>
                  <a:lnTo>
                    <a:pt x="1164" y="1855"/>
                  </a:lnTo>
                  <a:lnTo>
                    <a:pt x="1148" y="1951"/>
                  </a:lnTo>
                  <a:lnTo>
                    <a:pt x="1127" y="2035"/>
                  </a:lnTo>
                  <a:lnTo>
                    <a:pt x="1095" y="2093"/>
                  </a:lnTo>
                  <a:lnTo>
                    <a:pt x="1059" y="2141"/>
                  </a:lnTo>
                  <a:lnTo>
                    <a:pt x="1015" y="2173"/>
                  </a:lnTo>
                  <a:lnTo>
                    <a:pt x="962" y="2205"/>
                  </a:lnTo>
                  <a:lnTo>
                    <a:pt x="891" y="2216"/>
                  </a:lnTo>
                  <a:lnTo>
                    <a:pt x="805" y="2227"/>
                  </a:lnTo>
                  <a:lnTo>
                    <a:pt x="705" y="2232"/>
                  </a:lnTo>
                  <a:lnTo>
                    <a:pt x="584" y="2237"/>
                  </a:lnTo>
                  <a:lnTo>
                    <a:pt x="0" y="2237"/>
                  </a:lnTo>
                  <a:lnTo>
                    <a:pt x="0" y="0"/>
                  </a:lnTo>
                  <a:lnTo>
                    <a:pt x="499" y="0"/>
                  </a:lnTo>
                  <a:lnTo>
                    <a:pt x="499" y="742"/>
                  </a:lnTo>
                  <a:lnTo>
                    <a:pt x="584" y="742"/>
                  </a:lnTo>
                  <a:lnTo>
                    <a:pt x="697" y="742"/>
                  </a:lnTo>
                  <a:lnTo>
                    <a:pt x="793" y="748"/>
                  </a:lnTo>
                  <a:lnTo>
                    <a:pt x="879" y="759"/>
                  </a:lnTo>
                  <a:lnTo>
                    <a:pt x="950" y="780"/>
                  </a:lnTo>
                  <a:lnTo>
                    <a:pt x="1003" y="801"/>
                  </a:lnTo>
                  <a:lnTo>
                    <a:pt x="1051" y="839"/>
                  </a:lnTo>
                  <a:lnTo>
                    <a:pt x="1091" y="891"/>
                  </a:lnTo>
                  <a:lnTo>
                    <a:pt x="1123" y="950"/>
                  </a:lnTo>
                  <a:lnTo>
                    <a:pt x="1144" y="1025"/>
                  </a:lnTo>
                  <a:lnTo>
                    <a:pt x="1164" y="1122"/>
                  </a:lnTo>
                  <a:lnTo>
                    <a:pt x="1176" y="1234"/>
                  </a:lnTo>
                  <a:lnTo>
                    <a:pt x="1180" y="1372"/>
                  </a:lnTo>
                  <a:lnTo>
                    <a:pt x="1180" y="1600"/>
                  </a:lnTo>
                  <a:lnTo>
                    <a:pt x="1180" y="1600"/>
                  </a:lnTo>
                  <a:lnTo>
                    <a:pt x="1180" y="1600"/>
                  </a:lnTo>
                  <a:lnTo>
                    <a:pt x="1180" y="1600"/>
                  </a:lnTo>
                  <a:lnTo>
                    <a:pt x="1180" y="1600"/>
                  </a:ln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92960" y="2857680"/>
              <a:ext cx="201600" cy="984240"/>
            </a:xfrm>
            <a:custGeom>
              <a:avLst/>
              <a:gdLst/>
              <a:ahLst/>
              <a:rect l="l" t="t" r="r" b="b"/>
              <a:pathLst>
                <a:path w="560" h="2732">
                  <a:moveTo>
                    <a:pt x="515" y="2183"/>
                  </a:moveTo>
                  <a:lnTo>
                    <a:pt x="515" y="2731"/>
                  </a:lnTo>
                  <a:lnTo>
                    <a:pt x="41" y="2731"/>
                  </a:lnTo>
                  <a:lnTo>
                    <a:pt x="41" y="2183"/>
                  </a:lnTo>
                  <a:lnTo>
                    <a:pt x="515" y="2183"/>
                  </a:lnTo>
                  <a:lnTo>
                    <a:pt x="515" y="2183"/>
                  </a:lnTo>
                  <a:lnTo>
                    <a:pt x="515" y="2183"/>
                  </a:lnTo>
                  <a:lnTo>
                    <a:pt x="515" y="2183"/>
                  </a:lnTo>
                  <a:lnTo>
                    <a:pt x="515" y="2183"/>
                  </a:lnTo>
                  <a:close/>
                  <a:moveTo>
                    <a:pt x="559" y="0"/>
                  </a:moveTo>
                  <a:lnTo>
                    <a:pt x="474" y="2056"/>
                  </a:lnTo>
                  <a:lnTo>
                    <a:pt x="85" y="2056"/>
                  </a:lnTo>
                  <a:lnTo>
                    <a:pt x="0" y="0"/>
                  </a:lnTo>
                  <a:lnTo>
                    <a:pt x="559" y="0"/>
                  </a:lnTo>
                  <a:lnTo>
                    <a:pt x="559" y="0"/>
                  </a:lnTo>
                  <a:lnTo>
                    <a:pt x="559" y="0"/>
                  </a:lnTo>
                  <a:lnTo>
                    <a:pt x="559" y="0"/>
                  </a:lnTo>
                  <a:lnTo>
                    <a:pt x="559" y="0"/>
                  </a:ln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5" name="" descr=""/>
          <p:cNvPicPr/>
          <p:nvPr/>
        </p:nvPicPr>
        <p:blipFill>
          <a:blip r:embed="rId15"/>
          <a:stretch/>
        </p:blipFill>
        <p:spPr>
          <a:xfrm>
            <a:off x="0" y="571680"/>
            <a:ext cx="1714680" cy="1585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