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7559675" cy="100806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276280" y="812880"/>
            <a:ext cx="300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89EAD-4466-45EA-AF34-CC97AC85FC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545E6-2C3B-48B0-A9A3-672787F9BB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9DF73-454A-4F5B-92FD-915AF47ACB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276640" y="812880"/>
            <a:ext cx="300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8F4-1816-47FF-9B13-C594D925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815-260C-4360-8568-2977E03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F11-E565-4029-852A-5FBCC258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137-4F72-479E-9DD9-46FD8DC1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198-B0B5-4C61-B679-65679172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438-4DD9-4037-939C-11542440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9C9-D0C0-468C-8B19-EB24486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8DB-52EA-46B5-8445-F2B72F02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C5F5-1EE3-4684-AB91-11B9E5CC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8000" y="403200"/>
            <a:ext cx="6804000" cy="77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D4E-1901-47AE-A33B-FEC3E31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FBB3-90CB-446F-BAA7-9329C5F0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12F-AEEA-4D2E-A3EF-3C9DC374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B50E-1223-469B-B841-904FF76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80C1-2973-4F94-971A-178AC38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BB43-132E-4012-9773-7010A6F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40EC-4D40-44AB-9F59-944D05D7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7840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79160" y="235224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80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7840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79160" y="5967720"/>
            <a:ext cx="21906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D26-C85A-4C04-B846-476C3148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85B-B4A5-4729-AA7B-461A9DC3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77F-3D00-43B7-B94F-970A1BD2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E17-8F9E-434B-8D55-1EA03A6D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03200"/>
            <a:ext cx="6804000" cy="77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FEC-F73F-49A5-B9E1-F5C4571C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21A-105F-4195-94B4-6C88BD3A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596772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ADC-1BE0-40F4-A4FD-FC8A8AA9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352240"/>
            <a:ext cx="332028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5967720"/>
            <a:ext cx="6804000" cy="33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45D-0EB7-4A4F-A5F9-396E7573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430920"/>
            <a:ext cx="176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430920"/>
            <a:ext cx="239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280" y="9430920"/>
            <a:ext cx="63036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4A5D4-E4AA-4DED-B21C-C7AC90AF60A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403200"/>
            <a:ext cx="68040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78000" y="2352240"/>
            <a:ext cx="68040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77640" y="9430920"/>
            <a:ext cx="176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82640" y="9430920"/>
            <a:ext cx="23936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1280" y="9430920"/>
            <a:ext cx="63036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43953D-2283-41B3-94D9-BBD43E9F93D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260960" y="4816440"/>
            <a:ext cx="3547800" cy="4388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39640" y="2448000"/>
            <a:ext cx="2303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имующие птицы Татарст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755640" y="309960"/>
            <a:ext cx="6264360" cy="9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овьёв Антон: «Как зимуют птицы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мой наши птицы-соседи стараются держаться поближе к человеческому жилью: теплее и сытнее здесь. Сытому и мороз не так страшен. Хороший обед изнутри греет, тепло по всему телу идёт. Если за зиму не исхудать и жир под кожей сохранить, то даже лютый холод, который сквозь перо пройдёт, и тот не опасен: не может жировую под кладку заморозить. Да вот беда, зимой пищу отыскать не легко. Трудно приходится тем птицам, которые летом питались насекомыми, они переходят на шишки, орехи и зёрна. А этот корм ещё поискать на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е время легче сообща пережить. И вот зимой собираются разные птицы в стайки. Ведь в стае как? Нашёл один корм, сразу всех оповестил: все сыты будут. Опасность вовремя заметить легче — всегда кто-нибудь на страже, пока другие кормятся или дремлют. Понадобится от крупного хищника отбиться, то и здесь всем вместе сподручнее. Так что никак маленькой птахе нельзя зимой быть одной. Даже те из птиц, которые обычно в одиночку живут и то на зиму к какой-нибудь стае прибив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059280" y="748440"/>
            <a:ext cx="42130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Times New Roman"/>
                <a:ea typeface="Times New Roman"/>
              </a:rPr>
              <a:t>Семенов Даниил: </a:t>
            </a:r>
            <a:r>
              <a:rPr b="1" lang="ru-RU" sz="2000" spc="-1" strike="noStrike">
                <a:solidFill>
                  <a:srgbClr val="9cb084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9cb084"/>
                </a:solidFill>
                <a:latin typeface="Times New Roman"/>
                <a:ea typeface="Times New Roman"/>
              </a:rPr>
              <a:t>Поползень и дяте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, саду, у кормушек в стайке разных синиц можно увидеть поползня. Эта маленькая короткохвостая птичка сразу привлекает внимание своей способностью быстро бегать по стволу дерева вниз головой. Среди птиц поползни самые лучшие лазуны. Помогает им в этом особое устройство лапок с очень длинными пальцами и когтями. Всё тёплое время года бегают эти птички по деревьям, выискивая насекомых-вредителей. Зимой приходится садиться им на растительную диету. Кусочек несолёного сала в кормушке или подвернувшийся в коре жучок для поползня лакомство. Окраска птички голубовато-серая, горлышко, грудь и брюшко — белые, от клюва идёт чёрная полос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ttp://im2-tub-ru.yandex.net/i?id=168222114-56-72&amp;n=21"/>
          <p:cNvPicPr/>
          <p:nvPr/>
        </p:nvPicPr>
        <p:blipFill>
          <a:blip r:embed="rId1"/>
          <a:stretch/>
        </p:blipFill>
        <p:spPr>
          <a:xfrm>
            <a:off x="684360" y="719280"/>
            <a:ext cx="212076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274920" y="5942520"/>
            <a:ext cx="385452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тица заметная. Спина, крылья, хвост у него чёрные, будто на нём чёрный фрак надет. Горло, грудь, брюшко белые, а на голове яркая красная шапочка. Сидит на стволе дерева, вцепившись коготками в кору, и ещё на хвост опирается. Хвосту дятла необычный: с заострёнными на концах, очень твёрдыми перьями. Упираясь хвостом в неровности коры, дятел прочно держится на отвес ном стволе. Такая прочность, ему нужна, чтобы сильно дол бить дерево. Ведь питается дятел червяками, жуками и другими насекомыми, которые портят дерево, прогрызая ходы в глубь ство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http://im4-tub-ru.yandex.net/i?id=227835685-32-72&amp;n=21"/>
          <p:cNvPicPr/>
          <p:nvPr/>
        </p:nvPicPr>
        <p:blipFill>
          <a:blip r:embed="rId2"/>
          <a:stretch/>
        </p:blipFill>
        <p:spPr>
          <a:xfrm>
            <a:off x="611280" y="5904000"/>
            <a:ext cx="2016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132000" y="769320"/>
            <a:ext cx="3922920" cy="86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бова Ильсина: «Синиц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ы - одни из самых полезных птиц для человека, ведь уничтожают много вредителей. Весной, когда у них появляется ребенок, за сутки могут съесть столько насекомых, сколько сами весят. Эти птицы - кочевые, но на дальние расстояния не летают, лишь на короткие - из северных краев могут переместиться в юж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ица бывает несколько видов, и все они полезны. Чем этих птиц будет больше, тем лучше. Их нужно привлекать с помощью кормушек. Весной и летом синицы питаются только насекомыми, а зимой и осенью едят ягоды и зерно. Чтобы ветер не сдувал их пищу, из смальца (несоленого) можно сделать шарик и «приклеить» к ней сырые семена подсолнечника, овес, просо, лен. Этот корм можно подвесить на дереве или у окна. Синичка смакует также несоленое с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http://im0-tub-ru.yandex.net/i?id=12979578-41-72&amp;n=21"/>
          <p:cNvPicPr/>
          <p:nvPr/>
        </p:nvPicPr>
        <p:blipFill>
          <a:blip r:embed="rId1"/>
          <a:stretch/>
        </p:blipFill>
        <p:spPr>
          <a:xfrm>
            <a:off x="755640" y="3168720"/>
            <a:ext cx="200808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://im4-tub-ru.yandex.net/i?id=446467914-65-72&amp;n=21"/>
          <p:cNvPicPr/>
          <p:nvPr/>
        </p:nvPicPr>
        <p:blipFill>
          <a:blip r:embed="rId2"/>
          <a:stretch/>
        </p:blipFill>
        <p:spPr>
          <a:xfrm>
            <a:off x="684360" y="431640"/>
            <a:ext cx="2111400" cy="223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im1-tub-ru.yandex.net/i?id=51858611-10-72&amp;n=21"/>
          <p:cNvPicPr/>
          <p:nvPr/>
        </p:nvPicPr>
        <p:blipFill>
          <a:blip r:embed="rId3"/>
          <a:stretch/>
        </p:blipFill>
        <p:spPr>
          <a:xfrm>
            <a:off x="684360" y="5761080"/>
            <a:ext cx="2232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195640" y="1008000"/>
            <a:ext cx="5057640" cy="83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горова Лиана «Воробь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редней полосе европейской части России обитают воробьи двух видов: домовый (городской) и полевой (деревенский). Они встречаются вместе в смешанных стайках, особенно поздней осенью и зимой. Весной и летом особи каждого вида придерживаются своих излюбленных мест обитания, где они устраивают гнезда и размножаются. Отличить домового воробья от полевого совсем нетрудно: у домового воробья (самца) на темени шапочка темно-серая, а у полевого — коричневая; у домового воробья на крыльях одна светлая полоска, а у полевого — две. Кроме того, у полевого воробья на щечках расположены черные скобочки на светлом фоне, а вокруг шеи имеется белый ошейник. По телосложению домовый воробей грубее полевого и крупнее 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мового воробья называют еще городским, потому что он особенно многочислен в городских поселениях и обычен даже в самых крупных городах. Полевой воробей получил название деревенского за свою приверженность к сельским местностя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im5-tub-ru.yandex.net/i?id=299518758-39-72&amp;n=21"/>
          <p:cNvPicPr/>
          <p:nvPr/>
        </p:nvPicPr>
        <p:blipFill>
          <a:blip r:embed="rId1"/>
          <a:stretch/>
        </p:blipFill>
        <p:spPr>
          <a:xfrm>
            <a:off x="324000" y="863640"/>
            <a:ext cx="1885680" cy="27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im1-tub-ru.yandex.net/i?id=274988511-42-72&amp;n=21"/>
          <p:cNvPicPr/>
          <p:nvPr/>
        </p:nvPicPr>
        <p:blipFill>
          <a:blip r:embed="rId2"/>
          <a:stretch/>
        </p:blipFill>
        <p:spPr>
          <a:xfrm>
            <a:off x="250920" y="4032360"/>
            <a:ext cx="186984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4-tub-ru.yandex.net/i?id=464977203-04-72&amp;n=21"/>
          <p:cNvPicPr/>
          <p:nvPr/>
        </p:nvPicPr>
        <p:blipFill>
          <a:blip r:embed="rId3"/>
          <a:stretch/>
        </p:blipFill>
        <p:spPr>
          <a:xfrm>
            <a:off x="324000" y="6840360"/>
            <a:ext cx="1834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627280" y="503280"/>
            <a:ext cx="4608720" cy="9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ифуллина Гулия «Снеги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гирь крупнее воробья. Он обладает ярким оперением: красным на груди и серо-голубоватым на спине. Самки по виду похожи на самцов, но отличаются более скромным серым оперением. Снегири обоего пола имеют черную шапочку на темени и толстый короткий клюв черного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на снегирей — хвойные леса северной тайги. Здесь они устраивают гнезда и выводят птенц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нтябре снегири образуют стаи, а в октябре они откочевывают на зимовку в леса средней полосы нашей страны. В это время они появляются в селах и городах, резко выделяясь на фоне выпавшего снега. Отсюда, вероятно, и название этих птиц — снегири. Зимой снегири держатся смешанных и лиственных лесов, где кормятся семенами ольхи, ясеня, кле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пы, граба и других деревьев, а также кустарников (сирени и др.). В садах и парках они поедают древесные почки, а на окраинах полей разыскивают по оврагам и пустырям семена лебеды, конского щавеля и других сорня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енно привлекает снегирей рябина, которую они охотно поедают. Во время кормежки они оставляют следы своей работы в виде вскрытых летучек ясеня и клена, остатков семян липы, мякоти раздавленных ягод рябины и т. д. По этим остаткам легко узнать, что здесь «хозяйничали» снеги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im7-tub-ru.yandex.net/i?id=61244134-27-72&amp;n=21"/>
          <p:cNvPicPr/>
          <p:nvPr/>
        </p:nvPicPr>
        <p:blipFill>
          <a:blip r:embed="rId1"/>
          <a:stretch/>
        </p:blipFill>
        <p:spPr>
          <a:xfrm>
            <a:off x="324000" y="647640"/>
            <a:ext cx="2187360" cy="259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7-tub-ru.yandex.net/i?id=209921412-02-72&amp;n=21"/>
          <p:cNvPicPr/>
          <p:nvPr/>
        </p:nvPicPr>
        <p:blipFill>
          <a:blip r:embed="rId2"/>
          <a:stretch/>
        </p:blipFill>
        <p:spPr>
          <a:xfrm>
            <a:off x="324000" y="3745080"/>
            <a:ext cx="2160360" cy="25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im7-tub-ru.yandex.net/i?id=76960481-16-72&amp;n=21"/>
          <p:cNvPicPr/>
          <p:nvPr/>
        </p:nvPicPr>
        <p:blipFill>
          <a:blip r:embed="rId3"/>
          <a:stretch/>
        </p:blipFill>
        <p:spPr>
          <a:xfrm>
            <a:off x="395280" y="6840360"/>
            <a:ext cx="2030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916360" y="863640"/>
            <a:ext cx="4392360" cy="85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норова Азалия «Голуб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крупный из наших голубей -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яхир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Его легко отличить также по хорошо заметным белым пятнам на шее и крыльях. Благородное сизое, с лёгким дымчатым налётом оперение. Прилетают вяхири в конце марта, а с середины апреля уже постоянно слышны их брачные звуки – глухое, вибрирующее в раннем ритме гудение. В это же время можно видеть токовые полёты голубей: внезапный, с шумным хлопком крыльев взлёт и последующее плавное скольжение. Гнездо – рыхлый плоский настил из веточек – строят на боковых ветвях деревьев и чрезвычайно небрежно. Кладку из двух чисто-белых яиц насиживают 17-18 дней. Спустя три недели птенцы покидают гнездо, и птицы из лесов перемещаются в поля, собираясь в крупные осенние стаи. Улетают в октябре. В заповеднике вяхирь самый обычный голуб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  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нтух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ного меньше вихиря и без каких бы то ни было белых отметин. Прилетает раньше вихиря- токовой голос клинтуха слышен уже с начала апреля. Гнездится в дуплах деревьев, иногда на значительной высоте. В заповеднике встречается регулярно, предпочитая спелые сосновые бо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http://im6-tub-ru.yandex.net/i?id=519932599-57-72&amp;n=21"/>
          <p:cNvPicPr/>
          <p:nvPr/>
        </p:nvPicPr>
        <p:blipFill>
          <a:blip r:embed="rId1"/>
          <a:stretch/>
        </p:blipFill>
        <p:spPr>
          <a:xfrm>
            <a:off x="539640" y="3745080"/>
            <a:ext cx="2232000" cy="2422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im0-tub-ru.yandex.net/i?id=254897557-61-72&amp;n=21"/>
          <p:cNvPicPr/>
          <p:nvPr/>
        </p:nvPicPr>
        <p:blipFill>
          <a:blip r:embed="rId2"/>
          <a:stretch/>
        </p:blipFill>
        <p:spPr>
          <a:xfrm>
            <a:off x="466560" y="936720"/>
            <a:ext cx="2376720" cy="198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im3-tub-ru.yandex.net/i?id=354994495-54-72&amp;n=21"/>
          <p:cNvPicPr/>
          <p:nvPr/>
        </p:nvPicPr>
        <p:blipFill>
          <a:blip r:embed="rId3"/>
          <a:stretch/>
        </p:blipFill>
        <p:spPr>
          <a:xfrm>
            <a:off x="611280" y="6840360"/>
            <a:ext cx="2160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5"/>
          <p:cNvSpPr/>
          <p:nvPr/>
        </p:nvSpPr>
        <p:spPr>
          <a:xfrm>
            <a:off x="684360" y="1152360"/>
            <a:ext cx="6551640" cy="81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гадки про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нкою зеленоват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отиком желтоват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ёрненькая шапоч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лоска шарфи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иница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т птичка так пт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розд, не син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лебедь, не ут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е козод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эта вот пт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ть и невеличк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ит птенц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лютой зим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лёст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огрудый, чернокрыл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ит зёрнышки клеват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ервым снегом на рябин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появится опя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негир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тичка-невелич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жки име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ходить не умее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чет сделать шажок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учается прыжок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ороб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0:03:10Z</dcterms:created>
  <dc:creator/>
  <dc:description/>
  <dc:language>en-US</dc:language>
  <cp:lastModifiedBy>User</cp:lastModifiedBy>
  <dcterms:modified xsi:type="dcterms:W3CDTF">2014-01-31T14:07:22Z</dcterms:modified>
  <cp:revision>9</cp:revision>
  <dc:subject/>
  <dc:title>Слайд 1</dc:title>
</cp:coreProperties>
</file>