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755967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276280" y="812880"/>
            <a:ext cx="300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1EB81-D065-4599-AB65-B8CDB031C5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C6755-E38C-4AA1-B2BC-B74CF80F9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733D-7AFF-4938-8AD3-9F7B754D06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BB3-A860-439D-817D-211AA02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A1C-51A8-4967-A4DD-AD52DBE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524-FC7B-412A-AA14-605E8589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6CF-F255-4E4E-B84E-0A0E4F92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D88-6DCD-4D6F-AF6D-A232B5C3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EC5-185B-4873-87E3-8095798B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94C-EDFD-4238-B390-0B40FEA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CDC-FABC-4D29-8141-3701DFB8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2801-ADFD-475B-99F3-FDEB23B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8000" y="403200"/>
            <a:ext cx="6804000" cy="77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86A1-81B4-4925-A424-651C2DC2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871D-D9C0-4584-9C93-59E7CE7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0F9-DD0E-494A-8BC5-920452B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711D-AD53-4DC4-8E25-3B08E73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A16A-FCE0-46EB-B613-C9A5486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918-7A9D-41DE-8B25-9A1098E6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3083-C4D2-43FE-B3B1-3ED2240F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784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7916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80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784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7916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FBD-0BB8-4F9A-AFCB-CFFA9D74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A0D-8B68-4F79-A726-95AE1374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BA4-F519-40B6-BE55-8B81AB6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213-C7DE-4A51-B414-E738D97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03200"/>
            <a:ext cx="6804000" cy="77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D76-51F9-4BF2-BAC1-55E40B5B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E8A-3966-47E0-B595-61334788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2C6-5012-49BC-9DF4-F66EA75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385-1AF7-4A88-BD56-B08876A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430920"/>
            <a:ext cx="176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430920"/>
            <a:ext cx="239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9430920"/>
            <a:ext cx="630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C90B73-78C5-412A-BB58-160E7DB9106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77640" y="9430920"/>
            <a:ext cx="176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82640" y="9430920"/>
            <a:ext cx="239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1280" y="9430920"/>
            <a:ext cx="630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062AB3-A7E8-448A-81FA-EA245FF333F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260960" y="4816440"/>
            <a:ext cx="3547800" cy="4388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39640" y="2448000"/>
            <a:ext cx="2303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имующие птицы Татарст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755640" y="309960"/>
            <a:ext cx="6264360" cy="9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овьёв Антон: «Как зимуют птицы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ой наши птицы-соседи стараются держаться поближе к человеческому жилью: теплее и сытнее здесь. Сытому и мороз не так страшен. Хороший обед изнутри греет, тепло по всему телу идёт. Если за зиму не исхудать и жир под кожей сохранить, то даже лютый холод, который сквозь перо пройдёт, и тот не опасен: не может жировую под кладку заморозить. Да вот беда, зимой пищу отыскать не легко. Трудно приходится тем птицам, которые летом питались насекомыми, они переходят на шишки, орехи и зёрна. А этот корм ещё поискать на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е время легче сообща пережить. И вот зимой собираются разные птицы в стайки. Ведь в стае как? Нашёл один корм, сразу всех оповестил: все сыты будут. Опасность вовремя заметить легче — всегда кто-нибудь на страже, пока другие кормятся или дремлют. Понадобится от крупного хищника отбиться, то и здесь всем вместе сподручнее. Так что никак маленькой птахе нельзя зимой быть одной. Даже те из птиц, которые обычно в одиночку живут и то на зиму к какой-нибудь стае прибив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059280" y="748440"/>
            <a:ext cx="42130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Семенов Даниил: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Поползень и дяте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, саду, у кормушек в стайке разных синиц можно увидеть поползня. Эта маленькая короткохвостая птичка сразу привлекает внимание своей способностью быстро бегать по стволу дерева вниз головой. Среди птиц поползни самые лучшие лазуны. Помогает им в этом особое устройство лапок с очень длинными пальцами и когтями. Всё тёплое время года бегают эти птички по деревьям, выискивая насекомых-вредителей. Зимой приходится садиться им на растительную диету. Кусочек несолёного сала в кормушке или подвернувшийся в коре жучок для поползня лакомство. Окраска птички голубовато-серая, горлышко, грудь и брюшко — белые, от клюва идёт чёрная поло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ttp://im2-tub-ru.yandex.net/i?id=168222114-56-72&amp;n=21"/>
          <p:cNvPicPr/>
          <p:nvPr/>
        </p:nvPicPr>
        <p:blipFill>
          <a:blip r:embed="rId1"/>
          <a:stretch/>
        </p:blipFill>
        <p:spPr>
          <a:xfrm>
            <a:off x="684360" y="719280"/>
            <a:ext cx="212076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274920" y="5942520"/>
            <a:ext cx="385452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тица заметная. Спина, крылья, хвост у него чёрные, будто на нём чёрный фрак надет. Горло, грудь, брюшко белые, а на голове яркая красная шапочка. Сидит на стволе дерева, вцепившись коготками в кору, и ещё на хвост опирается. Хвосту дятла необычный: с заострёнными на концах, очень твёрдыми перьями. Упираясь хвостом в неровности коры, дятел прочно держится на отвес ном стволе. Такая прочность, ему нужна, чтобы сильно дол бить дерево. Ведь питается дятел червяками, жуками и другими насекомыми, которые портят дерево, прогрызая ходы в глубь ство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http://im4-tub-ru.yandex.net/i?id=227835685-32-72&amp;n=21"/>
          <p:cNvPicPr/>
          <p:nvPr/>
        </p:nvPicPr>
        <p:blipFill>
          <a:blip r:embed="rId2"/>
          <a:stretch/>
        </p:blipFill>
        <p:spPr>
          <a:xfrm>
            <a:off x="611280" y="5904000"/>
            <a:ext cx="201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132000" y="769320"/>
            <a:ext cx="3922920" cy="86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бова Ильсина: «Синиц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ы - одни из самых полезных птиц для человека, ведь уничтожают много вредителей. Весной, когда у них появляется ребенок, за сутки могут съесть столько насекомых, сколько сами весят. Эти птицы - кочевые, но на дальние расстояния не летают, лишь на короткие - из северных краев могут переместиться в юж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ица бывает несколько видов, и все они полезны. Чем этих птиц будет больше, тем лучше. Их нужно привлекать с помощью кормушек. Весной и летом синицы питаются только насекомыми, а зимой и осенью едят ягоды и зерно. Чтобы ветер не сдувал их пищу, из смальца (несоленого) можно сделать шарик и «приклеить» к ней сырые семена подсолнечника, овес, просо, лен. Этот корм можно подвесить на дереве или у окна. Синичка смакует также несоленое с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http://im0-tub-ru.yandex.net/i?id=12979578-41-72&amp;n=21"/>
          <p:cNvPicPr/>
          <p:nvPr/>
        </p:nvPicPr>
        <p:blipFill>
          <a:blip r:embed="rId1"/>
          <a:stretch/>
        </p:blipFill>
        <p:spPr>
          <a:xfrm>
            <a:off x="755640" y="3168720"/>
            <a:ext cx="200808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im4-tub-ru.yandex.net/i?id=446467914-65-72&amp;n=21"/>
          <p:cNvPicPr/>
          <p:nvPr/>
        </p:nvPicPr>
        <p:blipFill>
          <a:blip r:embed="rId2"/>
          <a:stretch/>
        </p:blipFill>
        <p:spPr>
          <a:xfrm>
            <a:off x="684360" y="431640"/>
            <a:ext cx="2111400" cy="223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im1-tub-ru.yandex.net/i?id=51858611-10-72&amp;n=21"/>
          <p:cNvPicPr/>
          <p:nvPr/>
        </p:nvPicPr>
        <p:blipFill>
          <a:blip r:embed="rId3"/>
          <a:stretch/>
        </p:blipFill>
        <p:spPr>
          <a:xfrm>
            <a:off x="684360" y="5761080"/>
            <a:ext cx="2232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95640" y="1008000"/>
            <a:ext cx="5057640" cy="83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горова Лиана «Вороб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редней полосе европейской части России обитают воробьи двух видов: домовый (городской) и полевой (деревенский). Они встречаются вместе в смешанных стайках, особенно поздней осенью и зимой. Весной и летом особи каждого вида придерживаются своих излюбленных мест обитания, где они устраивают гнезда и размножаются. Отличить домового воробья от полевого совсем нетрудно: у домового воробья (самца) на темени шапочка темно-серая, а у полевого — коричневая; у домового воробья на крыльях одна светлая полоска, а у полевого — две. Кроме того, у полевого воробья на щечках расположены черные скобочки на светлом фоне, а вокруг шеи имеется белый ошейник. По телосложению домовый воробей грубее полевого и крупнее 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мового воробья называют еще городским, потому что он особенно многочислен в городских поселениях и обычен даже в самых крупных городах. Полевой воробей получил название деревенского за свою приверженность к сельским местностя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im5-tub-ru.yandex.net/i?id=299518758-39-72&amp;n=21"/>
          <p:cNvPicPr/>
          <p:nvPr/>
        </p:nvPicPr>
        <p:blipFill>
          <a:blip r:embed="rId1"/>
          <a:stretch/>
        </p:blipFill>
        <p:spPr>
          <a:xfrm>
            <a:off x="324000" y="863640"/>
            <a:ext cx="188568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m1-tub-ru.yandex.net/i?id=274988511-42-72&amp;n=21"/>
          <p:cNvPicPr/>
          <p:nvPr/>
        </p:nvPicPr>
        <p:blipFill>
          <a:blip r:embed="rId2"/>
          <a:stretch/>
        </p:blipFill>
        <p:spPr>
          <a:xfrm>
            <a:off x="250920" y="4032360"/>
            <a:ext cx="186984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4-tub-ru.yandex.net/i?id=464977203-04-72&amp;n=21"/>
          <p:cNvPicPr/>
          <p:nvPr/>
        </p:nvPicPr>
        <p:blipFill>
          <a:blip r:embed="rId3"/>
          <a:stretch/>
        </p:blipFill>
        <p:spPr>
          <a:xfrm>
            <a:off x="324000" y="6840360"/>
            <a:ext cx="1834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627280" y="503280"/>
            <a:ext cx="4608720" cy="9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ифуллина Гулия «Снеги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гирь крупнее воробья. Он обладает ярким оперением: красным на груди и серо-голубоватым на спине. Самки по виду похожи на самцов, но отличаются более скромным серым оперением. Снегири обоего пола имеют черную шапочку на темени и толстый короткий клюв черного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на снегирей — хвойные леса северной тайги. Здесь они устраивают гнезда и выводят птенц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снегири образуют стаи, а в октябре они откочевывают на зимовку в леса средней полосы нашей страны. В это время они появляются в селах и городах, резко выделяясь на фоне выпавшего снега. Отсюда, вероятно, и название этих птиц — снегири. Зимой снегири держатся смешанных и лиственных лесов, где кормятся семенами ольхи, ясеня, кле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пы, граба и других деревьев, а также кустарников (сирени и др.). В садах и парках они поедают древесные почки, а на окраинах полей разыскивают по оврагам и пустырям семена лебеды, конского щавеля и других сорня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 привлекает снегирей рябина, которую они охотно поедают. Во время кормежки они оставляют следы своей работы в виде вскрытых летучек ясеня и клена, остатков семян липы, мякоти раздавленных ягод рябины и т. д. По этим остаткам легко узнать, что здесь «хозяйничали» снеги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im7-tub-ru.yandex.net/i?id=61244134-27-72&amp;n=21"/>
          <p:cNvPicPr/>
          <p:nvPr/>
        </p:nvPicPr>
        <p:blipFill>
          <a:blip r:embed="rId1"/>
          <a:stretch/>
        </p:blipFill>
        <p:spPr>
          <a:xfrm>
            <a:off x="324000" y="647640"/>
            <a:ext cx="2187360" cy="259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7-tub-ru.yandex.net/i?id=209921412-02-72&amp;n=21"/>
          <p:cNvPicPr/>
          <p:nvPr/>
        </p:nvPicPr>
        <p:blipFill>
          <a:blip r:embed="rId2"/>
          <a:stretch/>
        </p:blipFill>
        <p:spPr>
          <a:xfrm>
            <a:off x="324000" y="3745080"/>
            <a:ext cx="216036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im7-tub-ru.yandex.net/i?id=76960481-16-72&amp;n=21"/>
          <p:cNvPicPr/>
          <p:nvPr/>
        </p:nvPicPr>
        <p:blipFill>
          <a:blip r:embed="rId3"/>
          <a:stretch/>
        </p:blipFill>
        <p:spPr>
          <a:xfrm>
            <a:off x="395280" y="6840360"/>
            <a:ext cx="2030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916360" y="863640"/>
            <a:ext cx="439236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норова Азалия «Голуб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крупный из наших голубей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яхир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Его легко отличить также по хорошо заметным белым пятнам на шее и крыльях. Благородное сизое, с лёгким дымчатым налётом оперение. Прилетают вяхири в конце марта, а с середины апреля уже постоянно слышны их брачные звуки – глухое, вибрирующее в раннем ритме гудение. В это же время можно видеть токовые полёты голубей: внезапный, с шумным хлопком крыльев взлёт и последующее плавное скольжение. Гнездо – рыхлый плоский настил из веточек – строят на боковых ветвях деревьев и чрезвычайно небрежно. Кладку из двух чисто-белых яиц насиживают 17-18 дней. Спустя три недели птенцы покидают гнездо, и птицы из лесов перемещаются в поля, собираясь в крупные осенние стаи. Улетают в октябре. В заповеднике вяхирь самый обычный голуб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  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тух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ного меньше вихиря и без каких бы то ни было белых отметин. Прилетает раньше вихиря- токовой голос клинтуха слышен уже с начала апреля. Гнездится в дуплах деревьев, иногда на значительной высоте. В заповеднике встречается регулярно, предпочитая спелые сосновые бо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http://im6-tub-ru.yandex.net/i?id=519932599-57-72&amp;n=21"/>
          <p:cNvPicPr/>
          <p:nvPr/>
        </p:nvPicPr>
        <p:blipFill>
          <a:blip r:embed="rId1"/>
          <a:stretch/>
        </p:blipFill>
        <p:spPr>
          <a:xfrm>
            <a:off x="539640" y="3745080"/>
            <a:ext cx="2232000" cy="242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im0-tub-ru.yandex.net/i?id=254897557-61-72&amp;n=21"/>
          <p:cNvPicPr/>
          <p:nvPr/>
        </p:nvPicPr>
        <p:blipFill>
          <a:blip r:embed="rId2"/>
          <a:stretch/>
        </p:blipFill>
        <p:spPr>
          <a:xfrm>
            <a:off x="466560" y="936720"/>
            <a:ext cx="2376720" cy="198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im3-tub-ru.yandex.net/i?id=354994495-54-72&amp;n=21"/>
          <p:cNvPicPr/>
          <p:nvPr/>
        </p:nvPicPr>
        <p:blipFill>
          <a:blip r:embed="rId3"/>
          <a:stretch/>
        </p:blipFill>
        <p:spPr>
          <a:xfrm>
            <a:off x="611280" y="6840360"/>
            <a:ext cx="216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5"/>
          <p:cNvSpPr/>
          <p:nvPr/>
        </p:nvSpPr>
        <p:spPr>
          <a:xfrm>
            <a:off x="684360" y="1152360"/>
            <a:ext cx="6551640" cy="81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гадки про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нкою зеленова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иком желтова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ёрненькая шапоч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лоска шарфи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иница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т птичка так пт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розд, не син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ебедь, не ут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е козод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эта вот пт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ть и невел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ит птенц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лютой зим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лёст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огрудый, чернокрыл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ит зёрнышки клева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ервым снегом на рябин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оявится опя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негир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чка-невелич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жки име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ходить не умее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ет сделать шажо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учается прыж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ороб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03:10Z</dcterms:created>
  <dc:creator/>
  <dc:description/>
  <dc:language>en-US</dc:language>
  <cp:lastModifiedBy>User</cp:lastModifiedBy>
  <dcterms:modified xsi:type="dcterms:W3CDTF">2014-01-31T14:07:22Z</dcterms:modified>
  <cp:revision>9</cp:revision>
  <dc:subject/>
  <dc:title>Слайд 1</dc:title>
</cp:coreProperties>
</file>