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6BC5-838B-453E-8316-9F474654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A4B-4F64-45D2-BF17-D58840E1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0C7-B67D-45AB-9795-F18DDB46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C9C0-9FD8-43BB-B47A-F6601FB3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4EC-1086-4F9E-973F-4B585380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8F0-4F76-41E9-AAB1-4E7E1A86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1FC-F5E3-40CB-96B3-9A4A7353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AAF-BA81-481E-AB52-CDDC06FB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8E30-9CAB-46B3-85CB-E1499596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F1F-B799-4D38-AB4E-F2FE06FE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DB0-8987-4906-B1C1-FE5F040E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40D-7399-44DE-8EB7-A96FC5BC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B1E8-02AD-46D5-BD93-B3E3D3EB61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476280"/>
            <a:ext cx="842472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убы и уход за ним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6" descr="8"/>
          <p:cNvPicPr/>
          <p:nvPr/>
        </p:nvPicPr>
        <p:blipFill>
          <a:blip r:embed="rId1"/>
          <a:stretch/>
        </p:blipFill>
        <p:spPr>
          <a:xfrm>
            <a:off x="1619280" y="2692440"/>
            <a:ext cx="5689440" cy="4130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250920" y="133200"/>
            <a:ext cx="8281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b5481"/>
                </a:solidFill>
                <a:uFillTx/>
                <a:latin typeface="Tahoma"/>
              </a:rPr>
              <a:t>Пародонтит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или как его насовсем правильно называют пародонтоз.  Причинами пародонтита являться наследственные факторы, неправильное питание и плохая гигиена полости рта, стресс .  Пародонтит проявляется в повышенной подвижности зубов их расшатывании и постепенном выпадении. При пародонтите также отмечается воспаление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кровоточивость десен. Заболевание в основном протекает безболезненно, пародонтит поэт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еще называю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«тихий убийц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зуб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276720" y="3639960"/>
            <a:ext cx="5045040" cy="301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50920" y="333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b5481"/>
                </a:solidFill>
                <a:uFillTx/>
                <a:latin typeface="Tahoma"/>
              </a:rPr>
              <a:t>Стоматит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характеризуется воспалением слизистой оболочки полости рта, ее покраснением, иногда отмечается опущение зуд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85840" y="5064120"/>
            <a:ext cx="85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Причинами стоматита кроме плохой гигиены полости рта являются также: внутренние болезни, травмирующие факторы, нависающие на десну пломб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rcRect l="10589" t="9726" r="13613" b="21112"/>
          <a:stretch/>
        </p:blipFill>
        <p:spPr>
          <a:xfrm>
            <a:off x="250920" y="1533600"/>
            <a:ext cx="4332240" cy="3101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4772160" y="1679400"/>
            <a:ext cx="408132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9"/>
          <p:cNvSpPr/>
          <p:nvPr/>
        </p:nvSpPr>
        <p:spPr>
          <a:xfrm>
            <a:off x="395280" y="98100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5481"/>
                </a:solidFill>
                <a:latin typeface="Tahoma"/>
              </a:rPr>
              <a:t>Тепло + влага + еда  = множество бактерий</a:t>
            </a:r>
            <a:r>
              <a:rPr b="0" lang="ru-RU" sz="40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162000" y="3284640"/>
            <a:ext cx="853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5481"/>
                </a:solidFill>
                <a:latin typeface="Tahoma"/>
              </a:rPr>
              <a:t>Сахар + бактерии +  кислота = зубной налё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732200" y="39654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5762520" y="1998720"/>
            <a:ext cx="238140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b5481"/>
                </a:solidFill>
                <a:latin typeface="Tahoma"/>
              </a:rPr>
              <a:t>Зубные паст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82" name="Прямая со стрелкой 4"/>
          <p:cNvCxnSpPr/>
          <p:nvPr/>
        </p:nvCxnSpPr>
        <p:spPr>
          <a:xfrm flipH="1">
            <a:off x="3698280" y="1341360"/>
            <a:ext cx="1081800" cy="936000"/>
          </a:xfrm>
          <a:prstGeom prst="straightConnector1">
            <a:avLst/>
          </a:prstGeom>
          <a:ln w="73080">
            <a:solidFill>
              <a:srgbClr val="009999"/>
            </a:solidFill>
            <a:miter/>
            <a:tailEnd len="med" type="arrow" w="med"/>
          </a:ln>
        </p:spPr>
      </p:cxnSp>
      <p:cxnSp>
        <p:nvCxnSpPr>
          <p:cNvPr id="83" name="Прямая со стрелкой 6"/>
          <p:cNvCxnSpPr/>
          <p:nvPr/>
        </p:nvCxnSpPr>
        <p:spPr>
          <a:xfrm>
            <a:off x="4779720" y="1341360"/>
            <a:ext cx="872280" cy="2664720"/>
          </a:xfrm>
          <a:prstGeom prst="straightConnector1">
            <a:avLst/>
          </a:prstGeom>
          <a:ln w="73080">
            <a:solidFill>
              <a:srgbClr val="009999"/>
            </a:solidFill>
            <a:miter/>
            <a:tailEnd len="med" type="arrow" w="med"/>
          </a:ln>
        </p:spPr>
      </p:cxnSp>
      <p:sp>
        <p:nvSpPr>
          <p:cNvPr id="84" name="Прямоугольник 9"/>
          <p:cNvSpPr/>
          <p:nvPr/>
        </p:nvSpPr>
        <p:spPr>
          <a:xfrm>
            <a:off x="1044000" y="2459160"/>
            <a:ext cx="38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b5481"/>
                </a:solidFill>
                <a:latin typeface="Tahoma"/>
              </a:rPr>
              <a:t>гигиеническ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Прямоугольник 10"/>
          <p:cNvSpPr/>
          <p:nvPr/>
        </p:nvSpPr>
        <p:spPr>
          <a:xfrm>
            <a:off x="1092600" y="3860640"/>
            <a:ext cx="740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b5481"/>
                </a:solidFill>
                <a:latin typeface="Tahoma"/>
              </a:rPr>
              <a:t>лечебно-профилактическ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581280" y="4568760"/>
            <a:ext cx="3583080" cy="2143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6588000" y="15224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219240" y="4730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. Чистить зубы 2 раза в день — после завтрака и ужина</a:t>
            </a: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806400" y="907920"/>
            <a:ext cx="770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b5481"/>
                </a:solidFill>
                <a:latin typeface="Arial"/>
              </a:rPr>
              <a:t>(Понижается кислотность и уничтожаются микробы во рту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230040" y="124776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2. Чистить зубы со всех сторон не менее 3 мину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3935520" y="1668600"/>
            <a:ext cx="47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Обеспечивается снятие зубного нале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230040" y="1994040"/>
            <a:ext cx="88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3. Для чистки зубов использовать пасты, содержащие фт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4971240" y="233352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Укрепляется эмал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247680" y="27036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4. Чистить зубы щеткой с искусственной щети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2973240" y="3103560"/>
            <a:ext cx="58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В такой щетке заводится меньше микроб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243000" y="345132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5. Хранить щетку на открытом воздухе щетиной вверх, предварительно намыли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12"/>
          <p:cNvSpPr/>
          <p:nvPr/>
        </p:nvSpPr>
        <p:spPr>
          <a:xfrm>
            <a:off x="4346280" y="38671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Не заводятся микробы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202680" y="428148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6. Менять щетку 4 раза в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Прямоугольник 15"/>
          <p:cNvSpPr/>
          <p:nvPr/>
        </p:nvSpPr>
        <p:spPr>
          <a:xfrm>
            <a:off x="4750560" y="432756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. </a:t>
            </a: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Лучше чистятся зубы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Прямоугольник 16"/>
          <p:cNvSpPr/>
          <p:nvPr/>
        </p:nvSpPr>
        <p:spPr>
          <a:xfrm>
            <a:off x="236520" y="4869000"/>
            <a:ext cx="88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7. После чистки зубов делать массаж десен вращательными движениями пальц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17"/>
          <p:cNvSpPr/>
          <p:nvPr/>
        </p:nvSpPr>
        <p:spPr>
          <a:xfrm>
            <a:off x="3645360" y="528480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Улучшается питание зубов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20"/>
          <p:cNvSpPr/>
          <p:nvPr/>
        </p:nvSpPr>
        <p:spPr>
          <a:xfrm>
            <a:off x="135720" y="5730840"/>
            <a:ext cx="64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8.   Использовать после еды зубочист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Прямоугольник 21"/>
          <p:cNvSpPr/>
          <p:nvPr/>
        </p:nvSpPr>
        <p:spPr>
          <a:xfrm>
            <a:off x="4891680" y="6199200"/>
            <a:ext cx="32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Удаляются остатки пищ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9. Полоскать рот после сна и после любой ед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4551840" y="72216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Понижается кислотность во рту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222120" y="1197000"/>
            <a:ext cx="85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0. Использовать после еды жевательную резинку без сахар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1463760" y="177012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Понижается кислотность во рту, нагружаются жевательные мышцы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250920" y="23385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1. Интенсивно пережевывать сырые овощи и фрук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рямоугольник 8"/>
          <p:cNvSpPr/>
          <p:nvPr/>
        </p:nvSpPr>
        <p:spPr>
          <a:xfrm>
            <a:off x="3090960" y="2819520"/>
            <a:ext cx="56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Хорошо очищаются и тренируются зубы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рямоугольник 9"/>
          <p:cNvSpPr/>
          <p:nvPr/>
        </p:nvSpPr>
        <p:spPr>
          <a:xfrm>
            <a:off x="235080" y="3243240"/>
            <a:ext cx="650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2. Меньше есть сахара, конфет, печен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рямоугольник 10"/>
          <p:cNvSpPr/>
          <p:nvPr/>
        </p:nvSpPr>
        <p:spPr>
          <a:xfrm>
            <a:off x="5083560" y="365616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Реже образуется кариес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140040" y="429264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3. Не грызть ногти, карандаши и др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рямоугольник 12"/>
          <p:cNvSpPr/>
          <p:nvPr/>
        </p:nvSpPr>
        <p:spPr>
          <a:xfrm>
            <a:off x="774720" y="49100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Реже возникают заболевания зубов и околозубных ткан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рямоугольник 13"/>
          <p:cNvSpPr/>
          <p:nvPr/>
        </p:nvSpPr>
        <p:spPr>
          <a:xfrm>
            <a:off x="250920" y="5413320"/>
            <a:ext cx="83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4. Не есть одновременно горячее и холодн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4848480" y="5877000"/>
            <a:ext cx="31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(Сохраняется эмаль зубов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4"/>
          <p:cNvSpPr/>
          <p:nvPr/>
        </p:nvSpPr>
        <p:spPr>
          <a:xfrm>
            <a:off x="2124000" y="220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http://www.youtube.com/watch?feature=player_detailpage&amp;v=FdVN6xWbe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324000" y="342900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ahoma"/>
              </a:rPr>
              <a:t>Как правильно чистить зубы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117440" y="4724280"/>
            <a:ext cx="691380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139760" y="260280"/>
            <a:ext cx="676584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2124000" y="333360"/>
            <a:ext cx="511200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и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5481"/>
                </a:solidFill>
                <a:latin typeface="Tahoma"/>
              </a:rPr>
              <a:t>Познакомить учащихся с заболеванием зубов (кариес) и десен (парадантоз, стоматит), мерами их профилакти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5481"/>
                </a:solidFill>
                <a:latin typeface="Tahoma"/>
              </a:rPr>
              <a:t>Повторить основные правила по уходу за зуб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5481"/>
                </a:solidFill>
                <a:latin typeface="Tahoma"/>
              </a:rPr>
              <a:t>Воспитывать позитивное отношение к здоровому образу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Улыбка"/>
          <p:cNvPicPr/>
          <p:nvPr/>
        </p:nvPicPr>
        <p:blipFill>
          <a:blip r:embed="rId1"/>
          <a:stretch/>
        </p:blipFill>
        <p:spPr>
          <a:xfrm>
            <a:off x="1042920" y="1268280"/>
            <a:ext cx="6769080" cy="52610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-12600" y="476280"/>
            <a:ext cx="926604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860400" y="189000"/>
            <a:ext cx="748980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ение зуб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rcRect l="12982" t="2949" r="15183" b="2627"/>
          <a:stretch/>
        </p:blipFill>
        <p:spPr>
          <a:xfrm>
            <a:off x="1060560" y="1197000"/>
            <a:ext cx="7129440" cy="540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" name="Picture 4" descr="виды и функции зубов"/>
          <p:cNvPicPr/>
          <p:nvPr/>
        </p:nvPicPr>
        <p:blipFill>
          <a:blip r:embed="rId1"/>
          <a:srcRect l="5736" t="0" r="7381" b="0"/>
          <a:stretch/>
        </p:blipFill>
        <p:spPr>
          <a:xfrm>
            <a:off x="-28440" y="0"/>
            <a:ext cx="917244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проверить и почувствовать работу зуб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Оборудова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кусочек хлеба, яблока, морков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помощи хлеба, яблока, моркови чувствуем, как работают резцы, коренные и язы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ращаем внимание, как работает нижняя челю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1763640" y="476280"/>
            <a:ext cx="60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исание оп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Picture 5" descr="CRCTR561"/>
          <p:cNvPicPr/>
          <p:nvPr/>
        </p:nvPicPr>
        <p:blipFill>
          <a:blip r:embed="rId1"/>
          <a:stretch/>
        </p:blipFill>
        <p:spPr>
          <a:xfrm>
            <a:off x="6083280" y="2349360"/>
            <a:ext cx="3060720" cy="3718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6419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убы у человека предназначены для дробления и перетирания пищ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деляют резцы, коренные и клы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ждый вид зубов выполняет сво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вижение челюсти  снизу вверх только дробит пищу, а боковые движения перетирают ее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1619280" y="476280"/>
            <a:ext cx="5761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и оп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Picture 5" descr="CRCTR082"/>
          <p:cNvPicPr/>
          <p:nvPr/>
        </p:nvPicPr>
        <p:blipFill>
          <a:blip r:embed="rId1"/>
          <a:stretch/>
        </p:blipFill>
        <p:spPr>
          <a:xfrm>
            <a:off x="6084720" y="1341360"/>
            <a:ext cx="3059280" cy="5516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WordArt 5"/>
          <p:cNvSpPr txBox="1"/>
          <p:nvPr/>
        </p:nvSpPr>
        <p:spPr>
          <a:xfrm>
            <a:off x="1116000" y="404640"/>
            <a:ext cx="72486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заболевания полости р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447840" y="201600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5481"/>
                </a:solidFill>
                <a:latin typeface="Tahoma"/>
              </a:rPr>
              <a:t>Одной из основных зубных болезней является - </a:t>
            </a:r>
            <a:r>
              <a:rPr b="1" lang="ru-RU" sz="3200" spc="-1" strike="noStrike" u="sng">
                <a:solidFill>
                  <a:srgbClr val="2b5481"/>
                </a:solidFill>
                <a:uFillTx/>
                <a:latin typeface="Tahoma"/>
              </a:rPr>
              <a:t>кариес</a:t>
            </a:r>
            <a:r>
              <a:rPr b="0" lang="ru-RU" sz="3200" spc="-1" strike="noStrike">
                <a:solidFill>
                  <a:srgbClr val="2b5481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447840" y="3130560"/>
            <a:ext cx="837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5481"/>
                </a:solidFill>
                <a:latin typeface="Tahoma"/>
              </a:rPr>
              <a:t>Kариес зубов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представляет собой деструктивное разрушение твердых тканей зуба: эмали зуба, дентина и цемента зуба. Причина кариеса зуба микроорганизмы, которые поедают ткани зуба, неправильное   питание и плохая гигиена полости рта. Внешне кариес проявляется в виде черных точек или отверстий на зуб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4"/>
          <p:cNvSpPr/>
          <p:nvPr/>
        </p:nvSpPr>
        <p:spPr>
          <a:xfrm>
            <a:off x="250920" y="18900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Результатом вовремя незалеченного кариеса зуба будет новая болезнь зуба-  </a:t>
            </a:r>
            <a:r>
              <a:rPr b="1" lang="ru-RU" sz="2400" spc="-1" strike="noStrike">
                <a:solidFill>
                  <a:srgbClr val="2b5481"/>
                </a:solidFill>
                <a:latin typeface="Tahoma"/>
              </a:rPr>
              <a:t>пульпиту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. </a:t>
            </a:r>
            <a:r>
              <a:rPr b="1" lang="ru-RU" sz="2400" spc="-1" strike="noStrike">
                <a:solidFill>
                  <a:srgbClr val="2b5481"/>
                </a:solidFill>
                <a:latin typeface="Tahoma"/>
              </a:rPr>
              <a:t>Пульпит</a:t>
            </a: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 – это воспаление пульпы зуба его нерва.  Доказано, что причиной пульпита, являться попадание инфекции при запущенном кариесе из дентина зуба в пульпу зуба. Пульпит проявляется сильными,   пульсирующими болями, обычно усиливающимися в ночное время, пульпитные   боли намного сильнее чем  боли при кариесе зуба, возникают самопроизвольно могут длиться несколько ча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3059280" y="3573360"/>
            <a:ext cx="5395680" cy="17082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395280" y="544500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b5481"/>
                </a:solidFill>
                <a:latin typeface="Tahoma"/>
              </a:rPr>
              <a:t>стоматологический инструмент  для удаления нерва зуба и нерв накрученный на не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1:42:28Z</dcterms:created>
  <dc:creator>ученик</dc:creator>
  <dc:description/>
  <dc:language>en-US</dc:language>
  <cp:lastModifiedBy>School_0</cp:lastModifiedBy>
  <dcterms:modified xsi:type="dcterms:W3CDTF">2013-02-01T06:21:21Z</dcterms:modified>
  <cp:revision>53</cp:revision>
  <dc:subject/>
  <dc:title>Зубы и уход за ними</dc:title>
</cp:coreProperties>
</file>