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942-0E9E-4DDA-BFEB-710FD04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ECB-7BAE-408E-8F5C-E3D5B55E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548-17DE-42FF-BB89-1707468C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878-E84B-4C1A-A4FC-19D4A057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C04-F021-4EEC-8F2D-617DBED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4E5-9F7E-4405-91C7-C03B223B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E31-36EB-4C55-A316-EC021AF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9F7-ED20-4676-98AB-440AB1A0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4B8-7319-477E-BC11-7ACA0A9A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766-8D8A-4DAB-BAD0-065A4F5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542-6D0A-4749-85E3-5F66765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34F-4CC9-4EFA-8973-15E7845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EAF-90D9-4A5D-B2A8-56F7AB9DDD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476280"/>
            <a:ext cx="8424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ы и уход за ним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8"/>
          <p:cNvPicPr/>
          <p:nvPr/>
        </p:nvPicPr>
        <p:blipFill>
          <a:blip r:embed="rId1"/>
          <a:stretch/>
        </p:blipFill>
        <p:spPr>
          <a:xfrm>
            <a:off x="1619280" y="2692440"/>
            <a:ext cx="568944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250920" y="133200"/>
            <a:ext cx="828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b5481"/>
                </a:solidFill>
                <a:uFillTx/>
                <a:latin typeface="Tahoma"/>
              </a:rPr>
              <a:t>Пародонтит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или как его насовсем правильно называют пародонтоз.  Причинами пародонтита являться наследственные факторы, неправильное питание и плохая гигиена полости рта, стресс .  Пародонтит проявляется в повышенной подвижности зубов их расшатывании и постепенном выпадении. При пародонтите также отмечается воспалени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кровоточивость десен. Заболевание в основном протекает безболезненно, пародонтит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еще назыв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«тихий убийц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зуб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76720" y="3639960"/>
            <a:ext cx="5045040" cy="301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50920" y="333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b5481"/>
                </a:solidFill>
                <a:uFillTx/>
                <a:latin typeface="Tahoma"/>
              </a:rPr>
              <a:t>Стоматит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характеризуется воспалением слизистой оболочки полости рта, ее покраснением, иногда отмечается опущение зу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85840" y="5064120"/>
            <a:ext cx="85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Причинами стоматита кроме плохой гигиены полости рта являются также: внутренние болезни, травмирующие факторы, нависающие на десну плом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10589" t="9726" r="13613" b="21112"/>
          <a:stretch/>
        </p:blipFill>
        <p:spPr>
          <a:xfrm>
            <a:off x="250920" y="1533600"/>
            <a:ext cx="4332240" cy="31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772160" y="1679400"/>
            <a:ext cx="408132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95280" y="981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Тепло + влага + еда  = множество бактерий</a:t>
            </a:r>
            <a:r>
              <a:rPr b="0" lang="ru-RU" sz="40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62000" y="3284640"/>
            <a:ext cx="85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Сахар + бактерии +  кислота = зубной налё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32200" y="3965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762520" y="1998720"/>
            <a:ext cx="23814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b5481"/>
                </a:solidFill>
                <a:latin typeface="Tahoma"/>
              </a:rPr>
              <a:t>Зубные паст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82" name="Прямая со стрелкой 4"/>
          <p:cNvCxnSpPr/>
          <p:nvPr/>
        </p:nvCxnSpPr>
        <p:spPr>
          <a:xfrm flipH="1">
            <a:off x="3698280" y="1341360"/>
            <a:ext cx="1081800" cy="936000"/>
          </a:xfrm>
          <a:prstGeom prst="straightConnector1">
            <a:avLst/>
          </a:prstGeom>
          <a:ln w="7308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83" name="Прямая со стрелкой 6"/>
          <p:cNvCxnSpPr/>
          <p:nvPr/>
        </p:nvCxnSpPr>
        <p:spPr>
          <a:xfrm>
            <a:off x="4779720" y="1341360"/>
            <a:ext cx="872280" cy="2664720"/>
          </a:xfrm>
          <a:prstGeom prst="straightConnector1">
            <a:avLst/>
          </a:prstGeom>
          <a:ln w="7308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84" name="Прямоугольник 9"/>
          <p:cNvSpPr/>
          <p:nvPr/>
        </p:nvSpPr>
        <p:spPr>
          <a:xfrm>
            <a:off x="1044000" y="2459160"/>
            <a:ext cx="38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Tahoma"/>
              </a:rPr>
              <a:t>гигиеническ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1092600" y="3860640"/>
            <a:ext cx="74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Tahoma"/>
              </a:rPr>
              <a:t>лечебно-профилактическ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81280" y="4568760"/>
            <a:ext cx="358308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6588000" y="15224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19240" y="4730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. Чистить зубы 2 раза в день — после завтрака и ужина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806400" y="907920"/>
            <a:ext cx="77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b5481"/>
                </a:solidFill>
                <a:latin typeface="Arial"/>
              </a:rPr>
              <a:t>(Понижается кислотность и уничтожаются микробы во рту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230040" y="12477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2. Чистить зубы со всех сторон не менее 3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3935520" y="166860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Обеспечивается снятие зубного нале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230040" y="1994040"/>
            <a:ext cx="88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3. Для чистки зубов использовать пасты, содержащие фт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4971240" y="23335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крепляется эма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247680" y="27036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4. Чистить зубы щеткой с искусственной щет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2973240" y="3103560"/>
            <a:ext cx="58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В такой щетке заводится меньше микроб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243000" y="34513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5. Хранить щетку на открытом воздухе щетиной вверх, предварительно намыли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4346280" y="3867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Не заводятся микро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202680" y="428148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6. Менять щетку 4 раза в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4750560" y="432756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Лучше чистятся зу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236520" y="48690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7. После чистки зубов делать массаж десен вращательными движениями пальц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3645360" y="528480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лучшается питание зубов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135720" y="5730840"/>
            <a:ext cx="64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8.   Использовать после еды зубочист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4891680" y="61992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даляются остатки пищ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9. Полоскать рот после сна и после любой е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551840" y="72216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Понижается кислотность во рт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22120" y="119700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0. Использовать после еды жевательную резинку без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463760" y="17701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Понижается кислотность во рту, нагружаются жевательные мышц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250920" y="23385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1. Интенсивно пережевывать сырые овощи и фр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3090960" y="2819520"/>
            <a:ext cx="56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Хорошо очищаются и тренируются зу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235080" y="3243240"/>
            <a:ext cx="65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2. Меньше есть сахара, конфет, печен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5083560" y="365616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Реже образуется кариес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40040" y="429264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3. Не грызть ногти, карандаши и др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774720" y="49100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Реже возникают заболевания зубов и околозубных ткан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250920" y="541332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4. Не есть одновременно горячее и холод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4848480" y="5877000"/>
            <a:ext cx="31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Сохраняется эмаль зубов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212400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ttp://www.youtube.com/watch?feature=player_detailpage&amp;v=FdVN6xWb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24000" y="342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Как правильно чистить зубы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117440" y="4724280"/>
            <a:ext cx="691380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139760" y="260280"/>
            <a:ext cx="67658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124000" y="333360"/>
            <a:ext cx="511200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Познакомить учащихся с заболеванием зубов (кариес) и десен (парадантоз, стоматит), мерами их профилакти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Повторить основные правила по уходу за зуб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Воспитывать позитивное отношение к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Улыбка"/>
          <p:cNvPicPr/>
          <p:nvPr/>
        </p:nvPicPr>
        <p:blipFill>
          <a:blip r:embed="rId1"/>
          <a:stretch/>
        </p:blipFill>
        <p:spPr>
          <a:xfrm>
            <a:off x="1042920" y="1268280"/>
            <a:ext cx="6769080" cy="5261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-12600" y="476280"/>
            <a:ext cx="92660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860400" y="189000"/>
            <a:ext cx="74898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зуб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12982" t="2949" r="15183" b="2627"/>
          <a:stretch/>
        </p:blipFill>
        <p:spPr>
          <a:xfrm>
            <a:off x="1060560" y="1197000"/>
            <a:ext cx="7129440" cy="540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виды и функции зубов"/>
          <p:cNvPicPr/>
          <p:nvPr/>
        </p:nvPicPr>
        <p:blipFill>
          <a:blip r:embed="rId1"/>
          <a:srcRect l="5736" t="0" r="7381" b="0"/>
          <a:stretch/>
        </p:blipFill>
        <p:spPr>
          <a:xfrm>
            <a:off x="-28440" y="0"/>
            <a:ext cx="917244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роверить и почувствовать работу зу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боруд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кусочек хлеба, яблока, морко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мощи хлеба, яблока, моркови чувствуем, как работают резцы, коренные и язы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щаем внимание, как работает нижняя челю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763640" y="476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исание оп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5" descr="CRCTR561"/>
          <p:cNvPicPr/>
          <p:nvPr/>
        </p:nvPicPr>
        <p:blipFill>
          <a:blip r:embed="rId1"/>
          <a:stretch/>
        </p:blipFill>
        <p:spPr>
          <a:xfrm>
            <a:off x="6083280" y="2349360"/>
            <a:ext cx="306072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41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убы у человека предназначены для дробления и перетирания пи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еляют резцы, коренные и клы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ый вид зубов выполняет сво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вижение челюсти  снизу вверх только дробит пищу, а боковые движения перетирают е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619280" y="476280"/>
            <a:ext cx="5761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и оп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5" descr="CRCTR082"/>
          <p:cNvPicPr/>
          <p:nvPr/>
        </p:nvPicPr>
        <p:blipFill>
          <a:blip r:embed="rId1"/>
          <a:stretch/>
        </p:blipFill>
        <p:spPr>
          <a:xfrm>
            <a:off x="6084720" y="1341360"/>
            <a:ext cx="30592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1116000" y="404640"/>
            <a:ext cx="72486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заболевания полости р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447840" y="2016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Одной из основных зубных болезней является - </a:t>
            </a:r>
            <a:r>
              <a:rPr b="1" lang="ru-RU" sz="3200" spc="-1" strike="noStrike" u="sng">
                <a:solidFill>
                  <a:srgbClr val="2b5481"/>
                </a:solidFill>
                <a:uFillTx/>
                <a:latin typeface="Tahoma"/>
              </a:rPr>
              <a:t>кариес</a:t>
            </a: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47840" y="313056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Kариес зубов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представляет собой деструктивное разрушение твердых тканей зуба: эмали зуба, дентина и цемента зуба. Причина кариеса зуба микроорганизмы, которые поедают ткани зуба, неправильное   питание и плохая гигиена полости рта. Внешне кариес проявляется в виде черных точек или отверстий на зу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250920" y="18900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Результатом вовремя незалеченного кариеса зуба будет новая болезнь зуба-  </a:t>
            </a: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пульпиту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Пульпит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– это воспаление пульпы зуба его нерва.  Доказано, что причиной пульпита, являться попадание инфекции при запущенном кариесе из дентина зуба в пульпу зуба. Пульпит проявляется сильными,   пульсирующими болями, обычно усиливающимися в ночное время, пульпитные   боли намного сильнее чем  боли при кариесе зуба, возникают самопроизвольно могут длиться несколько 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5395680" cy="17082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395280" y="5445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b5481"/>
                </a:solidFill>
                <a:latin typeface="Tahoma"/>
              </a:rPr>
              <a:t>стоматологический инструмент  для удаления нерва зуба и нерв накрученный на н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1:42:28Z</dcterms:created>
  <dc:creator>ученик</dc:creator>
  <dc:description/>
  <dc:language>en-US</dc:language>
  <cp:lastModifiedBy>School_0</cp:lastModifiedBy>
  <dcterms:modified xsi:type="dcterms:W3CDTF">2013-02-01T06:21:21Z</dcterms:modified>
  <cp:revision>53</cp:revision>
  <dc:subject/>
  <dc:title>Зубы и уход за ними</dc:title>
</cp:coreProperties>
</file>