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F28-CFFA-4152-9775-BBAEC068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7C4-6455-434C-9123-18F14149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1F9-6F3F-4C89-A596-A602BEC7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3B6-0864-49FB-ABEF-82B9D84F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5B5-5B8C-4A35-9FF2-17074554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4CB-00E1-496A-990A-DE63A6EE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0243-0E87-4821-8A1E-54F6C7B4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6F0-6DDB-4D64-95F4-0BB5A3B9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6EE-1D80-4C39-837E-58B17BE1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62E-B163-413A-A613-C719C017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685-F84C-4246-8DF4-74D6C20D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DF6-A71B-4508-BB45-EAD0F0B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231C-9055-44BF-BECA-C21EAC475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409000">
            <a:off x="914400" y="3885840"/>
            <a:ext cx="797724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лнечная система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атур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– вторая по размерам планета в Солнечной системе после Юпитера. Относится к газовым гигантам. Атмосфера Сатурна состоит из различных газов и кажется из космоса спокойной и однородной, хотя скорость ветра на Сатурне может достигать до 1800 км/ч. Температура на поверхности низкая от−150 °C до -120 °C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Сатурн обладает заметной системой колец, состоящей из частичек льда, тяжёлых элементов и пыли. Планета названа в честь римского бога земледелия Сатур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666880" y="228600"/>
            <a:ext cx="4419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ТУР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1782720"/>
            <a:ext cx="449604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2828"/>
                </a:solidFill>
                <a:latin typeface="Arial"/>
              </a:rPr>
              <a:t>Ур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 – Относится к «ледяным гигантам». Уран и не имеет твёрдой поверхности. Атмосфера его необычно спокойная по сравнению с атмосферами других планет-гигантов. Это самая холодная планета Солнечной системы с минимальной температурой −224 °C. Скорость ветров на Уране может достигать 240 м/с. Планета названа в честь греческого бога неба Ур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743200" y="609480"/>
            <a:ext cx="4038480" cy="11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УР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4956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епту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–зеленоватого оттенка, по составу близкая к Урану, принадлежащая к «ледяным гигантам». Атмосфера Нептуна, подобно атмосфере Юпитера и Сатурна, состоит в основном из водорода и гелия. Следы метана во внешних слоях атмосферы являются причиной синего цвета планеты. В атмосфере Нептуна бушуют самые сильные ветры среди планет Солнечной системы. Их скорости могут достигать 2100 км/ч.  Планета была названа в честь римского бога мор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14600" y="38088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ПТУН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4960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Плут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– самая дальняя планета Солнечной Системы. Плутон состоит в основном из горных пород и льда. Планета была названа в честь греческого бога подземного царства Плут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362320" y="380880"/>
            <a:ext cx="4876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ПЛУТОН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4193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4038480"/>
            <a:ext cx="8229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зентацию подготовила учитель ГКП - Лаптева Юлия Владимиров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62120" y="2133720"/>
            <a:ext cx="7238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c2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2828"/>
                </a:solidFill>
                <a:latin typeface="Arial"/>
              </a:rPr>
              <a:t>Солнечная сист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– это планетная система, которая включает в себя центральную звезду — Солнце, вокруг него обращаются все естественные космические объекты. Солнечная система состоит из девяти планет. Это планеты земной группы: Меркурий, Венера, Земля и Марс, и газовые гиганты: Юпитер, Сатурн, Уран и Нептун. За орбитой Нептуна располагается Плутон. Многие планеты окружены естественными спутниками. Солнечная система входит в состав галактики Млечный Пу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380880"/>
            <a:ext cx="731520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ccff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latin typeface="comic"/>
              </a:rPr>
              <a:t>Солнечная система</a:t>
            </a:r>
            <a:endParaRPr b="0" lang="en-US" sz="1800" spc="1" strike="noStrike">
              <a:ln cap="rnd" w="9360">
                <a:solidFill>
                  <a:srgbClr val="00ccff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latin typeface="comic"/>
              <a:ea typeface="comic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2246400"/>
            <a:ext cx="4114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Солн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единственная звезда Солнечной системы, вокруг которой обращается наша планета и все планеты Солнечной системы. Оно в миллион раз больше Зем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етило Солнечной системы невероятно горячее, но без солнечных лучей жизнь на    нашей планете прекратилась б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14600" y="685800"/>
            <a:ext cx="426708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ОЛНЦ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4960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Меркур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– самая маленькая и самая быстрая планета земной группы.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своим физическим характеристикам Меркурий напоминает Луну. Поверхность его гористая, покрытая кратерами, но есть на нем и гладкие равнины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мпература на планете колеблется от −180 до +430°C. Планета названа в честь древнеримского бога торговли Меркур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43200" y="228600"/>
            <a:ext cx="45338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80"/>
                </a:solidFill>
                <a:latin typeface="Arial Unicode MS"/>
              </a:rPr>
              <a:t>МЕРКУРИЙ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8080"/>
              </a:solidFill>
              <a:latin typeface="Arial Unicode MS"/>
              <a:ea typeface="Arial Unicode M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2292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Венера</a:t>
            </a:r>
            <a:r>
              <a:rPr b="0" lang="en-US" sz="1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– планета Солнечной системы, третья по яркости после Солнца и Луны. Венера и Земля похожи размерами, силой тяжести и составом. Однако условия на двух планетах разные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Атмосфера Венеры состоит в основном из углекислого газа и азота. Температура на поверхности около 500 °C, из-за этого на планете нет жидкой воды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верхность Венеры скрывается под густыми облаками серной кислоты. Она покрыта обширными возвышенностями и имеет многочисленные кратеры. 90 % поверхности Венеры покрыто застывшей базальтовой лавой. Планета получила своё название в честь Венеры, древнеримской богини любви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43200" y="30492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НЕРА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3434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Земл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– третья от Солнца планета Солнечной системы, населенная живыми существами. Форма Земли близка к сплюснутому эллипсу. Атмосфера Земли состоит из азота, кислорода, аргона и углекислый газа. Температура на поверхности от — 89 °C до +62,5.  Рельеф планеты очень разнообразен. Большую часть планеты занимает Мировой океан, остальную часть поверхности занимают континенты и острова. Жидкая вода, необходимая для жизни всех живых организмов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мля имеет единственный естественный спутник — Лу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09680" y="228600"/>
            <a:ext cx="4800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ЕМ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2255760"/>
            <a:ext cx="40384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Луна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– единственный естественный спутник Земли. Второй по яркости объект после Солнца. Атмосфера отсутствует, поэтому люди не могут на Луне дышать. Температура на поверхности от −169 °C до +122 °C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Поверхность покрыта реголитом — смесью тонкой пыли и скалистых обломков, которые образуются в результате столкновений метеоритов с лунной поверхностью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Высадка человека на Луну была осуществлена Соединенными Штатами Америки 12 июля 1969 года. Слово «луна» обозначает «светлая». В древности люди считали Луну богиней – покровительницей но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8120" y="685800"/>
            <a:ext cx="323856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УН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28600" y="2063880"/>
            <a:ext cx="426708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fc2828"/>
                </a:solidFill>
                <a:latin typeface="Arial"/>
              </a:rPr>
              <a:t>Марс</a:t>
            </a:r>
            <a:r>
              <a:rPr b="0" lang="en-US" sz="1600" spc="-1" strike="noStrike">
                <a:solidFill>
                  <a:srgbClr val="fc2828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– четвёртая по удалённости от Солнца и седьмая по размерам планета Солнечной системы. Его называют «красной планетой» из-за красноватого оттенка поверхности, придаваемого ей ржавчиной. Планету можно увидеть с Земли невооружённым глазом.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тмосфера состоит в основном из углекислого газа. Температура на планете колеблется от −153 до +20 °C. Климат, как и на Земле, носит сезонный характер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Поверхность Марса покрыта ударными кратерами, а также вулканами, долинами, пустынями и полярными ледниковыми шапками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Названа планета в честь Марса — древнеримского бога вой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48120" y="762120"/>
            <a:ext cx="3019320" cy="795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АР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3434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Юпит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крупнейшая планета в Солнечной системе. Принадлежит к газовым гигантам.  Юпитер – это желтоватый шар с цветными полосами облаков, и блуждающим гигантским пятном. Атмосферные явления на Юпитере — такие, как штормы, молнии, полярные сияния, — имеют масштабы, на порядки превосходящие земные. Скорость ветров на планете может превышать 600 км/ч. Многочисленные спутники создают в его облике полосы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Название Юпитера происходит от имени древнеримского верховного бога-громоверж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33720" y="228600"/>
            <a:ext cx="4495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ЮПИТЕР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114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</cp:lastModifiedBy>
  <dcterms:modified xsi:type="dcterms:W3CDTF">2014-01-30T17:18:3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