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F76-6DD9-469D-99A1-352D21DD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DC4-302B-478F-A03E-F56F84C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B9B-576E-4C92-9D95-E26FDB39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7DB-3211-4550-A3CA-9A7D9C69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AC544-0A47-4D88-939B-95F9B004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7F3D4-290D-4CD3-8DEC-57D3ACE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E2DE6-5840-4AB8-9350-A4E68673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F25E9-F7FA-4FB0-9724-22CCFCE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61A79-546C-4910-88AA-D59FA0DB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7651D-77E1-40B5-A00A-4D7BD0C4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D4179-E91D-4140-B187-59900812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25C-D9B8-4925-8550-73DD0863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90774-4F0B-4FF3-9889-F197650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D3C0-EBE8-4E22-A76E-68BB370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FF013-77DB-496E-AD34-E5FB0DA9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B466-DF84-470E-9C77-0AD1B93A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9ECAC-3597-473B-A786-116C501A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69CB-FC3E-42F6-B15E-79E790A2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3AB5-899B-45C2-BC2F-1D5AAD8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1856-200F-47CC-AEE1-70976AEC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03074-E496-4526-9B31-0FBE62E8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0BDB-3D6E-4948-8D6F-90580647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E79-7C6E-49BB-80B1-F9D3DE8E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B4B0-E389-465A-8C01-C0C08CDF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AA2D-EE2F-491F-8FF8-95D4E12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B6A6-2062-4294-8E31-55CDCFB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E5D2-45DD-4342-91B2-D02ED32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4D7A-7038-436B-AF60-B1C3F8FE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7B4F-1C1F-42FB-8F2D-16FBC9CF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B654-2425-4609-8FE0-845716FB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49D60E-9159-4C20-9FEB-0F153D09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3C5C2-A602-486D-89F3-B9EFAA3D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79A86D-0945-48FD-B919-6011EF4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2F0-22E3-4872-A8F7-D75D3A09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704E6-DBFB-45EC-BA76-D75429F1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2057D-3304-45CB-97C5-499C0820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E32A4-B570-4D7D-BD6B-C150FA4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76741-68DB-45B2-A4F9-8B429C0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84D31-DDF9-4B4E-B727-9118DC0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FD960-E6C8-4450-81F9-E460E33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3EC34-3068-4FDB-BD61-8C8F3D9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FAA14-1AC5-4C43-8FBB-0AB9415A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8F3F7-229B-4ABB-8FA1-4A00F653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80C-5FB8-4F22-9E48-298900E5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DB0-8526-4B79-B263-42D72084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51C-D145-45AC-B111-B885206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23C-15D0-4553-AF76-42EDCC9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A01-8FD4-4AC5-B5C0-0FDBD46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C7CA-95CA-43CC-90A3-ABBD6F18D5A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1945-78EC-457B-BD84-45FB149E5C7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92C5-FA47-4EEA-A677-9671E4DDDC5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F168-05D5-4A7E-86DC-4F0E766A687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505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efac9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1"/>
          <a:stretch/>
        </p:blipFill>
        <p:spPr>
          <a:xfrm>
            <a:off x="1225440" y="622440"/>
            <a:ext cx="7010640" cy="19447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" descr=""/>
          <p:cNvPicPr/>
          <p:nvPr/>
        </p:nvPicPr>
        <p:blipFill>
          <a:blip r:embed="rId2"/>
          <a:stretch/>
        </p:blipFill>
        <p:spPr>
          <a:xfrm>
            <a:off x="2023920" y="3187800"/>
            <a:ext cx="51199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Создание сложного электронного векторного изображени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В качестве сложного изображения предлагается создать электронную поздравительную открытку, иллюстрацию, буклет, пригласительный билет или любую другую рекламную продукцию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01" name="Прямоугольник 3" descr=""/>
          <p:cNvPicPr/>
          <p:nvPr/>
        </p:nvPicPr>
        <p:blipFill>
          <a:blip r:embed="rId1"/>
          <a:stretch/>
        </p:blipFill>
        <p:spPr>
          <a:xfrm>
            <a:off x="1030320" y="420840"/>
            <a:ext cx="69073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Результатом проектной деятельности является не только сам продукт творчества учащихся, но и освоение инструментария редактора, в котором этот продукт выполнен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Критерии оценки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разнообразие и сложность информационного продукта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степень сложности и его оригинальности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относительная новизна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практическая значимость;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осмысленность и творческий подход при создании продукт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04" name="Прямоугольник 4" descr=""/>
          <p:cNvPicPr/>
          <p:nvPr/>
        </p:nvPicPr>
        <p:blipFill>
          <a:blip r:embed="rId1"/>
          <a:stretch/>
        </p:blipFill>
        <p:spPr>
          <a:xfrm>
            <a:off x="1103400" y="347760"/>
            <a:ext cx="6053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К концу реализации проекта учащиеся должны освоить основы векторной графики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efac9"/>
                </a:solidFill>
                <a:latin typeface="Calibri"/>
              </a:rPr>
              <a:t>Знать:</a:t>
            </a: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основные методы создания и редактирования объектов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основные операции, применяемые к объектам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методы описания цветов и цветовые модели в векторной графике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назначение и функции редактора </a:t>
            </a:r>
            <a:r>
              <a:rPr b="0" lang="en-US" sz="1400" spc="-1" strike="noStrike">
                <a:solidFill>
                  <a:srgbClr val="fefac9"/>
                </a:solidFill>
                <a:latin typeface="Calibri"/>
              </a:rPr>
              <a:t>CorelDraw</a:t>
            </a: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efac9"/>
                </a:solidFill>
                <a:latin typeface="Calibri"/>
              </a:rPr>
              <a:t>Уметь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владеть технологией работы в векторном редакторе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самостоятельно создавать композиции, иллюстрации, узоры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работать с фрагментами изображения, применяя к ним различные инструменты и операции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применять к объектам различные эффекты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использовать возможности редактора как издательской системы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найти применение полученным знаниям и опыту работы при создании рефератов, докладов, презентаций по различным школьным предметам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efac9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efac9"/>
                </a:solidFill>
                <a:latin typeface="Calibri"/>
              </a:rPr>
              <a:t>Освоение проекта будет способствовать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efac9"/>
                </a:solidFill>
                <a:latin typeface="Calibri"/>
              </a:rPr>
              <a:t>выявлению и развитию творческих способностей учащихся, их успешной самореализации и мотивации на выбор будущей профессии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efac9"/>
                </a:solidFill>
                <a:latin typeface="Calibri"/>
              </a:rPr>
              <a:t>развитию познавательных способностей, самостоятельности и активности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1170000" y="274680"/>
            <a:ext cx="605952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Проект «Графический дизайнер» перспективен в нескольких направлениях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Успешное освоение векторной графики – первый шаг на пути к 3</a:t>
            </a:r>
            <a:r>
              <a:rPr b="0" lang="en-US" sz="2200" spc="-1" strike="noStrike">
                <a:solidFill>
                  <a:srgbClr val="fefac9"/>
                </a:solidFill>
                <a:latin typeface="Arial"/>
                <a:ea typeface="Arial"/>
              </a:rPr>
              <a:t>D</a:t>
            </a: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-моделированию и освоению таких программ, как 3</a:t>
            </a:r>
            <a:r>
              <a:rPr b="0" lang="en-US" sz="2200" spc="-1" strike="noStrike">
                <a:solidFill>
                  <a:srgbClr val="fefac9"/>
                </a:solidFill>
                <a:latin typeface="Arial"/>
                <a:ea typeface="Arial"/>
              </a:rPr>
              <a:t>D</a:t>
            </a: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fefac9"/>
                </a:solidFill>
                <a:latin typeface="Arial"/>
                <a:ea typeface="Arial"/>
              </a:rPr>
              <a:t>Max</a:t>
            </a: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, КОМПАС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Электронное графическое изображение может быть использовано в создании видеороликов и мультипликации, поэтому следующий шаг для учащихся – освоение технологии работы программ видеоредакторов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Arial"/>
                <a:ea typeface="Arial"/>
              </a:rPr>
              <a:t>Сайтостроение – широкое поле деятельности для графического дизайнера, где  его профессиональное мастерство напрямую связано с привлекательностью Интернет-пространства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1432080" y="-12600"/>
            <a:ext cx="57862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13" name="Прямоугольник 3" descr=""/>
          <p:cNvPicPr/>
          <p:nvPr/>
        </p:nvPicPr>
        <p:blipFill>
          <a:blip r:embed="rId1"/>
          <a:stretch/>
        </p:blipFill>
        <p:spPr>
          <a:xfrm>
            <a:off x="878040" y="2773440"/>
            <a:ext cx="73879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Идея проекта -  создание учащимися за короткий срок оригинального дизайнерского продукта, с использованием графического редактора </a:t>
            </a:r>
            <a:r>
              <a:rPr b="0" lang="en-US" sz="2600" spc="-1" strike="noStrike">
                <a:solidFill>
                  <a:srgbClr val="fefac9"/>
                </a:solidFill>
                <a:latin typeface="Arial"/>
                <a:ea typeface="Arial"/>
              </a:rPr>
              <a:t>CorelDra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Знакомство с азами графического дизайна и получение практического опыта создания полиграфической продукци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76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347760"/>
            <a:ext cx="6802200" cy="11635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9" descr=""/>
          <p:cNvPicPr/>
          <p:nvPr/>
        </p:nvPicPr>
        <p:blipFill>
          <a:blip r:embed="rId2"/>
          <a:stretch/>
        </p:blipFill>
        <p:spPr>
          <a:xfrm>
            <a:off x="2073240" y="1347840"/>
            <a:ext cx="71802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Исследование творческого метода, открывающего принципиально новые возможности получения изображе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Получение практического опыта графического дизайна – это один из шагов к самоопределению и выбору будущей професс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Открытие возможности участия в различных конкурсах по компьютерной график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ecb95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  <a:ea typeface="Arial"/>
              </a:rPr>
              <a:t>Использование подростками полученного опыта для самостоятельного углубленного изучения компьютерной графики, а также применения практических навыках в учебной деятельности и пр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1657440" y="274680"/>
            <a:ext cx="55720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fefac9"/>
                </a:solidFill>
                <a:latin typeface="Arial"/>
                <a:ea typeface="Calibri"/>
              </a:rPr>
              <a:t>Предоставить учащимся профессиональную пробу графического дизайнера, с</a:t>
            </a:r>
            <a:r>
              <a:rPr b="0" lang="ru-RU" sz="2800" spc="-1" strike="noStrike">
                <a:solidFill>
                  <a:srgbClr val="fefac9"/>
                </a:solidFill>
                <a:latin typeface="Arial"/>
                <a:ea typeface="Times New Roman"/>
              </a:rPr>
              <a:t>формировать умения владеть компьютером как средством решения практических задач связанных с графикой, мультимедиа и современным дизайн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3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347760"/>
            <a:ext cx="38228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изучить инструментарий редактора </a:t>
            </a:r>
            <a:r>
              <a:rPr b="0" lang="en-US" sz="2600" spc="-1" strike="noStrike">
                <a:solidFill>
                  <a:srgbClr val="fefac9"/>
                </a:solidFill>
                <a:latin typeface="Arial"/>
                <a:ea typeface="Arial"/>
              </a:rPr>
              <a:t>CorelDraw</a:t>
            </a: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освоить основные методы создания, редактирования изображения и операции с объектами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«примерить на себя» профессию графического дизайнера через создание сложного графического изображения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fe5ca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Arial"/>
                <a:ea typeface="Arial"/>
              </a:rPr>
              <a:t>разработать и продемонстрировать полиграфический продукт на итоговом мероприятии лагер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6" name="Прямоугольник 3" descr=""/>
          <p:cNvPicPr/>
          <p:nvPr/>
        </p:nvPicPr>
        <p:blipFill>
          <a:blip r:embed="rId1"/>
          <a:stretch/>
        </p:blipFill>
        <p:spPr>
          <a:xfrm>
            <a:off x="2511360" y="201600"/>
            <a:ext cx="4303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faf2d4"/>
                </a:solidFill>
                <a:uFillTx/>
                <a:latin typeface="Calibri"/>
              </a:rPr>
              <a:t>Оборудование</a:t>
            </a:r>
            <a:r>
              <a:rPr b="0" i="1" lang="ru-RU" sz="2600" spc="-1" strike="noStrike">
                <a:solidFill>
                  <a:srgbClr val="faf2d4"/>
                </a:solidFill>
                <a:latin typeface="Calibri"/>
              </a:rPr>
              <a:t>: 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компьютерный класс, оборудованный компьютерами, цветным принтером, мультимедийным оборудованием (проектор, экран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efac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faf2d4"/>
                </a:solidFill>
                <a:uFillTx/>
                <a:latin typeface="Calibri"/>
              </a:rPr>
              <a:t>Программное обеспечение: 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операционная среда не ниже, чем </a:t>
            </a:r>
            <a:r>
              <a:rPr b="0" lang="en-US" sz="2600" spc="-1" strike="noStrike">
                <a:solidFill>
                  <a:srgbClr val="faf2d4"/>
                </a:solidFill>
                <a:latin typeface="Calibri"/>
              </a:rPr>
              <a:t>Windows XP SP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3, векторный редактор </a:t>
            </a:r>
            <a:r>
              <a:rPr b="0" lang="en-US" sz="2600" spc="-1" strike="noStrike">
                <a:solidFill>
                  <a:srgbClr val="faf2d4"/>
                </a:solidFill>
                <a:latin typeface="Calibri"/>
              </a:rPr>
              <a:t>CorelDraw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Х3, пакет программ </a:t>
            </a:r>
            <a:r>
              <a:rPr b="0" lang="en-US" sz="2600" spc="-1" strike="noStrike">
                <a:solidFill>
                  <a:srgbClr val="faf2d4"/>
                </a:solidFill>
                <a:latin typeface="Calibri"/>
              </a:rPr>
              <a:t>Microsoft Office</a:t>
            </a:r>
            <a:r>
              <a:rPr b="0" lang="ru-RU" sz="2600" spc="-1" strike="noStrike">
                <a:solidFill>
                  <a:srgbClr val="faf2d4"/>
                </a:solidFill>
                <a:latin typeface="Calibri"/>
              </a:rPr>
              <a:t>, компакт-диски с обучающими и информационными программами по основным темам проект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89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201600"/>
            <a:ext cx="82184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alibri"/>
              </a:rPr>
              <a:t>Для отработки цветовых моделей и правил построения композиции графического изображения,  целесообразно сотрудничество с педагогами по изобразительному искусству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317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2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347760"/>
            <a:ext cx="82170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alibri"/>
              </a:rPr>
              <a:t>Проект рассчитан на 45 учебных занятий и адресован подросткам 10-15 лет, посещающим  «вечернюю» площадку при ЦДТ «Ритм»  в ходе проведения летней оздоровительной компании, имеющим навыки работы с персональным компьютером и с операционной средой типа </a:t>
            </a:r>
            <a:r>
              <a:rPr b="0" lang="en-US" sz="2600" spc="-1" strike="noStrike">
                <a:solidFill>
                  <a:srgbClr val="fefac9"/>
                </a:solidFill>
                <a:latin typeface="Calibri"/>
              </a:rPr>
              <a:t>Windows</a:t>
            </a:r>
            <a:r>
              <a:rPr b="0" lang="ru-RU" sz="2600" spc="-1" strike="noStrike">
                <a:solidFill>
                  <a:srgbClr val="fefac9"/>
                </a:solidFill>
                <a:latin typeface="Calibri"/>
              </a:rPr>
              <a:t> и стремящимся освоить возможности современной компьютерной график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1852560" y="274680"/>
            <a:ext cx="49816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285840"/>
            <a:ext cx="8845560" cy="112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Введение в векторную графику. Основы работы с программой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Основные операции и методы работы с объектами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Редактирование геометрической формы объектов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Создание и редактирование контуров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Работа с цветом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Средства повышенной точности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Текст как объект. </a:t>
            </a:r>
            <a:r>
              <a:rPr b="0" lang="en-US" sz="2300" spc="-1" strike="noStrike">
                <a:solidFill>
                  <a:srgbClr val="fefac9"/>
                </a:solidFill>
                <a:latin typeface="Calibri"/>
              </a:rPr>
              <a:t>CorelDraw</a:t>
            </a: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 как издательская систем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Планирование создание маке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Использование спецэффектов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efac9"/>
                </a:solidFill>
                <a:latin typeface="Calibri"/>
              </a:rPr>
              <a:t>Практическая часть проекта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09:28:00Z</dcterms:created>
  <dc:creator>Slava</dc:creator>
  <dc:description/>
  <dc:language>en-US</dc:language>
  <cp:lastModifiedBy>Slava</cp:lastModifiedBy>
  <dcterms:modified xsi:type="dcterms:W3CDTF">2013-06-12T09:07:25Z</dcterms:modified>
  <cp:revision>34</cp:revision>
  <dc:subject/>
  <dc:title>Презентация PowerPoint</dc:title>
</cp:coreProperties>
</file>