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653-1065-49ED-887A-FDF10DCE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F1B-5769-49A6-99B8-C1690257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696-5E5A-4315-91BE-FD23AD98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A72-4725-4786-90F0-8FBEC0DA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3E0C2-8E78-45B6-8AD1-5F3104F4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C544B-D91D-4775-8DA8-37DEEBEE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CC720-3FBB-492C-A0C7-2F45F358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6B553-6763-483E-BC2E-B43BA221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96395-B90B-40C8-B802-F7951F5D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03EA7-EA01-4419-89DC-B0CDDE57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EE38A-670A-4E90-A1E7-A6D5A5E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17C-72EE-440A-8D1C-EFE65E35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4DF96-F098-4984-B0B2-B6D0770A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D0E6B-370A-49CF-9D4F-AB56CA3D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5DB59-244B-4C87-AAAE-5991DC7A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DBAD4-014E-45BA-B179-FE00723B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7FE88-F724-4F43-A21B-A7D27279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D788-827A-487F-B7EA-102929F9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B3BA8-A847-47DC-9125-C7F87366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FC67-B50D-4A61-B3CC-45D33003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3A6B-D7AB-49C1-B8EC-C5197C9F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65BC-AE48-4A40-8BDD-4E41730B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BA5-4E18-47D5-BC98-CAAD7546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E98A6-B1F9-4D79-9B60-64AB52A3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6700-2987-4B84-86B7-CD12763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0C812-2595-410E-8419-3F4D216C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58B2-363F-4F34-B438-634E0DB3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AC67-40A3-4114-814B-83C9F914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1A7F-C42D-4128-946D-8491536A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56F6-5F34-4E28-A13A-9101CDAB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B28A7-9BA7-48F7-9DF5-11517993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576A3-6D9E-429E-B52C-5C455E2C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9E6F0E-E36E-4648-A435-9C7A298B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297-9647-4A37-B554-4ED27A08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AEA70A-3DFE-40DB-94DC-876D800F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26977-707D-406F-BC8F-6505E660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75837-8D1A-4E00-85D3-4B72D661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6FAF1-E957-4008-BF68-DCE4B39F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58D82-1D90-46F7-A977-40E0A2EB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195BF-7B2C-4AD9-BD6D-F92FE27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CF893F-50E8-4419-9D84-1FAC0367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02B5A-058C-458F-9FFF-B2CC1380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E0E4E2-A0FE-4A23-8249-1BD51595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284-5C64-493B-B8CA-90955C6E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6EE-534E-4BD4-9766-1537DF7A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DE4-7787-4972-AA6B-6884773A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BFC-A0E5-4329-A590-40DB9E4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371-A6F6-419D-8F31-2A1E2A3E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5DEF-A961-44F9-A87C-DB089515E5A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01DB-7052-489F-BCC0-CE72432F344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4A46-226F-43FA-979D-D91DFB2F5F3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A92A-E77A-48EA-9E9E-BCCAD2A2711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5053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efac9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1"/>
          <a:stretch/>
        </p:blipFill>
        <p:spPr>
          <a:xfrm>
            <a:off x="1225440" y="622440"/>
            <a:ext cx="7010640" cy="194472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4" descr=""/>
          <p:cNvPicPr/>
          <p:nvPr/>
        </p:nvPicPr>
        <p:blipFill>
          <a:blip r:embed="rId2"/>
          <a:stretch/>
        </p:blipFill>
        <p:spPr>
          <a:xfrm>
            <a:off x="2023920" y="3187800"/>
            <a:ext cx="51199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Создание сложного электронного векторного изображения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В качестве сложного изображения предлагается создать электронную поздравительную открытку, иллюстрацию, буклет, пригласительный билет или любую другую рекламную продукцию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201" name="Прямоугольник 3" descr=""/>
          <p:cNvPicPr/>
          <p:nvPr/>
        </p:nvPicPr>
        <p:blipFill>
          <a:blip r:embed="rId1"/>
          <a:stretch/>
        </p:blipFill>
        <p:spPr>
          <a:xfrm>
            <a:off x="1030320" y="420840"/>
            <a:ext cx="69073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Результатом проектной деятельности является не только сам продукт творчества учащихся, но и освоение инструментария редактора, в котором этот продукт выполнен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Критерии оценки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разнообразие и сложность информационного продукта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степень сложности и его оригинальности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относительная новизна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практическая значимость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осмысленность и творческий подход при создании продукта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204" name="Прямоугольник 4" descr=""/>
          <p:cNvPicPr/>
          <p:nvPr/>
        </p:nvPicPr>
        <p:blipFill>
          <a:blip r:embed="rId1"/>
          <a:stretch/>
        </p:blipFill>
        <p:spPr>
          <a:xfrm>
            <a:off x="1103400" y="347760"/>
            <a:ext cx="6053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К концу реализации проекта учащиеся должны освоить основы векторной графики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efac9"/>
                </a:solidFill>
                <a:latin typeface="Calibri"/>
              </a:rPr>
              <a:t>Знать:</a:t>
            </a: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основные методы создания и редактирования объектов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основные операции, применяемые к объектам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методы описания цветов и цветовые модели в векторной графике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назначение и функции редактора </a:t>
            </a:r>
            <a:r>
              <a:rPr b="0" lang="en-US" sz="1400" spc="-1" strike="noStrike">
                <a:solidFill>
                  <a:srgbClr val="fefac9"/>
                </a:solidFill>
                <a:latin typeface="Calibri"/>
              </a:rPr>
              <a:t>CorelDraw</a:t>
            </a: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efac9"/>
                </a:solidFill>
                <a:latin typeface="Calibri"/>
              </a:rPr>
              <a:t>Уметь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владеть технологией работы в векторном редакторе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самостоятельно создавать композиции, иллюстрации, узоры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работать с фрагментами изображения, применяя к ним различные инструменты и операции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применять к объектам различные эффекты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использовать возможности редактора как издательской системы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найти применение полученным знаниям и опыту работы при создании рефератов, докладов, презентаций по различным школьным предметам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efac9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efac9"/>
                </a:solidFill>
                <a:latin typeface="Calibri"/>
              </a:rPr>
              <a:t>Освоение проекта будет способствовать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fac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efac9"/>
                </a:solidFill>
                <a:latin typeface="Calibri"/>
              </a:rPr>
              <a:t>выявлению и развитию творческих способностей учащихся, их успешной самореализации и мотивации на выбор будущей профессии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fac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efac9"/>
                </a:solidFill>
                <a:latin typeface="Calibri"/>
              </a:rPr>
              <a:t>развитию познавательных способностей, самостоятельности и активности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1170000" y="274680"/>
            <a:ext cx="60595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Проект «Графический дизайнер» перспективен в нескольких направлениях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Успешное освоение векторной графики – первый шаг на пути к 3</a:t>
            </a:r>
            <a:r>
              <a:rPr b="0" lang="en-US" sz="2200" spc="-1" strike="noStrike">
                <a:solidFill>
                  <a:srgbClr val="fefac9"/>
                </a:solidFill>
                <a:latin typeface="Arial"/>
                <a:ea typeface="Arial"/>
              </a:rPr>
              <a:t>D</a:t>
            </a: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-моделированию и освоению таких программ, как 3</a:t>
            </a:r>
            <a:r>
              <a:rPr b="0" lang="en-US" sz="2200" spc="-1" strike="noStrike">
                <a:solidFill>
                  <a:srgbClr val="fefac9"/>
                </a:solidFill>
                <a:latin typeface="Arial"/>
                <a:ea typeface="Arial"/>
              </a:rPr>
              <a:t>D</a:t>
            </a: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fefac9"/>
                </a:solidFill>
                <a:latin typeface="Arial"/>
                <a:ea typeface="Arial"/>
              </a:rPr>
              <a:t>Max</a:t>
            </a: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, КОМПАС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Электронное графическое изображение может быть использовано в создании видеороликов и мультипликации, поэтому следующий шаг для учащихся – освоение технологии работы программ видеоредакторов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Сайтостроение – широкое поле деятельности для графического дизайнера, где  его профессиональное мастерство напрямую связано с привлекательностью Интернет-пространства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210" name="Прямоугольник 3" descr=""/>
          <p:cNvPicPr/>
          <p:nvPr/>
        </p:nvPicPr>
        <p:blipFill>
          <a:blip r:embed="rId1"/>
          <a:stretch/>
        </p:blipFill>
        <p:spPr>
          <a:xfrm>
            <a:off x="1432080" y="-12600"/>
            <a:ext cx="57862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213" name="Прямоугольник 3" descr=""/>
          <p:cNvPicPr/>
          <p:nvPr/>
        </p:nvPicPr>
        <p:blipFill>
          <a:blip r:embed="rId1"/>
          <a:stretch/>
        </p:blipFill>
        <p:spPr>
          <a:xfrm>
            <a:off x="878040" y="2773440"/>
            <a:ext cx="73879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Идея проекта -  создание учащимися за короткий срок оригинального дизайнерского продукта, с использованием графического редактора </a:t>
            </a:r>
            <a:r>
              <a:rPr b="0" lang="en-US" sz="2600" spc="-1" strike="noStrike">
                <a:solidFill>
                  <a:srgbClr val="fefac9"/>
                </a:solidFill>
                <a:latin typeface="Arial"/>
                <a:ea typeface="Arial"/>
              </a:rPr>
              <a:t>CorelDraw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Знакомство с азами графического дизайна и получение практического опыта создания полиграфической продукции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76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347760"/>
            <a:ext cx="6802200" cy="11635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9" descr=""/>
          <p:cNvPicPr/>
          <p:nvPr/>
        </p:nvPicPr>
        <p:blipFill>
          <a:blip r:embed="rId2"/>
          <a:stretch/>
        </p:blipFill>
        <p:spPr>
          <a:xfrm>
            <a:off x="2073240" y="1347840"/>
            <a:ext cx="71802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ecb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  <a:ea typeface="Arial"/>
              </a:rPr>
              <a:t>Исследование творческого метода, открывающего принципиально новые возможности получения изображени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ecb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  <a:ea typeface="Arial"/>
              </a:rPr>
              <a:t>Получение практического опыта графического дизайна – это один из шагов к самоопределению и выбору будущей професс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ecb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  <a:ea typeface="Arial"/>
              </a:rPr>
              <a:t>Открытие возможности участия в различных конкурсах по компьютерной график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ecb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  <a:ea typeface="Arial"/>
              </a:rPr>
              <a:t>Использование подростками полученного опыта для самостоятельного углубленного изучения компьютерной графики, а также применения практических навыках в учебной деятельности и пр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80" name="Прямоугольник 3" descr=""/>
          <p:cNvPicPr/>
          <p:nvPr/>
        </p:nvPicPr>
        <p:blipFill>
          <a:blip r:embed="rId1"/>
          <a:stretch/>
        </p:blipFill>
        <p:spPr>
          <a:xfrm>
            <a:off x="1657440" y="274680"/>
            <a:ext cx="55720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ac9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fefac9"/>
                </a:solidFill>
                <a:latin typeface="Arial"/>
                <a:ea typeface="Calibri"/>
              </a:rPr>
              <a:t>Предоставить учащимся профессиональную пробу графического дизайнера, с</a:t>
            </a:r>
            <a:r>
              <a:rPr b="0" lang="ru-RU" sz="2800" spc="-1" strike="noStrike">
                <a:solidFill>
                  <a:srgbClr val="fefac9"/>
                </a:solidFill>
                <a:latin typeface="Arial"/>
                <a:ea typeface="Times New Roman"/>
              </a:rPr>
              <a:t>формировать умения владеть компьютером как средством решения практических задач связанных с графикой, мультимедиа и современным дизайн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83" name="Прямоугольник 3" descr=""/>
          <p:cNvPicPr/>
          <p:nvPr/>
        </p:nvPicPr>
        <p:blipFill>
          <a:blip r:embed="rId1"/>
          <a:stretch/>
        </p:blipFill>
        <p:spPr>
          <a:xfrm>
            <a:off x="2535120" y="347760"/>
            <a:ext cx="38228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изучить инструментарий редактора </a:t>
            </a:r>
            <a:r>
              <a:rPr b="0" lang="en-US" sz="2600" spc="-1" strike="noStrike">
                <a:solidFill>
                  <a:srgbClr val="fefac9"/>
                </a:solidFill>
                <a:latin typeface="Arial"/>
                <a:ea typeface="Arial"/>
              </a:rPr>
              <a:t>CorelDraw</a:t>
            </a: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освоить основные методы создания, редактирования изображения и операции с объектами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«примерить на себя» профессию графического дизайнера через создание сложного графического изображения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разработать и продемонстрировать полиграфический продукт на итоговом мероприятии лагеря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86" name="Прямоугольник 3" descr=""/>
          <p:cNvPicPr/>
          <p:nvPr/>
        </p:nvPicPr>
        <p:blipFill>
          <a:blip r:embed="rId1"/>
          <a:stretch/>
        </p:blipFill>
        <p:spPr>
          <a:xfrm>
            <a:off x="2511360" y="201600"/>
            <a:ext cx="4303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efac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faf2d4"/>
                </a:solidFill>
                <a:uFillTx/>
                <a:latin typeface="Calibri"/>
              </a:rPr>
              <a:t>Оборудование</a:t>
            </a:r>
            <a:r>
              <a:rPr b="0" i="1" lang="ru-RU" sz="2600" spc="-1" strike="noStrike">
                <a:solidFill>
                  <a:srgbClr val="faf2d4"/>
                </a:solidFill>
                <a:latin typeface="Calibri"/>
              </a:rPr>
              <a:t>: </a:t>
            </a:r>
            <a:r>
              <a:rPr b="0" lang="ru-RU" sz="2600" spc="-1" strike="noStrike">
                <a:solidFill>
                  <a:srgbClr val="faf2d4"/>
                </a:solidFill>
                <a:latin typeface="Calibri"/>
              </a:rPr>
              <a:t>компьютерный класс, оборудованный компьютерами, цветным принтером, мультимедийным оборудованием (проектор, экран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efac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faf2d4"/>
                </a:solidFill>
                <a:uFillTx/>
                <a:latin typeface="Calibri"/>
              </a:rPr>
              <a:t>Программное обеспечение: </a:t>
            </a:r>
            <a:r>
              <a:rPr b="0" lang="ru-RU" sz="2600" spc="-1" strike="noStrike">
                <a:solidFill>
                  <a:srgbClr val="faf2d4"/>
                </a:solidFill>
                <a:latin typeface="Calibri"/>
              </a:rPr>
              <a:t>операционная среда не ниже, чем </a:t>
            </a:r>
            <a:r>
              <a:rPr b="0" lang="en-US" sz="2600" spc="-1" strike="noStrike">
                <a:solidFill>
                  <a:srgbClr val="faf2d4"/>
                </a:solidFill>
                <a:latin typeface="Calibri"/>
              </a:rPr>
              <a:t>Windows XP SP</a:t>
            </a:r>
            <a:r>
              <a:rPr b="0" lang="ru-RU" sz="2600" spc="-1" strike="noStrike">
                <a:solidFill>
                  <a:srgbClr val="faf2d4"/>
                </a:solidFill>
                <a:latin typeface="Calibri"/>
              </a:rPr>
              <a:t>3, векторный редактор </a:t>
            </a:r>
            <a:r>
              <a:rPr b="0" lang="en-US" sz="2600" spc="-1" strike="noStrike">
                <a:solidFill>
                  <a:srgbClr val="faf2d4"/>
                </a:solidFill>
                <a:latin typeface="Calibri"/>
              </a:rPr>
              <a:t>CorelDraw</a:t>
            </a:r>
            <a:r>
              <a:rPr b="0" lang="ru-RU" sz="2600" spc="-1" strike="noStrike">
                <a:solidFill>
                  <a:srgbClr val="faf2d4"/>
                </a:solidFill>
                <a:latin typeface="Calibri"/>
              </a:rPr>
              <a:t>Х3, пакет программ </a:t>
            </a:r>
            <a:r>
              <a:rPr b="0" lang="en-US" sz="2600" spc="-1" strike="noStrike">
                <a:solidFill>
                  <a:srgbClr val="faf2d4"/>
                </a:solidFill>
                <a:latin typeface="Calibri"/>
              </a:rPr>
              <a:t>Microsoft Office</a:t>
            </a:r>
            <a:r>
              <a:rPr b="0" lang="ru-RU" sz="2600" spc="-1" strike="noStrike">
                <a:solidFill>
                  <a:srgbClr val="faf2d4"/>
                </a:solidFill>
                <a:latin typeface="Calibri"/>
              </a:rPr>
              <a:t>, компакт-диски с обучающими и информационными программами по основным темам проект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89" name="Прямоугольник 3" descr=""/>
          <p:cNvPicPr/>
          <p:nvPr/>
        </p:nvPicPr>
        <p:blipFill>
          <a:blip r:embed="rId1"/>
          <a:stretch/>
        </p:blipFill>
        <p:spPr>
          <a:xfrm>
            <a:off x="139680" y="201600"/>
            <a:ext cx="82184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Calibri"/>
              </a:rPr>
              <a:t>Для отработки цветовых моделей и правил построения композиции графического изображения,  целесообразно сотрудничество с педагогами по изобразительному искусству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317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92" name="Прямоугольник 4" descr=""/>
          <p:cNvPicPr/>
          <p:nvPr/>
        </p:nvPicPr>
        <p:blipFill>
          <a:blip r:embed="rId1"/>
          <a:stretch/>
        </p:blipFill>
        <p:spPr>
          <a:xfrm>
            <a:off x="317520" y="347760"/>
            <a:ext cx="82170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Calibri"/>
              </a:rPr>
              <a:t>Проект рассчитан на 45 учебных занятий и адресован подросткам 10-15 лет, посещающим  «вечернюю» площадку при ЦДТ «Ритм»  в ходе проведения летней оздоровительной компании, имеющим навыки работы с персональным компьютером и с операционной средой типа </a:t>
            </a:r>
            <a:r>
              <a:rPr b="0" lang="en-US" sz="2600" spc="-1" strike="noStrike">
                <a:solidFill>
                  <a:srgbClr val="fefac9"/>
                </a:solidFill>
                <a:latin typeface="Calibri"/>
              </a:rPr>
              <a:t>Windows</a:t>
            </a:r>
            <a:r>
              <a:rPr b="0" lang="ru-RU" sz="2600" spc="-1" strike="noStrike">
                <a:solidFill>
                  <a:srgbClr val="fefac9"/>
                </a:solidFill>
                <a:latin typeface="Calibri"/>
              </a:rPr>
              <a:t> и стремящимся освоить возможности современной компьютерной графики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1852560" y="274680"/>
            <a:ext cx="49816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97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285840"/>
            <a:ext cx="8845560" cy="1128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Введение в векторную графику. Основы работы с программой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Основные операции и методы работы с объектами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Редактирование геометрической формы объектов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Создание и редактирование контуров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Работа с цветом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Средства повышенной точности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Текст как объект. </a:t>
            </a:r>
            <a:r>
              <a:rPr b="0" lang="en-US" sz="2300" spc="-1" strike="noStrike">
                <a:solidFill>
                  <a:srgbClr val="fefac9"/>
                </a:solidFill>
                <a:latin typeface="Calibri"/>
              </a:rPr>
              <a:t>CorelDraw</a:t>
            </a: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 как издательская система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Планирование создание макета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Использование спецэффектов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Практическая часть проекта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09:28:00Z</dcterms:created>
  <dc:creator>Slava</dc:creator>
  <dc:description/>
  <dc:language>en-US</dc:language>
  <cp:lastModifiedBy>Slava</cp:lastModifiedBy>
  <dcterms:modified xsi:type="dcterms:W3CDTF">2013-06-12T09:07:25Z</dcterms:modified>
  <cp:revision>34</cp:revision>
  <dc:subject/>
  <dc:title>Презентация PowerPoint</dc:title>
</cp:coreProperties>
</file>