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42A-12EF-4A0D-BADD-6F09D0C8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C17-FA27-4A89-B33D-3CE7E82D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04B97-2F15-4DAD-A9C0-2048640F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19C09-EAD3-4A65-B072-8C25EF63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EE8FE-C909-42F7-96BB-B3BA0D76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46353-6FAF-4B79-A183-34C059D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AFBAF-B5F9-4ABF-A926-E3A329AF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3338B-58F4-41AE-B12F-1AD23D4E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3CA95-EE79-4ADB-B875-A21474B7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0A098-63AA-4424-BD70-58F71D15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1BFEE-752C-4359-B289-C4398FEB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768A7-4FAC-4989-BFFF-71172825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031-5B87-4CEE-9E61-7DEEEAF6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ECB8D-15B0-49B8-8ABC-89622CAA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6BCAA-D052-4D95-BD30-30D952DC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DA2A8-A121-415E-A027-6A9498AE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62F1C-29D2-4F51-B057-3C669566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EBAA0-6DE5-49A4-A60C-E8C0508E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E64EF-683A-476C-ABB5-3763FCAA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616A5-A80F-47C2-B917-F8F94DF5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0E226-8D6D-4276-BA94-7610A8B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13F4D-06B9-40D7-8176-E7B8AFA5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EBD15-D81E-4493-8D20-66EB28A7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202-679F-4247-BCFE-C82B8BF5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D438C-154B-4048-BDED-65E6D74A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85CDB-5C6C-49D5-A6B2-97FA8F70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29E03-116B-4680-A2BA-ADD63DBF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97769-3B13-430B-BB8B-33384061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E9CEF-833C-4540-B678-BB5AF029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D8299-575A-4E11-ABC0-E28915F5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50982-2B4A-4646-9B48-93581172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CFC0A-5810-45E0-8494-B01F178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664BB-7F9F-4E0A-8B03-5DDE954E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E04FF-A395-43A6-AFA6-60565A4C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E777-8015-4BCF-B725-67444824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71DA9-FDCE-44D2-A437-4499AF75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50996-B65B-46C7-A206-22F9E4C7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50BE2-8367-4B53-BCBE-96D7E325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51568-3871-424E-B48D-A79FE25C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DE38C-7544-4B5A-91BF-5C0E9466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A0905-2626-4222-891F-3CAFFACF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A3C10-2398-4BFB-9177-E726737C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49C0A-2F26-49B0-8917-44E898C6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D6902-D9F4-4174-B82C-1011DEF5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AA9E6-68E4-49F3-994F-9413E9AD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1FF2-AFD2-4004-9DF2-F43A84D9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1DA56-2F45-4804-99DA-D2CD0AD2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55E74-FE78-49D1-9818-AB829AE8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C5D33-D984-48B7-875F-EE4D7BBB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34633-7CA9-4215-9A0B-012A5839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367D5-AD4E-49A9-8596-7525E406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897E-9BE7-4DEF-BE81-DBB3C50C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779C-D3A1-4840-9CB0-68D70E24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6271-BCEB-42CC-BDFA-F94CA4F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71FD-3ED4-4BEC-BC3F-D7532F12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A1AB-D524-4E9B-833D-4B9DDBD2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F07-C5A8-4418-8B89-F13C2D5D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AA65-B972-4595-A427-4B2BA5F6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16D4-31EA-4E55-AA8E-FE6424E8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4BD1-2D9F-4BB1-BA3D-6790D718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BD7D-0BC0-468E-8DB1-BC40EF1A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4011-2E4B-4D2B-A095-11FF3AF6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D7577-52F0-4135-A90C-79C2DB3E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A02B-FEA4-43CE-B333-39DAEDB4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3E9A-C1FF-4E2A-BF5E-7234EA64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F5BD4-B0D7-4CCB-9EC3-2A0F19D4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22EC5-5768-4200-8875-E988F69B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EAC-C182-439C-9B11-3785E76D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4C5D-703B-451E-B4E9-A6D7F835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89C6-2982-4873-B17A-335494E5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AC5FC-3093-4BF2-B158-CD3E9933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0E65-BB6F-4249-9DC9-DA126414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A7A5-0AC6-4DED-AEBF-7EB8B84D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B1D6-0C96-48F7-AAA6-399FD6ED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06C0-1D4F-4E85-A735-1585AD09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FC61-A0D5-4B83-AA95-51AD2F93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95C67-B7DD-4F1F-B2CD-604D7931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596B-9CF3-46E1-BAC3-2892AD83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646-7385-4916-8D42-114D7658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C944-2D38-482D-AD22-8E8C65DB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DE4B4-8CAA-48CD-A943-31727DE0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E0EA8-DC3C-4254-9F6D-9BE230B3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1EF6A-D9CB-4FE4-A242-6B635B8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38EDB-C784-4948-98F4-0BC16AF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7AB76-D367-41C9-9BAA-9FFF6E53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1E0F-D4EF-41EB-8DF6-19A3AE78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06935-0B19-41F4-93FD-2EC22537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2750-29C8-4014-BCBF-792E7E26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2B915-C1B2-410B-BC2C-00B65F81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731-B303-4BFD-BC40-31EDA75C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01353-B236-4EC9-8681-7F19587A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5C3DC-8487-4BBF-ACBF-2699FDD4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2F136-B03C-4B37-A498-1727629D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B3A9C-8EB6-4E62-85DA-6F63B4BC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595A-5816-4A5D-96D9-95E8EDFD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E82B7-CC29-473B-9B17-E71C05EC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30B4E-1CFF-47C6-A3F9-A50D9DA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783E4-7F3A-4316-952F-5E658A6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8402C-A59F-4DE7-9182-59075B8F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76833-EE5E-47A1-8287-EA03FDF0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E70-609E-4722-923C-4E527044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B27B5-0790-420B-9DC0-08B26AC0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4BA4B-D25B-4DDE-B178-1228EEE3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9D9EF-75D9-4362-87A6-18342D9A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6FF6D-4BBB-4E4F-983A-7C2CEF6E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F8E2B-4559-496C-8C42-83C4A75E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552FD-127C-49B1-AF20-253727C8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FB7B9-3116-4760-B9D6-37FF9E69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0AE90-B5DD-4309-B1C4-1FE77C6B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CA3B3-25EE-4234-93BE-F3030998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78613-7D27-4EE7-9348-12F5312B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D77-F849-4DBF-8FAB-71CE5CEF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9EE35-8972-4BD4-AA42-9AB66B51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AF8B0-1B32-42D9-8328-432FA1B6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EECCA-C922-465A-A66A-FCDD4648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042D8-2186-4D46-9317-6474FA1A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533B0-0445-4622-BB3A-9B7E4FBE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070A5-FA07-4D2E-9D8B-02E913D0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70BEB-CFC4-4A9A-9EEF-9E19139F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4DC7D-993C-42B0-AA65-F9594B70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4B519-D555-429E-BAD1-FC3E3FC4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5C44C-FC76-4B6B-AEEF-0EF6FD26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BEE-4497-460C-8CCE-C273124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2A888-E678-4F34-AFE6-F112B68E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A7786-27FA-458F-897B-977818D9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BADAC-A3CA-479B-BBE6-6D6CE724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C2F1B-C400-409C-8B42-B4ED4521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FD462-7C1F-48D9-B9E1-C7478903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AB82F-AF79-4EE2-9093-4B2C64A5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12281-57E6-4226-A2FC-11A642B2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D9760-D06E-4CA6-8DA8-7892D292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D367D-4305-4B10-AED1-9A7D3737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48F92-C4E7-426E-B0DA-78B30ABD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01E-FAA0-490C-95EF-5008D71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FA92A-94A6-4DBA-80D4-2064554F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1AB5C-CAFB-49BE-B990-8DA7A0F2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01ACF-A229-4369-8326-1C4987B6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4C2CB-FD23-4C97-B314-98EE196C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10443-E43C-4A47-9039-22B849C6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4B9D6-E613-40BA-B5F6-2B0081EA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39105-95A7-4699-8741-CAEFDB1F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6A4F4-255D-4130-8AB8-EDA4D239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1C5BF-8C51-403E-91A4-A8BF8966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F9E74-494A-432C-8BAB-DF5903DE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7ED3-4261-4229-9AAB-46934E8975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F5BE-E2B9-4880-A296-20D45B2072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4EA5-6E5B-4D52-B003-86BF2B454D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F5C1-B464-47F4-8188-B479F9FD10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A832-2958-408E-BB79-E5612F6A19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3136-3A9F-47A1-BE1B-70B1602E3D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ABFC-E068-4332-8451-86E74E6731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7B43-E11C-42E6-B345-98345ECB44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2213-79BD-413F-B817-1706A5671C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A939-1F07-4B9F-B059-19377D9A7C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0CA7-8752-42B0-999D-1809FFD8ACF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1288-7A09-435C-8640-B2C5C7B783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1206360"/>
            <a:ext cx="8217000" cy="2311560"/>
          </a:xfrm>
          <a:prstGeom prst="rect">
            <a:avLst/>
          </a:prstGeom>
          <a:ln w="0">
            <a:noFill/>
          </a:ln>
        </p:spPr>
      </p:pic>
      <p:sp>
        <p:nvSpPr>
          <p:cNvPr id="550" name="TextBox 2"/>
          <p:cNvSpPr/>
          <p:nvPr/>
        </p:nvSpPr>
        <p:spPr>
          <a:xfrm>
            <a:off x="6072120" y="49291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 ноября 2012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Диаграмма 3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8286840" cy="59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5"/>
          <p:cNvSpPr/>
          <p:nvPr/>
        </p:nvSpPr>
        <p:spPr>
          <a:xfrm>
            <a:off x="330120" y="339840"/>
            <a:ext cx="83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0" y="28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ой ребёнок плохо учится? Что дел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Прямоугольник 6"/>
          <p:cNvSpPr/>
          <p:nvPr/>
        </p:nvSpPr>
        <p:spPr>
          <a:xfrm>
            <a:off x="142920" y="1000080"/>
            <a:ext cx="2428920" cy="7858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пришли в 7           класс осознанно?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Прямоугольник 7"/>
          <p:cNvSpPr/>
          <p:nvPr/>
        </p:nvSpPr>
        <p:spPr>
          <a:xfrm>
            <a:off x="3429000" y="1000080"/>
            <a:ext cx="2428920" cy="7858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лыли в 7 класс по теч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Прямоугольник 8"/>
          <p:cNvSpPr/>
          <p:nvPr/>
        </p:nvSpPr>
        <p:spPr>
          <a:xfrm>
            <a:off x="6572160" y="1000080"/>
            <a:ext cx="2571840" cy="7858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шли по желанию родителе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Прямоугольник 9"/>
          <p:cNvSpPr/>
          <p:nvPr/>
        </p:nvSpPr>
        <p:spPr>
          <a:xfrm>
            <a:off x="142920" y="2357280"/>
            <a:ext cx="2428920" cy="7858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переоценили свои возможн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Прямоугольник 10"/>
          <p:cNvSpPr/>
          <p:nvPr/>
        </p:nvSpPr>
        <p:spPr>
          <a:xfrm>
            <a:off x="3214800" y="2714760"/>
            <a:ext cx="2428920" cy="785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ие оценки устраиваю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Прямоугольник 11"/>
          <p:cNvSpPr/>
          <p:nvPr/>
        </p:nvSpPr>
        <p:spPr>
          <a:xfrm>
            <a:off x="6357960" y="2357280"/>
            <a:ext cx="2428920" cy="928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ние детей и родителей совпадаю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Прямоугольник 12"/>
          <p:cNvSpPr/>
          <p:nvPr/>
        </p:nvSpPr>
        <p:spPr>
          <a:xfrm>
            <a:off x="6143760" y="4000680"/>
            <a:ext cx="2428920" cy="785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контроль со стороны родителе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Прямоугольник 13"/>
          <p:cNvSpPr/>
          <p:nvPr/>
        </p:nvSpPr>
        <p:spPr>
          <a:xfrm>
            <a:off x="642960" y="5786280"/>
            <a:ext cx="857160" cy="785880"/>
          </a:xfrm>
          <a:prstGeom prst="rect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Прямоугольник 14"/>
          <p:cNvSpPr/>
          <p:nvPr/>
        </p:nvSpPr>
        <p:spPr>
          <a:xfrm>
            <a:off x="2357280" y="5715000"/>
            <a:ext cx="1214640" cy="785880"/>
          </a:xfrm>
          <a:prstGeom prst="rect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Прямоугольник 15"/>
          <p:cNvSpPr/>
          <p:nvPr/>
        </p:nvSpPr>
        <p:spPr>
          <a:xfrm>
            <a:off x="4572000" y="5715000"/>
            <a:ext cx="1214280" cy="785880"/>
          </a:xfrm>
          <a:prstGeom prst="rect">
            <a:avLst/>
          </a:prstGeom>
          <a:solidFill>
            <a:srgbClr val="00206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Прямоугольник 16"/>
          <p:cNvSpPr/>
          <p:nvPr/>
        </p:nvSpPr>
        <p:spPr>
          <a:xfrm>
            <a:off x="6715080" y="5715000"/>
            <a:ext cx="1214640" cy="785880"/>
          </a:xfrm>
          <a:prstGeom prst="rect">
            <a:avLst/>
          </a:prstGeom>
          <a:solidFill>
            <a:srgbClr val="00b0f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5" name="Прямая со стрелкой 18"/>
          <p:cNvCxnSpPr>
            <a:stCxn id="554" idx="3"/>
            <a:endCxn id="555" idx="1"/>
          </p:cNvCxnSpPr>
          <p:nvPr/>
        </p:nvCxnSpPr>
        <p:spPr>
          <a:xfrm>
            <a:off x="2571480" y="1391760"/>
            <a:ext cx="85788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6" name="Прямая со стрелкой 19"/>
          <p:cNvCxnSpPr>
            <a:stCxn id="555" idx="3"/>
          </p:cNvCxnSpPr>
          <p:nvPr/>
        </p:nvCxnSpPr>
        <p:spPr>
          <a:xfrm flipV="1">
            <a:off x="5857920" y="1358640"/>
            <a:ext cx="714960" cy="338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7" name="TextBox 20"/>
          <p:cNvSpPr/>
          <p:nvPr/>
        </p:nvSpPr>
        <p:spPr>
          <a:xfrm>
            <a:off x="2786040" y="107172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21"/>
          <p:cNvSpPr/>
          <p:nvPr/>
        </p:nvSpPr>
        <p:spPr>
          <a:xfrm>
            <a:off x="5929200" y="107172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9" name="Прямая со стрелкой 22"/>
          <p:cNvCxnSpPr/>
          <p:nvPr/>
        </p:nvCxnSpPr>
        <p:spPr>
          <a:xfrm>
            <a:off x="2357280" y="3142800"/>
            <a:ext cx="85824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0" name="Прямая со стрелкой 23"/>
          <p:cNvCxnSpPr/>
          <p:nvPr/>
        </p:nvCxnSpPr>
        <p:spPr>
          <a:xfrm>
            <a:off x="5071680" y="3500280"/>
            <a:ext cx="1072440" cy="5011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1" name="Прямая со стрелкой 26"/>
          <p:cNvCxnSpPr/>
          <p:nvPr/>
        </p:nvCxnSpPr>
        <p:spPr>
          <a:xfrm flipH="1">
            <a:off x="1212480" y="1785600"/>
            <a:ext cx="2160" cy="5720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2" name="Прямая со стрелкой 28"/>
          <p:cNvCxnSpPr/>
          <p:nvPr/>
        </p:nvCxnSpPr>
        <p:spPr>
          <a:xfrm flipH="1">
            <a:off x="1212480" y="3143160"/>
            <a:ext cx="2160" cy="25740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3" name="TextBox 32"/>
          <p:cNvSpPr/>
          <p:nvPr/>
        </p:nvSpPr>
        <p:spPr>
          <a:xfrm>
            <a:off x="2643120" y="285768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33"/>
          <p:cNvSpPr/>
          <p:nvPr/>
        </p:nvSpPr>
        <p:spPr>
          <a:xfrm rot="1435800">
            <a:off x="5613120" y="351792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5" name="Прямая со стрелкой 34"/>
          <p:cNvCxnSpPr/>
          <p:nvPr/>
        </p:nvCxnSpPr>
        <p:spPr>
          <a:xfrm flipH="1">
            <a:off x="3214440" y="3357720"/>
            <a:ext cx="2160" cy="23580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6" name="TextBox 36"/>
          <p:cNvSpPr/>
          <p:nvPr/>
        </p:nvSpPr>
        <p:spPr>
          <a:xfrm>
            <a:off x="714240" y="400068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37"/>
          <p:cNvSpPr/>
          <p:nvPr/>
        </p:nvSpPr>
        <p:spPr>
          <a:xfrm>
            <a:off x="3214800" y="428616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38"/>
          <p:cNvSpPr/>
          <p:nvPr/>
        </p:nvSpPr>
        <p:spPr>
          <a:xfrm>
            <a:off x="4214880" y="207180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9" name="Прямая со стрелкой 39"/>
          <p:cNvCxnSpPr/>
          <p:nvPr/>
        </p:nvCxnSpPr>
        <p:spPr>
          <a:xfrm flipH="1">
            <a:off x="4212360" y="1785960"/>
            <a:ext cx="2520" cy="929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TextBox 41"/>
          <p:cNvSpPr/>
          <p:nvPr/>
        </p:nvSpPr>
        <p:spPr>
          <a:xfrm>
            <a:off x="714240" y="192888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1" name="Прямая со стрелкой 42"/>
          <p:cNvCxnSpPr/>
          <p:nvPr/>
        </p:nvCxnSpPr>
        <p:spPr>
          <a:xfrm flipH="1">
            <a:off x="5643360" y="2356200"/>
            <a:ext cx="716400" cy="3582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2" name="TextBox 44"/>
          <p:cNvSpPr/>
          <p:nvPr/>
        </p:nvSpPr>
        <p:spPr>
          <a:xfrm rot="19734000">
            <a:off x="5686200" y="224928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3" name="Прямая со стрелкой 45"/>
          <p:cNvCxnSpPr>
            <a:endCxn id="563" idx="0"/>
          </p:cNvCxnSpPr>
          <p:nvPr/>
        </p:nvCxnSpPr>
        <p:spPr>
          <a:xfrm flipH="1">
            <a:off x="5179320" y="4786200"/>
            <a:ext cx="965880" cy="929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4" name="Прямая со стрелкой 47"/>
          <p:cNvCxnSpPr/>
          <p:nvPr/>
        </p:nvCxnSpPr>
        <p:spPr>
          <a:xfrm flipH="1">
            <a:off x="7714440" y="4786200"/>
            <a:ext cx="2520" cy="929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5" name="TextBox 49"/>
          <p:cNvSpPr/>
          <p:nvPr/>
        </p:nvSpPr>
        <p:spPr>
          <a:xfrm rot="19069800">
            <a:off x="5143320" y="500040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50"/>
          <p:cNvSpPr/>
          <p:nvPr/>
        </p:nvSpPr>
        <p:spPr>
          <a:xfrm>
            <a:off x="7756560" y="508968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51"/>
          <p:cNvSpPr/>
          <p:nvPr/>
        </p:nvSpPr>
        <p:spPr>
          <a:xfrm>
            <a:off x="7572240" y="357192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8" name="Прямая со стрелкой 52"/>
          <p:cNvCxnSpPr/>
          <p:nvPr/>
        </p:nvCxnSpPr>
        <p:spPr>
          <a:xfrm flipH="1">
            <a:off x="7571520" y="3285720"/>
            <a:ext cx="2520" cy="7153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9" name="Прямая со стрелкой 55"/>
          <p:cNvCxnSpPr/>
          <p:nvPr/>
        </p:nvCxnSpPr>
        <p:spPr>
          <a:xfrm flipH="1">
            <a:off x="7857360" y="1785600"/>
            <a:ext cx="2520" cy="5720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1"/>
          <p:cNvSpPr/>
          <p:nvPr/>
        </p:nvSpPr>
        <p:spPr>
          <a:xfrm>
            <a:off x="1643040" y="214200"/>
            <a:ext cx="521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0" y="1470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двигаться, надо вертеться (Александр Ратнер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че идти вперед, чем в нужном направлении (Михаил Генин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е знает, куда идет, вероятно, придет не туда (Лоренс Питер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не вытащишь и рыбки из пруда (народная мудрость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ба желающего ведет, а нежелающего тащи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у осилит идущий (народная мудрость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шь достичь цели – поступай как умелый стрелок (народная мудрость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3857760" y="5000760"/>
            <a:ext cx="4857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для обсуждения 10 мин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для выступлении группы 3 мину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1"/>
          <p:cNvSpPr/>
          <p:nvPr/>
        </p:nvSpPr>
        <p:spPr>
          <a:xfrm>
            <a:off x="784080" y="189000"/>
            <a:ext cx="777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002060"/>
                </a:solidFill>
                <a:latin typeface="Calibri"/>
              </a:rPr>
              <a:t>Дети пришли в 7 класс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Диаграмма 3" descr=""/>
          <p:cNvPicPr/>
          <p:nvPr/>
        </p:nvPicPr>
        <p:blipFill>
          <a:blip r:embed="rId1"/>
          <a:stretch/>
        </p:blipFill>
        <p:spPr>
          <a:xfrm>
            <a:off x="571680" y="1397160"/>
            <a:ext cx="8215200" cy="51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1"/>
          <p:cNvSpPr/>
          <p:nvPr/>
        </p:nvSpPr>
        <p:spPr>
          <a:xfrm>
            <a:off x="214200" y="0"/>
            <a:ext cx="8929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Причины отклонения от учёбы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Диаграмма 3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64396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2"/>
          <p:cNvSpPr/>
          <p:nvPr/>
        </p:nvSpPr>
        <p:spPr>
          <a:xfrm>
            <a:off x="684360" y="4716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Я могу (классный руководитель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214200" y="1197360"/>
            <a:ext cx="8715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детей обо всех изменениях в учеб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овать успеваемость и посещаемость учебных занятий и своевременно информировать род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в разрешении конфликтных ситуаций с учителями и т.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1"/>
          <p:cNvSpPr/>
          <p:nvPr/>
        </p:nvSpPr>
        <p:spPr>
          <a:xfrm>
            <a:off x="900000" y="476280"/>
            <a:ext cx="77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Вы можете (родитель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357120" y="130608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стематический контрол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мочь в самоопределении ребе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акт с учителя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жно качество общения, а не количеств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Box 2"/>
          <p:cNvSpPr/>
          <p:nvPr/>
        </p:nvSpPr>
        <p:spPr>
          <a:xfrm>
            <a:off x="1785960" y="42876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357120" y="1237680"/>
            <a:ext cx="8429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поступает умелый стрелок из лука, если хочет поразить цель с первого раз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н хочет поразить одним выстрелом цель, он прежде всего, не будет спешить и суетиться. Он осмотрится вокруг, позаботится о том, чтобы ничто ему не меша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2:34:33Z</dcterms:created>
  <dc:creator>Defender</dc:creator>
  <dc:description/>
  <dc:language>en-US</dc:language>
  <cp:lastModifiedBy>KAB-201-03</cp:lastModifiedBy>
  <dcterms:modified xsi:type="dcterms:W3CDTF">2014-02-04T04:01:01Z</dcterms:modified>
  <cp:revision>36</cp:revision>
  <dc:subject/>
  <dc:title>Презентация PowerPoint</dc:title>
</cp:coreProperties>
</file>