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B29E-3588-4B6A-A518-45A46BD86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3D58-B4A6-4647-810E-D2CE21A9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F58EE5-C27E-473E-B21D-63071B91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5FB2D-E1EB-4CF0-8171-A87DF73F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0D094-F688-419B-9B9E-AC505FB0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DF1B6-5306-4AEA-924F-1BD2E5D0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879D63-782F-4B96-9644-AFBA1FB1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512E9-75E2-4D1E-8D16-922EF122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ECFB6D-5894-4EEA-BCC2-EFF60715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A7A7E2-BA47-45B1-B52B-BF974AC20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5591F-9AA7-49B8-A462-D5FD79BC8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924BBB-DC84-4E15-B19C-79140E0C1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7AAF-9C7E-4330-9E1A-61243B590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EBF2D9-C213-4700-BECD-6AAF23AB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4F40E-9391-4305-85F7-AB904303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8D489F-AC1D-440E-82AD-257F3834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D26E7-309E-4C63-9EBA-F0BAE1C3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A48502-D842-4070-B115-0DC2EC7E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A4F792-7B2D-4E5E-A0ED-0DB38793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9714F1-F857-4C1B-BD6B-AF1D5E50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86E8D7-D17D-4975-81E3-9C6F6E1F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96E1DE-D7E0-4551-AE49-28961A9A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A028C-B42B-4DC8-A469-159B9C03E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26A8-3791-4188-948A-849562DAF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E080B-BBC5-4D22-BB1C-725DBD8EF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7D3DE-E564-4B98-9457-6B9DCA1AC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E0A11-85DC-40DF-8D72-4CF80373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D066E-19BA-4044-BE7C-E2024FB0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9B9ACA-56AC-4159-A28E-E368B4AB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D2C55-8109-41A5-B312-A892FE07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0A2E62-AD2C-45C5-9157-DAC60032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3479E-7927-4B43-8ED9-A2345464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AB255-857C-4B67-A2D8-B4372DCD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66F54C-A769-482A-AABC-B444FA2E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87A7-0F92-4AD7-A646-40DCC7C5F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7ADC1-8F95-4B77-BEED-085A52FC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A1D69-FE5E-4F8D-A292-F10A6F5C3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DCBCD-58A7-4FCA-8813-A80C7DFE2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580B6C-963D-4BB4-B617-EA5174E38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9328CF-6096-4341-8712-4FACBEA4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151F1F-2DA7-4C05-90FE-5B23BB99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C7AE08-36F5-4D51-BCF1-2FDE7AFE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106C4B-0BD5-416A-936F-7BC343B4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02D263-D1CE-4E78-BB10-D0CDF885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C54C10-3AF8-4D3C-B21C-4F713AD7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B7E6-C756-42E9-B64E-7FD31EBD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3CB2CC-B6C5-4F5D-8051-95D9F269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66C4DA-27B8-4F01-B818-046F857E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D10F52-AF69-426A-986D-3E654161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03A6B2-D43B-4C41-B124-9FB94E0A7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CBA013-E219-4A25-B284-539945948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A9C7-45BC-4234-8902-0AAFFE1D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C2CD-314D-4D70-AE46-91E27C48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76DC-8964-438A-A71C-01D5C0F1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0344-8513-4F2E-B436-40AEB62D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807F-C61F-46DC-8DFB-7617CD1B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A58B-83B2-43E2-9DDA-DB42ABE5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5C19-1D4F-4C1A-8C73-E153F761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0596-81FD-4E36-9A44-B352775D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1FA8-6C6E-48AD-8A03-23FB48D7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E29C-56EA-47EE-82A0-39242B86B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F6FB-136B-4F07-B9E6-C7730D3ED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174A7-4399-41FF-A43A-06A33572B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9C581-A414-42F6-913A-485EB4E7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47C94-3C90-49B7-8F3B-DC3A5CA2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737AF-D720-4503-B8EF-2501AA54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C673B-AEED-4D69-B60B-D7651089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CF56-D91A-4CBD-8870-6BDB9CA9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3D6E9-9855-44E8-BE76-CE19A1E3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856B9-BE8F-4CDC-B46B-5C71BD5A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7BDEB-99BD-443E-AE34-E2A9F308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9C2CB-585C-470F-A358-C467B553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DE39B-ABB5-4AEC-A818-64B54229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B52D0-7804-401C-BF68-5D26A3C1A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B8A62-1EA4-405E-B688-01D73E4CB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31CE5-F7D5-4346-9BEE-B5986788A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E5737-2672-4FB0-B01F-EEF17E0D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79A67-A459-4E7E-97C7-A965E7B5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0391-A2C5-4CE0-95FC-4F759B2A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08CAB-2F49-4F4F-A4A2-B2431824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A65D8-E832-4444-8192-AB9DF604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E04AF-3866-41DD-B57D-3C715551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9066E-C12F-4604-9698-61D6958A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A308F-1F58-4922-A42D-5848A5F4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664A2-6FDB-4F75-8198-4F23CF9C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E837D-B527-4211-BA45-8C8D7C86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4F833-08EE-4B77-A879-EB617D21E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71063-1C97-4C82-B6D2-6EAE5B022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9867B-F54D-470B-A852-0840553D0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2181-D940-43FE-A116-28A81E1E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1FD88-71DD-42D5-BBF5-EBCBDD82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F8C90-9D00-4669-BF0F-C07B5318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8CAED-00F5-40F4-B432-91266A36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5DCB5-7B60-45C9-8906-851CA8E1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57CE7-CA92-4894-8F1E-5F60DA60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6D229-F2A4-427C-ABD1-4E57A815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ADEBA-10DF-40CA-8D35-CC4D78F7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F92B8-3AC9-4417-A62F-910B9264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07CC4-B94F-45CB-B2A4-18676F07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F70CE-D101-438F-9B1D-E7F212655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0297-CA54-41E2-BDAD-D79D6BB4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831F5-FA8B-4803-9934-5BA8D2032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CAE66-5B5D-47F0-8374-E0ACB5DD9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56330-857E-4741-815D-B84E29E9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6A5B7-1826-447F-ABCC-45DFF7E4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FB38F-9446-45F1-8396-86C1597F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B8F33-BEB4-4CC8-A8C9-08915F6C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54ABB-2A68-431B-9648-D6BA1C57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A15CA-5B7C-4A01-8344-7EC4B234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C1C13-BA3B-4A85-B086-26678DB5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7EBA8-2101-4520-B97D-119365C0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4048-E4C5-4F19-8743-054DD0A4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2FA38-1E9B-4C72-9790-BE0921A2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FFD02-CE9F-462E-B5E1-F58C7E434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52A41-F131-4646-AF8B-687BF1716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39DEC-7B51-42F5-BB1F-E0402F6E9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042C3-1112-4A16-8E32-297CB78A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9076F-20A0-402F-928E-142C3E89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D81A2-7D9F-49FA-ADB3-D8489A91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F6D5B-A81A-42F7-B9DE-22C80152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1FD01-C4DE-4266-92EA-C2033E0E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0DE73-F7E5-4E9D-8E48-AFBB0C84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81B3-84CC-4789-9066-907970BE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68218-443F-40B5-824E-2CC418A2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3A8C9-80DD-42A9-9FCF-FF96304A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86A63-14BA-40A4-B242-B3309168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C87F0-2753-49B7-BD70-C11719EC6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ED4AA-455C-4EAC-8D31-8268DE12F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5137C-1E73-4078-934F-2004D1235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D20DD-1478-416B-A32A-C7F6BDA4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DF5F8-C546-477F-8116-EBC2150C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5FFE6-47D8-4986-AF68-D10AFA36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C47E3-4FDD-4905-A134-E9282EEB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A3B4-0598-4C95-BAB5-9A5496C4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DD323-D492-455E-8AE1-13E98633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7750E-5E46-4E16-A6F1-1608E162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E644B-6915-4DCE-90CC-FA28A2B8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515D3-BF47-43DC-9D2D-A8E0AF8C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D0A3C-3C63-4BD3-AA95-B9E10E4A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86677-0729-4CB7-9CEA-03824061C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FDF62-7DB6-4357-BBF9-56B6EF2C2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03297-DD6F-40BE-9A7F-0C9942E6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27E42F-9847-4D50-9519-657A0942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A1A6CC-CF69-4E23-A595-4FA6BDC2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4DC0-A72F-4133-A6C6-BF1877DCDCA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54BB-89F1-4687-9B16-E33F567F86C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9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1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62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4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65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7316-A1D3-4C6C-BE74-C100AF734C8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4372-F64A-4A66-B3A6-94C26ED15F7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440A-9CCA-4B00-9125-F09D082151F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0067-81BE-4B9E-B1C5-C5DDD563D18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F6A5-9046-44E5-A85A-256C4725781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89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92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4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95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7801-2D93-4E81-A876-E231A3044D8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3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679D-ECE5-4CEE-90DD-A4555EFBF67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83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5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86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8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89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9B73-C250-4ED8-BBF9-987EC932CCB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227E-0FAE-482E-BA36-B5AD4761F1E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C81C-E54E-4EFC-9C6C-7ACDB870CFD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Прямоугольник 3" descr=""/>
          <p:cNvPicPr/>
          <p:nvPr/>
        </p:nvPicPr>
        <p:blipFill>
          <a:blip r:embed="rId1"/>
          <a:stretch/>
        </p:blipFill>
        <p:spPr>
          <a:xfrm>
            <a:off x="390600" y="1206360"/>
            <a:ext cx="8217000" cy="2311560"/>
          </a:xfrm>
          <a:prstGeom prst="rect">
            <a:avLst/>
          </a:prstGeom>
          <a:ln w="0">
            <a:noFill/>
          </a:ln>
        </p:spPr>
      </p:pic>
      <p:sp>
        <p:nvSpPr>
          <p:cNvPr id="550" name="TextBox 2"/>
          <p:cNvSpPr/>
          <p:nvPr/>
        </p:nvSpPr>
        <p:spPr>
          <a:xfrm>
            <a:off x="6072120" y="492912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0 ноября 2012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Диаграмма 3" descr=""/>
          <p:cNvPicPr/>
          <p:nvPr/>
        </p:nvPicPr>
        <p:blipFill>
          <a:blip r:embed="rId1"/>
          <a:stretch/>
        </p:blipFill>
        <p:spPr>
          <a:xfrm>
            <a:off x="500040" y="571680"/>
            <a:ext cx="8286840" cy="5929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Box 5"/>
          <p:cNvSpPr/>
          <p:nvPr/>
        </p:nvSpPr>
        <p:spPr>
          <a:xfrm>
            <a:off x="330120" y="339840"/>
            <a:ext cx="838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Box 3"/>
          <p:cNvSpPr/>
          <p:nvPr/>
        </p:nvSpPr>
        <p:spPr>
          <a:xfrm>
            <a:off x="0" y="2858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мой ребёнок плохо учится? Что дела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Прямоугольник 6"/>
          <p:cNvSpPr/>
          <p:nvPr/>
        </p:nvSpPr>
        <p:spPr>
          <a:xfrm>
            <a:off x="142920" y="1000080"/>
            <a:ext cx="2428920" cy="78588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и пришли в 7           класс осознанно?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Прямоугольник 7"/>
          <p:cNvSpPr/>
          <p:nvPr/>
        </p:nvSpPr>
        <p:spPr>
          <a:xfrm>
            <a:off x="3429000" y="1000080"/>
            <a:ext cx="2428920" cy="78588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плыли в 7 класс по течен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Прямоугольник 8"/>
          <p:cNvSpPr/>
          <p:nvPr/>
        </p:nvSpPr>
        <p:spPr>
          <a:xfrm>
            <a:off x="6572160" y="1000080"/>
            <a:ext cx="2571840" cy="78588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шли по желанию родителей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Прямоугольник 9"/>
          <p:cNvSpPr/>
          <p:nvPr/>
        </p:nvSpPr>
        <p:spPr>
          <a:xfrm>
            <a:off x="142920" y="2357280"/>
            <a:ext cx="2428920" cy="78588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и переоценили свои возможност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Прямоугольник 10"/>
          <p:cNvSpPr/>
          <p:nvPr/>
        </p:nvSpPr>
        <p:spPr>
          <a:xfrm>
            <a:off x="3214800" y="2714760"/>
            <a:ext cx="2428920" cy="78552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кие оценки устраивают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Прямоугольник 11"/>
          <p:cNvSpPr/>
          <p:nvPr/>
        </p:nvSpPr>
        <p:spPr>
          <a:xfrm>
            <a:off x="6357960" y="2357280"/>
            <a:ext cx="2428920" cy="92880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лание детей и родителей совпадают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Прямоугольник 12"/>
          <p:cNvSpPr/>
          <p:nvPr/>
        </p:nvSpPr>
        <p:spPr>
          <a:xfrm>
            <a:off x="6143760" y="4000680"/>
            <a:ext cx="2428920" cy="78552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ть контроль со стороны родителей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Прямоугольник 13"/>
          <p:cNvSpPr/>
          <p:nvPr/>
        </p:nvSpPr>
        <p:spPr>
          <a:xfrm>
            <a:off x="642960" y="5786280"/>
            <a:ext cx="857160" cy="785880"/>
          </a:xfrm>
          <a:prstGeom prst="rect">
            <a:avLst/>
          </a:prstGeom>
          <a:solidFill>
            <a:srgbClr val="ff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Прямоугольник 14"/>
          <p:cNvSpPr/>
          <p:nvPr/>
        </p:nvSpPr>
        <p:spPr>
          <a:xfrm>
            <a:off x="2357280" y="5715000"/>
            <a:ext cx="1214640" cy="785880"/>
          </a:xfrm>
          <a:prstGeom prst="rect">
            <a:avLst/>
          </a:prstGeom>
          <a:solidFill>
            <a:srgbClr val="00b05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Прямоугольник 15"/>
          <p:cNvSpPr/>
          <p:nvPr/>
        </p:nvSpPr>
        <p:spPr>
          <a:xfrm>
            <a:off x="4572000" y="5715000"/>
            <a:ext cx="1214280" cy="785880"/>
          </a:xfrm>
          <a:prstGeom prst="rect">
            <a:avLst/>
          </a:prstGeom>
          <a:solidFill>
            <a:srgbClr val="00206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Прямоугольник 16"/>
          <p:cNvSpPr/>
          <p:nvPr/>
        </p:nvSpPr>
        <p:spPr>
          <a:xfrm>
            <a:off x="6715080" y="5715000"/>
            <a:ext cx="1214640" cy="785880"/>
          </a:xfrm>
          <a:prstGeom prst="rect">
            <a:avLst/>
          </a:prstGeom>
          <a:solidFill>
            <a:srgbClr val="00b0f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5" name="Прямая со стрелкой 18"/>
          <p:cNvCxnSpPr>
            <a:stCxn id="554" idx="3"/>
            <a:endCxn id="555" idx="1"/>
          </p:cNvCxnSpPr>
          <p:nvPr/>
        </p:nvCxnSpPr>
        <p:spPr>
          <a:xfrm>
            <a:off x="2571480" y="1391760"/>
            <a:ext cx="857880" cy="252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6" name="Прямая со стрелкой 19"/>
          <p:cNvCxnSpPr>
            <a:stCxn id="555" idx="3"/>
          </p:cNvCxnSpPr>
          <p:nvPr/>
        </p:nvCxnSpPr>
        <p:spPr>
          <a:xfrm flipV="1">
            <a:off x="5857920" y="1358640"/>
            <a:ext cx="714960" cy="3384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7" name="TextBox 20"/>
          <p:cNvSpPr/>
          <p:nvPr/>
        </p:nvSpPr>
        <p:spPr>
          <a:xfrm>
            <a:off x="2786040" y="1071720"/>
            <a:ext cx="5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Box 21"/>
          <p:cNvSpPr/>
          <p:nvPr/>
        </p:nvSpPr>
        <p:spPr>
          <a:xfrm>
            <a:off x="5929200" y="1071720"/>
            <a:ext cx="5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9" name="Прямая со стрелкой 22"/>
          <p:cNvCxnSpPr/>
          <p:nvPr/>
        </p:nvCxnSpPr>
        <p:spPr>
          <a:xfrm>
            <a:off x="2357280" y="3142800"/>
            <a:ext cx="858240" cy="252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0" name="Прямая со стрелкой 23"/>
          <p:cNvCxnSpPr/>
          <p:nvPr/>
        </p:nvCxnSpPr>
        <p:spPr>
          <a:xfrm>
            <a:off x="5071680" y="3500280"/>
            <a:ext cx="1072440" cy="50112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1" name="Прямая со стрелкой 26"/>
          <p:cNvCxnSpPr/>
          <p:nvPr/>
        </p:nvCxnSpPr>
        <p:spPr>
          <a:xfrm flipH="1">
            <a:off x="1212480" y="1785600"/>
            <a:ext cx="2160" cy="57204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2" name="Прямая со стрелкой 28"/>
          <p:cNvCxnSpPr/>
          <p:nvPr/>
        </p:nvCxnSpPr>
        <p:spPr>
          <a:xfrm flipH="1">
            <a:off x="1212480" y="3143160"/>
            <a:ext cx="2160" cy="257400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3" name="TextBox 32"/>
          <p:cNvSpPr/>
          <p:nvPr/>
        </p:nvSpPr>
        <p:spPr>
          <a:xfrm>
            <a:off x="2643120" y="2857680"/>
            <a:ext cx="5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TextBox 33"/>
          <p:cNvSpPr/>
          <p:nvPr/>
        </p:nvSpPr>
        <p:spPr>
          <a:xfrm rot="1435800">
            <a:off x="5613120" y="3517920"/>
            <a:ext cx="5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5" name="Прямая со стрелкой 34"/>
          <p:cNvCxnSpPr/>
          <p:nvPr/>
        </p:nvCxnSpPr>
        <p:spPr>
          <a:xfrm flipH="1">
            <a:off x="3214440" y="3357720"/>
            <a:ext cx="2160" cy="235800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6" name="TextBox 36"/>
          <p:cNvSpPr/>
          <p:nvPr/>
        </p:nvSpPr>
        <p:spPr>
          <a:xfrm>
            <a:off x="714240" y="4000680"/>
            <a:ext cx="5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TextBox 37"/>
          <p:cNvSpPr/>
          <p:nvPr/>
        </p:nvSpPr>
        <p:spPr>
          <a:xfrm>
            <a:off x="3214800" y="4286160"/>
            <a:ext cx="5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extBox 38"/>
          <p:cNvSpPr/>
          <p:nvPr/>
        </p:nvSpPr>
        <p:spPr>
          <a:xfrm>
            <a:off x="4214880" y="2071800"/>
            <a:ext cx="5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9" name="Прямая со стрелкой 39"/>
          <p:cNvCxnSpPr/>
          <p:nvPr/>
        </p:nvCxnSpPr>
        <p:spPr>
          <a:xfrm flipH="1">
            <a:off x="4212360" y="1785960"/>
            <a:ext cx="2520" cy="92952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0" name="TextBox 41"/>
          <p:cNvSpPr/>
          <p:nvPr/>
        </p:nvSpPr>
        <p:spPr>
          <a:xfrm>
            <a:off x="714240" y="1928880"/>
            <a:ext cx="5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1" name="Прямая со стрелкой 42"/>
          <p:cNvCxnSpPr/>
          <p:nvPr/>
        </p:nvCxnSpPr>
        <p:spPr>
          <a:xfrm flipH="1">
            <a:off x="5643360" y="2356200"/>
            <a:ext cx="716400" cy="35820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2" name="TextBox 44"/>
          <p:cNvSpPr/>
          <p:nvPr/>
        </p:nvSpPr>
        <p:spPr>
          <a:xfrm rot="19734000">
            <a:off x="5686200" y="2249280"/>
            <a:ext cx="5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3" name="Прямая со стрелкой 45"/>
          <p:cNvCxnSpPr>
            <a:endCxn id="563" idx="0"/>
          </p:cNvCxnSpPr>
          <p:nvPr/>
        </p:nvCxnSpPr>
        <p:spPr>
          <a:xfrm flipH="1">
            <a:off x="5179320" y="4786200"/>
            <a:ext cx="965880" cy="92952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4" name="Прямая со стрелкой 47"/>
          <p:cNvCxnSpPr/>
          <p:nvPr/>
        </p:nvCxnSpPr>
        <p:spPr>
          <a:xfrm flipH="1">
            <a:off x="7714440" y="4786200"/>
            <a:ext cx="2520" cy="92952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5" name="TextBox 49"/>
          <p:cNvSpPr/>
          <p:nvPr/>
        </p:nvSpPr>
        <p:spPr>
          <a:xfrm rot="19069800">
            <a:off x="5143320" y="5000400"/>
            <a:ext cx="5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50"/>
          <p:cNvSpPr/>
          <p:nvPr/>
        </p:nvSpPr>
        <p:spPr>
          <a:xfrm>
            <a:off x="7756560" y="5089680"/>
            <a:ext cx="5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Box 51"/>
          <p:cNvSpPr/>
          <p:nvPr/>
        </p:nvSpPr>
        <p:spPr>
          <a:xfrm>
            <a:off x="7572240" y="3571920"/>
            <a:ext cx="5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8" name="Прямая со стрелкой 52"/>
          <p:cNvCxnSpPr/>
          <p:nvPr/>
        </p:nvCxnSpPr>
        <p:spPr>
          <a:xfrm flipH="1">
            <a:off x="7571520" y="3285720"/>
            <a:ext cx="2520" cy="71532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9" name="Прямая со стрелкой 55"/>
          <p:cNvCxnSpPr/>
          <p:nvPr/>
        </p:nvCxnSpPr>
        <p:spPr>
          <a:xfrm flipH="1">
            <a:off x="7857360" y="1785600"/>
            <a:ext cx="2520" cy="57204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Box 1"/>
          <p:cNvSpPr/>
          <p:nvPr/>
        </p:nvSpPr>
        <p:spPr>
          <a:xfrm>
            <a:off x="1643040" y="214200"/>
            <a:ext cx="521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Работа в группах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0" y="147060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продвигаться, надо вертеться (Александр Ратнер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че идти вперед, чем в нужном направлении (Михаил Генин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не знает, куда идет, вероятно, придет не туда (Лоренс Питер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труда не вытащишь и рыбки из пруда (народная мудрость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ьба желающего ведет, а нежелающего тащи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гу осилит идущий (народная мудрость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чешь достичь цели – поступай как умелый стрелок (народная мудрость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TextBox 5"/>
          <p:cNvSpPr/>
          <p:nvPr/>
        </p:nvSpPr>
        <p:spPr>
          <a:xfrm>
            <a:off x="3857760" y="5000760"/>
            <a:ext cx="48574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ГЛАМЕН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РЕМЯ для обсуждения 10 мину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РЕМЯ для выступлении группы 3 мину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Box 1"/>
          <p:cNvSpPr/>
          <p:nvPr/>
        </p:nvSpPr>
        <p:spPr>
          <a:xfrm>
            <a:off x="784080" y="189000"/>
            <a:ext cx="777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5000" spc="-1" strike="noStrike">
                <a:solidFill>
                  <a:srgbClr val="002060"/>
                </a:solidFill>
                <a:latin typeface="Calibri"/>
              </a:rPr>
              <a:t>Дети пришли в 7 класс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4" name="Диаграмма 3" descr=""/>
          <p:cNvPicPr/>
          <p:nvPr/>
        </p:nvPicPr>
        <p:blipFill>
          <a:blip r:embed="rId1"/>
          <a:stretch/>
        </p:blipFill>
        <p:spPr>
          <a:xfrm>
            <a:off x="571680" y="1397160"/>
            <a:ext cx="8215200" cy="5175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Box 1"/>
          <p:cNvSpPr/>
          <p:nvPr/>
        </p:nvSpPr>
        <p:spPr>
          <a:xfrm>
            <a:off x="214200" y="0"/>
            <a:ext cx="89298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Причины отклонения от учёбы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6" name="Диаграмма 3" descr=""/>
          <p:cNvPicPr/>
          <p:nvPr/>
        </p:nvPicPr>
        <p:blipFill>
          <a:blip r:embed="rId1"/>
          <a:stretch/>
        </p:blipFill>
        <p:spPr>
          <a:xfrm>
            <a:off x="285840" y="642960"/>
            <a:ext cx="8643960" cy="6000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Box 2"/>
          <p:cNvSpPr/>
          <p:nvPr/>
        </p:nvSpPr>
        <p:spPr>
          <a:xfrm>
            <a:off x="684360" y="47160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Я могу (классный руководитель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4"/>
          <p:cNvSpPr/>
          <p:nvPr/>
        </p:nvSpPr>
        <p:spPr>
          <a:xfrm>
            <a:off x="214200" y="1197360"/>
            <a:ext cx="8715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ировать детей обо всех изменениях в учебной деятельн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ировать успеваемость и посещаемость учебных занятий и своевременно информировать родител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чь в разрешении конфликтных ситуаций с учителями и т.д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Box 1"/>
          <p:cNvSpPr/>
          <p:nvPr/>
        </p:nvSpPr>
        <p:spPr>
          <a:xfrm>
            <a:off x="900000" y="476280"/>
            <a:ext cx="770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Calibri"/>
              </a:rPr>
              <a:t>Вы можете (родитель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Rectangle 4"/>
          <p:cNvSpPr/>
          <p:nvPr/>
        </p:nvSpPr>
        <p:spPr>
          <a:xfrm>
            <a:off x="357120" y="1306080"/>
            <a:ext cx="8501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Систематический контроль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мочь в самоопределении ребенк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нтакт с учителям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Важно качество общения, а не количество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Box 2"/>
          <p:cNvSpPr/>
          <p:nvPr/>
        </p:nvSpPr>
        <p:spPr>
          <a:xfrm>
            <a:off x="1785960" y="428760"/>
            <a:ext cx="535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Rectangle 3"/>
          <p:cNvSpPr/>
          <p:nvPr/>
        </p:nvSpPr>
        <p:spPr>
          <a:xfrm>
            <a:off x="357120" y="1237680"/>
            <a:ext cx="84297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к поступает умелый стрелок из лука, если хочет поразить цель с первого раз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он хочет поразить одним выстрелом цель, он прежде всего, не будет спешить и суетиться. Он осмотрится вокруг, позаботится о том, чтобы ничто ему не мешал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02:34:33Z</dcterms:created>
  <dc:creator>Defender</dc:creator>
  <dc:description/>
  <dc:language>en-US</dc:language>
  <cp:lastModifiedBy>KAB-201-03</cp:lastModifiedBy>
  <dcterms:modified xsi:type="dcterms:W3CDTF">2014-02-04T04:01:01Z</dcterms:modified>
  <cp:revision>36</cp:revision>
  <dc:subject/>
  <dc:title>Презентация PowerPoint</dc:title>
</cp:coreProperties>
</file>