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1513-DC11-4F5D-BE43-70395EC8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8BA1-118A-4B82-81C4-98E2B334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272D-FA78-4913-BDCE-4F1F7CC4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1684-70EA-4AD0-8FDF-009C4A50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26B6-9514-4E2B-A79C-D7122121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87D7-8D87-40C2-AF80-6CB964B5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274E-0F60-4E1D-9433-5295934B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7FE6-F6E6-4BE5-A19C-08EC1907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E381-98EA-4AAB-B243-143851F2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FA18-7D5C-44E8-800D-BDD1BFF1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42CA-EF8B-4DF7-8545-CEA3B35F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711-537E-41DB-A9EF-B3BC0967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B40C-D3C8-4654-958D-56F15F63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7847-4FB7-4445-9B64-9C6A5D65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C7BE-F341-4ADE-BF6C-09C2AAC7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D543-CD9E-454F-A344-20B208CF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A3F9-80DB-46C2-860A-0F962562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B56C6-092F-49BE-A92D-4C2B2C9F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B5BC5-30A5-44C9-9018-FD4748DE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7BA93-FF52-4278-8ECB-D71CDDA2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1D794-FC08-4AD2-909B-D437F2CF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A56C6-A6F6-4E62-8703-193F296D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EA2C-747A-422C-BE4D-4F486B4F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E577D-0828-4A2C-9517-1F1B48AB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93D1D-AD5E-4F13-87A8-E8AF0A66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3A820-0599-4A22-9057-1B82ECFD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C1AEB-38AC-4107-9CFA-36B0999B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4E9CC-2A31-4430-912D-93297F57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2C3A2-0DBD-442E-97C0-A5898A7E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6B6FC-04AD-4B5A-862F-A6876C3B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1AD1E-7545-48B7-9D5A-34BE1855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B202B-5823-4BD4-9199-A08C93E2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669EE-A995-4583-B5E3-9733D7A6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788-0512-408E-8848-D90FA7BF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BBA45-3DAB-4ED1-818A-BA63065E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B4CE7-3F3E-4C4C-BAF3-6F068246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A7E4A-F25C-4842-84BB-32B0FFF3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643C1-6CEC-43CF-8FE9-6BF29721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A8CE2-1DA5-4E45-8A85-53256F00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30F6D-D6B7-4ACB-A487-253B2A82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A89E0-A3A2-4958-B16B-8B4D1BC5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E3DED-3743-464C-A1D2-14B49C49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C1DDC-33CF-47BB-BC24-2472EA53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73A-9EE0-4A88-901D-E92834A0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974-DDB0-4908-8F13-7257DE9B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1C0-A06F-4EAD-9A49-4304F7BD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720-B0C6-4115-892F-F7F98290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C1E3-3786-43E0-A844-6EBC5D9E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9697-26C2-405C-BA8E-AC2F108E8E8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FD92-C567-44E8-A296-4008495F9C0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3918-2BE6-4A7F-B9C4-6C5ED9B85B1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E31A-3290-4FAE-8863-C4F08D4F5B9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униципальное автономное дошкольное образовательное учреждение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Центр развития ребёнка – детский №116»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. Сыктывкара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«Волшебные голоса»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ограмма по работе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 одаренными детьм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8856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астие в фестивалях, конкурсных программах и проектах на местном, муниципальном уровнях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готовка сольных номеров для концертных программ и досуговых мероприятий, соответствующих тому или иному календарному празднику, проводимых в детском саду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инцип отбора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узыкального материал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азнообразност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тематика, жанровое разнообразие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оступност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ариативност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овизн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Цель программы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иобщать дошкольников к миру вокальной музыки, формировать исполнительские навыки в области пения, музицирования, способствовать развитию творческих проявлени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64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Расширять диапазоны голосов детей дошкольного возраста и формировать их естественное звуч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голосового аппарата, укреплять голосовые связ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овершенствовать певческие способности детей дошкольного возраста, формировать правильное дыхание, дикцию, артикуляцию в пен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Формировать эмоционально - эстетическое восприятие окружающего мира через пе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Развивать у дошкольников творческое начало, поощрять самостоятельность, инициативу и импровизационные способности в пен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8856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руктура занятий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. Артикуляционная гимнастик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Совершенствовать дикцию, артикуляцию, помогать правильно и чисто проговаривать трудно произносимые слова, фразы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Интонационно – фонетические упражнения (Емельянов В. В.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Упражнения на дых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Укреплять лёгкие и голосовой аппарат дошкольников, формировать правильное дыхани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Основная часть - вокально-хоровая работ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1. Распевани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2. Пальчиковые и подвижные игры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3. Работа над песне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3.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Знакомство с песней (1 – 2 занятия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3.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Прослушивани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3.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Беседа, разъяснение текст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3.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Повторное исполнени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4. Разучивание песни (3 – 4 занятия)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4.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бота над звукообразование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4.2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бота над звуковедение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4.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бота над дыхание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4.4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бота над ансамбле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4.5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бота над дикцие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5. Закрепление (1 – 2 занятия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5.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бота над выразительностью и эмоциональным исполнением песн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иды контроля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дварительный контрол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выявление исходного уровня подготовки воспитанников (собеседование, прослушивание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екущий контрол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степень усвоения, подготовленность, заинтересован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тоговый контрол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определение степени достижения результатов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амоконтрол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самодисциплина, ответствен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856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анируемый результа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личие интереса к вокальному искусству; стремление к вокально-творческому самовыражению (пение соло, ансамблем, участие в концертах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ладение некоторыми основами нотной грамоты, использование голосового аппара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роявление навыков вокально-хоровой деятельности (вовремя начинать и заканчивать пение, правильно вступать, умение петь по фразам, слушать паузы, правильно выполнять музыкальные, вокальные ударения, четко и ясно произносить слова – артикулировать при исполнении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64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еть двигаться под музыку,  не бояться сцены, культура поведения на сцен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тремление передавать характер песни, умение исполнять легато, правильно распределять дыхание во фразе, уметь делать кульминацию во фразе, усовершенствовать свой голос;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ение исполнять  длительности и ритмические рисунки (ноты с точкой, пунктирный ритм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ение петь под фонограмму с различным аккомпанементом, умение владеть своим голосом и дыхание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оспитание и развитие одаренных и талантливых детей является важнейшим условием формирования творческого потенциала общества, развития науки и культуры, всех областей производства и социальной жизн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3256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ля развития и реализации творческого потенциала детей с выраженной музыкальностью необходимо создать следующие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едагогические условия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разработать метод выявления детей с выраженной музыкальность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существлять дифференцированный подход в процессе музыкального воспита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рганизовать кружковую и индивидуальную работу с детьми с выраженной музыкальность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6456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пособствовать обогащению предметно развивающей среды, в которой протекает процесс музыкального воспитания дет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рганизовать работу с родителями детей с выраженной музыкальностью, вовлечь их в процесс музыкального развития и воспитания детей, в качестве активных участников и партнер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бор метода выявления детей с выраженной музыкальностью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бор методов и приёмов развития музыкальных способностей, а так же обеспечения реализации творческого потенциала таковых де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ктуализация проблем одаренных детей перед другими участниками образовательного процесса – родителями и педагогами образовательного учрежде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64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узыкальность 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мпонент музыкальной одаренности, необходимый для занятия именно музыкальной деятельностью (любого ее вида), в отличие от всякой другой. Музыкальность объединяет в себе комплекс музыкальных способностей, требуемых для осуществления музыкальной деятельности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Музыкальные способности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Б. М. Теплов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ладовое чувство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музыкально слуховые         представления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чувство ритма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664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узыкальные способности у всех детей выявляются по – разному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ложно развиваются у детей музыкально – слуховые представления – способность воспроизводить мелодию голосом, точно ее интонируя, или подбирать ее по слуху на музыкальном инструменте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сутствие раннего проявления способностей не является показателем слабости или тем более отсутствия способностей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аблюдения за детьм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иагностика музыкальных способностей (ладовое чувство, музыкально – слуховые представления, чувство ритма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ланирование и учет работы по музыкальному воспитанию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ехнология педагогического наблюде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ъект – музыкальность дошкольни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ель – выявить детей с задатками музыкальнос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мет (единицы наблюдения)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раженное стремление к музыкальной деятельност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минирующие характеристики учебной и игровой деятельност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арактер общения и поведения на музыкальных занятиях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ровень развития творческих способносте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ровень развития музыкальных способносте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52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Формы работы с родителям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есед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прос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нсультаци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еминар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аглядная информац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азвлечения, концерт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оздание предметно – развивающей сред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15:06:09Z</dcterms:created>
  <dc:creator>USER</dc:creator>
  <dc:description/>
  <dc:language>en-US</dc:language>
  <cp:lastModifiedBy>Пользователь</cp:lastModifiedBy>
  <dcterms:modified xsi:type="dcterms:W3CDTF">2012-12-17T14:12:55Z</dcterms:modified>
  <cp:revision>4</cp:revision>
  <dc:subject/>
  <dc:title>Слайд 1</dc:title>
</cp:coreProperties>
</file>