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C91F-1047-401A-AE7D-2E7767FC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DCB3-8628-4E9B-B35D-A3B1B328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1A5-A26B-45C6-9B57-398BE8F1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E89D-2BA3-479F-B416-34A95A75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186B-E4C3-4626-ADD4-E4146AF3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73D7-037A-4B40-A378-36C007F5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1FED-F8C4-47EF-B544-FA4E993E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9347-CF56-4511-9F02-DB0B4336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D089-7F59-4C96-904A-C87CD172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D553-0E7A-4BD7-9664-C2CAC6F6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41A8-CE21-4511-A5CA-B81A833F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687B-91EF-4849-99B9-0361F806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D251-DA95-4D01-B881-97B7D5D6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BBC9-995B-4465-A1C3-01D9D8F5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0FDF-046A-4B1B-B054-691547AB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5973-1E0C-4E9C-BA6F-6485B5DB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D92D-F946-486E-A8C0-096FA55C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659D8-5431-482B-8C1D-E6CB7A20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F05D2-5FC4-461C-86FF-193D3E85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C1192-0685-4791-8BF0-0B6443BD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9E662-073D-454C-9F8F-A9772903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5AA22-5CD0-4895-9FAC-0041C5F0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2F1-56F7-4CF4-93E3-94D83E4D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CF503-5CFA-4C31-98A0-85D0BA6F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F09B5-B2CB-457E-8609-70834991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15C21-338D-48F5-83EF-94D89779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22D0D-65A5-4A2A-B863-E0181FD4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04C69-CF2B-4367-910F-9CA814C9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1F9A5-9607-469F-88AD-3CB55CE1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57490-4AB5-4370-8B1A-2B4B10C2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F4EBB-668C-4282-82FC-C12D35A4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C0E38-1B7D-4B9B-A0DD-160FB354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19C76-7053-493D-A407-06D27BF8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E85-B18F-4622-B3C1-C2ED7655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9A46D-85F0-47D5-8533-7B9989F5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276D4-AB22-40D4-8AED-6CF9BD36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DB6FB-F3BC-4C9B-8968-69FF6847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52E0F-46E6-4732-BB2C-1A5B2D9D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4BC5C-4C88-4133-91D5-69ED1344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CC848-4BFB-4AD6-9F9E-2CCB8F73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A683B-AC3F-473C-870E-DA4B672D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76548-2528-406A-B21C-7BF33629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2F0EE-5DB3-44D0-9FA3-999B9B25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EE2-9AD6-4D85-B4C9-6BD470FF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DAB-C257-41B2-84B7-8382A9EF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DD5-4EB8-4363-8942-392DA5FD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D64-F14F-41A9-95F3-E97B18D4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147-6AE1-4C49-82C3-A5634B99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8AC3-CAE3-458B-B690-A1E0F9285D7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3DF7-5D8C-416B-B08B-680D7F90E87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FFD1-C5DA-4490-B1A3-3A00818AFD5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44EE-E8D4-4CE6-B8C3-98102AF7C26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униципальное автономное дошкольное образовательное учреждение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Центр развития ребёнка – детский №116»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. Сыктывкара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«Волшебные голоса»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ограмма по работе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 одаренными детьм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8856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астие в фестивалях, конкурсных программах и проектах на местном, муниципальном уровнях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готовка сольных номеров для концертных программ и досуговых мероприятий, соответствующих тому или иному календарному празднику, проводимых в детском саду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инцип отбора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узыкального материал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азнообразност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тематика, жанровое разнообразие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оступност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ариативность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овизн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Цель программы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иобщать дошкольников к миру вокальной музыки, формировать исполнительские навыки в области пения, музицирования, способствовать развитию творческих проявлени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64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Расширять диапазоны голосов детей дошкольного возраста и формировать их естественное звуч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голосового аппарата, укреплять голосовые связ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овершенствовать певческие способности детей дошкольного возраста, формировать правильное дыхание, дикцию, артикуляцию в пен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Формировать эмоционально - эстетическое восприятие окружающего мира через пе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Развивать у дошкольников творческое начало, поощрять самостоятельность, инициативу и импровизационные способности в пен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8856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руктура занятий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. Артикуляционная гимнастик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Совершенствовать дикцию, артикуляцию, помогать правильно и чисто проговаривать трудно произносимые слова, фразы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Интонационно – фонетические упражнения (Емельянов В. В.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Упражнения на дых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Укреплять лёгкие и голосовой аппарат дошкольников, формировать правильное дыхани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Основная часть - вокально-хоровая работ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1. Распевани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2. Пальчиковые и подвижные игры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3. Работа над песне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3.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Знакомство с песней (1 – 2 занятия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3.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Прослушивани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3.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Беседа, разъяснение текст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3.4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Повторное исполнени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4. Разучивание песни (3 – 4 занятия)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4.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бота над звукообразование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4.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бота над звуковедение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4.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бота над дыхание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4.4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бота над ансамбле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4.5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бота над дикцие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5. Закрепление (1 – 2 занятия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5.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бота над выразительностью и эмоциональным исполнением песн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иды контроля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дварительный контрол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выявление исходного уровня подготовки воспитанников (собеседование, прослушивание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екущий контрол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степень усвоения, подготовленность, заинтересован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тоговый контрол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определение степени достижения результатов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амоконтрол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самодисциплина, ответствен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856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анируемый результа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личие интереса к вокальному искусству; стремление к вокально-творческому самовыражению (пение соло, ансамблем, участие в концертах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ладение некоторыми основами нотной грамоты, использование голосового аппара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роявление навыков вокально-хоровой деятельности (вовремя начинать и заканчивать пение, правильно вступать, умение петь по фразам, слушать паузы, правильно выполнять музыкальные, вокальные ударения, четко и ясно произносить слова – артикулировать при исполнении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64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еть двигаться под музыку,  не бояться сцены, культура поведения на сцен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тремление передавать характер песни, умение исполнять легато, правильно распределять дыхание во фразе, уметь делать кульминацию во фразе, усовершенствовать свой голос;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ение исполнять  длительности и ритмические рисунки (ноты с точкой, пунктирный ритм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ение петь под фонограмму с различным аккомпанементом, умение владеть своим голосом и дыхание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оспитание и развитие одаренных и талантливых детей является важнейшим условием формирования творческого потенциала общества, развития науки и культуры, всех областей производства и социальной жизн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3256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ля развития и реализации творческого потенциала детей с выраженной музыкальностью необходимо создать следующие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едагогические условия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разработать метод выявления детей с выраженной музыкальность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существлять дифференцированный подход в процессе музыкального воспита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рганизовать кружковую и индивидуальную работу с детьми с выраженной музыкальность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6456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пособствовать обогащению предметно развивающей среды, в которой протекает процесс музыкального воспитания дет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рганизовать работу с родителями детей с выраженной музыкальностью, вовлечь их в процесс музыкального развития и воспитания детей, в качестве активных участников и партнер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бор метода выявления детей с выраженной музыкальностью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бор методов и приёмов развития музыкальных способностей, а так же обеспечения реализации творческого потенциала таковых дет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ктуализация проблем одаренных детей перед другими участниками образовательного процесса – родителями и педагогами образовательного учрежде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64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узыкальность 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мпонент музыкальной одаренности, необходимый для занятия именно музыкальной деятельностью (любого ее вида), в отличие от всякой другой. Музыкальность объединяет в себе комплекс музыкальных способностей, требуемых для осуществления музыкальной деятельности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Музыкальные способности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Б. М. Теплов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ладовое чувство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музыкально слуховые         представления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чувство ритма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664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узыкальные способности у всех детей выявляются по – разному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ложно развиваются у детей музыкально – слуховые представления – способность воспроизводить мелодию голосом, точно ее интонируя, или подбирать ее по слуху на музыкальном инструменте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сутствие раннего проявления способностей не является показателем слабости или тем более отсутствия способностей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аблюдения за детьм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иагностика музыкальных способностей (ладовое чувство, музыкально – слуховые представления, чувство ритма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ланирование и учет работы по музыкальному воспитанию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ехнология педагогического наблюде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ъект – музыкальность дошкольни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ель – выявить детей с задатками музыкальнос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мет (единицы наблюдения)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ыраженное стремление к музыкальной деятельност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минирующие характеристики учебной и игровой деятельност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арактер общения и поведения на музыкальных занятиях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ровень развития творческих способносте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ровень развития музыкальных способносте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52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Формы работы с родителям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есед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прос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нсультаци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минар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аглядная информаци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азвлечения, концерт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оздание предметно – развивающей сред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15:06:09Z</dcterms:created>
  <dc:creator>USER</dc:creator>
  <dc:description/>
  <dc:language>en-US</dc:language>
  <cp:lastModifiedBy>Пользователь</cp:lastModifiedBy>
  <dcterms:modified xsi:type="dcterms:W3CDTF">2012-12-17T14:12:55Z</dcterms:modified>
  <cp:revision>4</cp:revision>
  <dc:subject/>
  <dc:title>Слайд 1</dc:title>
</cp:coreProperties>
</file>