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B58-3E94-44AC-B9FF-905E1A76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800-091D-4590-98B3-D71EAC86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40E-C9F8-4866-8103-6AB21D35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060-B646-4C57-ABF1-7B972BEF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8C9-01FC-40CC-A6A8-8E7F3903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958-C830-4BD3-B584-C3AA7996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A75-4A58-4440-A18F-DC9EA211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C506-3BA3-4A78-B844-B2DFF3F4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63F-75F1-4768-9A89-5D7424FF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9BA4-43B6-4709-8DDD-B1B1B689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FB1-69D2-4831-9B0F-F32C1BEF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4AA-D5E7-45B1-8B95-C49166B6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B464-242C-4AAB-933C-0EEFDFF9B2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ahoma"/>
                <a:ea typeface="Tahoma"/>
              </a:rPr>
              <a:t>WELCOME  TO  LOND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81360"/>
            <a:ext cx="64008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8208720" cy="381636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12000" y="404640"/>
            <a:ext cx="2674800" cy="603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76092"/>
                </a:solidFill>
                <a:latin typeface="Tahoma"/>
                <a:ea typeface="Tahoma"/>
              </a:rPr>
              <a:t>Big  B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5554800" cy="604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5543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579640" y="2697120"/>
            <a:ext cx="360360" cy="84240"/>
          </a:xfrm>
          <a:prstGeom prst="rect">
            <a:avLst/>
          </a:prstGeom>
          <a:noFill/>
          <a:ln w="0">
            <a:noFill/>
          </a:ln>
        </p:spPr>
        <p:txBody>
          <a:bodyPr tIns="38520" bIns="3852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41767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Tahoma"/>
                <a:ea typeface="Tahoma"/>
              </a:rPr>
              <a:t>London — the capital of the United Kingdom of Great Britain. </a:t>
            </a:r>
            <a:r>
              <a:rPr b="0" lang="en-US" sz="4800" spc="-1" strike="noStrike">
                <a:solidFill>
                  <a:srgbClr val="17375e"/>
                </a:solidFill>
                <a:latin typeface="Tahoma"/>
                <a:ea typeface="Tahoma"/>
              </a:rPr>
              <a:t>The largest city on the British Isl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716000" y="259920"/>
            <a:ext cx="3970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438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ahoma"/>
                <a:ea typeface="Tahoma"/>
              </a:rPr>
              <a:t>Historical and administrative center of London is </a:t>
            </a:r>
            <a:r>
              <a:rPr b="1" lang="en-US" sz="4400" spc="-1" strike="noStrike">
                <a:solidFill>
                  <a:srgbClr val="e46c0a"/>
                </a:solidFill>
                <a:latin typeface="Tahoma"/>
                <a:ea typeface="Tahoma"/>
              </a:rPr>
              <a:t>Westminst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76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24000" y="2271600"/>
            <a:ext cx="4319280" cy="4253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4643280" y="2255760"/>
            <a:ext cx="410544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b050"/>
                </a:solidFill>
                <a:latin typeface="Tahoma"/>
                <a:ea typeface="Tahoma"/>
              </a:rPr>
              <a:t>The business center— </a:t>
            </a:r>
            <a:r>
              <a:rPr b="1" lang="en-US" sz="6600" spc="-1" strike="noStrike">
                <a:solidFill>
                  <a:srgbClr val="e46c0a"/>
                </a:solidFill>
                <a:latin typeface="Tahoma"/>
                <a:ea typeface="Tahoma"/>
              </a:rPr>
              <a:t>City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34936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22280" y="2421000"/>
            <a:ext cx="4726080" cy="403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5148360" y="2421000"/>
            <a:ext cx="3527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c000"/>
                </a:solidFill>
                <a:latin typeface="Tahoma"/>
                <a:ea typeface="Tahoma"/>
              </a:rPr>
              <a:t>Main river of London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0c0"/>
                </a:solidFill>
                <a:latin typeface="Tahoma"/>
                <a:ea typeface="Tahoma"/>
              </a:rPr>
              <a:t>Buckingham Pala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305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Tahoma"/>
                <a:ea typeface="Tahoma"/>
              </a:rPr>
              <a:t>Changing the Guar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8392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351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  <a:ea typeface="Tahoma"/>
              </a:rPr>
              <a:t>The Houses of Parliament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парламент 9"/>
          <p:cNvPicPr/>
          <p:nvPr/>
        </p:nvPicPr>
        <p:blipFill>
          <a:blip r:embed="rId1"/>
          <a:stretch/>
        </p:blipFill>
        <p:spPr>
          <a:xfrm>
            <a:off x="395280" y="1052640"/>
            <a:ext cx="8209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20:13:27Z</dcterms:created>
  <dc:creator>Солнышко</dc:creator>
  <dc:description/>
  <dc:language>en-US</dc:language>
  <cp:lastModifiedBy>Надежда</cp:lastModifiedBy>
  <dcterms:modified xsi:type="dcterms:W3CDTF">2013-10-16T16:26:33Z</dcterms:modified>
  <cp:revision>15</cp:revision>
  <dc:subject/>
  <dc:title>WELCOME  TO  LONDON</dc:title>
</cp:coreProperties>
</file>