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861A-3B73-4D45-B42B-537EBDE4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5B25-0EC3-4107-8022-F43B870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D5B6-6A42-4DCC-B258-FAA4258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9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01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9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01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1223-1687-44CF-8322-DD613DBA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096-E270-4AD8-AC98-5A79D877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6268-4A7C-4570-A84C-6B897BA2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BD19-3079-4556-B16F-4E8C8DE4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7477-D894-4378-B428-040B1F5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773D-27DF-4A80-A937-87F88A21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4216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B604-6049-40FC-BB2C-1C009A25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2317-E6BB-4715-AC99-2680904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AA06-A829-4530-B7CC-3E06D7CE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06C5-C54D-4638-B978-BF99E20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C618-5BFC-4378-8E45-BC34DF7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40E3-FA97-4BF2-8B39-1D8B7DB0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899-1D9A-47B7-8672-4FD91B76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9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1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9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1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F79F-9D6D-4277-8A4F-54E97C30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67DA-7440-4BCF-A8FB-FE462E02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88F0-2DA1-45A6-9E42-FC1B3948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A874-6F02-406D-8614-A0C2634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4216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FBCA-7F62-4AF5-AB5E-19310B3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7968-D247-4EF7-8276-0EBADF9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228D-B4A8-4188-85D8-778214A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B169-8CDC-4566-86F2-0793272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1993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993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120"/>
            <a:ext cx="2103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C7823-63BE-4CC6-B01B-7B0F622978F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03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03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629E6E-C4E8-4CF9-BD7C-1AD7F4ED397D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25320" y="762120"/>
            <a:ext cx="7729560" cy="5211720"/>
          </a:xfrm>
          <a:custGeom>
            <a:avLst/>
            <a:gdLst>
              <a:gd name="textAreaLeft" fmla="*/ 614160 w 7729560"/>
              <a:gd name="textAreaRight" fmla="*/ 7115400 w 7729560"/>
              <a:gd name="textAreaTop" fmla="*/ 614160 h 5211720"/>
              <a:gd name="textAreaBottom" fmla="*/ 4597560 h 5211720"/>
            </a:gdLst>
            <a:ahLst/>
            <a:rect l="textAreaLeft" t="textAreaTop" r="textAreaRight" b="textAreaBottom"/>
            <a:pathLst>
              <a:path w="320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434" y="21600"/>
                </a:lnTo>
                <a:arcTo wR="3600" hR="3600" stAng="10800000" swAng="5400000"/>
                <a:lnTo>
                  <a:pt x="32034" y="3600"/>
                </a:lnTo>
                <a:arcTo wR="3600" hR="3600" stAng="5400000" swAng="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503360"/>
            <a:ext cx="7764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Этимологический анализ на уроках русского язы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53880" y="503280"/>
            <a:ext cx="8682120" cy="52243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7440" y="676440"/>
            <a:ext cx="3660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1640" y="1830240"/>
            <a:ext cx="8712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никюр (лат.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curare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заботитьс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84240" y="2581200"/>
            <a:ext cx="2448000" cy="1052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2581200"/>
            <a:ext cx="2581200" cy="90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835440"/>
            <a:ext cx="2175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ура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89520" y="3835440"/>
            <a:ext cx="3144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курат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52360" y="2130480"/>
            <a:ext cx="20656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Dec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лат.)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ся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08160" y="681120"/>
            <a:ext cx="1003320" cy="1495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008160" y="1658880"/>
            <a:ext cx="1152720" cy="768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08160" y="2757600"/>
            <a:ext cx="1128960" cy="127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8160" y="3008160"/>
            <a:ext cx="1078200" cy="2156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0040" y="376200"/>
            <a:ext cx="4251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10 дне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1560" y="1128600"/>
            <a:ext cx="49942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первонач.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сятник, старш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 10-ю солдат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и монахам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60880" y="3759120"/>
            <a:ext cx="2157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1560" y="4813200"/>
            <a:ext cx="4724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бр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десяты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1000" y="503280"/>
            <a:ext cx="8777160" cy="6191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06760" y="325440"/>
            <a:ext cx="3660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6440" y="2004840"/>
            <a:ext cx="82404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Древнем Риме до Юлия Цеза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 начинался с 1 мар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55280" y="3308400"/>
            <a:ext cx="893880" cy="70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809880"/>
            <a:ext cx="24829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нтяб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septem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3800" y="3182760"/>
            <a:ext cx="50760" cy="801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2160" y="4060800"/>
            <a:ext cx="3490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оctо-восемь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а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11680" y="3284640"/>
            <a:ext cx="952560" cy="70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4086360"/>
            <a:ext cx="3057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november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вяты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7040" y="2782800"/>
            <a:ext cx="4149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т (старослав.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г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11520" y="1508040"/>
            <a:ext cx="627120" cy="1144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3760920"/>
            <a:ext cx="652680" cy="952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3520" y="1052640"/>
            <a:ext cx="2863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ти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637160" y="3187440"/>
            <a:ext cx="726840" cy="66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64080" y="2882880"/>
            <a:ext cx="28195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щ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38720" y="4462560"/>
            <a:ext cx="228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ти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544680"/>
            <a:ext cx="7878960" cy="61498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55920" y="527040"/>
            <a:ext cx="3660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35400" y="1754280"/>
            <a:ext cx="1544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914640" y="2657520"/>
            <a:ext cx="66960" cy="70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440" y="3233880"/>
            <a:ext cx="71168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го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ервонач. - постоялый дво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оторо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навливали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язь и духовные лиц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3880" y="681120"/>
            <a:ext cx="6735960" cy="39193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456920"/>
            <a:ext cx="7761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рфограммы в этимологических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иставка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6840" y="21384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44560" y="1496880"/>
            <a:ext cx="7932600" cy="25574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1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Русскоязычные пристав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21384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6360" y="2957400"/>
            <a:ext cx="833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028880" y="590400"/>
            <a:ext cx="1104840" cy="2362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9320" y="1733040"/>
            <a:ext cx="1104840" cy="1333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371600" y="2647800"/>
            <a:ext cx="952560" cy="60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9760" y="339084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354348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7480" y="3733920"/>
            <a:ext cx="1001520" cy="135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3848040"/>
            <a:ext cx="582840" cy="1717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1760" y="95400"/>
            <a:ext cx="624852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ный — разносящийся на расстояние, где слышен удар гро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95440" y="1387440"/>
            <a:ext cx="671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уха — по обычаю плевать на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у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13000" y="2313000"/>
            <a:ext cx="5240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жать — почитать, как Б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90840" y="3089160"/>
            <a:ext cx="63388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в — участок суши, обтекаем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ями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5400" y="4054320"/>
            <a:ext cx="564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тный — умеющий спрят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лиш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49560" y="4925880"/>
            <a:ext cx="595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а — то, что спалило, обожг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4880" y="5524560"/>
            <a:ext cx="7943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ятельный — околдовывающий слов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ять-говорить; краснобай, баю-баю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2884320"/>
            <a:ext cx="5205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027160" y="624960"/>
            <a:ext cx="1292400" cy="1567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27400" y="1646280"/>
            <a:ext cx="1496880" cy="898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35280" y="3088800"/>
            <a:ext cx="1184400" cy="55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3959280"/>
            <a:ext cx="1089000" cy="666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7560" y="4368960"/>
            <a:ext cx="1347840" cy="1360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1120" y="830160"/>
            <a:ext cx="353880" cy="4857840"/>
          </a:xfrm>
          <a:custGeom>
            <a:avLst/>
            <a:gdLst>
              <a:gd name="textAreaLeft" fmla="*/ 0 w 353880"/>
              <a:gd name="textAreaRight" fmla="*/ 127800 w 353880"/>
              <a:gd name="textAreaTop" fmla="*/ 126360 h 4857840"/>
              <a:gd name="textAreaBottom" fmla="*/ 473148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4000" y="2911320"/>
            <a:ext cx="1527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тр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38440" y="681120"/>
            <a:ext cx="2840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ы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ы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1279440"/>
            <a:ext cx="3733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л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здон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ло — дно; дот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17880" y="2327400"/>
            <a:ext cx="32306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нятие, раб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ь -свобода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9600" y="4313160"/>
            <a:ext cx="61056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несохран. «бог»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атство,первонач. - бедны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2000" y="5427720"/>
            <a:ext cx="444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еч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«век» - си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— обладаю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сил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0160" y="1592280"/>
            <a:ext cx="7701120" cy="23670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5656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Непродуктивные пристав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2004840"/>
            <a:ext cx="8213760" cy="44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16120" y="1035000"/>
            <a:ext cx="7551720" cy="29257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Непроверяемые гласные в корне сло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44944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53880" y="3075120"/>
            <a:ext cx="722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020600" y="1019160"/>
            <a:ext cx="1428840" cy="2192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52560" y="3565440"/>
            <a:ext cx="1592280" cy="2557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70000" y="3375000"/>
            <a:ext cx="1401840" cy="41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170000" y="1822320"/>
            <a:ext cx="1265400" cy="1376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84400" y="2706480"/>
            <a:ext cx="1319040" cy="572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28600" y="348300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2000" y="3524400"/>
            <a:ext cx="1496880" cy="1645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4440" y="803160"/>
            <a:ext cx="5106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ки  (соткано из дня и но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84440" y="1550880"/>
            <a:ext cx="2936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атоха  (мя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84440" y="2449440"/>
            <a:ext cx="3484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ерки  (меркну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8280" y="3225960"/>
            <a:ext cx="3228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олока  (толоч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39880" y="3932280"/>
            <a:ext cx="3598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улый  (туловищ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71840" y="4843440"/>
            <a:ext cx="3622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рога  (дерга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5840" y="5824440"/>
            <a:ext cx="4417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гроб  (грести, сгреба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71680" y="3089160"/>
            <a:ext cx="72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211400" y="1455840"/>
            <a:ext cx="1197000" cy="1743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92400" y="2422080"/>
            <a:ext cx="1062000" cy="871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319040" y="3292200"/>
            <a:ext cx="1074960" cy="96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2400" y="3524400"/>
            <a:ext cx="1101600" cy="693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24000" y="3605040"/>
            <a:ext cx="1170000" cy="1768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49440" y="112860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94000" y="2054160"/>
            <a:ext cx="4079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пать  (лупи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22440" y="3006720"/>
            <a:ext cx="1938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75000" y="3851280"/>
            <a:ext cx="4441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ра  (нырять, но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5400" y="5062680"/>
            <a:ext cx="5505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ок (примык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улиц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44560" y="1658880"/>
            <a:ext cx="7551720" cy="18781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5476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Заимствованные пристав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6840" y="1960200"/>
            <a:ext cx="82119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9280" y="3116160"/>
            <a:ext cx="76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65400" y="681120"/>
            <a:ext cx="517320" cy="5497560"/>
          </a:xfrm>
          <a:custGeom>
            <a:avLst/>
            <a:gdLst>
              <a:gd name="textAreaLeft" fmla="*/ 0 w 517320"/>
              <a:gd name="textAreaRight" fmla="*/ 186840 w 517320"/>
              <a:gd name="textAreaTop" fmla="*/ 143280 h 5497560"/>
              <a:gd name="textAreaBottom" fmla="*/ 5354280 h 549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46160" y="2979720"/>
            <a:ext cx="1535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9120" y="449280"/>
            <a:ext cx="4976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из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лат.viso -смотре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25960" y="1430280"/>
            <a:ext cx="22017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ьв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1389240"/>
            <a:ext cx="271440" cy="1006200"/>
          </a:xfrm>
          <a:custGeom>
            <a:avLst/>
            <a:gdLst>
              <a:gd name="textAreaLeft" fmla="*/ 0 w 271440"/>
              <a:gd name="textAreaRight" fmla="*/ 97920 w 27144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8400" y="1619280"/>
            <a:ext cx="2860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т.volvo-кат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79920" y="2544840"/>
            <a:ext cx="5464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пре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pressum-дави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са, депрессия (де- «вниз»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565440"/>
            <a:ext cx="4411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л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лат.clamo-з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943440" y="4286160"/>
            <a:ext cx="42624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мо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фр.monter-собира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таж, мон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50880" y="5497560"/>
            <a:ext cx="7742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петиция, респиратор,реформа,рециди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инкарнация,репатри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232000" y="739800"/>
            <a:ext cx="966960" cy="2263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49440" y="1936440"/>
            <a:ext cx="857160" cy="10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43160" y="2887200"/>
            <a:ext cx="612720" cy="319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0560" y="3360600"/>
            <a:ext cx="598320" cy="476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76440" y="3946680"/>
            <a:ext cx="1020960" cy="734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78000" y="3905280"/>
            <a:ext cx="1184400" cy="1700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880" y="2300400"/>
            <a:ext cx="13147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ат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6680" y="1401840"/>
            <a:ext cx="2173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97160" y="2708280"/>
            <a:ext cx="2658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льв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149720"/>
            <a:ext cx="5405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град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ервонач.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чинов, разжал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дус — шаг, ступен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265400" y="1719000"/>
            <a:ext cx="1509480" cy="671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646280" y="2982960"/>
            <a:ext cx="1538280" cy="33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3280" y="3673440"/>
            <a:ext cx="130644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3600" y="1496880"/>
            <a:ext cx="7510680" cy="18241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500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Н и НН в прилагательны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27000"/>
            <a:ext cx="8207280" cy="44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-252360" y="260280"/>
            <a:ext cx="9947160" cy="619308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38400" y="907920"/>
            <a:ext cx="79056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из другой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ым, надуть, наду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очи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инить пер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тала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лан (тюркск.) - успех, добы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ред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осредство (серед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положение;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ли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инный (подлинники — дли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ки, используемые при допрос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линная правда — добытая путем пы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не перемен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това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бетовать-обещать; обет, прив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, навет, ве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ыска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изыск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я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каяти (старослав.)-проклясть, осуди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яться — проклинать, осуждать себя; ка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86680" y="5497560"/>
            <a:ext cx="95040" cy="217440"/>
          </a:xfrm>
          <a:custGeom>
            <a:avLst/>
            <a:gdLst>
              <a:gd name="textAreaLeft" fmla="*/ 0 w 95040"/>
              <a:gd name="textAreaRight" fmla="*/ 34200 w 95040"/>
              <a:gd name="textAreaTop" fmla="*/ 16920 h 217440"/>
              <a:gd name="textAreaBottom" fmla="*/ 20052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-5400"/>
                </a:lnTo>
                <a:cubicBezTo>
                  <a:pt x="10800" y="-2700"/>
                  <a:pt x="16200" y="0"/>
                  <a:pt x="21600" y="0"/>
                </a:cubicBezTo>
                <a:cubicBezTo>
                  <a:pt x="16200" y="0"/>
                  <a:pt x="10800" y="2700"/>
                  <a:pt x="10800" y="54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50880" y="1592280"/>
            <a:ext cx="6137280" cy="2408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4120" y="2068560"/>
            <a:ext cx="56102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ксического 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53880" y="720720"/>
            <a:ext cx="8450280" cy="5715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0680" y="844560"/>
            <a:ext cx="86533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мит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выйти из 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ва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ующий цепи (ков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з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холодный (мерзну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ш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ойти с лошади (стать пеши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ь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горячий (горе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стер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одежда гимн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258840"/>
            <a:ext cx="8382240" cy="63943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7680" y="441360"/>
            <a:ext cx="883116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вид, зрелище (зреть, зр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ъедобный (е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обманщик (вр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одя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юноша, негодный к служ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годит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выходной день (можно нич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елать; понедельник - первый д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«неде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11280" y="2286000"/>
            <a:ext cx="246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84560" y="1222200"/>
            <a:ext cx="842760" cy="1230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9280" y="1062000"/>
            <a:ext cx="1311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294000" y="1793880"/>
            <a:ext cx="993960" cy="712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0160" y="1619280"/>
            <a:ext cx="1500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06600" y="2432160"/>
            <a:ext cx="1143000" cy="155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6600" y="2217600"/>
            <a:ext cx="1549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2612880"/>
            <a:ext cx="1116000" cy="435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2857680"/>
            <a:ext cx="1276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38560" y="2708280"/>
            <a:ext cx="1047600" cy="952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7560" y="3497400"/>
            <a:ext cx="1590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ь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84560" y="2843280"/>
            <a:ext cx="789120" cy="1387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54320" y="4054320"/>
            <a:ext cx="170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98560" y="1604880"/>
            <a:ext cx="6708600" cy="3443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2720880"/>
            <a:ext cx="6035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ческие процесс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русском язы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11280" y="1824120"/>
            <a:ext cx="6680160" cy="27622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41560" y="2408400"/>
            <a:ext cx="6094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лушение, озвонче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репленные на пись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925560"/>
            <a:ext cx="1148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507680" y="1251000"/>
            <a:ext cx="577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14720" y="925560"/>
            <a:ext cx="6642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 (чужой) — нечто чужо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 непонятное, бессмысле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639880"/>
            <a:ext cx="8613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идно н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 (тропы, дороги)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га; стёжка, стезя, застегн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599000"/>
            <a:ext cx="5753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вый (подобный дерев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148080" y="4871880"/>
            <a:ext cx="468360" cy="27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75480" y="4367160"/>
            <a:ext cx="2468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dorv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щесла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20720" y="925560"/>
            <a:ext cx="1263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14120" y="1252440"/>
            <a:ext cx="7146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30680" y="911160"/>
            <a:ext cx="4956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этот) + де (суффикс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190600"/>
            <a:ext cx="14382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2037960" y="2500200"/>
            <a:ext cx="646200" cy="2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57680" y="2217600"/>
            <a:ext cx="5494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а (бучать — жужж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деть; бык, букаш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" y="3741840"/>
            <a:ext cx="175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2431800" y="4079520"/>
            <a:ext cx="592200" cy="19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84560" y="3755880"/>
            <a:ext cx="4780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ъхлый (задохну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38280" y="2122560"/>
            <a:ext cx="6408720" cy="24620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51120" y="2598840"/>
            <a:ext cx="5454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атез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ерестановка слогов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03280" y="1469880"/>
            <a:ext cx="22622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тр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637000" y="1741320"/>
            <a:ext cx="428400" cy="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1414440"/>
            <a:ext cx="2365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рожь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5194440" y="1738080"/>
            <a:ext cx="550800" cy="20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02400" y="1401840"/>
            <a:ext cx="2338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ожь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767720" y="1714680"/>
            <a:ext cx="441360" cy="12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00600" y="1917720"/>
            <a:ext cx="1476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6720" y="2979720"/>
            <a:ext cx="166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378160" y="3317400"/>
            <a:ext cx="387360" cy="19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43280" y="3006720"/>
            <a:ext cx="1542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до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36560" y="3321000"/>
            <a:ext cx="4827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30840" y="2979720"/>
            <a:ext cx="1542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о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323040" y="3265560"/>
            <a:ext cx="4017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08600" y="2925720"/>
            <a:ext cx="1903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 (ни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3646440"/>
            <a:ext cx="768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лина, подол, преодолеть, Подольс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8280" y="4584600"/>
            <a:ext cx="20113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ды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378160" y="4898880"/>
            <a:ext cx="441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30680" y="4559400"/>
            <a:ext cx="1547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ды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336920" y="4871880"/>
            <a:ext cx="401760" cy="12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0" y="4503600"/>
            <a:ext cx="4136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ыга (щиколот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ножь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6881400" y="5289480"/>
            <a:ext cx="523800" cy="2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70720" y="4979880"/>
            <a:ext cx="1673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5792760"/>
            <a:ext cx="2286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ды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392200" y="6110280"/>
            <a:ext cx="5097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52720" y="5796000"/>
            <a:ext cx="1828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лы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731840" y="6095880"/>
            <a:ext cx="4971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19720" y="5769000"/>
            <a:ext cx="13032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85720" y="571680"/>
            <a:ext cx="8069400" cy="54021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59880"/>
            <a:ext cx="777096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Это интересн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934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локурый (исконно русское), буквально — словно покрытый белой пылью, кур — пы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лобрысый (вост.-слав.), исходное значение — белобровый, бры - бр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664000"/>
            <a:ext cx="2892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асла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19320" y="1530360"/>
            <a:ext cx="1244520" cy="1311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57520" y="952560"/>
            <a:ext cx="96235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верд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ная земл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54320" y="2873520"/>
            <a:ext cx="1982880" cy="396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3240" y="2664000"/>
            <a:ext cx="3975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а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ат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7080" y="3732120"/>
            <a:ext cx="1963800" cy="544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21040" y="3868560"/>
            <a:ext cx="1496880" cy="171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57720" y="4121280"/>
            <a:ext cx="2328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ёр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13040" y="5189400"/>
            <a:ext cx="4959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риарха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сть матер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1440" y="339840"/>
            <a:ext cx="8272440" cy="55512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178920"/>
            <a:ext cx="7766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Это интересн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41280" y="1571400"/>
            <a:ext cx="82231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атриархат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букв. власть отца (греч. - pater — от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атриарх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глава церкв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атриот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любящий землю отц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епатри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овращение на родину военнопленных, бежен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0" algn="ctr">
              <a:spcBef>
                <a:spcPts val="799"/>
              </a:spcBef>
              <a:buNone/>
              <a:tabLst>
                <a:tab algn="l" pos="0"/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1360" y="2760840"/>
            <a:ext cx="24685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щесла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38600" y="1533600"/>
            <a:ext cx="893520" cy="14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97280" y="2328840"/>
            <a:ext cx="1711080" cy="822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7280" y="3227400"/>
            <a:ext cx="1846080" cy="369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49840" y="816120"/>
            <a:ext cx="3490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жженный зна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65600" y="2138400"/>
            <a:ext cx="3208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печат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2935440"/>
            <a:ext cx="3425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а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что жж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38600" y="3362400"/>
            <a:ext cx="1885680" cy="145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9800" y="4373640"/>
            <a:ext cx="373572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щ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хожая на печ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9840" y="395280"/>
            <a:ext cx="8327880" cy="5497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22360"/>
            <a:ext cx="776448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Это интересн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49520"/>
            <a:ext cx="82216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евнерусское ПЕКА (жар, зной) получи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в ПЕЧА (забота), отсюда — БЕСПЕЧНЫЙ, ОПЕКА, ОПЕКУН,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0840" y="2255760"/>
            <a:ext cx="178272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Ma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лат.)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55880" y="306000"/>
            <a:ext cx="826920" cy="1569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004840" y="1835280"/>
            <a:ext cx="952560" cy="591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030400" y="2410920"/>
            <a:ext cx="927000" cy="1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5960" y="2782800"/>
            <a:ext cx="901440" cy="376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5960" y="2957400"/>
            <a:ext cx="877680" cy="801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4840" y="3208320"/>
            <a:ext cx="903600" cy="1177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610080"/>
            <a:ext cx="878040" cy="170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04840" y="1233360"/>
            <a:ext cx="952560" cy="968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55880" y="3809880"/>
            <a:ext cx="1077840" cy="2557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6560" y="0"/>
            <a:ext cx="461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е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овкие при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ке лошад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32200" y="1052640"/>
            <a:ext cx="5683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укв.  ловкость ру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83040" y="1579680"/>
            <a:ext cx="189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ж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7480" y="2055960"/>
            <a:ext cx="1674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ев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7480" y="2782800"/>
            <a:ext cx="1997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икю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57400" y="3510000"/>
            <a:ext cx="4530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уаль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рап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32200" y="4086360"/>
            <a:ext cx="5338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уфа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сделанное рук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5038560"/>
            <a:ext cx="6300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ускрип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укв. - написанное ру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2960" y="6116760"/>
            <a:ext cx="6003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да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данный на рук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5:00:42Z</dcterms:created>
  <dc:creator>1</dc:creator>
  <dc:description/>
  <dc:language>en-US</dc:language>
  <cp:lastModifiedBy>1</cp:lastModifiedBy>
  <dcterms:modified xsi:type="dcterms:W3CDTF">2011-08-21T14:17:28Z</dcterms:modified>
  <cp:revision>14</cp:revision>
  <dc:subject/>
  <dc:title>Причастие</dc:title>
</cp:coreProperties>
</file>