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38FB-4580-4E16-BFA3-3C76B6C2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1993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53160"/>
            <a:ext cx="81993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8B31D-6554-41A0-984E-0C451773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5316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8760" y="395316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98B8-4A6F-4CF0-84CB-555E6E69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29560" y="160452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01560" y="160452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5316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29560" y="395316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01560" y="395316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ADC0-2809-4B01-AAE9-E67626FD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27E3-6EFB-402F-80AD-AB2AD7A5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1993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7519-BBC3-45D4-8E6C-8AFFB579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1993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CF5F-A078-4C69-BE20-8EC59834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FC6F-42F4-4DB8-80B7-4E2E188E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454C-A0F8-4B22-B016-920FD364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42160" cy="83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4075-1143-4B3F-9C51-F31FC92A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5316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7906-3867-4BFE-A532-5C69A0EC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1993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CECA-28A3-481C-BAD5-A61D90D9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8760" y="395316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377B-6735-44A6-B1BA-FC6BB109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53160"/>
            <a:ext cx="81993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5C85-6A40-4314-8A75-BC23EE1E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1993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53160"/>
            <a:ext cx="81993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1181-C646-4023-93BA-8328EE2E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5316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8760" y="395316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ABE9-83BA-42D6-B62F-02ED5D33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29560" y="160452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1560" y="160452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5316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29560" y="395316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1560" y="3953160"/>
            <a:ext cx="26398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6E53-72FE-40BC-92AD-56F2A522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1993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A666A-9284-41DF-B18F-2880F1A6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A3445-88BD-44BE-ACE4-CB26F0FE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752EA-A27E-4F8A-9BBA-73FC5AF5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42160" cy="83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A462-DCAE-4304-9D23-B1EF4E12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5316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AE67-9CF3-49B0-BCBC-991FFD5D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8760" y="395316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BC51-892A-49F2-8682-3B056BEF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8760" y="1604520"/>
            <a:ext cx="4001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53160"/>
            <a:ext cx="81993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DE41-09DE-4E4C-A78C-27E1A47D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b19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70707"/>
                </a:gs>
                <a:gs pos="50000">
                  <a:srgbClr val="000000"/>
                </a:gs>
                <a:gs pos="100000">
                  <a:srgbClr val="07070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19936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9936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65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120"/>
            <a:ext cx="21034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1A992-8081-4109-9A9A-62FD554B94D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03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b19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70707"/>
                </a:gs>
                <a:gs pos="50000">
                  <a:srgbClr val="000000"/>
                </a:gs>
                <a:gs pos="100000">
                  <a:srgbClr val="07070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4216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120"/>
            <a:ext cx="21034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65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120"/>
            <a:ext cx="21034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8C49F4-3BE8-4815-9102-FD99AF24DF3B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1993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25320" y="762120"/>
            <a:ext cx="7729560" cy="5211720"/>
          </a:xfrm>
          <a:custGeom>
            <a:avLst/>
            <a:gdLst>
              <a:gd name="textAreaLeft" fmla="*/ 614160 w 7729560"/>
              <a:gd name="textAreaRight" fmla="*/ 7115400 w 7729560"/>
              <a:gd name="textAreaTop" fmla="*/ 614160 h 5211720"/>
              <a:gd name="textAreaBottom" fmla="*/ 4597560 h 5211720"/>
            </a:gdLst>
            <a:ahLst/>
            <a:rect l="textAreaLeft" t="textAreaTop" r="textAreaRight" b="textAreaBottom"/>
            <a:pathLst>
              <a:path w="3203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8434" y="21600"/>
                </a:lnTo>
                <a:arcTo wR="3600" hR="3600" stAng="10800000" swAng="5400000"/>
                <a:lnTo>
                  <a:pt x="32034" y="3600"/>
                </a:lnTo>
                <a:arcTo wR="3600" hR="3600" stAng="5400000" swAng="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503360"/>
            <a:ext cx="77644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Tahoma"/>
              </a:rPr>
              <a:t>Этимологический анализ на уроках русского язы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53880" y="503280"/>
            <a:ext cx="8682120" cy="52243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7440" y="676440"/>
            <a:ext cx="3660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1640" y="1830240"/>
            <a:ext cx="87123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никюр (лат. -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curare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заботиться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884240" y="2581200"/>
            <a:ext cx="2448000" cy="1052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88000" y="2581200"/>
            <a:ext cx="2581200" cy="903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27000" y="3835440"/>
            <a:ext cx="2175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урат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89520" y="3835440"/>
            <a:ext cx="31449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куратн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52360" y="2130480"/>
            <a:ext cx="206568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Dec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лат.)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сят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008160" y="681120"/>
            <a:ext cx="1003320" cy="1495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008160" y="1658880"/>
            <a:ext cx="1152720" cy="768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08160" y="2757600"/>
            <a:ext cx="1128960" cy="1278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08160" y="3008160"/>
            <a:ext cx="1078200" cy="21560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10040" y="376200"/>
            <a:ext cx="42512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ка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10 дней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11560" y="1128600"/>
            <a:ext cx="499428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ка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первонач.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сятник, старш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 10-ю солдат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ли монахами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60880" y="3759120"/>
            <a:ext cx="21574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кан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11560" y="4813200"/>
            <a:ext cx="4724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кабр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десятый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1000" y="503280"/>
            <a:ext cx="8777160" cy="6191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06760" y="325440"/>
            <a:ext cx="36608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6440" y="2004840"/>
            <a:ext cx="824040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Древнем Риме до Юлия Цезар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д начинался с 1 мар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55280" y="3308400"/>
            <a:ext cx="893880" cy="701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809880"/>
            <a:ext cx="24829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нтябр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septem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мь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3800" y="3182760"/>
            <a:ext cx="50760" cy="801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2160" y="4060800"/>
            <a:ext cx="3490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тябр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оctо-восемь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ктав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11680" y="3284640"/>
            <a:ext cx="952560" cy="701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4086360"/>
            <a:ext cx="30574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ябр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november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вятый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27040" y="2782800"/>
            <a:ext cx="4149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ет (старослав.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 г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511520" y="1508040"/>
            <a:ext cx="627120" cy="1144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37000" y="3760920"/>
            <a:ext cx="652680" cy="952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13520" y="1052640"/>
            <a:ext cx="2863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етит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637160" y="3187440"/>
            <a:ext cx="726840" cy="66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64080" y="2882880"/>
            <a:ext cx="28195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ещ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38720" y="4462560"/>
            <a:ext cx="2286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ети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544680"/>
            <a:ext cx="7878960" cy="61498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55920" y="527040"/>
            <a:ext cx="36608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35400" y="1754280"/>
            <a:ext cx="1544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914640" y="2657520"/>
            <a:ext cx="66960" cy="701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5440" y="3233880"/>
            <a:ext cx="71168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гос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ервонач. - постоялый двор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котором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танавливалис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нязь и духовные лиц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23880" y="681120"/>
            <a:ext cx="6735960" cy="391932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456920"/>
            <a:ext cx="7761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рфограммы в этимологических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иставка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6840" y="2138400"/>
            <a:ext cx="8218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844560" y="1496880"/>
            <a:ext cx="7932600" cy="255744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6124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Русскоязычные пристав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2138400"/>
            <a:ext cx="8218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76360" y="2957400"/>
            <a:ext cx="833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028880" y="590400"/>
            <a:ext cx="1104840" cy="2362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219320" y="1733040"/>
            <a:ext cx="1104840" cy="1333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371600" y="2647800"/>
            <a:ext cx="952560" cy="609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09760" y="339084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3543480"/>
            <a:ext cx="914400" cy="761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7480" y="3733920"/>
            <a:ext cx="1001520" cy="1355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04840" y="3848040"/>
            <a:ext cx="582840" cy="1717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01760" y="95400"/>
            <a:ext cx="624852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омный — разносящийся на расстояние, где слышен удар гро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95440" y="1387440"/>
            <a:ext cx="67104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уха — по обычаю плевать на ру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у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13000" y="2313000"/>
            <a:ext cx="5240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жать — почитать, как Бо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90840" y="3089160"/>
            <a:ext cx="633888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в — участок суши, обтекаем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ями 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35400" y="4054320"/>
            <a:ext cx="56466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тный — умеющий спрята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лишн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49560" y="4925880"/>
            <a:ext cx="595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ла — то, что спалило, обожг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04880" y="5524560"/>
            <a:ext cx="7943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ятельный — околдовывающий слова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ять-говорить; краснобай, баю-баю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95280" y="2884320"/>
            <a:ext cx="5205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027160" y="624960"/>
            <a:ext cx="1292400" cy="1567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327400" y="1646280"/>
            <a:ext cx="1496880" cy="898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735280" y="3088800"/>
            <a:ext cx="1184400" cy="55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0" y="3959280"/>
            <a:ext cx="1089000" cy="666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87560" y="4368960"/>
            <a:ext cx="1347840" cy="1360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1120" y="830160"/>
            <a:ext cx="353880" cy="4857840"/>
          </a:xfrm>
          <a:custGeom>
            <a:avLst/>
            <a:gdLst>
              <a:gd name="textAreaLeft" fmla="*/ 0 w 353880"/>
              <a:gd name="textAreaRight" fmla="*/ 127800 w 353880"/>
              <a:gd name="textAreaTop" fmla="*/ 126360 h 4857840"/>
              <a:gd name="textAreaBottom" fmla="*/ 4731480 h 485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24000" y="2911320"/>
            <a:ext cx="1527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тр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38440" y="681120"/>
            <a:ext cx="2840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быт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быт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1279440"/>
            <a:ext cx="3733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тл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бездонны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ло — дно; дотл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17880" y="2327400"/>
            <a:ext cx="323064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жн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занятие, рабо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здь -свобода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зд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9600" y="4313160"/>
            <a:ext cx="610560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бог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несохран. «бог»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гатство,первонач. - бедны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02000" y="5427720"/>
            <a:ext cx="4449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ечь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«век» - си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— обладающ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й сил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30160" y="1592280"/>
            <a:ext cx="7701120" cy="23670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598400"/>
            <a:ext cx="7756560" cy="18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Непродуктивные пристав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2004840"/>
            <a:ext cx="8213760" cy="44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16120" y="1035000"/>
            <a:ext cx="7551720" cy="292572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5412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Непроверяемые гласные в корне сло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449440"/>
            <a:ext cx="8229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53880" y="3075120"/>
            <a:ext cx="7225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020600" y="1019160"/>
            <a:ext cx="1428840" cy="2192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52560" y="3565440"/>
            <a:ext cx="1592280" cy="2557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70000" y="3375000"/>
            <a:ext cx="1401840" cy="41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170000" y="1822320"/>
            <a:ext cx="1265400" cy="1376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184400" y="2706480"/>
            <a:ext cx="1319040" cy="572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28600" y="3483000"/>
            <a:ext cx="144144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62000" y="3524400"/>
            <a:ext cx="1496880" cy="1645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84440" y="803160"/>
            <a:ext cx="51069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тки  (соткано из дня и ноч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84440" y="1550880"/>
            <a:ext cx="2936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атоха  (мят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84440" y="2449440"/>
            <a:ext cx="3484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ерки  (меркнут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08280" y="3225960"/>
            <a:ext cx="32288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толока  (толоч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39880" y="3932280"/>
            <a:ext cx="3598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тулый  (туловищ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71840" y="4843440"/>
            <a:ext cx="36226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дорога  (дергат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5840" y="5824440"/>
            <a:ext cx="4417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гроб  (грести, сгребат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71680" y="3089160"/>
            <a:ext cx="720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211400" y="1455840"/>
            <a:ext cx="1197000" cy="1743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292400" y="2422080"/>
            <a:ext cx="1062000" cy="871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319040" y="3292200"/>
            <a:ext cx="1074960" cy="96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2400" y="3524400"/>
            <a:ext cx="1101600" cy="693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24000" y="3605040"/>
            <a:ext cx="1170000" cy="1768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49440" y="1128600"/>
            <a:ext cx="1943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л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94000" y="2054160"/>
            <a:ext cx="4079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пать  (лупитьс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22440" y="3006720"/>
            <a:ext cx="1938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75000" y="3851280"/>
            <a:ext cx="44416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ра  (нырять, нор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35400" y="5062680"/>
            <a:ext cx="5505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ок (примык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улиц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844560" y="1658880"/>
            <a:ext cx="7551720" cy="187812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98760"/>
            <a:ext cx="7754760" cy="18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Заимствованные пристав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6840" y="1960200"/>
            <a:ext cx="821196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49280" y="3116160"/>
            <a:ext cx="766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65400" y="681120"/>
            <a:ext cx="517320" cy="5497560"/>
          </a:xfrm>
          <a:custGeom>
            <a:avLst/>
            <a:gdLst>
              <a:gd name="textAreaLeft" fmla="*/ 0 w 517320"/>
              <a:gd name="textAreaRight" fmla="*/ 186840 w 517320"/>
              <a:gd name="textAreaTop" fmla="*/ 143280 h 5497560"/>
              <a:gd name="textAreaBottom" fmla="*/ 5354280 h 549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46160" y="2979720"/>
            <a:ext cx="15354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о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т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9120" y="449280"/>
            <a:ext cx="4976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из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лат.viso -смотре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виз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25960" y="1430280"/>
            <a:ext cx="22017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олю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ольв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92720" y="1389240"/>
            <a:ext cx="271440" cy="1006200"/>
          </a:xfrm>
          <a:custGeom>
            <a:avLst/>
            <a:gdLst>
              <a:gd name="textAreaLeft" fmla="*/ 0 w 271440"/>
              <a:gd name="textAreaRight" fmla="*/ 97920 w 271440"/>
              <a:gd name="textAreaTop" fmla="*/ 25920 h 1006200"/>
              <a:gd name="textAreaBottom" fmla="*/ 980280 h 100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8400" y="1619280"/>
            <a:ext cx="2860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т.volvo-кат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79920" y="2544840"/>
            <a:ext cx="54640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пресс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pressum-дави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сса, депрессия (де- «вниз»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14840" y="3565440"/>
            <a:ext cx="4411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кла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лат.clamo-з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943440" y="4286160"/>
            <a:ext cx="426240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мо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фр.monter-собира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таж, монт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50880" y="5497560"/>
            <a:ext cx="7742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петиция, респиратор,реформа,рециди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инкарнация,репатри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232000" y="739800"/>
            <a:ext cx="966960" cy="2263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449440" y="1936440"/>
            <a:ext cx="857160" cy="1066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143160" y="2887200"/>
            <a:ext cx="612720" cy="319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30560" y="3360600"/>
            <a:ext cx="598320" cy="476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76440" y="3946680"/>
            <a:ext cx="1020960" cy="734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78000" y="3905280"/>
            <a:ext cx="1184400" cy="1700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34880" y="2300400"/>
            <a:ext cx="131472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 —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з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лат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76680" y="1401840"/>
            <a:ext cx="2173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пресс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197160" y="2708280"/>
            <a:ext cx="2658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альв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84320" y="4149720"/>
            <a:ext cx="54057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градац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ервонач.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шение чинов, разжал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дус — шаг, ступен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265400" y="1719000"/>
            <a:ext cx="1509480" cy="671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646280" y="2982960"/>
            <a:ext cx="1538280" cy="33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73280" y="3673440"/>
            <a:ext cx="1306440" cy="76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993600" y="1496880"/>
            <a:ext cx="7510680" cy="182412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8400"/>
            <a:ext cx="775008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Н и НН в прилагательны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827000"/>
            <a:ext cx="8207280" cy="44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-252360" y="260280"/>
            <a:ext cx="9947160" cy="6193080"/>
          </a:xfrm>
          <a:prstGeom prst="vertic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38400" y="907920"/>
            <a:ext cx="79056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из другой ст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м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дым, надуть, надут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очи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чинить пер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тала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лан (тюркск.) - успех, добыч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редств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посредство (середи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ее положение; ср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ли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длинный (подлинники — дли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ки, используемые при допрос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линная правда — добытая путем пы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ем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не перемен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това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обетовать-обещать; обет, приве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, навет, веч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ыска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изыск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ая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окаяти (старослав.)-проклясть, осуди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яться — проклинать, осуждать себя; каз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286680" y="5497560"/>
            <a:ext cx="95040" cy="217440"/>
          </a:xfrm>
          <a:custGeom>
            <a:avLst/>
            <a:gdLst>
              <a:gd name="textAreaLeft" fmla="*/ 0 w 95040"/>
              <a:gd name="textAreaRight" fmla="*/ 34200 w 95040"/>
              <a:gd name="textAreaTop" fmla="*/ 16920 h 217440"/>
              <a:gd name="textAreaBottom" fmla="*/ 20052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-5400"/>
                </a:lnTo>
                <a:cubicBezTo>
                  <a:pt x="10800" y="-2700"/>
                  <a:pt x="16200" y="0"/>
                  <a:pt x="21600" y="0"/>
                </a:cubicBezTo>
                <a:cubicBezTo>
                  <a:pt x="16200" y="0"/>
                  <a:pt x="10800" y="2700"/>
                  <a:pt x="10800" y="54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550880" y="1592280"/>
            <a:ext cx="6137280" cy="24084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24120" y="2068560"/>
            <a:ext cx="56102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мен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ксического зна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53880" y="720720"/>
            <a:ext cx="8450280" cy="5715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0680" y="844560"/>
            <a:ext cx="86533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умить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выйти из 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вар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кующий цепи (кова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рз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холодный (мерзну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ш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сойти с лошади (стать пеши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ь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горячий (горе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мнастер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одежда гимна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0880" y="258840"/>
            <a:ext cx="8382240" cy="63943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7680" y="441360"/>
            <a:ext cx="8831160" cy="64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вид, зрелище (зреть, зре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съедобный (е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обманщик (вра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годя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юноша, негодный к служ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 годитс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де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выходной день (можно нич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делать; понедельник - первый ден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«недел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11280" y="2286000"/>
            <a:ext cx="246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184560" y="1222200"/>
            <a:ext cx="842760" cy="1230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9280" y="1062000"/>
            <a:ext cx="13111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294000" y="1793880"/>
            <a:ext cx="993960" cy="712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0160" y="1619280"/>
            <a:ext cx="15001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306600" y="2432160"/>
            <a:ext cx="1143000" cy="155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76600" y="2217600"/>
            <a:ext cx="1549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92560" y="2612880"/>
            <a:ext cx="1116000" cy="435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03600" y="2857680"/>
            <a:ext cx="1276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38560" y="2708280"/>
            <a:ext cx="1047600" cy="952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27560" y="3497400"/>
            <a:ext cx="1590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ьм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84560" y="2843280"/>
            <a:ext cx="789120" cy="1387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54320" y="4054320"/>
            <a:ext cx="17035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98560" y="1604880"/>
            <a:ext cx="6708600" cy="34434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2720880"/>
            <a:ext cx="60357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ческие процесс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русском язы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11280" y="1824120"/>
            <a:ext cx="6680160" cy="276228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41560" y="2408400"/>
            <a:ext cx="60944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глушение, озвонче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репленные на письм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0880" y="925560"/>
            <a:ext cx="1148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507680" y="1251000"/>
            <a:ext cx="5778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14720" y="925560"/>
            <a:ext cx="6642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ь (чужой) — нечто чужо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м непонятное, бессмысле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639880"/>
            <a:ext cx="8613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идно н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 (тропы, дороги);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 —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ьга; стёжка, стезя, застегну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4599000"/>
            <a:ext cx="5753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ровый (подобный дерев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148080" y="4871880"/>
            <a:ext cx="468360" cy="27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75480" y="4367160"/>
            <a:ext cx="24685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ъ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dorv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бщеслав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720720" y="925560"/>
            <a:ext cx="1263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914120" y="1252440"/>
            <a:ext cx="7146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30680" y="911160"/>
            <a:ext cx="49561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этот) + де (суффикс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2120" y="2190600"/>
            <a:ext cx="14382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2037960" y="2500200"/>
            <a:ext cx="646200" cy="2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57680" y="2217600"/>
            <a:ext cx="5494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а (бучать — жужжа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деть; бык, букаш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3720" y="3741840"/>
            <a:ext cx="1754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2431800" y="4079520"/>
            <a:ext cx="592200" cy="19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84560" y="3755880"/>
            <a:ext cx="47800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ъхлый (задохнутьс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538280" y="2122560"/>
            <a:ext cx="6408720" cy="246204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51120" y="2598840"/>
            <a:ext cx="5454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атез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ерестановка слогов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03280" y="1469880"/>
            <a:ext cx="22622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труш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2637000" y="1741320"/>
            <a:ext cx="428400" cy="14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1414440"/>
            <a:ext cx="2365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рожь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5194440" y="1738080"/>
            <a:ext cx="550800" cy="20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702400" y="1401840"/>
            <a:ext cx="23382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ожь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7767720" y="1714680"/>
            <a:ext cx="441360" cy="12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00600" y="1917720"/>
            <a:ext cx="1476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6720" y="2979720"/>
            <a:ext cx="1666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до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2378160" y="3317400"/>
            <a:ext cx="387360" cy="19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43280" y="3006720"/>
            <a:ext cx="1542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до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36560" y="3321000"/>
            <a:ext cx="4827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30840" y="2979720"/>
            <a:ext cx="1542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о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323040" y="3265560"/>
            <a:ext cx="4017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08600" y="2925720"/>
            <a:ext cx="19036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 (низ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3646440"/>
            <a:ext cx="7689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лина, подол, преодолеть, Подольс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8280" y="4584600"/>
            <a:ext cx="20113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дыж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378160" y="4898880"/>
            <a:ext cx="4413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30680" y="4559400"/>
            <a:ext cx="1547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ды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336920" y="4871880"/>
            <a:ext cx="401760" cy="12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0" y="4503600"/>
            <a:ext cx="4136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ыга (щиколот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ножь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6881400" y="5289480"/>
            <a:ext cx="523800" cy="2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470720" y="4979880"/>
            <a:ext cx="16732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5280" y="5792760"/>
            <a:ext cx="22860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ды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392200" y="6110280"/>
            <a:ext cx="5097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952720" y="5796000"/>
            <a:ext cx="1828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лыр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731840" y="6095880"/>
            <a:ext cx="4971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19720" y="5769000"/>
            <a:ext cx="13032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85720" y="571680"/>
            <a:ext cx="8069400" cy="54021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59880"/>
            <a:ext cx="7770960" cy="27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Это интересн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934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локурый (исконно русское), буквально — словно покрытый белой пылью, кур — пы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лобрысый (вост.-слав.), исходное значение — белобровый, бры - бров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664000"/>
            <a:ext cx="28926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аслав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119320" y="1530360"/>
            <a:ext cx="1244520" cy="1311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57520" y="952560"/>
            <a:ext cx="96235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ери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верда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жная земл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54320" y="2873520"/>
            <a:ext cx="1982880" cy="396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13240" y="2664000"/>
            <a:ext cx="39751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ериал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лат.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енны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7080" y="3732120"/>
            <a:ext cx="1963800" cy="544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21040" y="3868560"/>
            <a:ext cx="1496880" cy="171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57720" y="4121280"/>
            <a:ext cx="2328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ёры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13040" y="5189400"/>
            <a:ext cx="4959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риарха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укв.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сть матер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1440" y="339840"/>
            <a:ext cx="8272440" cy="55512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178920"/>
            <a:ext cx="77662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Это интересн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41280" y="1571400"/>
            <a:ext cx="8223120" cy="44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20760" indent="-320760" algn="ctr"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20760"/>
                <a:tab algn="l" pos="42552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атриархат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букв. власть отца (греч. - pater — оте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20760"/>
                <a:tab algn="l" pos="42552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атриарх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глава церкв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20760"/>
                <a:tab algn="l" pos="42552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атриот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любящий землю отц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0760" indent="-32076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20760"/>
                <a:tab algn="l" pos="42552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епатриац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вовращение на родину военнопленных, беженце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0760" indent="0" algn="ctr">
              <a:spcBef>
                <a:spcPts val="799"/>
              </a:spcBef>
              <a:buNone/>
              <a:tabLst>
                <a:tab algn="l" pos="0"/>
                <a:tab algn="l" pos="320760"/>
                <a:tab algn="l" pos="42552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41360" y="2760840"/>
            <a:ext cx="24685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ч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бщеслав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838600" y="1533600"/>
            <a:ext cx="893520" cy="1482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897280" y="2328840"/>
            <a:ext cx="1711080" cy="822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7280" y="3227400"/>
            <a:ext cx="1846080" cy="369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49840" y="816120"/>
            <a:ext cx="3490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ча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укв.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жженный зна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65600" y="2138400"/>
            <a:ext cx="3208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печат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2935440"/>
            <a:ext cx="34257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чал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укв.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что жже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38600" y="3362400"/>
            <a:ext cx="1885680" cy="145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9800" y="4373640"/>
            <a:ext cx="373572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щ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хожая на печ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39840" y="395280"/>
            <a:ext cx="8327880" cy="5497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22360"/>
            <a:ext cx="776448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ahoma"/>
              </a:rPr>
              <a:t>Это интересн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649520"/>
            <a:ext cx="822168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евнерусское ПЕКА (жар, зной) получи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в ПЕЧА (забота), отсюда — БЕСПЕЧНЫЙ, ОПЕКА, ОПЕКУН, ОБЕСП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f7546"/>
            </a:gs>
            <a:gs pos="5000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0840" y="2255760"/>
            <a:ext cx="178272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Ma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лат.)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у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955880" y="306000"/>
            <a:ext cx="826920" cy="1569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004840" y="1835280"/>
            <a:ext cx="952560" cy="591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030400" y="2410920"/>
            <a:ext cx="927000" cy="166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5960" y="2782800"/>
            <a:ext cx="901440" cy="376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5960" y="2957400"/>
            <a:ext cx="877680" cy="801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4840" y="3208320"/>
            <a:ext cx="903600" cy="1177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3610080"/>
            <a:ext cx="878040" cy="1704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04840" y="1233360"/>
            <a:ext cx="952560" cy="968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55880" y="3809880"/>
            <a:ext cx="1077840" cy="2557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06560" y="0"/>
            <a:ext cx="46101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е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ловкие при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ыездке лошад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32200" y="1052640"/>
            <a:ext cx="5683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букв.  ловкость ру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83040" y="1579680"/>
            <a:ext cx="1892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ж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7480" y="2055960"/>
            <a:ext cx="1674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ев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7480" y="2782800"/>
            <a:ext cx="1997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икю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57400" y="3510000"/>
            <a:ext cx="45309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уальн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рап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32200" y="4086360"/>
            <a:ext cx="5338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уфак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укв. - сделанное рука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5038560"/>
            <a:ext cx="6300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ускрип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букв. - написанное ру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2960" y="6116760"/>
            <a:ext cx="6003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нда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укв. данный на рук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5:00:42Z</dcterms:created>
  <dc:creator>1</dc:creator>
  <dc:description/>
  <dc:language>en-US</dc:language>
  <cp:lastModifiedBy>1</cp:lastModifiedBy>
  <dcterms:modified xsi:type="dcterms:W3CDTF">2011-08-21T14:17:28Z</dcterms:modified>
  <cp:revision>14</cp:revision>
  <dc:subject/>
  <dc:title>Причастие</dc:title>
</cp:coreProperties>
</file>