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03F-AF22-4DC8-BBCB-E4443D45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37D-E488-445A-939D-4D0ADC3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134-3C28-4EEF-B97B-44260D99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9A9-77D2-4B17-9B4D-5844411F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14F-A5D1-4EDC-9FEF-8355E9C0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894-09CF-4DE1-B1C6-3FBAE3D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128-3639-4468-B0D5-349AD63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8AB-55EA-452E-9414-490E1DE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3A8-EB4E-4416-8977-D5208532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EB2-96CF-42A9-8B6D-0DC6109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213-3A05-4E2C-9FDE-B31E9F8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D13-09C5-42CF-A735-F312442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10D-D67A-4A1A-BC81-AA468D4EF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mailto:schl_5@mail.ru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\Desktop\лист для заполнения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28600" y="228600"/>
            <a:ext cx="575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38120" y="311040"/>
            <a:ext cx="6048360" cy="309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80880" y="2632680"/>
            <a:ext cx="624852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ОЛ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Питайся прави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Не забывай, что витамины – это наши друз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Пей только чистую в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Делай каждое утро заряд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Чисти зубы два раза в д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Скажи «НЕТ» вредным привычк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Не забывай о мозгов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По возможности откажись от таблет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Помни, что свежий воздух – лучший друг здоров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Не злоупотребляй просмотром телевизора и компьютерными игр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Береги нервную сис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Соблюдай режим дня (здоровый сон необходим растущему организм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5426"/>
                </a:solidFill>
                <a:uFillTx/>
                <a:latin typeface="Arial"/>
                <a:ea typeface="Times New Roman"/>
              </a:rPr>
              <a:t>ПОМНИ: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«Движение –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мпонент здорового образа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hotos0-800x600"/>
          <p:cNvPicPr/>
          <p:nvPr/>
        </p:nvPicPr>
        <p:blipFill>
          <a:blip r:embed="rId3"/>
          <a:srcRect l="27547" t="24588" r="23190" b="13119"/>
          <a:stretch/>
        </p:blipFill>
        <p:spPr>
          <a:xfrm>
            <a:off x="5562720" y="914400"/>
            <a:ext cx="10224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Elena\Рабочий стол\P4070390.JPG"/>
          <p:cNvPicPr/>
          <p:nvPr/>
        </p:nvPicPr>
        <p:blipFill>
          <a:blip r:embed="rId4"/>
          <a:stretch/>
        </p:blipFill>
        <p:spPr>
          <a:xfrm>
            <a:off x="3276720" y="4114800"/>
            <a:ext cx="1560240" cy="1170000"/>
          </a:xfrm>
          <a:prstGeom prst="rect">
            <a:avLst/>
          </a:prstGeom>
          <a:ln w="57240">
            <a:solidFill>
              <a:srgbClr val="222268"/>
            </a:solidFill>
            <a:miter/>
          </a:ln>
        </p:spPr>
      </p:pic>
      <p:sp>
        <p:nvSpPr>
          <p:cNvPr id="49" name="TextBox 10"/>
          <p:cNvSpPr/>
          <p:nvPr/>
        </p:nvSpPr>
        <p:spPr>
          <a:xfrm>
            <a:off x="5029200" y="4267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ень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B140022"/>
          <p:cNvPicPr/>
          <p:nvPr/>
        </p:nvPicPr>
        <p:blipFill>
          <a:blip r:embed="rId5"/>
          <a:stretch/>
        </p:blipFill>
        <p:spPr>
          <a:xfrm>
            <a:off x="609480" y="4876920"/>
            <a:ext cx="1817640" cy="136368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51" name="Picture 10" descr="C:\Users\Админ\Desktop\приложение\DSCF8949.JPG"/>
          <p:cNvPicPr/>
          <p:nvPr/>
        </p:nvPicPr>
        <p:blipFill>
          <a:blip r:embed="rId6"/>
          <a:stretch/>
        </p:blipFill>
        <p:spPr>
          <a:xfrm>
            <a:off x="4876920" y="7696080"/>
            <a:ext cx="1676160" cy="125748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sp>
        <p:nvSpPr>
          <p:cNvPr id="52" name="Прямоугольник 14"/>
          <p:cNvSpPr/>
          <p:nvPr/>
        </p:nvSpPr>
        <p:spPr>
          <a:xfrm>
            <a:off x="533520" y="2133720"/>
            <a:ext cx="42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 – mail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chl_5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Адрес сайта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5-ustilimsk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410080" y="304920"/>
            <a:ext cx="115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«ШКОЛА ДИКОЙ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8"/>
          <a:stretch/>
        </p:blipFill>
        <p:spPr>
          <a:xfrm>
            <a:off x="5334120" y="2895480"/>
            <a:ext cx="10555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15:20:45Z</dcterms:created>
  <dc:creator>Админ</dc:creator>
  <dc:description/>
  <dc:language>en-US</dc:language>
  <cp:lastModifiedBy>Админ</cp:lastModifiedBy>
  <dcterms:modified xsi:type="dcterms:W3CDTF">2014-01-30T03:59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