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22C4B-2DF1-448D-A9D5-08C57B5FA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99F48-1F68-4DC2-94A5-CF214D7DE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72AAF-C887-4BE8-9B8C-A8BDBA94F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9518C-7F91-4DED-B87D-22746CE24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F3E8B-5A51-4A3A-8843-B1726A0CC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E326B-5936-49F0-BCE3-4AC79F067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76512-F984-4A8F-BB47-C1658CF9B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42088-500F-4905-90A9-71777EEBE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B491C-61C0-42B9-A6A6-0BAB76893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065A0-FEF5-4068-BBA5-2D994FA9B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4ADBA-A635-4CDC-AB15-0D828EE14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F6AF7-C5B0-4931-A58F-3ECE04803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8741B-3C81-48C1-8C58-29BBCFDDFAF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hyperlink" Target="mailto:schl_5@mail.ru" TargetMode="External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14440" y="2840040"/>
            <a:ext cx="5829120" cy="19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28520" y="5181120"/>
            <a:ext cx="4800600" cy="23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2" descr="C:\Users\Админ\Desktop\лист для заполнения.jpg"/>
          <p:cNvPicPr/>
          <p:nvPr/>
        </p:nvPicPr>
        <p:blipFill>
          <a:blip r:embed="rId1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  <p:sp>
        <p:nvSpPr>
          <p:cNvPr id="44" name="Прямоугольник 4"/>
          <p:cNvSpPr/>
          <p:nvPr/>
        </p:nvSpPr>
        <p:spPr>
          <a:xfrm>
            <a:off x="228600" y="228600"/>
            <a:ext cx="5756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Прямоугольник 5" descr=""/>
          <p:cNvPicPr/>
          <p:nvPr/>
        </p:nvPicPr>
        <p:blipFill>
          <a:blip r:embed="rId2"/>
          <a:stretch/>
        </p:blipFill>
        <p:spPr>
          <a:xfrm>
            <a:off x="438120" y="311040"/>
            <a:ext cx="6048360" cy="309096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3"/>
          <p:cNvSpPr/>
          <p:nvPr/>
        </p:nvSpPr>
        <p:spPr>
          <a:xfrm>
            <a:off x="380880" y="2632680"/>
            <a:ext cx="6248520" cy="575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Arial"/>
                <a:ea typeface="Times New Roman"/>
              </a:rPr>
              <a:t>ЭКОЛОГИЧЕСКИ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Arial"/>
                <a:ea typeface="Times New Roman"/>
              </a:rPr>
              <a:t>КОДЕК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20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Arial"/>
                <a:ea typeface="Times New Roman"/>
              </a:rPr>
              <a:t>Питайся правильно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Arial"/>
                <a:ea typeface="Times New Roman"/>
              </a:rPr>
              <a:t>- Не забывай, что витамины – это наши друзья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Arial"/>
                <a:ea typeface="Times New Roman"/>
              </a:rPr>
              <a:t>- Пей только чистую воду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Arial"/>
                <a:ea typeface="Times New Roman"/>
              </a:rPr>
              <a:t>- Делай каждое утро зарядку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5426"/>
                </a:solidFill>
                <a:latin typeface="Arial"/>
                <a:ea typeface="Times New Roman"/>
              </a:rPr>
              <a:t>- Чисти зубы два раза в день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5426"/>
                </a:solidFill>
                <a:latin typeface="Arial"/>
                <a:ea typeface="Times New Roman"/>
              </a:rPr>
              <a:t>- Скажи «НЕТ» вредным привычкам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5426"/>
                </a:solidFill>
                <a:latin typeface="Arial"/>
                <a:ea typeface="Times New Roman"/>
              </a:rPr>
              <a:t>- Не забывай о мозговой деятельност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5426"/>
                </a:solidFill>
                <a:latin typeface="Arial"/>
                <a:ea typeface="Times New Roman"/>
              </a:rPr>
              <a:t>- По возможности откажись от таблеток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  <a:ea typeface="Times New Roman"/>
              </a:rPr>
              <a:t>- Помни, что свежий воздух – лучший друг здоровья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  <a:ea typeface="Times New Roman"/>
              </a:rPr>
              <a:t>- Не злоупотребляй просмотром телевизора и компьютерными играм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  <a:ea typeface="Times New Roman"/>
              </a:rPr>
              <a:t>- Береги нервную систему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  <a:ea typeface="Times New Roman"/>
              </a:rPr>
              <a:t>- Соблюдай режим дня (здоровый сон необходим растущему организму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5426"/>
                </a:solidFill>
                <a:uFillTx/>
                <a:latin typeface="Arial"/>
                <a:ea typeface="Times New Roman"/>
              </a:rPr>
              <a:t>ПОМНИ: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2060"/>
                </a:solidFill>
                <a:latin typeface="Arial"/>
                <a:ea typeface="Times New Roman"/>
              </a:rPr>
              <a:t>«Движение – основн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  <a:ea typeface="Times New Roman"/>
              </a:rPr>
              <a:t>компонент здорового образа жизни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5" descr="photos0-800x600"/>
          <p:cNvPicPr/>
          <p:nvPr/>
        </p:nvPicPr>
        <p:blipFill>
          <a:blip r:embed="rId3"/>
          <a:srcRect l="27547" t="24588" r="23190" b="13119"/>
          <a:stretch/>
        </p:blipFill>
        <p:spPr>
          <a:xfrm>
            <a:off x="5562720" y="914400"/>
            <a:ext cx="1022400" cy="1143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C:\Documents and Settings\Elena\Рабочий стол\P4070390.JPG"/>
          <p:cNvPicPr/>
          <p:nvPr/>
        </p:nvPicPr>
        <p:blipFill>
          <a:blip r:embed="rId4"/>
          <a:stretch/>
        </p:blipFill>
        <p:spPr>
          <a:xfrm>
            <a:off x="3276720" y="4114800"/>
            <a:ext cx="1560240" cy="1170000"/>
          </a:xfrm>
          <a:prstGeom prst="rect">
            <a:avLst/>
          </a:prstGeom>
          <a:ln w="57240">
            <a:solidFill>
              <a:srgbClr val="222268"/>
            </a:solidFill>
            <a:miter/>
          </a:ln>
        </p:spPr>
      </p:pic>
      <p:sp>
        <p:nvSpPr>
          <p:cNvPr id="49" name="TextBox 10"/>
          <p:cNvSpPr/>
          <p:nvPr/>
        </p:nvSpPr>
        <p:spPr>
          <a:xfrm>
            <a:off x="5029200" y="4267080"/>
            <a:ext cx="129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Arial"/>
              </a:rPr>
              <a:t>День Здоровь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7" descr="PB140022"/>
          <p:cNvPicPr/>
          <p:nvPr/>
        </p:nvPicPr>
        <p:blipFill>
          <a:blip r:embed="rId5"/>
          <a:stretch/>
        </p:blipFill>
        <p:spPr>
          <a:xfrm>
            <a:off x="609480" y="4876920"/>
            <a:ext cx="1817640" cy="1363680"/>
          </a:xfrm>
          <a:prstGeom prst="rect">
            <a:avLst/>
          </a:prstGeom>
          <a:ln w="57240">
            <a:solidFill>
              <a:srgbClr val="002060"/>
            </a:solidFill>
            <a:miter/>
          </a:ln>
        </p:spPr>
      </p:pic>
      <p:pic>
        <p:nvPicPr>
          <p:cNvPr id="51" name="Picture 10" descr="C:\Users\Админ\Desktop\приложение\DSCF8949.JPG"/>
          <p:cNvPicPr/>
          <p:nvPr/>
        </p:nvPicPr>
        <p:blipFill>
          <a:blip r:embed="rId6"/>
          <a:stretch/>
        </p:blipFill>
        <p:spPr>
          <a:xfrm>
            <a:off x="4876920" y="7696080"/>
            <a:ext cx="1676160" cy="1257480"/>
          </a:xfrm>
          <a:prstGeom prst="rect">
            <a:avLst/>
          </a:prstGeom>
          <a:ln w="57240">
            <a:solidFill>
              <a:srgbClr val="002060"/>
            </a:solidFill>
            <a:miter/>
          </a:ln>
        </p:spPr>
      </p:pic>
      <p:sp>
        <p:nvSpPr>
          <p:cNvPr id="52" name="Прямоугольник 14"/>
          <p:cNvSpPr/>
          <p:nvPr/>
        </p:nvSpPr>
        <p:spPr>
          <a:xfrm>
            <a:off x="533520" y="2133720"/>
            <a:ext cx="4284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0000"/>
                </a:solidFill>
                <a:latin typeface="Arial"/>
              </a:rPr>
              <a:t>e – mail</a:t>
            </a:r>
            <a:r>
              <a:rPr b="1" lang="ru-RU" sz="1400" spc="-1" strike="noStrike">
                <a:solidFill>
                  <a:srgbClr val="c00000"/>
                </a:solidFill>
                <a:latin typeface="Arial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schl_5@mail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Arial"/>
              </a:rPr>
              <a:t>Адрес сайта: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hool5-ustilimsk.ru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16"/>
          <p:cNvSpPr/>
          <p:nvPr/>
        </p:nvSpPr>
        <p:spPr>
          <a:xfrm>
            <a:off x="5410080" y="304920"/>
            <a:ext cx="11588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Arial"/>
              </a:rPr>
              <a:t>«ШКОЛА ДИКОЙ ПРИРОДЫ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"/>
          <p:cNvPicPr/>
          <p:nvPr/>
        </p:nvPicPr>
        <p:blipFill>
          <a:blip r:embed="rId8"/>
          <a:stretch/>
        </p:blipFill>
        <p:spPr>
          <a:xfrm>
            <a:off x="5334120" y="2895480"/>
            <a:ext cx="1055520" cy="13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26T15:20:45Z</dcterms:created>
  <dc:creator>Админ</dc:creator>
  <dc:description/>
  <dc:language>en-US</dc:language>
  <cp:lastModifiedBy>Админ</cp:lastModifiedBy>
  <dcterms:modified xsi:type="dcterms:W3CDTF">2014-01-30T03:59:26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