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AF7-4D70-4733-B763-FA0D40ED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E80-0CE8-4847-A67F-DB54A32A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087-E6CE-4139-B1CB-044FF887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CED0-E203-4AD8-9AF9-A57BD054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5E5-E396-4284-96FF-F894A87C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E0E-4DDA-4228-9F73-34FABF03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22B-1686-45BB-B7A7-E7F70BC2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E01F-BCD2-4E19-857D-8B15F835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5258-338C-4450-A249-CC7BAB66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BF94-738D-4117-9BF7-F0986BF2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B5C0-D280-40D7-8904-843A5D2F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9912-CF4E-48E2-8C31-02B3A6E2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1FBC-E951-4CB0-BEEE-C22F114A8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549360"/>
            <a:ext cx="8785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Средняя образовательная школа №1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российский конкурс презент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ТопСлай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ОД ГЕРОЙ – КИ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 клас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мигуллина Анастасия Гаптлахато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Когал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1857240" cy="2592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тлеровцы установили в Киеве жестокий оккупационный режим: уничтожили свыше 200 тысяч советских граждан, 100 тысяч угнали на принудительные работы в Герма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6048720" cy="3600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16720" y="404640"/>
            <a:ext cx="2482920" cy="3961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124000" y="4079880"/>
            <a:ext cx="4680000" cy="2778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2359080" cy="3672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908000" y="260280"/>
            <a:ext cx="51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жиды города Киева и его окрестностей должны явиться в понедельник 29 сентября 1941 года к 8 часам утра на угол Мельниковской (Мельникова) и Дохтуровской (Дегтяревской) возле кладбищ. Взять с собой документы, деньги, ценные вещи, а также теплую одежду, белье и пр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6121440" cy="43462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городе действовало партийное и комсомольское подполье, которое уничтожило сотни гитлеровцев, около 500 автомобилей, организовало 19 крушений поездов, разгромило 18 военных складов, потопило 15 паромов и катеров, спасло от угона в Германию 8 тысяч киевля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итлеровское командование пыталось ликвидировать плацдармы советских войск на правом берегу Днепра и на Киевском направлении, где части Красной Армии охватили фланги и угрожали тылу фашистских войс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920000" cy="4976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559640" cy="45799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ноября 1943 г., после мощнейшей артподготовки, началось наступление на Киев. 6 ноября, после тяжелых и кровопролитных боёв, советские войска под командованием генерала Ватутина вступили в Киев. За успешное форсирование Днепра и освобождение городов 2438 бойцов и командиров были удостоены звания Героя Советского Сою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985080" cy="45399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ноября 1943 г. советские войска освободили столицу Украины. 65 воинских частей и соединений в честь освобождения Киева получили почетное наименование Киевск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июня 1961 г. Указом Президиума Верховного Совета СССР учреждена медаль "За оборону Киева"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торой награждены 102 тысячи защитников го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472360" cy="3684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мая 1965 года за героизм, проявленный во время обороны, Киеву было присвоено звание города-геро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913800" cy="4624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993080" cy="5245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2090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сле распада СССР с декабря 1991 Киев - столица независимого государства Укра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Город герой- Кие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3198960" cy="4464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488360" cy="540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115920"/>
            <a:ext cx="86421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е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столица Украины, город - герой. Расположен на реке Дне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452800">
            <a:off x="3203280" y="2133720"/>
            <a:ext cx="1150920" cy="360360"/>
          </a:xfrm>
          <a:prstGeom prst="rightArrow">
            <a:avLst>
              <a:gd name="adj1" fmla="val 50000"/>
              <a:gd name="adj2" fmla="val 79845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ервый день Великой Отечественной войны немецко-фашистская авиация нанесла воздушный удар по Киев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7129440" cy="4537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июля 1941 года был создан штаб обороны го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лась 72-дневная героическая оборо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480360" cy="4373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4249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защиту города встали не только войска, но и его жит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19600" y="682560"/>
            <a:ext cx="4316400" cy="5770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0920" y="2997360"/>
            <a:ext cx="4392360" cy="3462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8 июля было создано 13 истребительных батальонов и 19 отрядов народного ополчения общей численностью 33 тысячи челове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3080" y="2349360"/>
            <a:ext cx="7128000" cy="4219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июля враг был остановлен на внешнем обводе Киевского укрепленного района. Попытка противника захватить Киев сходу не удала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481800" cy="4108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99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 сентября по приказу Ставки Верховного Главнокомандования Киев был оставлен советскими войс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46200" y="1844640"/>
            <a:ext cx="6481800" cy="4861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4:34:16Z</dcterms:created>
  <dc:creator>Артур</dc:creator>
  <dc:description/>
  <dc:language>en-US</dc:language>
  <cp:lastModifiedBy>Admin</cp:lastModifiedBy>
  <dcterms:modified xsi:type="dcterms:W3CDTF">2011-05-17T18:42:03Z</dcterms:modified>
  <cp:revision>6</cp:revision>
  <dc:subject/>
  <dc:title>Город герой- Киев</dc:title>
</cp:coreProperties>
</file>