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353-8635-4100-894A-C7472505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D9F-826A-4435-A75D-192CE14E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E14-00C2-4183-A9B4-8EDFE49A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244-4F3A-4A24-8E0A-D082E39C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E59-B5FE-4693-9159-1E87E3F9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739-63F4-493F-A001-F5B6C423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346-4089-4A3B-9690-A4D55F98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AE0-C8F2-4359-8C87-519B2A6B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655-2CCC-4DB3-A9BE-DAA34D8D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955-F059-4277-A6C4-FA689193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2C6-3AA1-465D-BB33-0E75C8AF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2E1-46CB-46ED-87A4-E49375C9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8E1E-3888-457E-AF0F-580BF54AB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54936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редняя образовательная школа №1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оссийский конкурс презент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ТопСлай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Д ГЕРОЙ – К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игуллина Анастасия Гаптлахат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Кога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1857240" cy="259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тлеровцы установили в Киеве жестокий оккупационный режим: уничтожили свыше 200 тысяч советских граждан, 100 тысяч угнали на принудительные работы в Герм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6048720" cy="36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482920" cy="3961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24000" y="4079880"/>
            <a:ext cx="4680000" cy="2778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2359080" cy="3672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908000" y="260280"/>
            <a:ext cx="51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жиды города Киева и его окрестностей должны явиться в понедельник 29 сентября 1941 года к 8 часам утра на угол Мельниковской (Мельникова) и Дохтуровской (Дегтяревской) возле кладбищ. Взять с собой документы, деньги, ценные вещи, а также теплую одежду, белье и п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121440" cy="4346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ороде действовало партийное и комсомольское подполье, которое уничтожило сотни гитлеровцев, около 500 автомобилей, организовало 19 крушений поездов, разгромило 18 военных складов, потопило 15 паромов и катеров, спасло от угона в Германию 8 тысяч киевля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тлеровское командование пыталось ликвидировать плацдармы советских войск на правом берегу Днепра и на Киевском направлении, где части Красной Армии охватили фланги и угрожали тылу фашистских войс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920000" cy="497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559640" cy="45799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ноября 1943 г., после мощнейшей артподготовки, началось наступление на Киев. 6 ноября, после тяжелых и кровопролитных боёв, советские войска под командованием генерала Ватутина вступили в Киев. За успешное форсирование Днепра и освобождение городов 2438 бойцов и командиров были удостоены звания Героя Советского Сою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985080" cy="4539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ноября 1943 г. советские войска освободили столицу Украины. 65 воинских частей и соединений в честь освобождения Киева получили почетное наименование Киевск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июня 1961 г. Указом Президиума Верховного Совета СССР учреждена медаль "За оборону Киева"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ой награждены 102 тысячи защитников г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472360" cy="3684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мая 1965 года за героизм, проявленный во время обороны, Киеву было присвоено звание города-геро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13800" cy="4624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93080" cy="524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090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ле распада СССР с декабря 1991 Киев - столица независимого государства Укра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Город герой- Кие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3198960" cy="4464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88360" cy="540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115920"/>
            <a:ext cx="86421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е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столица Украины, город - герой. Расположен на реке Дне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452800">
            <a:off x="3203280" y="2133720"/>
            <a:ext cx="1150920" cy="360360"/>
          </a:xfrm>
          <a:prstGeom prst="rightArrow">
            <a:avLst>
              <a:gd name="adj1" fmla="val 50000"/>
              <a:gd name="adj2" fmla="val 79845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ервый день Великой Отечественной войны немецко-фашистская авиация нанесла воздушный удар по Кие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129440" cy="4537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июля 1941 года был создан штаб обороны г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ась 72-дневная героическая обор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480360" cy="437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4249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защиту города встали не только войска, но и его жи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19600" y="682560"/>
            <a:ext cx="4316400" cy="577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4392360" cy="3462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8 июля было создано 13 истребительных батальонов и 19 отрядов народного ополчения общей численностью 33 тысячи челов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3080" y="2349360"/>
            <a:ext cx="7128000" cy="4219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июля враг был остановлен на внешнем обводе Киевского укрепленного района. Попытка противника захватить Киев сходу не удала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81800" cy="4108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сентября по приказу Ставки Верховного Главнокомандования Киев был оставлен советскими войс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6200" y="1844640"/>
            <a:ext cx="6481800" cy="4861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4:34:16Z</dcterms:created>
  <dc:creator>Артур</dc:creator>
  <dc:description/>
  <dc:language>en-US</dc:language>
  <cp:lastModifiedBy>Admin</cp:lastModifiedBy>
  <dcterms:modified xsi:type="dcterms:W3CDTF">2011-05-17T18:42:03Z</dcterms:modified>
  <cp:revision>6</cp:revision>
  <dc:subject/>
  <dc:title>Город герой- Киев</dc:title>
</cp:coreProperties>
</file>