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6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110F-E3F2-4053-94AD-C624EFEEE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49CC-087F-4FE4-AF7F-BFFCB880D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F45C-7AE2-4298-9E3B-530DD15E5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1B4D-957E-4BC8-95B9-D818556B8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DC16-C478-478A-AD00-D90CA9F04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461E-82BF-447E-89E7-CFBD493A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4EC6-CB7B-4BB8-BABA-7266B4FC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3275-7D90-402B-8725-D0142E8B1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F042-9043-4D4E-9B15-CA8AFBE11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5872-AFA0-47FB-9BE8-573743A05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239-16B2-4292-A9E9-FA17B41B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46A5-EB62-4E4A-99D0-48946ADAF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969D-6F71-4C39-90C0-E2CE31678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383B-052B-41F4-8B80-56528853F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5A8D-E51B-4198-B2F6-D05657F49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A7E0-DC46-4E57-AD88-E913BB007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71E1-EB90-451D-BE76-FB63DBD90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9BB9-FB53-47E5-BAEE-A333653C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A485-48B6-4B3D-B698-D97F6D163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E30A-48FA-4EDE-9516-40AB86AF0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13E2-530C-4354-B9C5-EA57E79F1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9BF6-1D2A-4E76-A5ED-486910F1D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1F2F-FA6F-4688-AFF7-AE70638B0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9E91-743D-41C3-BA5F-EF96AED38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297F-0AEB-4ACE-8E0B-598FD57F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A0F5-D2DD-4A48-A828-8A311DEF0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250A-FD38-4156-B0DA-D29DB400F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610-3FF8-4789-B9F4-A1CD2BFB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47C-6715-4EF2-ABD9-F7221D43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E75-8FB7-4AE3-8FFF-D5DEC4DB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4CB-255E-4B20-BC4D-6C08E37D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B1C-8C82-4ABD-B6E8-3F282330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FE6-585F-4D75-8733-E3D633E5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BCE-02C1-498F-84EF-9B358C16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3C0-7831-4C2A-AC1F-22F88C57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B9C-9268-4C3C-8ED6-4FCD7032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C62-8F1E-4250-B41D-168935C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E98-82CB-4D17-8A88-03A21D59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A37-3574-4CD7-81D4-59B2DFA7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6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f6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ef6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CE11-53C3-4D33-8A8D-AB1785474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5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5.xml"/><Relationship Id="rId16" Type="http://schemas.openxmlformats.org/officeDocument/2006/relationships/slide" Target="slide4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6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4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33520" y="1522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ef6f1"/>
                </a:solidFill>
                <a:latin typeface="Trebuchet MS"/>
              </a:rPr>
              <a:t>5</a:t>
            </a:r>
            <a:r>
              <a:rPr b="1" lang="en-US" sz="4000" spc="-1" strike="noStrike">
                <a:solidFill>
                  <a:srgbClr val="def6f1"/>
                </a:solidFill>
                <a:latin typeface="Trebuchet MS"/>
              </a:rPr>
              <a:t> Form  Review</a:t>
            </a:r>
            <a:r>
              <a:rPr b="1" lang="ru-RU" sz="4000" spc="-1" strike="noStrike">
                <a:solidFill>
                  <a:srgbClr val="def6f1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def6f1"/>
                </a:solidFill>
                <a:latin typeface="Trebuchet MS"/>
              </a:rPr>
              <a:t>Uni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74200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Safe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On the 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Family ch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Cult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Gramm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295280" y="1371600"/>
            <a:ext cx="640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My parents should … e-mails from stranger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62120" y="91440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Not all the information on the Internet may be …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219320" y="137160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Your first chore is to … your homework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1752480" y="7621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f you have a dog, your chore is to …it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371600" y="914400"/>
            <a:ext cx="640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If you don’t have bread or milk at home, you have to … …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600200" y="914400"/>
            <a:ext cx="60958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1295280" y="685800"/>
            <a:ext cx="70106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Your room must be clean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So your chore is to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the floo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143000" y="1066680"/>
            <a:ext cx="7010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Sometimes you have to … about your younger brother\sist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838080" y="114300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n British school pupils must not wear …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914400" y="11430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On Halloween children wear fancy …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219320" y="182880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On Halloween children use the phrase “… or …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600200" y="12193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 must … the safety rule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143000" y="990720"/>
            <a:ext cx="685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On Halloween people give children apples, sweets or …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38080" y="99072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Name the characters of the books by Roald Dahl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609480" y="76212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ef6f1"/>
                </a:solidFill>
                <a:latin typeface="Times New Roman"/>
              </a:rPr>
              <a:t>Чем отличаются глаголы </a:t>
            </a: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must </a:t>
            </a:r>
            <a:r>
              <a:rPr b="0" lang="ru-RU" sz="6000" spc="-1" strike="noStrike">
                <a:solidFill>
                  <a:srgbClr val="def6f1"/>
                </a:solidFill>
                <a:latin typeface="Times New Roman"/>
              </a:rPr>
              <a:t>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have to. </a:t>
            </a:r>
            <a:r>
              <a:rPr b="0" lang="ru-RU" sz="6000" spc="-1" strike="noStrike">
                <a:solidFill>
                  <a:srgbClr val="def6f1"/>
                </a:solidFill>
                <a:latin typeface="Times New Roman"/>
              </a:rPr>
              <a:t>Приведите приме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09480" y="99072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ef6f1"/>
                </a:solidFill>
                <a:latin typeface="Times New Roman"/>
              </a:rPr>
              <a:t>Как сказать, что что-то нельзя делать. Приведите приме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14400" y="1066680"/>
            <a:ext cx="7620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f6f1"/>
                </a:solidFill>
                <a:latin typeface="Times New Roman"/>
              </a:rPr>
              <a:t>Какой модальный глагол мы используем, чтобы рассказать о том, в чем мы уверены. Приведите пример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914400" y="304920"/>
            <a:ext cx="769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f6f1"/>
                </a:solidFill>
                <a:latin typeface="Times New Roman"/>
              </a:rPr>
              <a:t>Какой модальный глагол мы используем, чтобы рассказать о том, в чем мы не совсем уверены. Приведите пример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85800" y="6858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f6f1"/>
                </a:solidFill>
                <a:latin typeface="Times New Roman"/>
              </a:rPr>
              <a:t>Какой модальный глагол мы используем, чтобы сказать о том, что нет необходимости что-то делать. Приведите приме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828800" y="9144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I mustn’t go …. alone. I must take my friend with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00200" y="762120"/>
            <a:ext cx="6019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I mustn’t go anywhere …my parents’ …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990720" y="762120"/>
            <a:ext cx="7010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I must …of stranger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143000" y="12952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Mum says a stranger can … or … m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447920" y="99072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You shouldn’t open … from stranger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914400" y="99072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t may be safer to give your …, not your real nam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371600" y="914400"/>
            <a:ext cx="66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t may be … to give your address on the Ne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olga</cp:lastModifiedBy>
  <dcterms:modified xsi:type="dcterms:W3CDTF">2012-10-26T09:34:59Z</dcterms:modified>
  <cp:revision>61</cp:revision>
  <dc:subject/>
  <dc:title>Slide 1</dc:title>
</cp:coreProperties>
</file>