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C94B-5667-4A9F-89F1-1BA69285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13AF-CFDC-443D-8B8B-9DA3409B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C4B5-F50F-49F9-961A-D1B80DA7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171E-17F1-45E8-A58B-E7171201B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DD30-E588-44CD-B41A-09E9EA692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DC80-A32A-4A94-9536-B7F4C52F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0326-0141-43DF-AA96-3C742286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3BD-9DE8-4D7C-B1D3-221E8B79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F137-23A8-4B56-916F-DEE1819F6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239F-744D-4D71-BC55-1A28F181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E6C8-2BE6-4C95-852D-EDC86CFC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4250-4CFB-4DFD-ADB1-12CCF9BB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A558-929E-42DA-8B7F-FE7BBA92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8C9D-E6B9-4510-9337-60E6E37E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3CD0-3493-4D92-B36F-74F89F55C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D97D-BCDF-4EC7-AAA5-50A572A6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D63-A269-4022-88AB-2FD4B1DC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1BB0-1F70-4C9B-B9A7-44DFB0BD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F66-206B-4196-960D-D922232E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8C06-A183-47A4-95CA-4BCBDACF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7428-0688-49CE-9B29-ACCECF69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5646-C77D-403E-B699-905B0561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2BDE-F6FC-4A33-B231-54044A05C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4340-231C-44FA-9F20-A61E6D4C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A1D4-CFD4-410A-BAC5-1EEE231B9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836C-83D5-4689-B52F-1BA648BA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A2DE-0DD6-4146-8C66-82F78348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6F1-ECA2-44E8-A143-84EE33FF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AEF-BAFE-406C-AD14-F516F503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026-61C7-43D5-A2B5-D236B798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606-8A08-4FA8-A1B1-CB6A8D85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DFB-DA6F-4CEB-BF47-E7989EA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D1F-1BC3-4C53-A0ED-3304576A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47D-0B9B-4603-A42B-1FC59A1D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89A-E806-470A-B7C6-CE3B6E32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CB9-14E0-4DAD-880F-1DE028FD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600-6C1C-4530-8D2F-E888808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D66-7E46-495A-B83E-B1023FB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C98-A5CB-412F-8178-A1E9E6AB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6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f6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ef6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ef6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ef6f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C83F-2479-451D-A589-B61663E5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5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5.xml"/><Relationship Id="rId16" Type="http://schemas.openxmlformats.org/officeDocument/2006/relationships/slide" Target="slide4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6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4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52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ef6f1"/>
                </a:solidFill>
                <a:latin typeface="Trebuchet MS"/>
              </a:rPr>
              <a:t>5</a:t>
            </a:r>
            <a:r>
              <a:rPr b="1" lang="en-US" sz="4000" spc="-1" strike="noStrike">
                <a:solidFill>
                  <a:srgbClr val="def6f1"/>
                </a:solidFill>
                <a:latin typeface="Trebuchet MS"/>
              </a:rPr>
              <a:t> Form  Review</a:t>
            </a:r>
            <a:r>
              <a:rPr b="1" lang="ru-RU" sz="4000" spc="-1" strike="noStrike">
                <a:solidFill>
                  <a:srgbClr val="def6f1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def6f1"/>
                </a:solidFill>
                <a:latin typeface="Trebuchet MS"/>
              </a:rPr>
              <a:t>Uni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74200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Safe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On the 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Family ch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Cult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ef6f1"/>
                          </a:solidFill>
                          <a:latin typeface="Times New Roman"/>
                        </a:rPr>
                        <a:t>Gramm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295280" y="1371600"/>
            <a:ext cx="640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My parents should … e-mails from stranger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62120" y="91440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Not all the information on the Internet may be …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219320" y="137160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Your first chore is to … your homework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1752480" y="762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f you have a dog, your chore is to …it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371600" y="914400"/>
            <a:ext cx="6400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f you don’t have bread or milk at home, you have to … …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600200" y="914400"/>
            <a:ext cx="60958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1295280" y="685800"/>
            <a:ext cx="70106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Your room must be clean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So your chore is to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the floo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43000" y="1066680"/>
            <a:ext cx="7010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Sometimes you have to … about your younger brother\siste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838080" y="114300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n British school pupils must not wear …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914400" y="11430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On Halloween children wear fancy …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219320" y="182880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On Halloween children use the phrase “… or …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600200" y="12193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 must … the safety rule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143000" y="990720"/>
            <a:ext cx="685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On Halloween people give children apples, sweets or …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38080" y="99072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Name the characters of the books by Roald Dahl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609480" y="76212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ef6f1"/>
                </a:solidFill>
                <a:latin typeface="Times New Roman"/>
              </a:rPr>
              <a:t>Чем отличаются глаголы </a:t>
            </a: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must </a:t>
            </a:r>
            <a:r>
              <a:rPr b="0" lang="ru-RU" sz="6000" spc="-1" strike="noStrike">
                <a:solidFill>
                  <a:srgbClr val="def6f1"/>
                </a:solidFill>
                <a:latin typeface="Times New Roman"/>
              </a:rPr>
              <a:t>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have to. </a:t>
            </a:r>
            <a:r>
              <a:rPr b="0" lang="ru-RU" sz="6000" spc="-1" strike="noStrike">
                <a:solidFill>
                  <a:srgbClr val="def6f1"/>
                </a:solidFill>
                <a:latin typeface="Times New Roman"/>
              </a:rPr>
              <a:t>Приведите приме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09480" y="99072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ef6f1"/>
                </a:solidFill>
                <a:latin typeface="Times New Roman"/>
              </a:rPr>
              <a:t>Как сказать, что что-то нельзя делать. Приведите приме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14400" y="1066680"/>
            <a:ext cx="7620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f6f1"/>
                </a:solidFill>
                <a:latin typeface="Times New Roman"/>
              </a:rPr>
              <a:t>Какой модальный глагол мы используем, чтобы рассказать о том, в чем мы уверены. Приведите пример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914400" y="30492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f6f1"/>
                </a:solidFill>
                <a:latin typeface="Times New Roman"/>
              </a:rPr>
              <a:t>Какой модальный глагол мы используем, чтобы рассказать о том, в чем мы не совсем уверены. Приведите пример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6858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f6f1"/>
                </a:solidFill>
                <a:latin typeface="Times New Roman"/>
              </a:rPr>
              <a:t>Какой модальный глагол мы используем, чтобы сказать о том, что нет необходимости что-то делать. Приведите приме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828800" y="9144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 mustn’t go …. alone. I must take my friend with m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00200" y="762120"/>
            <a:ext cx="6019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 mustn’t go anywhere …my parents’ …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90720" y="762120"/>
            <a:ext cx="7010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f6f1"/>
                </a:solidFill>
                <a:latin typeface="Times New Roman"/>
              </a:rPr>
              <a:t>I must …of stranger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143000" y="129528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ef6f1"/>
                </a:solidFill>
                <a:latin typeface="Times New Roman"/>
              </a:rPr>
              <a:t>Mum says a stranger can … or … m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447920" y="99072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You shouldn’t open … from stranger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914400" y="99072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t may be safer to give your …, not your real nam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371600" y="914400"/>
            <a:ext cx="66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ef6f1"/>
                </a:solidFill>
                <a:latin typeface="Times New Roman"/>
              </a:rPr>
              <a:t>It may be … to give your address on the Ne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olga</cp:lastModifiedBy>
  <dcterms:modified xsi:type="dcterms:W3CDTF">2012-10-26T09:34:59Z</dcterms:modified>
  <cp:revision>61</cp:revision>
  <dc:subject/>
  <dc:title>Slide 1</dc:title>
</cp:coreProperties>
</file>