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6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9EC4-28B5-44B3-A285-945D0352D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CC0A-FD03-4444-8098-2C66C2BA3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DF9F-19FB-4127-BEB3-BBA466180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614F-5B1D-40C5-B94D-C09CFA5DB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4BEC-BC75-4E88-A066-93648F7DE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83C9-153D-47A1-9F9A-0504EBD67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12FA-1617-46FE-BB84-15CB81EFF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5866-FDD6-4E05-96DC-6B4200B21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5711-1E66-4A60-8DFE-A3C3F2EAF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3CB0-4D50-477F-B191-FAA4A0D67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3AF1-8D7F-46DC-ADD8-7522ED39A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ECFC-1795-4087-9171-938962C23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1857-67EA-4266-A7CD-89BE42C70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EF7C-4BCE-4D02-8559-7F2497DAD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9363-E572-4F58-B66C-7AF756752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DD00-E5AC-41FA-959C-55A7D8F61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B06A-4C87-4D77-8F7A-0374D9BFA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01B6-D522-4329-BA6D-CDF5E40CC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2221-AE1F-4E23-A4BD-07858CB76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B247-0D48-48C9-BBDF-63184263D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C1FF-E305-4711-9B73-60A3823FD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1638-DA4C-4462-BABE-5EF04428E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320A-BFA0-4B4D-A1A3-609633B7A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373C-587B-4650-B60A-6FD5EFA84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FFD6-1861-4418-933A-5EBF1C6C8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2143-66D3-445B-A701-EF59301B8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9B06-F9F7-4323-AB1E-8D9EE87AF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5E3-0A0C-45A2-9197-42501FD3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A04-89CE-416F-ACF0-79FAD1F1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C6E-9E88-49F1-B487-4D28DDD7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0E1-3DE0-4557-B447-B591480A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ACA-954A-47E9-A06D-EAE17DA2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A27-8E37-4736-95EC-C97BC3AD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470-6794-4010-A0F5-C98B58A3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BC4-E729-4ED0-87AC-D92CB4B0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7BB-00BD-4193-B444-6106CDDC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2AD-38F5-446E-899C-DD323403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CF7-50EA-4660-8811-04175ADC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B59-0561-4F11-AFB4-5EDFA1BE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6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ef6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ef6f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ef6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ef6f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ef6f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2D43-F431-42E0-8C05-5C8339701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5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5.xml"/><Relationship Id="rId16" Type="http://schemas.openxmlformats.org/officeDocument/2006/relationships/slide" Target="slide4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6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4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533520" y="1522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f6f1"/>
                </a:solidFill>
                <a:latin typeface="Trebuchet MS"/>
              </a:rPr>
              <a:t>Units 1-2 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43000"/>
          <a:ext cx="8381880" cy="560880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Vocabul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Music Vocabular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Liter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Mus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Gramm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533520" y="1371600"/>
            <a:ext cx="8001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When a performer, at first unsuccessful, becomes very popular one day, it is called a … (?)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62120" y="914400"/>
            <a:ext cx="716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When music is difficult to understand, it is …(?)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09480" y="1371600"/>
            <a:ext cx="815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Name 7 genres of books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114560" y="533520"/>
            <a:ext cx="72673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An American writer famous for his humorous stories with unexpected endings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914400" y="914400"/>
            <a:ext cx="7620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ef6f1"/>
                </a:solidFill>
                <a:latin typeface="Times New Roman"/>
              </a:rPr>
              <a:t>The most famous romance novel written by a remarkable British novelist Charlotte Bront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785880" y="914400"/>
            <a:ext cx="7748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ef6f1"/>
                </a:solidFill>
                <a:latin typeface="Times New Roman"/>
              </a:rPr>
              <a:t>He is famous for books for children and adults both, especially for such books as “Charlie and Chocolate factory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57200" y="1066680"/>
            <a:ext cx="7924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Stratford-upon-Avon is a birthplace of …(?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Edinburgh is a birthplace of …(?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838080" y="11430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Name 7 genres of musi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914400" y="11430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…</a:t>
            </a: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(?) are the most popular British rock group ever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785880" y="1828800"/>
            <a:ext cx="782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…</a:t>
            </a: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(?) was called a king of rock’n’roll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600200" y="609480"/>
            <a:ext cx="632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Books about space wars, robots and future are…(?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3520" y="106668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…</a:t>
            </a: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(?) were started to teach young people to listen to classical music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838080" y="990720"/>
            <a:ext cx="7696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def6f1"/>
                </a:solidFill>
                <a:latin typeface="Times New Roman"/>
              </a:rPr>
              <a:t>His rock operas and musicals are staged all over the world; they are always played to full hous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371600" y="762120"/>
            <a:ext cx="640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(A / the) famous singer Sting is giving a concert tomorrow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09480" y="99072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(The / a / - ) Gershwin’s music is classic in jazz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785880" y="838080"/>
            <a:ext cx="746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ef6f1"/>
                </a:solidFill>
                <a:latin typeface="Times New Roman"/>
              </a:rPr>
              <a:t>He stopped (to perform / performing) when he got problems with his health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785880" y="685800"/>
            <a:ext cx="7443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f6f1"/>
                </a:solidFill>
                <a:latin typeface="Times New Roman"/>
              </a:rPr>
              <a:t>The music of this rock opera is emotional and powerful. The actors sing beautifully. No doubt the performance (will be / is going to be) a succes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609480" y="762120"/>
            <a:ext cx="7925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The firm (is releasing / releases) the new album of orchestra music in 2 day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828800" y="914400"/>
            <a:ext cx="594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A place where a story takes place is called … (?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600200" y="762120"/>
            <a:ext cx="601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If a book teaches something it is … (?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990720" y="762120"/>
            <a:ext cx="7010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If a writer lives at the same time with the readers he/she is a …(?) writ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838080" y="129528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f6f1"/>
                </a:solidFill>
                <a:latin typeface="Times New Roman"/>
              </a:rPr>
              <a:t>If the book is so interesting that you can’t stop reading and want to know what will happen next, the book is …(?)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762120" y="990720"/>
            <a:ext cx="7696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When all the tickets for a concert are sold, the performers will perform to…(?)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914400" y="12952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When a tune is easy to remember it is … (?)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371600" y="914400"/>
            <a:ext cx="662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If you want to write a new song, you need to have …(?) and …(?)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olga</cp:lastModifiedBy>
  <dcterms:modified xsi:type="dcterms:W3CDTF">2012-10-31T05:51:49Z</dcterms:modified>
  <cp:revision>43</cp:revision>
  <dc:subject/>
  <dc:title>Slide 1</dc:title>
</cp:coreProperties>
</file>