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6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C79C-10E4-453C-80B0-E4E2DD873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6FFF-513B-4E4E-B87E-DF5DA1629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F01A-0D45-4DE8-96DD-CB342EDB3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4A34-DB80-4F94-A817-1999DD2A9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79F7-58E7-467A-B57E-44AF1DEFF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6B09-40C1-4309-8270-1069DE91C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E881-26F8-4435-A668-682314315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D760-A5C3-4688-B4E7-9BCDE8C0C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BDBF-2E15-4FC2-BF18-DB2AAC42C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1567-787C-4532-B70F-EFEE2E256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E253-7870-4A6F-9C85-F06F19C26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E478-539C-4D3F-AF83-B7D05FDC9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A4DB-E6D9-4A6A-9B15-9FB585EDA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F415-E96D-4DD7-8AA2-F76457E33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5F40-4693-4C8B-A7C7-E8627E876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C96F-21A7-4080-B3E5-5171EA999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D45D-AFBA-405D-9C22-7E4ED1546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C50B-B9F1-41F1-82CE-5130113A0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B8B1-8CBC-490A-8C35-068E194B4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E460-D6F8-4B21-B258-438477AB7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4F9A-BCC0-4454-A9D0-6F620F7BD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2327-BFB8-4039-AF32-D52FB2D99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6EA1-8105-4284-9B75-222286278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C6DB-A467-470D-ABC4-C0E4E40BF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BD83-7F02-4846-A55A-B48736AB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C72B-9FFD-4DE0-968D-0A592491C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94E6-5682-4321-BCA2-BDA3FED91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061-FA0F-4339-85AA-F8405CAF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016-9557-445A-854D-2E1D2B28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764-3601-4FDE-AF53-D202851C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078-097E-4D31-915A-DD75433B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5A6-2AE0-4514-BFDC-BC1AB170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787-2C02-4CC8-B6ED-7F2D57EF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153-0348-4A52-8CBC-B1FC67DF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E02-EAC2-4B98-9B8B-4BE25BA6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427-EEE0-4C45-8DA9-0300B583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416-5BE4-4BE4-9852-661291D6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1DC-D6C9-4A6D-A5CD-41BDA680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6F2-5E18-44F2-8864-91DFC93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6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ef6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ef6f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ef6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ef6f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ef6f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4C60-8F5D-4B21-B94C-0F91502CA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5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5.xml"/><Relationship Id="rId16" Type="http://schemas.openxmlformats.org/officeDocument/2006/relationships/slide" Target="slide4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6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4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33520" y="1522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f6f1"/>
                </a:solidFill>
                <a:latin typeface="Trebuchet MS"/>
              </a:rPr>
              <a:t>Units 1-2 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381880" cy="560880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Vocabul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Music Vocabular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Liter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Mus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Gramm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533520" y="1371600"/>
            <a:ext cx="8001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When a performer, at first unsuccessful, becomes very popular one day, it is called a … (?)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62120" y="914400"/>
            <a:ext cx="716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When music is difficult to understand, it is …(?)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09480" y="1371600"/>
            <a:ext cx="815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Name 7 genres of books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114560" y="533520"/>
            <a:ext cx="72673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An American writer famous for his humorous stories with unexpected endings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914400" y="914400"/>
            <a:ext cx="7620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ef6f1"/>
                </a:solidFill>
                <a:latin typeface="Times New Roman"/>
              </a:rPr>
              <a:t>The most famous romance novel written by a remarkable British novelist Charlotte Bront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785880" y="914400"/>
            <a:ext cx="7748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ef6f1"/>
                </a:solidFill>
                <a:latin typeface="Times New Roman"/>
              </a:rPr>
              <a:t>He is famous for books for children and adults both, especially for such books as “Charlie and Chocolate factory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57200" y="1066680"/>
            <a:ext cx="7924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Stratford-upon-Avon is a birthplace of …(?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Edinburgh is a birthplace of …(?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838080" y="11430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Name 7 genres of musi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914400" y="11430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…</a:t>
            </a: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(?) are the most popular British rock group ever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785880" y="1828800"/>
            <a:ext cx="782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…</a:t>
            </a: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(?) was called a king of rock’n’roll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600200" y="609480"/>
            <a:ext cx="632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Books about space wars, robots and future are…(?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3520" y="106668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…</a:t>
            </a: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(?) were started to teach young people to listen to classical music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838080" y="990720"/>
            <a:ext cx="7696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def6f1"/>
                </a:solidFill>
                <a:latin typeface="Times New Roman"/>
              </a:rPr>
              <a:t>His rock operas and musicals are staged all over the world; they are always played to full hous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371600" y="762120"/>
            <a:ext cx="640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(A / the) famous singer Sting is giving a concert tomorrow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09480" y="99072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(The / a / - ) Gershwin’s music is classic in jazz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785880" y="838080"/>
            <a:ext cx="746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ef6f1"/>
                </a:solidFill>
                <a:latin typeface="Times New Roman"/>
              </a:rPr>
              <a:t>He stopped (to perform / performing) when he got problems with his health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785880" y="685800"/>
            <a:ext cx="7443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f6f1"/>
                </a:solidFill>
                <a:latin typeface="Times New Roman"/>
              </a:rPr>
              <a:t>The music of this rock opera is emotional and powerful. The actors sing beautifully. No doubt the performance (will be / is going to be) a succes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609480" y="762120"/>
            <a:ext cx="7925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The firm (is releasing / releases) the new album of orchestra music in 2 day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828800" y="914400"/>
            <a:ext cx="594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A place where a story takes place is called … (?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600200" y="762120"/>
            <a:ext cx="601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If a book teaches something it is … (?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990720" y="762120"/>
            <a:ext cx="7010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If a writer lives at the same time with the readers he/she is a …(?) writ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838080" y="129528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f6f1"/>
                </a:solidFill>
                <a:latin typeface="Times New Roman"/>
              </a:rPr>
              <a:t>If the book is so interesting that you can’t stop reading and want to know what will happen next, the book is …(?)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762120" y="990720"/>
            <a:ext cx="7696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When all the tickets for a concert are sold, the performers will perform to…(?)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914400" y="12952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When a tune is easy to remember it is … (?)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371600" y="914400"/>
            <a:ext cx="662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If you want to write a new song, you need to have …(?) and …(?)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olga</cp:lastModifiedBy>
  <dcterms:modified xsi:type="dcterms:W3CDTF">2012-10-31T05:51:49Z</dcterms:modified>
  <cp:revision>43</cp:revision>
  <dc:subject/>
  <dc:title>Slide 1</dc:title>
</cp:coreProperties>
</file>