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3.png" ContentType="image/png"/>
  <Override PartName="/ppt/media/image18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11.gif" ContentType="image/gif"/>
  <Override PartName="/ppt/media/image13.gif" ContentType="image/gif"/>
  <Override PartName="/ppt/media/image16.jpeg" ContentType="image/jpeg"/>
  <Override PartName="/ppt/media/image9.gif" ContentType="image/gif"/>
  <Override PartName="/ppt/media/image27.jpeg" ContentType="image/jpeg"/>
  <Override PartName="/ppt/media/image6.jpeg" ContentType="image/jpeg"/>
  <Override PartName="/ppt/media/image12.jpeg" ContentType="image/jpeg"/>
  <Override PartName="/ppt/media/image10.gif" ContentType="image/gif"/>
  <Override PartName="/ppt/media/image29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4.jpeg" ContentType="image/jpeg"/>
  <Override PartName="/ppt/media/image15.jpeg" ContentType="image/jpeg"/>
  <Override PartName="/ppt/media/image17.png" ContentType="image/png"/>
  <Override PartName="/ppt/media/image19.png" ContentType="image/png"/>
  <Override PartName="/ppt/media/image20.jpeg" ContentType="image/jpeg"/>
  <Override PartName="/ppt/media/chimes.wav" ContentType="audio/x-wav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B06-CD4F-4127-9266-90DC6F87EA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402A-128B-44E7-A1C2-A1B28E302F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4D33-A8FE-48BE-B9C7-043F1A3130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4D1F-AB80-4E2E-85A8-6018D7218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F006-260B-47AB-80BB-CBD38B2E55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B1E-ABEE-42A2-AE43-BB5A7B37E0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94A-0A03-4E0D-8DD9-CEAADD40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9F9-A7FD-41C8-B907-75ACB28D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0FD-76D2-40C7-8B02-92861AAC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3FA-EE7E-4D6D-90F6-92C58D6A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AFD-AC2D-45E9-B259-3C7743AB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A5A6-044E-4E15-82DF-18EB6FC7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5A7E-4EF1-4DE7-B80F-CE670E4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7D7E-40D4-44FE-960D-C7C474C3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543E-3BDF-4726-8DA2-BC619239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AB6F-E95A-4651-AD3B-7C9A19D2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21A7-EBEC-4EA4-AE3B-C077A56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5DE-D042-403F-A96F-D1C8B8D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27A0-DA99-4A6C-BC7B-C4396F02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AC2-8DEC-41DE-B215-EA6D3AE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B21-7AED-4C64-8CA0-1DDE47E4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E7D4-EBC7-495C-B678-2869F07E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D82-AB06-49BE-85D2-E65ECCE7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69D-30FE-4506-8422-710FC9D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DCF-62AC-4A38-8332-766001DB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22D-F014-4B53-AF1B-FC01212B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568-79D6-4FE9-B314-4FCF6010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1B6-562C-4BDC-9459-2086A12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925-2967-4014-8AFA-7B4517D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5C6-1A70-4365-83D3-C481573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BECE-13AE-4457-AE80-A0327DE526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E189-93EF-4A32-804C-B5BD0680D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gif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gif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1.gif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13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10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900000" y="592200"/>
            <a:ext cx="8136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1304"/>
                </a:solidFill>
                <a:latin typeface="Georgia"/>
              </a:rPr>
              <a:t>Дидактическая игра</a:t>
            </a:r>
            <a:br>
              <a:rPr sz="4800"/>
            </a:br>
            <a:r>
              <a:rPr b="0" lang="ru-RU" sz="4800" spc="-1" strike="noStrike">
                <a:solidFill>
                  <a:srgbClr val="221304"/>
                </a:solidFill>
                <a:latin typeface="Georgia"/>
              </a:rPr>
              <a:t>«Логический калейдоскоп»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221304"/>
                </a:solidFill>
                <a:latin typeface="Georgia"/>
              </a:rPr>
              <a:t>для детей 6-7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E:\Документы\Мамина презентация\фон 1.jpg"/>
          <p:cNvPicPr/>
          <p:nvPr/>
        </p:nvPicPr>
        <p:blipFill>
          <a:blip r:embed="rId1">
            <a:alphaModFix amt="62000"/>
          </a:blip>
          <a:stretch/>
        </p:blipFill>
        <p:spPr>
          <a:xfrm>
            <a:off x="-2556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E:\Документы\Безымянный 2.jpg"/>
          <p:cNvPicPr/>
          <p:nvPr/>
        </p:nvPicPr>
        <p:blipFill>
          <a:blip r:embed="rId2"/>
          <a:stretch/>
        </p:blipFill>
        <p:spPr>
          <a:xfrm>
            <a:off x="1258920" y="2503440"/>
            <a:ext cx="1644480" cy="123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E:\Документы\Безымянный 1.jpg"/>
          <p:cNvPicPr/>
          <p:nvPr/>
        </p:nvPicPr>
        <p:blipFill>
          <a:blip r:embed="rId3"/>
          <a:stretch/>
        </p:blipFill>
        <p:spPr>
          <a:xfrm>
            <a:off x="1825560" y="5084640"/>
            <a:ext cx="1603440" cy="1203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E:\Документы\Безымянный 5.jpg"/>
          <p:cNvPicPr/>
          <p:nvPr/>
        </p:nvPicPr>
        <p:blipFill>
          <a:blip r:embed="rId4"/>
          <a:stretch/>
        </p:blipFill>
        <p:spPr>
          <a:xfrm>
            <a:off x="5508720" y="4011480"/>
            <a:ext cx="1834920" cy="137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E:\Документы\Безымянный 6.jpg"/>
          <p:cNvPicPr/>
          <p:nvPr/>
        </p:nvPicPr>
        <p:blipFill>
          <a:blip r:embed="rId5"/>
          <a:stretch/>
        </p:blipFill>
        <p:spPr>
          <a:xfrm>
            <a:off x="6426360" y="2165400"/>
            <a:ext cx="1703160" cy="127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6"/>
          <a:stretch/>
        </p:blipFill>
        <p:spPr>
          <a:xfrm>
            <a:off x="7067520" y="5330880"/>
            <a:ext cx="1212840" cy="86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7"/>
          <a:stretch/>
        </p:blipFill>
        <p:spPr>
          <a:xfrm>
            <a:off x="600120" y="4971960"/>
            <a:ext cx="811080" cy="87156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"/>
          <p:cNvSpPr/>
          <p:nvPr/>
        </p:nvSpPr>
        <p:spPr>
          <a:xfrm>
            <a:off x="3201840" y="1728720"/>
            <a:ext cx="789120" cy="134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201840" y="1673280"/>
            <a:ext cx="5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8"/>
          <a:stretch/>
        </p:blipFill>
        <p:spPr>
          <a:xfrm>
            <a:off x="5292720" y="2712960"/>
            <a:ext cx="1143000" cy="97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Documents and Settings\Администратор\Рабочий стол\нет1.gif"/>
          <p:cNvPicPr/>
          <p:nvPr/>
        </p:nvPicPr>
        <p:blipFill>
          <a:blip r:embed="rId9"/>
          <a:stretch/>
        </p:blipFill>
        <p:spPr>
          <a:xfrm>
            <a:off x="401760" y="3110040"/>
            <a:ext cx="742680" cy="74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K:\111\Документы\Мамина презентация\Презентация со звуками\77777777777.jpg"/>
          <p:cNvPicPr/>
          <p:nvPr/>
        </p:nvPicPr>
        <p:blipFill>
          <a:blip r:embed="rId1"/>
          <a:stretch/>
        </p:blipFill>
        <p:spPr>
          <a:xfrm>
            <a:off x="-33480" y="28440"/>
            <a:ext cx="9158400" cy="687384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684360" y="682560"/>
            <a:ext cx="25192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5867280" y="652320"/>
            <a:ext cx="25210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195640" y="4992840"/>
            <a:ext cx="792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◄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5445000" y="5040360"/>
            <a:ext cx="4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►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Блок-схема: узел 10"/>
          <p:cNvSpPr/>
          <p:nvPr/>
        </p:nvSpPr>
        <p:spPr>
          <a:xfrm>
            <a:off x="109872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Блок-схема: узел 11"/>
          <p:cNvSpPr/>
          <p:nvPr/>
        </p:nvSpPr>
        <p:spPr>
          <a:xfrm>
            <a:off x="226692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Блок-схема: узел 12"/>
          <p:cNvSpPr/>
          <p:nvPr/>
        </p:nvSpPr>
        <p:spPr>
          <a:xfrm>
            <a:off x="1738440" y="251316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Блок-схема: узел 13"/>
          <p:cNvSpPr/>
          <p:nvPr/>
        </p:nvSpPr>
        <p:spPr>
          <a:xfrm>
            <a:off x="2266920" y="3645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Блок-схема: узел 14"/>
          <p:cNvSpPr/>
          <p:nvPr/>
        </p:nvSpPr>
        <p:spPr>
          <a:xfrm>
            <a:off x="1098720" y="3645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Блок-схема: узел 15"/>
          <p:cNvSpPr/>
          <p:nvPr/>
        </p:nvSpPr>
        <p:spPr>
          <a:xfrm>
            <a:off x="637236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Блок-схема: узел 16"/>
          <p:cNvSpPr/>
          <p:nvPr/>
        </p:nvSpPr>
        <p:spPr>
          <a:xfrm>
            <a:off x="7596360" y="14842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Блок-схема: узел 17"/>
          <p:cNvSpPr/>
          <p:nvPr/>
        </p:nvSpPr>
        <p:spPr>
          <a:xfrm>
            <a:off x="6966000" y="34164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L:\111\Документы\Мамина презентация\смайлы\нет2.gif"/>
          <p:cNvPicPr/>
          <p:nvPr/>
        </p:nvPicPr>
        <p:blipFill>
          <a:blip r:embed="rId2"/>
          <a:stretch/>
        </p:blipFill>
        <p:spPr>
          <a:xfrm>
            <a:off x="3995640" y="460548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Администратор\Рабочий стол\нет1.gif"/>
          <p:cNvPicPr/>
          <p:nvPr/>
        </p:nvPicPr>
        <p:blipFill>
          <a:blip r:embed="rId3"/>
          <a:stretch/>
        </p:blipFill>
        <p:spPr>
          <a:xfrm>
            <a:off x="1555920" y="5599080"/>
            <a:ext cx="742680" cy="74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:\Documents and Settings\User\Рабочий стол\1234.jpg"/>
          <p:cNvPicPr/>
          <p:nvPr/>
        </p:nvPicPr>
        <p:blipFill>
          <a:blip r:embed="rId4"/>
          <a:stretch/>
        </p:blipFill>
        <p:spPr>
          <a:xfrm>
            <a:off x="4067280" y="5451480"/>
            <a:ext cx="119844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3438 0.0044 L -0.03524 -0.11551 C -0.05156 -0.14329 -0.07205 -0.18125 -0.08958 -0.22708 C -0.11163 -0.27847 -0.12725 -0.31967 -0.13541 -0.35069 L -0.17899 -0.49838 E">
                                      <p:cBhvr>
                                        <p:cTn id="3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K:\111\Документы\Мамина презентация\Презентация со звуками\77777777777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902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684360" y="682560"/>
            <a:ext cx="25192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5867280" y="652320"/>
            <a:ext cx="25210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2195640" y="4992840"/>
            <a:ext cx="792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◄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5445000" y="5040360"/>
            <a:ext cx="4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►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L:\111\Документы\Мамина презентация\смайлы\нет2.gif"/>
          <p:cNvPicPr/>
          <p:nvPr/>
        </p:nvPicPr>
        <p:blipFill>
          <a:blip r:embed="rId2"/>
          <a:stretch/>
        </p:blipFill>
        <p:spPr>
          <a:xfrm>
            <a:off x="4006800" y="4441680"/>
            <a:ext cx="1123920" cy="100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Администратор\Рабочий стол\нет1.gif"/>
          <p:cNvPicPr/>
          <p:nvPr/>
        </p:nvPicPr>
        <p:blipFill>
          <a:blip r:embed="rId3"/>
          <a:stretch/>
        </p:blipFill>
        <p:spPr>
          <a:xfrm>
            <a:off x="7091280" y="56721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32" name="Равнобедренный треугольник 27"/>
          <p:cNvSpPr/>
          <p:nvPr/>
        </p:nvSpPr>
        <p:spPr>
          <a:xfrm>
            <a:off x="1041480" y="1449360"/>
            <a:ext cx="606240" cy="503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Равнобедренный треугольник 20"/>
          <p:cNvSpPr/>
          <p:nvPr/>
        </p:nvSpPr>
        <p:spPr>
          <a:xfrm>
            <a:off x="1041480" y="3284640"/>
            <a:ext cx="6062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21"/>
          <p:cNvSpPr/>
          <p:nvPr/>
        </p:nvSpPr>
        <p:spPr>
          <a:xfrm>
            <a:off x="2195640" y="328464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23"/>
          <p:cNvSpPr/>
          <p:nvPr/>
        </p:nvSpPr>
        <p:spPr>
          <a:xfrm>
            <a:off x="2195640" y="1449360"/>
            <a:ext cx="608040" cy="503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Равнобедренный треугольник 24"/>
          <p:cNvSpPr/>
          <p:nvPr/>
        </p:nvSpPr>
        <p:spPr>
          <a:xfrm>
            <a:off x="6227640" y="110664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Равнобедренный треугольник 25"/>
          <p:cNvSpPr/>
          <p:nvPr/>
        </p:nvSpPr>
        <p:spPr>
          <a:xfrm>
            <a:off x="7451640" y="110664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Равнобедренный треугольник 26"/>
          <p:cNvSpPr/>
          <p:nvPr/>
        </p:nvSpPr>
        <p:spPr>
          <a:xfrm>
            <a:off x="6854760" y="1932120"/>
            <a:ext cx="6080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Равнобедренный треугольник 28"/>
          <p:cNvSpPr/>
          <p:nvPr/>
        </p:nvSpPr>
        <p:spPr>
          <a:xfrm>
            <a:off x="6227640" y="2741760"/>
            <a:ext cx="608040" cy="50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Равнобедренный треугольник 29"/>
          <p:cNvSpPr/>
          <p:nvPr/>
        </p:nvSpPr>
        <p:spPr>
          <a:xfrm>
            <a:off x="7462800" y="2741760"/>
            <a:ext cx="606600" cy="502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Равнобедренный треугольник 30"/>
          <p:cNvSpPr/>
          <p:nvPr/>
        </p:nvSpPr>
        <p:spPr>
          <a:xfrm>
            <a:off x="6845400" y="3537000"/>
            <a:ext cx="6062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8" descr="C:\Documents and Settings\User\Рабочий стол\1234.jpg"/>
          <p:cNvPicPr/>
          <p:nvPr/>
        </p:nvPicPr>
        <p:blipFill>
          <a:blip r:embed="rId4"/>
          <a:stretch/>
        </p:blipFill>
        <p:spPr>
          <a:xfrm>
            <a:off x="4067280" y="5451480"/>
            <a:ext cx="119844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.05573 0.00532 L 0.10209 -0.10834 C 0.11181 -0.13264 0.12309 -0.1706 0.1323 -0.21019 C 0.14254 -0.25625 0.14775 -0.29422 0.15018 -0.3213 L 0.15834 -0.45209 E">
                                      <p:cBhvr>
                                        <p:cTn id="5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K:\111\Документы\Мамина презентация\Презентация со звуками\77777777777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9022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684360" y="682560"/>
            <a:ext cx="25192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5867280" y="652320"/>
            <a:ext cx="2521080" cy="4176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195640" y="4992840"/>
            <a:ext cx="792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◄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445000" y="5040360"/>
            <a:ext cx="4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Times New Roman"/>
              </a:rPr>
              <a:t>►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L:\111\Документы\Мамина презентация\смайлы\нет2.gif"/>
          <p:cNvPicPr/>
          <p:nvPr/>
        </p:nvPicPr>
        <p:blipFill>
          <a:blip r:embed="rId2"/>
          <a:stretch/>
        </p:blipFill>
        <p:spPr>
          <a:xfrm>
            <a:off x="7126200" y="554364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C:\Documents and Settings\Администратор\Рабочий стол\нет1.gif"/>
          <p:cNvPicPr/>
          <p:nvPr/>
        </p:nvPicPr>
        <p:blipFill>
          <a:blip r:embed="rId3"/>
          <a:stretch/>
        </p:blipFill>
        <p:spPr>
          <a:xfrm>
            <a:off x="1555920" y="5599080"/>
            <a:ext cx="742680" cy="743040"/>
          </a:xfrm>
          <a:prstGeom prst="rect">
            <a:avLst/>
          </a:prstGeom>
          <a:ln w="0">
            <a:noFill/>
          </a:ln>
        </p:spPr>
      </p:pic>
      <p:sp>
        <p:nvSpPr>
          <p:cNvPr id="150" name="Ромб 22"/>
          <p:cNvSpPr/>
          <p:nvPr/>
        </p:nvSpPr>
        <p:spPr>
          <a:xfrm>
            <a:off x="1741320" y="3573360"/>
            <a:ext cx="37332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Ромб 11"/>
          <p:cNvSpPr/>
          <p:nvPr/>
        </p:nvSpPr>
        <p:spPr>
          <a:xfrm>
            <a:off x="2428920" y="2416320"/>
            <a:ext cx="37296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Ромб 12"/>
          <p:cNvSpPr/>
          <p:nvPr/>
        </p:nvSpPr>
        <p:spPr>
          <a:xfrm>
            <a:off x="1741320" y="1268280"/>
            <a:ext cx="373320" cy="709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Ромб 13"/>
          <p:cNvSpPr/>
          <p:nvPr/>
        </p:nvSpPr>
        <p:spPr>
          <a:xfrm>
            <a:off x="1000080" y="2363760"/>
            <a:ext cx="37296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Ромб 14"/>
          <p:cNvSpPr/>
          <p:nvPr/>
        </p:nvSpPr>
        <p:spPr>
          <a:xfrm>
            <a:off x="6300720" y="1125360"/>
            <a:ext cx="371520" cy="709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Ромб 15"/>
          <p:cNvSpPr/>
          <p:nvPr/>
        </p:nvSpPr>
        <p:spPr>
          <a:xfrm>
            <a:off x="7596360" y="3073320"/>
            <a:ext cx="37296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Ромб 16"/>
          <p:cNvSpPr/>
          <p:nvPr/>
        </p:nvSpPr>
        <p:spPr>
          <a:xfrm>
            <a:off x="7596360" y="1125360"/>
            <a:ext cx="372960" cy="709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Ромб 17"/>
          <p:cNvSpPr/>
          <p:nvPr/>
        </p:nvSpPr>
        <p:spPr>
          <a:xfrm>
            <a:off x="6300720" y="3073320"/>
            <a:ext cx="371520" cy="709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8" descr="C:\Documents and Settings\User\Рабочий стол\1234.jpg"/>
          <p:cNvPicPr/>
          <p:nvPr/>
        </p:nvPicPr>
        <p:blipFill>
          <a:blip r:embed="rId4"/>
          <a:stretch/>
        </p:blipFill>
        <p:spPr>
          <a:xfrm>
            <a:off x="4067280" y="5451480"/>
            <a:ext cx="119844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3.05556E-006 2.31321E-006 L -0.01024 -0.47537 E">
                                      <p:cBhvr>
                                        <p:cTn id="8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K:\111\Документы\Мамина презентация\Презентация со звуками\Statiy5911.jpg"/>
          <p:cNvPicPr/>
          <p:nvPr/>
        </p:nvPicPr>
        <p:blipFill>
          <a:blip r:embed="rId1"/>
          <a:stretch/>
        </p:blipFill>
        <p:spPr>
          <a:xfrm>
            <a:off x="-6480" y="-12600"/>
            <a:ext cx="9186840" cy="6870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K:\111\Документы\Мамина презентация\Презентация со звуками\Р\крот.jpg"/>
          <p:cNvPicPr/>
          <p:nvPr/>
        </p:nvPicPr>
        <p:blipFill>
          <a:blip r:embed="rId2"/>
          <a:stretch/>
        </p:blipFill>
        <p:spPr>
          <a:xfrm>
            <a:off x="7596360" y="3005280"/>
            <a:ext cx="720720" cy="83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451640" y="5170320"/>
            <a:ext cx="936720" cy="88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K:\111\Документы\Мамина презентация\Презентация со звуками\Р\тигр.jpg"/>
          <p:cNvPicPr/>
          <p:nvPr/>
        </p:nvPicPr>
        <p:blipFill>
          <a:blip r:embed="rId4"/>
          <a:stretch/>
        </p:blipFill>
        <p:spPr>
          <a:xfrm>
            <a:off x="3851280" y="404640"/>
            <a:ext cx="865080" cy="760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K:\111\Документы\Мамина презентация\Презентация со звуками\Р\носорог.png"/>
          <p:cNvPicPr/>
          <p:nvPr/>
        </p:nvPicPr>
        <p:blipFill>
          <a:blip r:embed="rId5"/>
          <a:stretch/>
        </p:blipFill>
        <p:spPr>
          <a:xfrm>
            <a:off x="395280" y="3052800"/>
            <a:ext cx="1081080" cy="68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K:\111\Документы\Мамина презентация\Презентация со звуками\К\белка.jpg"/>
          <p:cNvPicPr/>
          <p:nvPr/>
        </p:nvPicPr>
        <p:blipFill>
          <a:blip r:embed="rId6"/>
          <a:stretch/>
        </p:blipFill>
        <p:spPr>
          <a:xfrm>
            <a:off x="250920" y="4797360"/>
            <a:ext cx="1001520" cy="1042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7"/>
          <a:stretch/>
        </p:blipFill>
        <p:spPr>
          <a:xfrm>
            <a:off x="1563840" y="4925880"/>
            <a:ext cx="882360" cy="7844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4144320" y="19162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0.00295 0.025 L -0.11771 0.1088 C -0.14219 0.12685 -0.18142 0.14769 -0.22326 0.16551 C -0.27083 0.18635 -0.30886 0.19977 -0.33802 0.20486 L -0.47274 0.23148 E">
                                      <p:cBhvr>
                                        <p:cTn id="9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158 -0.00394 L -0.1283 -0.0294 C -0.15903 -0.03403 -0.20104 -0.05186 -0.24323 -0.07639 C -0.29115 -0.10394 -0.32761 -0.13172 -0.35104 -0.15811 L -0.46389 -0.28149 E">
                                      <p:cBhvr>
                                        <p:cTn id="9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007 0.0044 L 0.02396 0.16759 C 0.02882 0.20162 0.03768 0.25278 0.04705 0.30509 C 0.05764 0.36528 0.06632 0.41435 0.07327 0.44746 L 0.10782 0.60718 E">
                                      <p:cBhvr>
                                        <p:cTn id="10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0816 -0.01898 L 0.11788 0.0412 C 0.14462 0.05509 0.18489 0.06597 0.22725 0.07222 C 0.27569 0.07916 0.31458 0.07893 0.34288 0.07384 L 0.47604 0.05069 E">
                                      <p:cBhvr>
                                        <p:cTn id="10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7" descr="K:\111\Документы\Мамина презентация\Презентация со звуками\Statiy5911.jpg"/>
          <p:cNvPicPr/>
          <p:nvPr/>
        </p:nvPicPr>
        <p:blipFill>
          <a:blip r:embed="rId1"/>
          <a:stretch/>
        </p:blipFill>
        <p:spPr>
          <a:xfrm>
            <a:off x="-6480" y="-12600"/>
            <a:ext cx="918684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4144320" y="1916280"/>
            <a:ext cx="56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Times New Roman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K:\111\Документы\Мамина презентация\Презентация со звуками\З\обезьяна.jpg"/>
          <p:cNvPicPr/>
          <p:nvPr/>
        </p:nvPicPr>
        <p:blipFill>
          <a:blip r:embed="rId2"/>
          <a:stretch/>
        </p:blipFill>
        <p:spPr>
          <a:xfrm>
            <a:off x="8101080" y="5391000"/>
            <a:ext cx="612720" cy="804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K:\111\Документы\Мамина презентация\Презентация со звуками\З\зайчик.jpg"/>
          <p:cNvPicPr/>
          <p:nvPr/>
        </p:nvPicPr>
        <p:blipFill>
          <a:blip r:embed="rId3"/>
          <a:stretch/>
        </p:blipFill>
        <p:spPr>
          <a:xfrm>
            <a:off x="7524720" y="836640"/>
            <a:ext cx="766800" cy="784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K:\111\Документы\Мамина презентация\Презентация со звуками\З\зебра.png"/>
          <p:cNvPicPr/>
          <p:nvPr/>
        </p:nvPicPr>
        <p:blipFill>
          <a:blip r:embed="rId4"/>
          <a:stretch/>
        </p:blipFill>
        <p:spPr>
          <a:xfrm>
            <a:off x="468360" y="4797360"/>
            <a:ext cx="718920" cy="812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K:\111\Документы\Мамина презентация\Презентация со звуками\З\коза.png"/>
          <p:cNvPicPr/>
          <p:nvPr/>
        </p:nvPicPr>
        <p:blipFill>
          <a:blip r:embed="rId5"/>
          <a:stretch/>
        </p:blipFill>
        <p:spPr>
          <a:xfrm>
            <a:off x="468360" y="907920"/>
            <a:ext cx="1238040" cy="8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6"/>
          <a:stretch/>
        </p:blipFill>
        <p:spPr>
          <a:xfrm>
            <a:off x="3832200" y="174600"/>
            <a:ext cx="146700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7"/>
          <a:stretch/>
        </p:blipFill>
        <p:spPr>
          <a:xfrm>
            <a:off x="5148360" y="1011240"/>
            <a:ext cx="88092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1.11111E-006 3.45131E-006 L -0.12951 -0.11289 C -0.15746 -0.13741 -0.20035 -0.16725 -0.24566 -0.19385 C -0.29861 -0.22392 -0.34149 -0.24474 -0.37274 -0.25469 L -0.52465 -0.30558 E">
                                      <p:cBhvr>
                                        <p:cTn id="11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.02014 0.01342 L -0.06979 0.21791 C -0.08802 0.26116 -0.12413 0.31321 -0.16632 0.36086 C -0.21354 0.41384 -0.25712 0.44969 -0.29115 0.46611 L -0.4592 0.54846 E">
                                      <p:cBhvr>
                                        <p:cTn id="12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0243 0.00925 L 0.14618 -0.00231 C 0.17674 -0.0037 0.2191 -0.01712 0.26181 -0.03701 C 0.31077 -0.06038 0.34774 -0.0849 0.37257 -0.10918 L 0.48993 -0.22091 E">
                                      <p:cBhvr>
                                        <p:cTn id="12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0468 0.01342 L 0.09532 0.19246 C 0.11632 0.23017 0.15261 0.27874 0.19341 0.32408 C 0.23959 0.37567 0.28056 0.41221 0.31233 0.43165 L 0.46302 0.52949 E">
                                      <p:cBhvr>
                                        <p:cTn id="13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7" descr="K:\111\Документы\Мамина презентация\Презентация со звуками\Statiy5911.jpg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4144320" y="1773360"/>
            <a:ext cx="6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70c0"/>
                </a:solidFill>
                <a:latin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8" descr="K:\111\Документы\Мамина презентация\Презентация со звуками\К\item_2463.jpg"/>
          <p:cNvPicPr/>
          <p:nvPr/>
        </p:nvPicPr>
        <p:blipFill>
          <a:blip r:embed="rId2"/>
          <a:stretch/>
        </p:blipFill>
        <p:spPr>
          <a:xfrm>
            <a:off x="468360" y="5013360"/>
            <a:ext cx="787320" cy="817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K:\111\Документы\Мамина презентация\Презентация со звуками\К\белка.jpg"/>
          <p:cNvPicPr/>
          <p:nvPr/>
        </p:nvPicPr>
        <p:blipFill>
          <a:blip r:embed="rId3"/>
          <a:stretch/>
        </p:blipFill>
        <p:spPr>
          <a:xfrm>
            <a:off x="3851280" y="264960"/>
            <a:ext cx="784080" cy="816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K:\111\Документы\Мамина презентация\Презентация со звуками\К\коза.png"/>
          <p:cNvPicPr/>
          <p:nvPr/>
        </p:nvPicPr>
        <p:blipFill>
          <a:blip r:embed="rId4"/>
          <a:stretch/>
        </p:blipFill>
        <p:spPr>
          <a:xfrm>
            <a:off x="7380360" y="2612880"/>
            <a:ext cx="1044360" cy="72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1" descr="K:\111\Документы\Мамина презентация\Презентация со звуками\К\44.jpg"/>
          <p:cNvPicPr/>
          <p:nvPr/>
        </p:nvPicPr>
        <p:blipFill>
          <a:blip r:embed="rId5"/>
          <a:stretch/>
        </p:blipFill>
        <p:spPr>
          <a:xfrm>
            <a:off x="7951680" y="5084640"/>
            <a:ext cx="587520" cy="74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2" descr="K:\111\Документы\Мамина презентация\Презентация со звуками\С\слон.gif"/>
          <p:cNvPicPr/>
          <p:nvPr/>
        </p:nvPicPr>
        <p:blipFill>
          <a:blip r:embed="rId6"/>
          <a:stretch/>
        </p:blipFill>
        <p:spPr>
          <a:xfrm>
            <a:off x="160200" y="2954160"/>
            <a:ext cx="1401840" cy="87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E:\нет3.gif"/>
          <p:cNvPicPr/>
          <p:nvPr/>
        </p:nvPicPr>
        <p:blipFill>
          <a:blip r:embed="rId7"/>
          <a:stretch/>
        </p:blipFill>
        <p:spPr>
          <a:xfrm>
            <a:off x="1692360" y="3297240"/>
            <a:ext cx="97164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2.77778E-007 -3.12514E-006 L 0.1 -0.02637 C 0.12101 -0.03123 0.14948 -0.04696 0.17708 -0.06731 C 0.20729 -0.09206 0.23038 -0.11635 0.24392 -0.1381 L 0.31059 -0.24126 E">
                                      <p:cBhvr>
                                        <p:cTn id="14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-0.00521 0.00301 L -0.01753 0.18459 C -0.01979 0.22322 -0.01389 0.27851 -0.00364 0.33218 C 0.00851 0.39672 0.02205 0.44645 0.03768 0.47814 L 0.11337 0.63451 E">
                                      <p:cBhvr>
                                        <p:cTn id="15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-0.00677 0.02383 L -0.11094 0.14759 C -0.13334 0.17558 -0.16997 0.20287 -0.20938 0.22947 C -0.25573 0.25654 -0.29358 0.27458 -0.32344 0.27875 L -0.46285 0.30442 E">
                                      <p:cBhvr>
                                        <p:cTn id="15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0226 -0.00162 L -0.10868 -0.02453 C -0.13125 -0.03009 -0.16129 -0.04444 -0.18993 -0.06551 C -0.22361 -0.09097 -0.24844 -0.11481 -0.2632 -0.13773 L -0.33507 -0.24606 E">
                                      <p:cBhvr>
                                        <p:cTn id="16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4:35:42Z</dcterms:created>
  <dc:creator/>
  <dc:description/>
  <dc:language>en-US</dc:language>
  <cp:lastModifiedBy>User</cp:lastModifiedBy>
  <dcterms:modified xsi:type="dcterms:W3CDTF">2012-03-28T20:51:37Z</dcterms:modified>
  <cp:revision>70</cp:revision>
  <dc:subject/>
  <dc:title/>
</cp:coreProperties>
</file>