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196-393C-451D-96A4-D95ABEE6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59B-7F4B-486C-85B6-E4AB4CA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E68-8BA5-4FE9-91F5-331FAA49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535-8181-4F3D-AF83-99189639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AD3-2996-46D5-84A2-942F2AA2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2E08-5B44-4628-9944-2FBFBD6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E3E-ED28-4ED8-927B-B84B364E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0BF0-2746-47F5-9662-A49C072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64EF-6C0F-49B5-8233-4490AAF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E77-4A46-4E93-A4AF-BCABB690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BCB4-9C00-4ADA-8324-D4FDFD32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5C5-4B0F-48BC-AB2D-1BE8EC2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41F5-1DCA-4FA2-ADC2-1BAC1BA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711-5FB0-4975-80F0-ACD6FA4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E585-3F2B-4286-8DF7-69EA4AB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2696-A1D1-4229-A384-2D456B2A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17FD-60CF-4EC2-9DB7-779D553A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C75-02A5-48E6-9593-F247512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612-7258-46A2-B607-09BD372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B3D-FC09-4BEB-8906-067C63C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2D5-5423-41D8-B3CA-2BB3A55C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687-C277-4AC1-B613-6B6E6B2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9CD-BFE7-466B-95BE-298C63D8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8AB-512F-4068-B0A0-4ABF7CB1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2A21-DF6D-4BCB-AA56-7114F60567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6421-020E-4B27-A58A-3EE125857F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foxdesign.ru/portfolio/im/foxsite2001_11_f5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оги  Олимп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0041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 Зевса и Геры было двое сыновей –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ес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Гефест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две дочери –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Геба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Эйлетия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4" descr="img025"/>
          <p:cNvPicPr/>
          <p:nvPr/>
        </p:nvPicPr>
        <p:blipFill>
          <a:blip r:embed="rId1"/>
          <a:stretch/>
        </p:blipFill>
        <p:spPr>
          <a:xfrm>
            <a:off x="4643280" y="2771640"/>
            <a:ext cx="2019600" cy="408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mg026"/>
          <p:cNvPicPr/>
          <p:nvPr/>
        </p:nvPicPr>
        <p:blipFill>
          <a:blip r:embed="rId2"/>
          <a:srcRect l="34769" t="0" r="33152" b="0"/>
          <a:stretch/>
        </p:blipFill>
        <p:spPr>
          <a:xfrm>
            <a:off x="2124000" y="1773360"/>
            <a:ext cx="22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24360" y="47592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раннего детства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е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влёкся луком и дротиком, играл в войну, учился управлять военной колесницей, так что когда он вырос, то с согласия отца стал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ог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вой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img025"/>
          <p:cNvPicPr/>
          <p:nvPr/>
        </p:nvPicPr>
        <p:blipFill>
          <a:blip r:embed="rId1"/>
          <a:stretch/>
        </p:blipFill>
        <p:spPr>
          <a:xfrm>
            <a:off x="6012000" y="836640"/>
            <a:ext cx="27302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771280" y="188640"/>
            <a:ext cx="637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Геф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одился хилым и хроменьким. В гневе сбросила его Гера в океан, но морские богини Фетида и Эвринома подхватили несчастного, перенесли в глубокий грот и выходи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ьчик оказался очень способным ко всякого рода искусствам и ремёслам, особенно полюбилось ему кузнечное де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атуре он был очень добр, и все любили его. Вырос Гефест (у римлян – Вулкан) могучим широкоплечим богатырём, который с утра до ночи трудился в кузнице. Хоть остался он хромым, в руках его была исполинская сила, а все сделанные им вещи были добротными и красив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фест изобрёл ювелирное дело и подарил первые украшения из драгоценных камней своим наречённым мамам – Фетиде и Эврино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фест создавал для своего отца громы и мол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img026"/>
          <p:cNvPicPr/>
          <p:nvPr/>
        </p:nvPicPr>
        <p:blipFill>
          <a:blip r:embed="rId1"/>
          <a:srcRect l="34769" t="0" r="33152" b="0"/>
          <a:stretch/>
        </p:blipFill>
        <p:spPr>
          <a:xfrm>
            <a:off x="165240" y="836640"/>
            <a:ext cx="28033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07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Дети Зевса от других богинь и земных женщин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(Аполлон, Гермес, Дионис, Артемида, Персей, Геракл, Полидевк, Елена Прекрасная и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музы)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становились младшими богами или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итанами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– героями Древней Эллады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из них бы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елён каким-нибуд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лантом и управля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хией или ремес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img022"/>
          <p:cNvPicPr/>
          <p:nvPr/>
        </p:nvPicPr>
        <p:blipFill>
          <a:blip r:embed="rId1"/>
          <a:stretch/>
        </p:blipFill>
        <p:spPr>
          <a:xfrm>
            <a:off x="6357960" y="3357720"/>
            <a:ext cx="27860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был богом света и покровителем искусств, которых олицетворяли муз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3230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Музы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– дочери Зевса, богини искусства и наук. Их было девять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246480" cy="5106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360" y="1773360"/>
            <a:ext cx="39654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Зевса и богини памяти Мнемозины было девять дочерей.         Они приходились сводными сёстрами Аполлону и жили вместе с ним на Парнасе. Каждая покровительствовала какому-нибудь виду искусства или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олигим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аривала своих избранников красноречием и даром сочинять гимны.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втер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юбила лириков и музыкантов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ра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музой любовной поэзии. 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а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ожала комедии.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Мельпом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почитала трагедии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ерпсих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ьше всего на свете любила тан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ё три сестры оказывали внимание более серьёзным занят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аллио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музой знаний и эпической поэзии,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Кл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могала историкам, а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влюблена в звёзды и являлась музой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и близнецами. В детстве они были неразлучны, и сестра участвовала в мальчишеских играх бра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поллон избрал для жилища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арна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торую по величине гору в древней Элладе, расположенную вблизи бухты Коринфского залива и в отличие от Олимпа легко досягаему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58024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(Диана) – богиня охо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495960" cy="5445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красно управляла колесницей, скакала на лошади и метко стреляла из л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а богиней охоты и богиней Лу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огиня мудрости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Аф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Дочь Афина – пятый ребёнок Зевса – появилась на свет необычным способом. Случилось так, что у Громовержца разболелась голова. Чтобы избавиться от головной боли, Зевс попросил Гефеста ударить его молотом. Голова раскололась, и ко всеобщему удивлению и радости из неё вывалился младенец – девочка, которой дали имя Афина (у римлян – Минер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детстве она всех поражала сообразительностью, рвением к учёбе и получению знаний, поэтому не случайно, когда Афина выросла, Зевс сделал её богиней мудрости и покровительницей нау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ревности Греция называлась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лладой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ыла красивая, с прекрасным климатом страна, омываемая с трёх сторон тёплыми водами Средиземного мо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359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фрод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– древнегреческая богиня любви и красоты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11" descr="Афродита N04"/>
          <p:cNvPicPr/>
          <p:nvPr/>
        </p:nvPicPr>
        <p:blipFill>
          <a:blip r:embed="rId1"/>
          <a:stretch/>
        </p:blipFill>
        <p:spPr>
          <a:xfrm>
            <a:off x="684360" y="1700280"/>
            <a:ext cx="2635200" cy="51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Картинка 16 из 1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700280"/>
            <a:ext cx="261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Задумывались ли вы когда-нибудь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огоны военных врачей и вывеска аптек украшаются чашей со змеёй? (Атрибуты бога врачевания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скулап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над Большим театром в Москве и театром драмы имени Пушкина в Санкт-Петербурге мчатся квадриги с бронзовым Аполлоном? (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кровитель искус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ортик Государственного Эрмитажа поддерживают могучие атланты? (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тла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титаны, держащие на своих плечах небесный сво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Задумывались ли вы когда-нибудь…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мы говорим: «Фортуна от тебя отвернулась» (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Форту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римская богиня счастья и удачи) или «провалиться в тартарары» (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Тарта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ижняя часть преисподней, а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в нашем языке название месяцев январь, март, май, июнь? (Напоминание о римских богах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Янусе, Марсе, Майе, Юно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оявились обозначения таких химических элементов, как гелий, уран, плутоний, планет Солнечной системы: Меркурий, Венера, Марс, Юпитер, Сатур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384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о легенды и предания о богах и героях, передающие представления древних народов о происхождении мира и различных явлений природы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Ещё их называют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МИФЫ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амая высокая гора Греции - 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Олимп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та горы примерно две с половиной тысячи 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ё вершина недоступна до сих пор, потому что имеет крутые, обрывистые, каменистые склоны, а ниже покрыта непроходимыми лесами, которыми заросли расселины между скал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мнению греков, давным-давно гору облюбовали их великие боги. Они построили дворцы на её верш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щей олимпийских богов стали нектар и амброзия. Отсюда берёт начало устойчивое словосочетание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«вкушать нектар и амброзию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означает «испытывать блаженств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лавном дворце всегда жил правитель всех богов и люд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в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43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воим братьям и сёстрам Зевс подарил каждому по малому трону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Посейдон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ал богом мор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img014"/>
          <p:cNvPicPr/>
          <p:nvPr/>
        </p:nvPicPr>
        <p:blipFill>
          <a:blip r:embed="rId1"/>
          <a:stretch/>
        </p:blipFill>
        <p:spPr>
          <a:xfrm>
            <a:off x="755640" y="1484280"/>
            <a:ext cx="3400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Аид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ителем царства мёртв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img015"/>
          <p:cNvPicPr/>
          <p:nvPr/>
        </p:nvPicPr>
        <p:blipFill>
          <a:blip r:embed="rId1"/>
          <a:stretch/>
        </p:blipFill>
        <p:spPr>
          <a:xfrm>
            <a:off x="4140360" y="189000"/>
            <a:ext cx="467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Деметра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иней плодородия и земледел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img021"/>
          <p:cNvPicPr/>
          <p:nvPr/>
        </p:nvPicPr>
        <p:blipFill>
          <a:blip r:embed="rId1"/>
          <a:stretch/>
        </p:blipFill>
        <p:spPr>
          <a:xfrm>
            <a:off x="755640" y="476280"/>
            <a:ext cx="3463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ionysos52"/>
          <p:cNvPicPr/>
          <p:nvPr/>
        </p:nvPicPr>
        <p:blipFill>
          <a:blip r:embed="rId1"/>
          <a:stretch/>
        </p:blipFill>
        <p:spPr>
          <a:xfrm>
            <a:off x="4932360" y="907920"/>
            <a:ext cx="3576600" cy="5675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Дионис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ом винодел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хорошенькую </a:t>
            </a: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Геру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Зевс взял себе в жё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img020"/>
          <p:cNvPicPr/>
          <p:nvPr/>
        </p:nvPicPr>
        <p:blipFill>
          <a:blip r:embed="rId1"/>
          <a:stretch/>
        </p:blipFill>
        <p:spPr>
          <a:xfrm>
            <a:off x="5219640" y="260280"/>
            <a:ext cx="3324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6:49:58Z</dcterms:created>
  <dc:creator>1</dc:creator>
  <dc:description/>
  <dc:language>en-US</dc:language>
  <cp:lastModifiedBy>Админ</cp:lastModifiedBy>
  <dcterms:modified xsi:type="dcterms:W3CDTF">2013-10-09T08:37:32Z</dcterms:modified>
  <cp:revision>119</cp:revision>
  <dc:subject/>
  <dc:title>Слайд 1</dc:title>
</cp:coreProperties>
</file>