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ABB1-0D0A-4C92-8B49-22B7B6D0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9BF-FA1F-4261-8DB3-D7D3A36F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CC1-7A6D-4B7F-B492-6649CCEB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0B6-72F7-4658-943A-AE73365F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2E0-B316-45A0-8A9A-A7D94EF9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F86-C96B-47E9-B9FB-DDE75DF3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E2E-F722-4B26-897A-549ADA1A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F1D-78F6-498D-BAAB-518D6696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19D-FD7E-42B9-AF18-7DD7BF9B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F23-9532-4E97-AA9B-23F1ABA0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B54-F611-47D8-AC28-DC98E4B0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737-3106-43F2-91AA-1EB5F411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D8BF-3489-4310-9AEE-53F7BF254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999" t="0" r="0" b="0"/>
          <a:stretch/>
        </p:blipFill>
        <p:spPr>
          <a:xfrm>
            <a:off x="0" y="2340000"/>
            <a:ext cx="6858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9999" r="0" b="69233"/>
          <a:stretch/>
        </p:blipFill>
        <p:spPr>
          <a:xfrm>
            <a:off x="0" y="0"/>
            <a:ext cx="6804000" cy="2411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6640" y="468360"/>
            <a:ext cx="5616720" cy="76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 27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о. Сар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Литературно-художественный жур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№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     </a:t>
            </a:r>
            <a:r>
              <a:rPr b="1" i="1" lang="en-US" sz="4000" spc="-1" strike="noStrike">
                <a:solidFill>
                  <a:srgbClr val="339933"/>
                </a:solidFill>
                <a:latin typeface="Arial"/>
              </a:rPr>
              <a:t>«Роднич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9933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9933"/>
                </a:solidFill>
                <a:latin typeface="Arial"/>
              </a:rPr>
              <a:t>                                   </a:t>
            </a:r>
            <a:r>
              <a:rPr b="1" i="1" lang="en-US" sz="1600" spc="-1" strike="noStrike">
                <a:solidFill>
                  <a:srgbClr val="339933"/>
                </a:solidFill>
                <a:latin typeface="Arial"/>
              </a:rPr>
              <a:t>2012-2013</a:t>
            </a:r>
            <a:r>
              <a:rPr b="1" i="1" lang="en-US" sz="1400" spc="-1" strike="noStrike">
                <a:solidFill>
                  <a:srgbClr val="339933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44914" t="0" r="0" b="0"/>
          <a:stretch/>
        </p:blipFill>
        <p:spPr>
          <a:xfrm>
            <a:off x="-95400" y="0"/>
            <a:ext cx="6953400" cy="946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060640" y="823320"/>
            <a:ext cx="3240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нам опять зима приш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ного снега наме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мотрим с мамой мы в ок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ё на улице бе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шли мы во двор гуля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с детьми в снежки игр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абу снежную лепи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оровод вокруг вод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начит скоро Новый го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оро Дед Мороз придё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е желания исполн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одарки принесё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9000" y="5399280"/>
            <a:ext cx="3600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ьюга по полю кружит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тель песенки по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д Мороз к нам в гости мчит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хоровод нас собер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ый год мы зиму жд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сни, танцы изуч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сейчас на удивл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ам устроим представлень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а Ли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084640" y="3276720"/>
            <a:ext cx="14590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62680" cy="9144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68280" y="1076400"/>
            <a:ext cx="35290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д Мор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гости к нам пришла зим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нею Дед Моро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нки, лыжи и конь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ям и принё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ой кистью на ок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исал уз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укрыл пушистым снег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с, поля и г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лёд он речку заков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снощёким ребятишк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подарочки разд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на сон гряду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ю сказку рассказ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илова         Ми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29000" y="4811760"/>
            <a:ext cx="29732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1080" cy="946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13000" y="571320"/>
            <a:ext cx="36450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ЖИ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-то в книжке на картин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азглядывал карти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глянул я за ок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у там полным-пол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на улицу пошё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 сугробу подоше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нашел я там снежи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я видел на картин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 летает и кружит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ладони мне са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же снежная крас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ладошке лишь ро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мамой варежки наде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нежинки налет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, .два, три, четыре, пя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х совсем не сосчит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гадайте в чем секр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ладошке снега н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я варежку наде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снежинки разгляде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ец Анд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22551" t="0" r="26749" b="0"/>
          <a:stretch/>
        </p:blipFill>
        <p:spPr>
          <a:xfrm>
            <a:off x="0" y="0"/>
            <a:ext cx="6937200" cy="10260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84280" y="894600"/>
            <a:ext cx="32511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ЖНОЕ СТИХОТ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о утром я проснул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глядел в свое ок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на улице за чудо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ё вокруг белым-бел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так чисто и красив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ни грязи, ни ком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ребята, пробежал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 у них от башма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аких чудес здесь не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зимы пришел прив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Дедушка Моро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 из дома нам приве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ый, чистый и пушист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а солнышке искристый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как будто знак д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ро будет Новый Го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ец Анд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58006" t="0" r="0" b="0"/>
          <a:stretch/>
        </p:blipFill>
        <p:spPr>
          <a:xfrm>
            <a:off x="0" y="0"/>
            <a:ext cx="6858000" cy="946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133720" y="5148360"/>
            <a:ext cx="2557440" cy="3600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41360" y="967320"/>
            <a:ext cx="3529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днее стихот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смотрю на ёл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ты хорош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нкие иголк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Ёлочка-крас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дь сегодня праздни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ый год пришё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дарок кажд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себя нашё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ем веселить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анем в хорово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сть счастливым буд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т Новый го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ракевич Ар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02280" cy="9144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5000" y="1692360"/>
            <a:ext cx="5400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Ох, уж эти сказки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20640" y="1582560"/>
            <a:ext cx="5761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 несколько дней до Нового года мальчик Петя решил сделать маме и папе сюрприз – нарисовать новогоднюю ел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 долго сидел над листом бумаги, но у него ничего не получалось. Время шло и пришла пора ложиться спать. Петя уснул. Пока он спал, случилось чудо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игуры на его листе ожили, и между ними начался спор: Кто из них важне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вым начал круг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Я самый красивый и гладк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похож на солнышко и на мячи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оторый так любят играть де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00" y="3656520"/>
            <a:ext cx="109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65720" y="3276720"/>
            <a:ext cx="1368360" cy="1366560"/>
          </a:xfrm>
          <a:prstGeom prst="smileyFace">
            <a:avLst>
              <a:gd name="adj" fmla="val 9282"/>
            </a:avLst>
          </a:prstGeom>
          <a:solidFill>
            <a:srgbClr val="bbb9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68280" y="900000"/>
            <a:ext cx="4133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Georgia"/>
              </a:rPr>
              <a:t>НОВОГОДНИЙ СП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Georgia"/>
              <a:ea typeface="Georgia"/>
            </a:endParaRPr>
          </a:p>
        </p:txBody>
      </p:sp>
      <p:sp>
        <p:nvSpPr>
          <p:cNvPr id="92" name=""/>
          <p:cNvSpPr/>
          <p:nvPr/>
        </p:nvSpPr>
        <p:spPr>
          <a:xfrm>
            <a:off x="692280" y="4284720"/>
            <a:ext cx="56894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а-ха-ха – засмеялся квадра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ы же не устойчивый, на тебя нич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льзя поставить и сидеть на тебе неудоб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ли дело Я. На меня похожи дома. На мне удобно сидеть и на меня можно ставить разные предмет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спор вмешался треугольни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И все-таки в Новый год я самый важный.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дь с помощью меня можно нарисоват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вогоднюю ел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С помощью нас тоже можно, - начали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еребой кричать круг и квадр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А давайте попробуем, - предложил треуголь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6640" y="5651640"/>
            <a:ext cx="1150920" cy="1150920"/>
          </a:xfrm>
          <a:prstGeom prst="rect">
            <a:avLst/>
          </a:prstGeom>
          <a:solidFill>
            <a:srgbClr val="ffb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5360" y="5867280"/>
            <a:ext cx="25740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57360" y="5867280"/>
            <a:ext cx="25704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97000" y="5940360"/>
            <a:ext cx="92160" cy="90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28640" y="5940360"/>
            <a:ext cx="92160" cy="90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3635280"/>
            <a:ext cx="25740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97360" y="3708360"/>
            <a:ext cx="92160" cy="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57720" y="3635280"/>
            <a:ext cx="25740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29360" y="3708360"/>
            <a:ext cx="91800" cy="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8869800">
            <a:off x="935280" y="5885280"/>
            <a:ext cx="135504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37000" y="7451640"/>
            <a:ext cx="1800360" cy="1155960"/>
          </a:xfrm>
          <a:prstGeom prst="triangle">
            <a:avLst>
              <a:gd name="adj" fmla="val 50000"/>
            </a:avLst>
          </a:prstGeom>
          <a:solidFill>
            <a:srgbClr val="28be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8869800">
            <a:off x="4691520" y="7486200"/>
            <a:ext cx="1713600" cy="8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13360" y="7885080"/>
            <a:ext cx="21888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73720" y="7885080"/>
            <a:ext cx="21888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84640" y="7956720"/>
            <a:ext cx="92160" cy="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45000" y="7956720"/>
            <a:ext cx="92160" cy="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49360" y="826920"/>
            <a:ext cx="602136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вым за дело принялся круг. И вот какая ёлка у него получила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Эх, это же не ёлка, а светофор какой-то, - захихик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вадра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Она больше похожа на снежную бабу, - поддерж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го треуголь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Смотри, как надо рисовать ёлку, - сказал квадрат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нялся за де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 долго переворачивался со сторо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сторону и наконец-то показал то, что у него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учило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А ты похож на пирамиду, - засмеялс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еуголь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Нет, скорее всего, на трехэтажный дом,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держал его к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Теперь моя очередь, - сказал треугольник и выстроился в ровную ёл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Это не настоящая ёлка, - сказал квадрат,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неё нет ство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И к тому же не новогодняя, - поддержал 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уг, - на ней нет игру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А давайте все вместе нарисуем красив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вогоднюю ёлку, - предложил треуголь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Давайте, давайте, - с радостью согласились друз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34080" y="118728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34080" y="176364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56200">
            <a:off x="5734080" y="2411280"/>
            <a:ext cx="647640" cy="64800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5000" y="3059280"/>
            <a:ext cx="576360" cy="577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5000" y="3635280"/>
            <a:ext cx="576360" cy="57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5000" y="4211640"/>
            <a:ext cx="576360" cy="43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45000" y="6516720"/>
            <a:ext cx="719280" cy="503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45000" y="6227640"/>
            <a:ext cx="719280" cy="432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45000" y="5940360"/>
            <a:ext cx="719280" cy="432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4286160" y="3611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2280" y="826920"/>
            <a:ext cx="5545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ю ночь они трудились над рисунком, и у них получилась настоящая новогодняя ёл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гда Петя проснулся утром, на его столе лежала красивая новогодняя открыт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7720" y="2700360"/>
            <a:ext cx="287280" cy="287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24280" y="2050920"/>
            <a:ext cx="1171440" cy="676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97360" y="1763640"/>
            <a:ext cx="108108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68640" y="1403280"/>
            <a:ext cx="955800" cy="6048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68640" y="2700360"/>
            <a:ext cx="217440" cy="217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68640" y="2340000"/>
            <a:ext cx="217440" cy="217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16280" y="1979640"/>
            <a:ext cx="217440" cy="2174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9360" y="2340000"/>
            <a:ext cx="217440" cy="217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41720" y="1979640"/>
            <a:ext cx="217440" cy="217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9360" y="2700360"/>
            <a:ext cx="217440" cy="2174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133720" y="3924360"/>
            <a:ext cx="29430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9999" r="0" b="69233"/>
          <a:stretch/>
        </p:blipFill>
        <p:spPr>
          <a:xfrm>
            <a:off x="0" y="0"/>
            <a:ext cx="6804000" cy="914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628640" y="1258920"/>
            <a:ext cx="3816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Monotype Corsiva"/>
              </a:rPr>
              <a:t>Сегодня в номер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Monotype Corsiva"/>
              <a:ea typeface="Monotype Corsiv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9999" t="0" r="0" b="0"/>
          <a:stretch/>
        </p:blipFill>
        <p:spPr>
          <a:xfrm>
            <a:off x="2133720" y="4859280"/>
            <a:ext cx="4437000" cy="386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08000" y="2124000"/>
            <a:ext cx="4869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Times New Roman"/>
              </a:rPr>
              <a:t>Учителю посвящается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кузов Кирилл «Иду по жизни смел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ракевич Артур «Глаза учителя задумчиво глядя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рнайкина Виктория «С утра спешу я в школ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кузов Кирилл «Размышления об учител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кузов Кирилл «Наша школьная жиз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Times New Roman"/>
              </a:rPr>
              <a:t>Здравствуй, Зимушка-Зим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кузов Кирилл «Снегов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имонькина Арина «К нам опять зима приш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лова Елизавета «Вьюга по полю  кружитс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нилова Милена «Дед Мороз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ровец Андрей «Снежин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ровец Андрей «Снежное стихотворен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ракевич «Артур» «Новогоднее стихотворен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Times New Roman"/>
              </a:rPr>
              <a:t>Ох, уж эти сказк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ков Виталий «Новогодний спо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997360" y="1187280"/>
            <a:ext cx="33843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В День Учителя,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мы хотим посвяти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эти стихи всем тем,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кто учит нас и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воспитывает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38606" t="6683" r="5699" b="4734"/>
          <a:stretch/>
        </p:blipFill>
        <p:spPr>
          <a:xfrm>
            <a:off x="6480" y="0"/>
            <a:ext cx="6851520" cy="9144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0_8d705_4ec530c8_L.png"/>
          <p:cNvPicPr/>
          <p:nvPr/>
        </p:nvPicPr>
        <p:blipFill>
          <a:blip r:embed="rId2"/>
          <a:stretch/>
        </p:blipFill>
        <p:spPr>
          <a:xfrm>
            <a:off x="333360" y="395280"/>
            <a:ext cx="2637000" cy="252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836640" y="2268360"/>
            <a:ext cx="48974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В День Учителя,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мы хотим посвятить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эти стихи всем тем,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кто учит нас и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воспитывает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8606" t="6683" r="5699" b="4734"/>
          <a:stretch/>
        </p:blipFill>
        <p:spPr>
          <a:xfrm>
            <a:off x="6480" y="0"/>
            <a:ext cx="6851520" cy="914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8880" y="676800"/>
            <a:ext cx="3551760" cy="73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у по жизни сме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ть мне всего семь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ожет сделать д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я сов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елав путь неблизк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бы умнее ст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аже по-англий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ю я чит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е интересно вс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ак трава раст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собирает пчелка ме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солнышко вст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ав от вечных почем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т семьи подвел итог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ь ребенка разу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ен хороший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я здесь, я очень ра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дь у меня отличный класс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ня и всех моих дру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грел своим теп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ш коллектив учител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ающих в н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вам спасибо говорю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от души благодарю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перь хочу сказать спаси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петь я серенаду т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объясняет терпеливо смысл фраз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Ты проснись и по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ам, где песня, там и тане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усть не стану я звезд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им девизом станет фраз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ь оптимист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нцуй и пой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рилл Тукуз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860640" y="1042920"/>
            <a:ext cx="2376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8606" t="6683" r="5699" b="4734"/>
          <a:stretch/>
        </p:blipFill>
        <p:spPr>
          <a:xfrm>
            <a:off x="6480" y="0"/>
            <a:ext cx="6851520" cy="914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52640" y="1434600"/>
            <a:ext cx="52419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за учителя задумчиво глядя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-то ласково, а иногда - чуть строж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их, любимых, прошлых дошколя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ину, Аню, Сашу и Серёж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ь детей – не лёгкий выбран пу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ой и сердцем сделанный когда-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ысли не дают порой усну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орядке ли всё в классе, как ребята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тим тебя за всё благодар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, за вниманье и забо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аших душ в ответ тепло дар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асибо за прекрасную работу!!!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ракевич Арту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52640" y="4859280"/>
            <a:ext cx="518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0_8d705_4ec530c8_L.png"/>
          <p:cNvPicPr/>
          <p:nvPr/>
        </p:nvPicPr>
        <p:blipFill>
          <a:blip r:embed="rId2"/>
          <a:stretch/>
        </p:blipFill>
        <p:spPr>
          <a:xfrm>
            <a:off x="476280" y="395280"/>
            <a:ext cx="2636640" cy="2637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9360" y="5292720"/>
            <a:ext cx="5184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утра спешу я в школу, там мой учитель жд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много всего нового он каждый раз да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лагодаря учителю писать, читать могу 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перь перед родителями я знаниями блещ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годня день особенный. Поздравить мы спеш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я любимого с праздником таки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елаем сил, терпения, здоровья и доб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обещаем честно мы за труд Вас отблагодар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ни пятёрки каждый день домой принос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рнайкина Вик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38606" t="6683" r="5699" b="4734"/>
          <a:stretch/>
        </p:blipFill>
        <p:spPr>
          <a:xfrm>
            <a:off x="6480" y="0"/>
            <a:ext cx="6851520" cy="914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97000" y="971640"/>
            <a:ext cx="5040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ышление об учите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ое сентября. Первый звонок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красиво, торжественно и немного страш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нас встретила она. Красивая, добрая, заботлив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м не сидится на месте и только она может нас утихомир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не умеем слушать и болтаем на уро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олько ее спокойный голос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увлекательный рассказ привлекают наше вним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ссоримся, мальчики дергают девочек за косич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она учит нас дружить и уважать друг др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ы стараемся, как мож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дь нам не хочется ее огорч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самая-сама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почти как мам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наша первая учитель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рлецкая Наталья Владимир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ы вместе уже второй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38606" t="6683" r="5699" b="4734"/>
          <a:stretch/>
        </p:blipFill>
        <p:spPr>
          <a:xfrm>
            <a:off x="6480" y="0"/>
            <a:ext cx="6851520" cy="914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692280" y="1332000"/>
          <a:ext cx="5182920" cy="5761080"/>
        </p:xfrm>
        <a:graphic>
          <a:graphicData uri="http://schemas.openxmlformats.org/drawingml/2006/table">
            <a:tbl>
              <a:tblPr/>
              <a:tblGrid>
                <a:gridCol w="2811240"/>
                <a:gridCol w="2371680"/>
              </a:tblGrid>
              <a:tr h="5761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утром рано встану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б школу не просп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л предстоит немал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Димуле  забежа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вместе с ним вприпрыж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Наш утренний режим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девчонкам и мальчишкам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ким как мы, бежи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 в классе 28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елых, озорны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 вас могу завер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очень уж плохи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у да, на переме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ы любим пошали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роить давку в двер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ршок с цветком разби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вчонок за коси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к, дернуть раз – друг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 те в ответ при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 могут пнуть ног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у, и еще в сто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ы можем погалде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лестнице побег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ак потом вспоте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наш родной учител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ласс со звонком вход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ою удивляет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Неужто  в цирке я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как ей уд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к нами управлят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т в классе кажд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ять, простить, поня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 пожалеть, поглади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 строго наказ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 в сложной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т рассказа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хорошо, что плох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надо добрым бы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надо в дружбу вер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ных своих люби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аной своей гордитьс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маме помога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хорошо учитьс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б Человеком ст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ы Вами восхищаем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Вам сказать должн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лько, как Вы,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бятам и нужны!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418840" y="97164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ша школьная жиз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9920" y="6877080"/>
            <a:ext cx="148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9571" t="0" r="25877" b="15625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1197000" y="1908000"/>
            <a:ext cx="460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Здравствуй,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Зимушка-Зима!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48802" b="22826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059360" y="-1135080"/>
            <a:ext cx="303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341360" y="755640"/>
          <a:ext cx="5156280" cy="4648320"/>
        </p:xfrm>
        <a:graphic>
          <a:graphicData uri="http://schemas.openxmlformats.org/drawingml/2006/table">
            <a:tbl>
              <a:tblPr/>
              <a:tblGrid>
                <a:gridCol w="2432160"/>
                <a:gridCol w="2724120"/>
              </a:tblGrid>
              <a:tr h="46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ГОВ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леплю снегов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лучается по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-то криво он сто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неговик, а инвалид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зову на помощь Сашу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ю, Колю и Наташ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ежали, поднаж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победу одержали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т стоит среди двора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хожим всем на зави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лу в руке как флаг держа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 снеговик – красавец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ичали мы: «Ура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сбежалась детв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и игры, дружный сме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 снеговик имел успех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день угас, домой п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мы ушли все со дв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шёл и я, в подъезд шагну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оглянулся  вдруг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 посмотреть снегов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он мне…подмигнул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зов Кири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06:48:17Z</dcterms:created>
  <dc:creator>User</dc:creator>
  <dc:description/>
  <dc:language>en-US</dc:language>
  <cp:lastModifiedBy>User</cp:lastModifiedBy>
  <dcterms:modified xsi:type="dcterms:W3CDTF">2013-04-28T13:22:19Z</dcterms:modified>
  <cp:revision>12</cp:revision>
  <dc:subject/>
  <dc:title>Слайд 1</dc:title>
</cp:coreProperties>
</file>