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A93-4803-439A-884E-79C65AC8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827-9E6E-4B59-BF0F-9F48C90C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9B5-E1CA-490D-8D0E-A62251B0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7CA-CF18-4355-B15A-414CD0C5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CB7-BEF0-4E79-B53C-0C625DA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DF0-19E5-43C2-81D3-890D3E21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91D-4255-4541-A735-A32CE3A5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498-B401-4564-B097-B1C1D5C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EA2-5616-4DE7-9C9B-8526760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AC5-5697-4E52-AFC1-CD59139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14C-C57A-4365-B2DE-B16DEFA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89B-0C8F-42C2-B5DD-02A3081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ADF-BFFB-4E00-9F39-050475CA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2280" y="539640"/>
            <a:ext cx="575928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тературно-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урнал 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2000"/>
                </a:solidFill>
                <a:latin typeface="Arial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ой Победе посвящаетс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en-US" sz="2000" spc="-1" strike="noStrike">
                <a:solidFill>
                  <a:srgbClr val="662000"/>
                </a:solidFill>
                <a:latin typeface="Arial"/>
              </a:rPr>
              <a:t>2012-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44747406_Medal_trud_USSR" descr=""/>
          <p:cNvPicPr/>
          <p:nvPr/>
        </p:nvPicPr>
        <p:blipFill>
          <a:blip r:embed="rId2"/>
          <a:srcRect l="0" t="0" r="50813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2592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208728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2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45" descr="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43" descr="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talin" descr="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92" descr="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User</cp:lastModifiedBy>
  <dcterms:modified xsi:type="dcterms:W3CDTF">2013-06-09T17:13:38Z</dcterms:modified>
  <cp:revision>10</cp:revision>
  <dc:subject/>
  <dc:title>Слайд 1</dc:title>
</cp:coreProperties>
</file>