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gif" ContentType="image/gif"/>
  <Override PartName="/ppt/media/image12.jpeg" ContentType="image/jpeg"/>
  <Override PartName="/ppt/media/image9.gif" ContentType="image/gif"/>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1.gif" ContentType="image/gif"/>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BFF47-F8A7-48CD-A427-563339B04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BEC86-33F1-4A71-AFF6-AEC7B0D54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38491-3CF1-426D-8DB8-89DF20AA1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44893-F5C2-4109-8140-C16040FB5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6E465-282A-4691-8342-4249613A4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587C6-1F42-47AC-A7BD-F77DE4DB8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217F8-11E9-4925-B1C9-A7114EA54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EFAF4-C01A-450F-9D1D-6A254C4E7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26EAF-4BA5-4A9A-B067-E36ACB2D3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48257-0AE6-4F52-8EC5-AB2C8336C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6635D-5AFF-4601-BA1A-6F8EDFDB3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3E945-343A-4CEE-8113-91727A15ED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711A6-CED3-4F1E-B89A-E3A899C6D2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image" Target="../media/image10.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gif"/><Relationship Id="rId3" Type="http://schemas.openxmlformats.org/officeDocument/2006/relationships/image" Target="../media/image9.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image" Target="../media/image10.gif"/><Relationship Id="rId4" Type="http://schemas.openxmlformats.org/officeDocument/2006/relationships/image" Target="../media/image11.gi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gif"/><Relationship Id="rId3" Type="http://schemas.openxmlformats.org/officeDocument/2006/relationships/image" Target="../media/image10.gif"/><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gif"/><Relationship Id="rId3" Type="http://schemas.openxmlformats.org/officeDocument/2006/relationships/image" Target="../media/image10.gi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gif"/><Relationship Id="rId3" Type="http://schemas.openxmlformats.org/officeDocument/2006/relationships/image" Target="../media/image10.gif"/><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4271" t="0" r="16471" b="5118"/>
          <a:stretch/>
        </p:blipFill>
        <p:spPr>
          <a:xfrm>
            <a:off x="0" y="0"/>
            <a:ext cx="6858000" cy="9144000"/>
          </a:xfrm>
          <a:prstGeom prst="rect">
            <a:avLst/>
          </a:prstGeom>
          <a:ln w="0">
            <a:noFill/>
          </a:ln>
        </p:spPr>
      </p:pic>
      <p:sp>
        <p:nvSpPr>
          <p:cNvPr id="42" name=""/>
          <p:cNvSpPr/>
          <p:nvPr/>
        </p:nvSpPr>
        <p:spPr>
          <a:xfrm>
            <a:off x="1413000" y="468360"/>
            <a:ext cx="4537080" cy="4177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Муниципальное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общеобразовательное учреждение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Средняя общеобразовательная школа № 27»</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г. о. Саранс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6600"/>
                </a:solidFill>
                <a:latin typeface="Arial"/>
              </a:rPr>
              <a:t>          </a:t>
            </a:r>
            <a:r>
              <a:rPr b="1" i="1" lang="en-US" sz="2000" spc="-1" strike="noStrike">
                <a:solidFill>
                  <a:srgbClr val="cc0000"/>
                </a:solidFill>
                <a:latin typeface="Arial"/>
              </a:rPr>
              <a:t>Литературно-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       </a:t>
            </a:r>
            <a:r>
              <a:rPr b="1" i="1" lang="en-US" sz="2000" spc="-1" strike="noStrike">
                <a:solidFill>
                  <a:srgbClr val="cc0000"/>
                </a:solidFill>
                <a:latin typeface="Arial"/>
              </a:rPr>
              <a:t>художественный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            </a:t>
            </a:r>
            <a:r>
              <a:rPr b="1" i="1" lang="en-US" sz="2000" spc="-1" strike="noStrike">
                <a:solidFill>
                  <a:srgbClr val="cc0000"/>
                </a:solidFill>
                <a:latin typeface="Arial"/>
              </a:rPr>
              <a:t>журнал №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00"/>
                </a:solidFill>
                <a:latin typeface="Arial"/>
              </a:rPr>
              <a:t>     </a:t>
            </a:r>
            <a:r>
              <a:rPr b="1" i="1" lang="en-US" sz="3200" spc="-1" strike="noStrike">
                <a:solidFill>
                  <a:srgbClr val="cc0000"/>
                </a:solidFill>
                <a:latin typeface="Arial"/>
              </a:rPr>
              <a:t>«Родничок»</a:t>
            </a:r>
            <a:r>
              <a:rPr b="1" i="1" lang="en-US" sz="2400" spc="-1" strike="noStrike">
                <a:solidFill>
                  <a:srgbClr val="339933"/>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                   </a:t>
            </a:r>
            <a:r>
              <a:rPr b="1" i="1" lang="en-US" sz="2000" spc="-1" strike="noStrike">
                <a:solidFill>
                  <a:srgbClr val="0000ff"/>
                </a:solidFill>
                <a:latin typeface="Arial"/>
              </a:rPr>
              <a:t>2013-2014</a:t>
            </a:r>
            <a:r>
              <a:rPr b="0" lang="en-US" sz="1800" spc="-1" strike="noStrike">
                <a:solidFill>
                  <a:srgbClr val="cc66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rcRect l="6743" t="4323" r="6629" b="5900"/>
          <a:stretch/>
        </p:blipFill>
        <p:spPr>
          <a:xfrm>
            <a:off x="0" y="0"/>
            <a:ext cx="6818400" cy="9144000"/>
          </a:xfrm>
          <a:prstGeom prst="rect">
            <a:avLst/>
          </a:prstGeom>
          <a:ln w="0">
            <a:noFill/>
          </a:ln>
        </p:spPr>
      </p:pic>
      <p:sp>
        <p:nvSpPr>
          <p:cNvPr id="70" name=""/>
          <p:cNvSpPr/>
          <p:nvPr/>
        </p:nvSpPr>
        <p:spPr>
          <a:xfrm>
            <a:off x="1052640" y="1337040"/>
            <a:ext cx="4608360" cy="55587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Arial"/>
              </a:rPr>
              <a:t>                   </a:t>
            </a:r>
            <a:r>
              <a:rPr b="0" i="1" lang="ru-RU" sz="1300" spc="-1" strike="noStrike">
                <a:solidFill>
                  <a:srgbClr val="000000"/>
                </a:solidFill>
                <a:latin typeface="Arial"/>
              </a:rPr>
              <a:t>Учитель! Слово-то какое!</a:t>
            </a:r>
            <a:endParaRPr b="0" lang="en-US" sz="13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Arial"/>
              </a:rPr>
              <a:t>В нём доброта и благодать,</a:t>
            </a:r>
            <a:endParaRPr b="0" lang="en-US" sz="13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Arial"/>
              </a:rPr>
              <a:t>А сердцу вечно нет покоя…</a:t>
            </a:r>
            <a:endParaRPr b="0" lang="en-US" sz="13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Arial"/>
              </a:rPr>
              <a:t>               </a:t>
            </a:r>
            <a:r>
              <a:rPr b="0" i="1" lang="ru-RU" sz="1300" spc="-1" strike="noStrike">
                <a:solidFill>
                  <a:srgbClr val="000000"/>
                </a:solidFill>
                <a:latin typeface="Arial"/>
              </a:rPr>
              <a:t>Его призвание – всё детям отдавать</a:t>
            </a:r>
            <a:endParaRPr b="0" lang="en-US" sz="13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Эти стихи написаны про мою любимую учительницу Терлецкую Наталью Владимировну. В ней есть всё, что должно быть в учителе – доброта, отзывчивость, профессионализм, мудрость и терпение. Всё, что она знает, она отдаёт нам, своим ученикам. И в этом её призвание.</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Я знаю, что у меня будет много учителей, и в старших классах, и в университете. Но моим самым любимым учителем навсегда останется Наталья Владимировна. Она научила нас писать, читать, решать задачи и самим искать ответы на все вопросы.</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Но, кроме этого, она учит нас уважительно относиться друг к другу, быть добрыми  и отзывчивыми. Быть настоящими людьми!</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Вот уже третий год я каждое утро с удовольствием бегу в школу. Потому что знаю, там меня встретит моя любимая Наталья Владимировна!</a:t>
            </a:r>
            <a:endParaRPr b="0" lang="en-US" sz="13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Щемерова  Дарья</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rcRect l="6743" t="4323" r="6629" b="5900"/>
          <a:stretch/>
        </p:blipFill>
        <p:spPr>
          <a:xfrm>
            <a:off x="0" y="0"/>
            <a:ext cx="6818400" cy="9144000"/>
          </a:xfrm>
          <a:prstGeom prst="rect">
            <a:avLst/>
          </a:prstGeom>
          <a:ln w="0">
            <a:noFill/>
          </a:ln>
        </p:spPr>
      </p:pic>
      <p:sp>
        <p:nvSpPr>
          <p:cNvPr id="72" name=""/>
          <p:cNvSpPr/>
          <p:nvPr/>
        </p:nvSpPr>
        <p:spPr>
          <a:xfrm>
            <a:off x="1197000" y="1624680"/>
            <a:ext cx="4537080" cy="5796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Моя учительница самая добрая, честная, справедливая.  Она прощает нам все наши шалости, потому что любит нас. Но она может быть и очень строгой. Так происходит, если мы поступаем нечестно или говорим неправду. В этом случае Наталья Владимировна объясняет нам нашу ошибку, и мы понимаем, что так делать нельзя.</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Наталья Владимировна учит нас быть честными и справедливыми, учит держать данное слово, учит быть милосердными и верными.</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Мне нравятся уроки Натальи Владимировны. Она даже самое сложное объясняет доступно. Она научила нас разбираться во всём, учит самостоятельно искать ответы на волнующие нас вопросы.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А какие интересные праздники, конкурсы проводит с нами Наталья Владимировн!</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 </a:t>
            </a:r>
            <a:r>
              <a:rPr b="0" lang="ru-RU" sz="1300" spc="-1" strike="noStrike">
                <a:solidFill>
                  <a:srgbClr val="000000"/>
                </a:solidFill>
                <a:latin typeface="Arial"/>
              </a:rPr>
              <a:t>И даже на праздниках мы не просто развлекаемся, а узнаём что-то новое для себя.</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 </a:t>
            </a:r>
            <a:r>
              <a:rPr b="0" lang="ru-RU" sz="1300" spc="-1" strike="noStrike">
                <a:solidFill>
                  <a:srgbClr val="000000"/>
                </a:solidFill>
                <a:latin typeface="Arial"/>
              </a:rPr>
              <a:t>Вместе с учителем мы ходим в театр, цирк, экскурсии.</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Я восхищаюсь своей учительницей и хочу быть похожей на неё!</a:t>
            </a:r>
            <a:endParaRPr b="0" lang="en-US" sz="13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Дурнайкина Виктория</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rcRect l="6743" t="4323" r="6629" b="5900"/>
          <a:stretch/>
        </p:blipFill>
        <p:spPr>
          <a:xfrm>
            <a:off x="0" y="0"/>
            <a:ext cx="6818400" cy="9144000"/>
          </a:xfrm>
          <a:prstGeom prst="rect">
            <a:avLst/>
          </a:prstGeom>
          <a:ln w="0">
            <a:noFill/>
          </a:ln>
        </p:spPr>
      </p:pic>
      <p:sp>
        <p:nvSpPr>
          <p:cNvPr id="74" name=""/>
          <p:cNvSpPr/>
          <p:nvPr/>
        </p:nvSpPr>
        <p:spPr>
          <a:xfrm>
            <a:off x="1125360" y="1528200"/>
            <a:ext cx="4392720" cy="5756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Слово учитель произошло от слова «учить». Конечно, важно научить ребёнка читать, рассуждать, писать грамотно, решать задачи. Но ещё  важнее, на мой взгляд, учить добру, пониманию, состраданию, дружбе, учить человеческим отношениям, учить любви.</a:t>
            </a:r>
            <a:endParaRPr b="0" lang="en-US" sz="13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Я знаю, любви моего учителя хватает на всех: умных и ленивых, пытливых и невнимательных, грустных и весёлых – таких разных учеников.</a:t>
            </a:r>
            <a:endParaRPr b="0" lang="en-US" sz="13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Сколько терпения проявляет она, чтобы научить нас, привить каждому интерес к знаниям. И на переменах и после уроков она живёт жизнью ребят: нашими заботами, печалями, нашими детскими проблемами.</a:t>
            </a:r>
            <a:endParaRPr b="0" lang="en-US" sz="13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Классные часы для нас становятся настоящими праздниками, независимо от того, о чём идёт разговор.</a:t>
            </a:r>
            <a:endParaRPr b="0" lang="en-US" sz="13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 </a:t>
            </a:r>
            <a:r>
              <a:rPr b="0" lang="ru-RU" sz="1300" spc="-1" strike="noStrike">
                <a:solidFill>
                  <a:srgbClr val="000000"/>
                </a:solidFill>
                <a:latin typeface="Arial"/>
              </a:rPr>
              <a:t>Наталья Владимировна учит нас жить в коллективе и для коллектива. Старается сплотить и сдружить всех детей. Хотя мы все такие разные!</a:t>
            </a:r>
            <a:endParaRPr b="0" lang="en-US" sz="13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Трудно быть учителем! Трудно достучаться до каждого детского сердца! Но моему учителю это удалось!  Потому что Наталья Владимировна честная и справедливая, любит свою работу и с уважением относится к каждому ученику!</a:t>
            </a:r>
            <a:endParaRPr b="0" lang="en-US" sz="13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Боровец Андрей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rcRect l="6743" t="4323" r="6629" b="5900"/>
          <a:stretch/>
        </p:blipFill>
        <p:spPr>
          <a:xfrm>
            <a:off x="0" y="0"/>
            <a:ext cx="6818400" cy="9144000"/>
          </a:xfrm>
          <a:prstGeom prst="rect">
            <a:avLst/>
          </a:prstGeom>
          <a:ln w="0">
            <a:noFill/>
          </a:ln>
        </p:spPr>
      </p:pic>
      <p:sp>
        <p:nvSpPr>
          <p:cNvPr id="76" name=""/>
          <p:cNvSpPr/>
          <p:nvPr/>
        </p:nvSpPr>
        <p:spPr>
          <a:xfrm>
            <a:off x="1341360" y="1259640"/>
            <a:ext cx="4392720" cy="696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нолог от имени учител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cc3300"/>
                </a:solidFill>
                <a:latin typeface="Arial"/>
              </a:rPr>
              <a:t>Однажды вечером мне не спалось. Я лежал и думал, а что делает перед сном мой любимый учитель Наталья Владимировна.  Я  представил себя на ее месте и вот что из этого получилос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у, наконец-то всё. Проверена последняя тетрад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тройки, 22 четверки и пятерок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ала, всё. Пора ложиться спа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дь завтра в шесть мне надо бы встава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й, вспомнила… Мне надо завтра не забы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трова с Ивановым вперёд пересади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и, бездельники, за задней парто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грают целый день, да так азартн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этот тихий мальчик Вася Хохолко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ес он в класс трех хомяко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крыла дверцу шкафа я - а там мышиная семь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сердцу выдержать такое! Где валидол? Хочу поко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тверг на совещанье собралис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журные мои все вдрызг передралис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ог сей битвы был тако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и синяка и шесть свалившихся горшко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Я не буду больше продолжа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то не хватит времени мне отдохнуть, поспа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я, чего греха таи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е интересно с ними жи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их вопросы отвеча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х провожать и вновь встреча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видеть их улыбк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исправлять ошибк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с радостью и нетерпенье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одную школу прихож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Петрова с Ивановы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все ж пересажу.</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укузов Кирил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rcRect l="0" t="305" r="50294" b="0"/>
          <a:stretch/>
        </p:blipFill>
        <p:spPr>
          <a:xfrm>
            <a:off x="0" y="0"/>
            <a:ext cx="6858000" cy="9144000"/>
          </a:xfrm>
          <a:prstGeom prst="rect">
            <a:avLst/>
          </a:prstGeom>
          <a:ln w="0">
            <a:noFill/>
          </a:ln>
        </p:spPr>
      </p:pic>
      <p:sp>
        <p:nvSpPr>
          <p:cNvPr id="78" name=""/>
          <p:cNvSpPr/>
          <p:nvPr/>
        </p:nvSpPr>
        <p:spPr>
          <a:xfrm>
            <a:off x="333360" y="2771640"/>
            <a:ext cx="6524640" cy="482472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125360" y="2843280"/>
            <a:ext cx="4824720" cy="410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Здравствуйте, Наталья Владимировн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Привет Вам из посёлка Смольный! Уже неделю мы с мамой отдыхаем в санатории «Алатырь». Всю неделю стоит чудесная погода. Каждый день мы гуляем по лесу, купаемся в бассейне. Днём я играю с другими детьми на детской площадке, часами прыгаю на батуте. А вечерами мы жарим шашлык, варим уху и пьём чай из самовар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Вчера мы ездили в карьер, где добывают песок. Там есть водоём. Вода в нём бирюзового цвета, в ней отражаются сосны. На берегу огромные горы песка! Забраться на такую гору очень тяжело. Но мы залазил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А сегодня погода испортилась. Небо потемнело. Начался дождь. Подул сильный ветер. Сосны качаются и трещат так, что становится страшно. Вдруг упадут?! Шишки стучат по крыше веранды.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адеюсь, что завтра вновь выглянет солнце, потеплеет и наш приятный отдых продолжитс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На этом писать заканчиваю. Очень скучаю по Вам и по нашим одноклассникам. Скоро увидимся! До встречи в новом учебном году!</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Тимонькина Арина</a:t>
            </a:r>
            <a:endParaRPr b="0" lang="en-US" sz="1200" spc="-1" strike="noStrike">
              <a:solidFill>
                <a:srgbClr val="000000"/>
              </a:solidFill>
              <a:latin typeface="Arial"/>
            </a:endParaRPr>
          </a:p>
        </p:txBody>
      </p:sp>
      <p:pic>
        <p:nvPicPr>
          <p:cNvPr id="80" name="" descr=""/>
          <p:cNvPicPr/>
          <p:nvPr/>
        </p:nvPicPr>
        <p:blipFill>
          <a:blip r:embed="rId2"/>
          <a:stretch/>
        </p:blipFill>
        <p:spPr>
          <a:xfrm>
            <a:off x="4076640" y="250920"/>
            <a:ext cx="1943280" cy="1407960"/>
          </a:xfrm>
          <a:prstGeom prst="rect">
            <a:avLst/>
          </a:prstGeom>
          <a:ln w="0">
            <a:noFill/>
          </a:ln>
        </p:spPr>
      </p:pic>
      <p:grpSp>
        <p:nvGrpSpPr>
          <p:cNvPr id="81" name=""/>
          <p:cNvGrpSpPr/>
          <p:nvPr/>
        </p:nvGrpSpPr>
        <p:grpSpPr>
          <a:xfrm>
            <a:off x="2270160" y="-553320"/>
            <a:ext cx="5406480" cy="3537000"/>
            <a:chOff x="2270160" y="-553320"/>
            <a:chExt cx="5406480" cy="3537000"/>
          </a:xfrm>
        </p:grpSpPr>
        <p:sp>
          <p:nvSpPr>
            <p:cNvPr id="82" name=""/>
            <p:cNvSpPr/>
            <p:nvPr/>
          </p:nvSpPr>
          <p:spPr>
            <a:xfrm>
              <a:off x="2521440" y="1024920"/>
              <a:ext cx="2383560" cy="94932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821680" y="1024920"/>
              <a:ext cx="2149200" cy="1406520"/>
            </a:xfrm>
            <a:custGeom>
              <a:avLst/>
              <a:gdLst/>
              <a:ahLst/>
              <a:rect l="l" t="t" r="r" b="b"/>
              <a:pathLst>
                <a:path w="1936" h="1499">
                  <a:moveTo>
                    <a:pt x="1936" y="0"/>
                  </a:moveTo>
                  <a:lnTo>
                    <a:pt x="0" y="1414"/>
                  </a:lnTo>
                  <a:lnTo>
                    <a:pt x="161" y="1499"/>
                  </a:lnTo>
                  <a:lnTo>
                    <a:pt x="1936"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169240" y="-309960"/>
              <a:ext cx="1451880" cy="1280880"/>
            </a:xfrm>
            <a:custGeom>
              <a:avLst/>
              <a:gdLst/>
              <a:ahLst/>
              <a:rect l="l" t="t" r="r" b="b"/>
              <a:pathLst>
                <a:path w="1232" h="1237">
                  <a:moveTo>
                    <a:pt x="0" y="1237"/>
                  </a:moveTo>
                  <a:lnTo>
                    <a:pt x="1137" y="0"/>
                  </a:lnTo>
                  <a:lnTo>
                    <a:pt x="1232" y="134"/>
                  </a:lnTo>
                  <a:lnTo>
                    <a:pt x="0" y="123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777400" y="757440"/>
              <a:ext cx="2259360" cy="213120"/>
            </a:xfrm>
            <a:custGeom>
              <a:avLst/>
              <a:gdLst/>
              <a:ahLst/>
              <a:rect l="l" t="t" r="r" b="b"/>
              <a:pathLst>
                <a:path w="1858" h="248">
                  <a:moveTo>
                    <a:pt x="1858" y="227"/>
                  </a:moveTo>
                  <a:lnTo>
                    <a:pt x="155" y="0"/>
                  </a:lnTo>
                  <a:lnTo>
                    <a:pt x="0" y="248"/>
                  </a:lnTo>
                  <a:lnTo>
                    <a:pt x="1858" y="22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103360" y="1079280"/>
              <a:ext cx="2573280" cy="799560"/>
            </a:xfrm>
            <a:custGeom>
              <a:avLst/>
              <a:gdLst/>
              <a:ahLst/>
              <a:rect l="l" t="t" r="r" b="b"/>
              <a:pathLst>
                <a:path w="2088" h="851">
                  <a:moveTo>
                    <a:pt x="0" y="0"/>
                  </a:moveTo>
                  <a:lnTo>
                    <a:pt x="2088" y="667"/>
                  </a:lnTo>
                  <a:lnTo>
                    <a:pt x="1943" y="851"/>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411360" y="1079280"/>
              <a:ext cx="1559160" cy="1669680"/>
            </a:xfrm>
            <a:custGeom>
              <a:avLst/>
              <a:gdLst/>
              <a:ahLst/>
              <a:rect l="l" t="t" r="r" b="b"/>
              <a:pathLst>
                <a:path w="1346" h="1647">
                  <a:moveTo>
                    <a:pt x="1346" y="0"/>
                  </a:moveTo>
                  <a:lnTo>
                    <a:pt x="0" y="1561"/>
                  </a:lnTo>
                  <a:lnTo>
                    <a:pt x="350" y="1647"/>
                  </a:lnTo>
                  <a:lnTo>
                    <a:pt x="134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235480" y="815040"/>
              <a:ext cx="2354400" cy="20952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289120" y="1092960"/>
              <a:ext cx="1617480" cy="1375920"/>
            </a:xfrm>
            <a:custGeom>
              <a:avLst/>
              <a:gdLst/>
              <a:ahLst/>
              <a:rect l="l" t="t" r="r" b="b"/>
              <a:pathLst>
                <a:path w="1653" h="1690">
                  <a:moveTo>
                    <a:pt x="0" y="0"/>
                  </a:moveTo>
                  <a:lnTo>
                    <a:pt x="1653" y="1625"/>
                  </a:lnTo>
                  <a:lnTo>
                    <a:pt x="1569" y="169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169240" y="1079280"/>
              <a:ext cx="1256400" cy="1688040"/>
            </a:xfrm>
            <a:custGeom>
              <a:avLst/>
              <a:gdLst/>
              <a:ahLst/>
              <a:rect l="l" t="t" r="r" b="b"/>
              <a:pathLst>
                <a:path w="1206" h="2148">
                  <a:moveTo>
                    <a:pt x="0" y="0"/>
                  </a:moveTo>
                  <a:lnTo>
                    <a:pt x="1206" y="2106"/>
                  </a:lnTo>
                  <a:lnTo>
                    <a:pt x="1105" y="2148"/>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044960" y="-335880"/>
              <a:ext cx="991800" cy="1306800"/>
            </a:xfrm>
            <a:custGeom>
              <a:avLst/>
              <a:gdLst/>
              <a:ahLst/>
              <a:rect l="l" t="t" r="r" b="b"/>
              <a:pathLst>
                <a:path w="760" h="1344">
                  <a:moveTo>
                    <a:pt x="760" y="1344"/>
                  </a:moveTo>
                  <a:lnTo>
                    <a:pt x="80" y="0"/>
                  </a:lnTo>
                  <a:lnTo>
                    <a:pt x="0" y="72"/>
                  </a:lnTo>
                  <a:lnTo>
                    <a:pt x="760" y="1344"/>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rot="6261600">
              <a:off x="4017240" y="1963800"/>
              <a:ext cx="1847880" cy="19944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rot="17317200">
              <a:off x="4542840" y="57600"/>
              <a:ext cx="1524240" cy="32616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rot="742200">
              <a:off x="2349000" y="744480"/>
              <a:ext cx="2579040" cy="101844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rot="20416200">
              <a:off x="5320440" y="451080"/>
              <a:ext cx="2059560" cy="20628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rot="13214400">
              <a:off x="3228840" y="419040"/>
              <a:ext cx="1851480" cy="21420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 name=""/>
          <p:cNvSpPr txBox="1"/>
          <p:nvPr/>
        </p:nvSpPr>
        <p:spPr>
          <a:xfrm>
            <a:off x="1484280" y="1332000"/>
            <a:ext cx="4776840" cy="792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6600"/>
                </a:solidFill>
                <a:effectLst>
                  <a:outerShdw dist="107932" dir="18900000" blurRad="0" rotWithShape="0">
                    <a:srgbClr val="868686">
                      <a:alpha val="50000"/>
                    </a:srgbClr>
                  </a:outerShdw>
                </a:effectLst>
                <a:latin typeface="Georgia"/>
              </a:rPr>
              <a:t>Письма из лета</a:t>
            </a:r>
            <a:endParaRPr b="1" lang="en-US" sz="1800" spc="1" strike="noStrike">
              <a:ln w="9360">
                <a:solidFill>
                  <a:srgbClr val="008000"/>
                </a:solidFill>
                <a:miter/>
              </a:ln>
              <a:solidFill>
                <a:srgbClr val="006600"/>
              </a:solidFill>
              <a:effectLst>
                <a:outerShdw dist="107932" dir="18900000" blurRad="0" rotWithShape="0">
                  <a:srgbClr val="868686">
                    <a:alpha val="50000"/>
                  </a:srgbClr>
                </a:outerShdw>
              </a:effectLst>
              <a:latin typeface="Georgia"/>
              <a:ea typeface="Georgia"/>
            </a:endParaRPr>
          </a:p>
        </p:txBody>
      </p:sp>
      <p:pic>
        <p:nvPicPr>
          <p:cNvPr id="98" name="" descr=""/>
          <p:cNvPicPr/>
          <p:nvPr/>
        </p:nvPicPr>
        <p:blipFill>
          <a:blip r:embed="rId3"/>
          <a:stretch/>
        </p:blipFill>
        <p:spPr>
          <a:xfrm>
            <a:off x="5013360" y="7164360"/>
            <a:ext cx="1341360" cy="1020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5400000">
                                      <p:cBhvr>
                                        <p:cTn id="6" dur="5000" fill="hold"/>
                                        <p:tgtEl>
                                          <p:spTgt spid="81"/>
                                        </p:tgtEl>
                                        <p:attrNameLst>
                                          <p:attrName>r</p:attrName>
                                        </p:attrNameLst>
                                      </p:cBhvr>
                                    </p:animRot>
                                  </p:childTnLst>
                                </p:cTn>
                              </p:par>
                            </p:childTnLst>
                          </p:cTn>
                        </p:par>
                        <p:par>
                          <p:cTn id="7" fill="hold">
                            <p:stCondLst>
                              <p:cond delay="5000"/>
                            </p:stCondLst>
                            <p:childTnLst>
                              <p:par>
                                <p:cTn id="8" nodeType="afterEffect" fill="hold" presetClass="emph" presetID="8">
                                  <p:stCondLst>
                                    <p:cond delay="0"/>
                                  </p:stCondLst>
                                  <p:childTnLst>
                                    <p:animRot by="-5400000">
                                      <p:cBhvr>
                                        <p:cTn id="9" dur="5000" fill="hold"/>
                                        <p:tgtEl>
                                          <p:spTgt spid="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rcRect l="0" t="305" r="50294" b="0"/>
          <a:stretch/>
        </p:blipFill>
        <p:spPr>
          <a:xfrm>
            <a:off x="0" y="0"/>
            <a:ext cx="6858000" cy="9144000"/>
          </a:xfrm>
          <a:prstGeom prst="rect">
            <a:avLst/>
          </a:prstGeom>
          <a:ln w="0">
            <a:noFill/>
          </a:ln>
        </p:spPr>
      </p:pic>
      <p:sp>
        <p:nvSpPr>
          <p:cNvPr id="100" name=""/>
          <p:cNvSpPr/>
          <p:nvPr/>
        </p:nvSpPr>
        <p:spPr>
          <a:xfrm>
            <a:off x="260280" y="1476360"/>
            <a:ext cx="6597720" cy="662472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268280" y="1908000"/>
            <a:ext cx="4753080" cy="59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дравствуйте, Наталья Владимировн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ишет Вам Сенгаева Вероника. Я хочу рассказать Вам, как прошёл первый день моих летних канику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ервого июня, вместе с другими детьми нашего класса, мы поехали в парк ультуры и отдыха имени А.С.Пушкина, чтобы поучаствовать в концерте. Мы должны были танцевать танец цыплят. Наша очередь была почти последней. Мы очень долго ждали, поэтому очень устали. Когда наконец-то объявили наш выход, мы собрали все оставшиеся силы и выступили очень хорошо. Оксана Валерьевна, наш хореограф, осталась очень довольна нам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сле концерта мы пошли в кафе. Там ели шашлыки, блины и пили коктейль. Потом мы пошли кататься на аттракционах. Было очень весел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ечером мы поехали домой. Я совсем не устала, так как этот день был радостным, весёлым и запоминающимс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ервого июня, вместе с другими детьми нашего класса, мы поехали в парк культуры и отдыха имени А.С.Пушкина, чтобы поучаствовать в концерте. Мы должны были танцевать танец цыплят. Наша очередь была почти последней. Мы очень долго ждали, поэтому очень устали. Когда наконец-то объявили наш выход, мы собрали все оставшиеся силы и выступили очень хорошо. Оксана Валерьевна, наш хореограф, осталась очень довольна нам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сле концерта мы пошли в кафе. Там ели шашлыки, блины и пили коктейль. Потом мы пошли кататься на аттракционах. Было очень весел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200" spc="-1" strike="noStrike">
                <a:solidFill>
                  <a:srgbClr val="000000"/>
                </a:solidFill>
                <a:latin typeface="Arial"/>
              </a:rPr>
              <a:t>Вечером мы поехали домой. Я совсем не устала, так как этот день был радостным, весёлым и запоминающимс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 уважением, Сенгаева Вероника</a:t>
            </a:r>
            <a:endParaRPr b="0" lang="en-US" sz="1200" spc="-1" strike="noStrike">
              <a:solidFill>
                <a:srgbClr val="000000"/>
              </a:solidFill>
              <a:latin typeface="Arial"/>
            </a:endParaRPr>
          </a:p>
        </p:txBody>
      </p:sp>
      <p:pic>
        <p:nvPicPr>
          <p:cNvPr id="102" name="" descr=""/>
          <p:cNvPicPr/>
          <p:nvPr/>
        </p:nvPicPr>
        <p:blipFill>
          <a:blip r:embed="rId2"/>
          <a:stretch/>
        </p:blipFill>
        <p:spPr>
          <a:xfrm rot="3766800">
            <a:off x="1108080" y="411120"/>
            <a:ext cx="1341360" cy="1020960"/>
          </a:xfrm>
          <a:prstGeom prst="rect">
            <a:avLst/>
          </a:prstGeom>
          <a:ln w="0">
            <a:noFill/>
          </a:ln>
        </p:spPr>
      </p:pic>
      <p:grpSp>
        <p:nvGrpSpPr>
          <p:cNvPr id="103" name=""/>
          <p:cNvGrpSpPr/>
          <p:nvPr/>
        </p:nvGrpSpPr>
        <p:grpSpPr>
          <a:xfrm>
            <a:off x="3376440" y="-337320"/>
            <a:ext cx="4202280" cy="2460240"/>
            <a:chOff x="3376440" y="-337320"/>
            <a:chExt cx="4202280" cy="2460240"/>
          </a:xfrm>
        </p:grpSpPr>
        <p:sp>
          <p:nvSpPr>
            <p:cNvPr id="104" name=""/>
            <p:cNvSpPr/>
            <p:nvPr/>
          </p:nvSpPr>
          <p:spPr>
            <a:xfrm>
              <a:off x="3562920" y="762480"/>
              <a:ext cx="1856520" cy="65844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796920" y="762480"/>
              <a:ext cx="1674000" cy="975600"/>
            </a:xfrm>
            <a:custGeom>
              <a:avLst/>
              <a:gdLst/>
              <a:ahLst/>
              <a:rect l="l" t="t" r="r" b="b"/>
              <a:pathLst>
                <a:path w="1936" h="1499">
                  <a:moveTo>
                    <a:pt x="1936" y="0"/>
                  </a:moveTo>
                  <a:lnTo>
                    <a:pt x="0" y="1414"/>
                  </a:lnTo>
                  <a:lnTo>
                    <a:pt x="161" y="1499"/>
                  </a:lnTo>
                  <a:lnTo>
                    <a:pt x="1936"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625360" y="-163440"/>
              <a:ext cx="1131120" cy="888480"/>
            </a:xfrm>
            <a:custGeom>
              <a:avLst/>
              <a:gdLst/>
              <a:ahLst/>
              <a:rect l="l" t="t" r="r" b="b"/>
              <a:pathLst>
                <a:path w="1232" h="1237">
                  <a:moveTo>
                    <a:pt x="0" y="1237"/>
                  </a:moveTo>
                  <a:lnTo>
                    <a:pt x="1137" y="0"/>
                  </a:lnTo>
                  <a:lnTo>
                    <a:pt x="1232" y="134"/>
                  </a:lnTo>
                  <a:lnTo>
                    <a:pt x="0" y="123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762360" y="576720"/>
              <a:ext cx="1759680" cy="147600"/>
            </a:xfrm>
            <a:custGeom>
              <a:avLst/>
              <a:gdLst/>
              <a:ahLst/>
              <a:rect l="l" t="t" r="r" b="b"/>
              <a:pathLst>
                <a:path w="1858" h="248">
                  <a:moveTo>
                    <a:pt x="1858" y="227"/>
                  </a:moveTo>
                  <a:lnTo>
                    <a:pt x="155" y="0"/>
                  </a:lnTo>
                  <a:lnTo>
                    <a:pt x="0" y="248"/>
                  </a:lnTo>
                  <a:lnTo>
                    <a:pt x="1858" y="22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574240" y="800280"/>
              <a:ext cx="2004480" cy="554760"/>
            </a:xfrm>
            <a:custGeom>
              <a:avLst/>
              <a:gdLst/>
              <a:ahLst/>
              <a:rect l="l" t="t" r="r" b="b"/>
              <a:pathLst>
                <a:path w="2088" h="851">
                  <a:moveTo>
                    <a:pt x="0" y="0"/>
                  </a:moveTo>
                  <a:lnTo>
                    <a:pt x="2088" y="667"/>
                  </a:lnTo>
                  <a:lnTo>
                    <a:pt x="1943" y="851"/>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256280" y="800280"/>
              <a:ext cx="1214280" cy="1158120"/>
            </a:xfrm>
            <a:custGeom>
              <a:avLst/>
              <a:gdLst/>
              <a:ahLst/>
              <a:rect l="l" t="t" r="r" b="b"/>
              <a:pathLst>
                <a:path w="1346" h="1647">
                  <a:moveTo>
                    <a:pt x="1346" y="0"/>
                  </a:moveTo>
                  <a:lnTo>
                    <a:pt x="0" y="1561"/>
                  </a:lnTo>
                  <a:lnTo>
                    <a:pt x="350" y="1647"/>
                  </a:lnTo>
                  <a:lnTo>
                    <a:pt x="134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676840" y="617040"/>
              <a:ext cx="1833840" cy="14544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18960" y="809640"/>
              <a:ext cx="1259640" cy="954360"/>
            </a:xfrm>
            <a:custGeom>
              <a:avLst/>
              <a:gdLst/>
              <a:ahLst/>
              <a:rect l="l" t="t" r="r" b="b"/>
              <a:pathLst>
                <a:path w="1653" h="1690">
                  <a:moveTo>
                    <a:pt x="0" y="0"/>
                  </a:moveTo>
                  <a:lnTo>
                    <a:pt x="1653" y="1625"/>
                  </a:lnTo>
                  <a:lnTo>
                    <a:pt x="1569" y="169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625360" y="800280"/>
              <a:ext cx="978480" cy="1171080"/>
            </a:xfrm>
            <a:custGeom>
              <a:avLst/>
              <a:gdLst/>
              <a:ahLst/>
              <a:rect l="l" t="t" r="r" b="b"/>
              <a:pathLst>
                <a:path w="1206" h="2148">
                  <a:moveTo>
                    <a:pt x="0" y="0"/>
                  </a:moveTo>
                  <a:lnTo>
                    <a:pt x="1206" y="2106"/>
                  </a:lnTo>
                  <a:lnTo>
                    <a:pt x="1105" y="2148"/>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749840" y="-181440"/>
              <a:ext cx="772560" cy="906480"/>
            </a:xfrm>
            <a:custGeom>
              <a:avLst/>
              <a:gdLst/>
              <a:ahLst/>
              <a:rect l="l" t="t" r="r" b="b"/>
              <a:pathLst>
                <a:path w="760" h="1344">
                  <a:moveTo>
                    <a:pt x="760" y="1344"/>
                  </a:moveTo>
                  <a:lnTo>
                    <a:pt x="80" y="0"/>
                  </a:lnTo>
                  <a:lnTo>
                    <a:pt x="0" y="72"/>
                  </a:lnTo>
                  <a:lnTo>
                    <a:pt x="760" y="1344"/>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rot="6261600">
              <a:off x="4806360" y="1405080"/>
              <a:ext cx="1281600" cy="15516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rot="17317200">
              <a:off x="5202360" y="77040"/>
              <a:ext cx="1057320" cy="25416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rot="742200">
              <a:off x="3428640" y="567720"/>
              <a:ext cx="2008800" cy="70668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rot="20416200">
              <a:off x="5743440" y="363960"/>
              <a:ext cx="1604160" cy="14328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rot="13214400">
              <a:off x="4114440" y="342000"/>
              <a:ext cx="1442160" cy="14832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9" name="" descr=""/>
          <p:cNvPicPr/>
          <p:nvPr/>
        </p:nvPicPr>
        <p:blipFill>
          <a:blip r:embed="rId3"/>
          <a:stretch/>
        </p:blipFill>
        <p:spPr>
          <a:xfrm>
            <a:off x="4508640" y="0"/>
            <a:ext cx="1942920" cy="14079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mph" presetID="8">
                                  <p:stCondLst>
                                    <p:cond delay="0"/>
                                  </p:stCondLst>
                                  <p:childTnLst>
                                    <p:animRot by="5400000">
                                      <p:cBhvr>
                                        <p:cTn id="15" dur="5000" fill="hold"/>
                                        <p:tgtEl>
                                          <p:spTgt spid="103"/>
                                        </p:tgtEl>
                                        <p:attrNameLst>
                                          <p:attrName>r</p:attrName>
                                        </p:attrNameLst>
                                      </p:cBhvr>
                                    </p:animRot>
                                  </p:childTnLst>
                                </p:cTn>
                              </p:par>
                            </p:childTnLst>
                          </p:cTn>
                        </p:par>
                        <p:par>
                          <p:cTn id="16" fill="hold">
                            <p:stCondLst>
                              <p:cond delay="5000"/>
                            </p:stCondLst>
                            <p:childTnLst>
                              <p:par>
                                <p:cTn id="17" nodeType="afterEffect" fill="hold" presetClass="emph" presetID="8">
                                  <p:stCondLst>
                                    <p:cond delay="0"/>
                                  </p:stCondLst>
                                  <p:childTnLst>
                                    <p:animRot by="-5400000">
                                      <p:cBhvr>
                                        <p:cTn id="18" dur="5000" fill="hold"/>
                                        <p:tgtEl>
                                          <p:spTgt spid="10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rcRect l="0" t="305" r="50294" b="0"/>
          <a:stretch/>
        </p:blipFill>
        <p:spPr>
          <a:xfrm>
            <a:off x="0" y="0"/>
            <a:ext cx="6858000" cy="9144000"/>
          </a:xfrm>
          <a:prstGeom prst="rect">
            <a:avLst/>
          </a:prstGeom>
          <a:ln w="0">
            <a:noFill/>
          </a:ln>
        </p:spPr>
      </p:pic>
      <p:sp>
        <p:nvSpPr>
          <p:cNvPr id="121" name=""/>
          <p:cNvSpPr/>
          <p:nvPr/>
        </p:nvSpPr>
        <p:spPr>
          <a:xfrm>
            <a:off x="260280" y="1476360"/>
            <a:ext cx="6597720" cy="662472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1557360" y="1763640"/>
            <a:ext cx="4176720" cy="6117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дравствуйте, дорогая Наталья Владимировн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ишем Вам Тукузов Кирилл! Я хочу поделиться своими впечатлениями от прошедшего лета. Мои летние каникулы были очень интересными и разнообразным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юнь месяц я посещал школьный лагерь. Каждый день в лагере был заполнен разными событиями: поход в кино и театр, посещение зоопарка и парка, разнообразные концерты и игр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том я поехал в Анапу, такой курортный город на берегу Чёрного моря. Там я совершил увлекательную прогулку на теплоходе по морю. Мне очень понравилось. Я побывал в дельфинарии на Большом Утрише.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м же, в Анапе, я встретил своего одноклассника Диму. Как повезло! Вместе с Димой мы замечательно провели время. Вместе купались, вместе загорали, вместе побывали в аквапарке и покатались с горо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я вернулся домой, здесь в Саранске, я встретился со своим другом Вадимом  из Санкт-Петербурга. Вместе с нашими мамами  мы объехали все достопримечательности нашего города, посетили кафе «Пилигрим», «Нью-Йорк». Каждый день с Вадимом мы ходили в бассейн. За это время мы научились хорошо плавать на спине, кролем, нырять на глубине и прыгать с тумбы. На осенние каникулы Вадим пригласил меня к себе в Питер.</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общем, я хорошо отдохнул и готов к новому учебному году. Я обещаю Вам хорошо учиться и радовать Вас своими успех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 любовью Тукузов Кирилл. </a:t>
            </a:r>
            <a:endParaRPr b="0" lang="en-US" sz="1200" spc="-1" strike="noStrike">
              <a:solidFill>
                <a:srgbClr val="000000"/>
              </a:solidFill>
              <a:latin typeface="Arial"/>
            </a:endParaRPr>
          </a:p>
        </p:txBody>
      </p:sp>
      <p:grpSp>
        <p:nvGrpSpPr>
          <p:cNvPr id="123" name=""/>
          <p:cNvGrpSpPr/>
          <p:nvPr/>
        </p:nvGrpSpPr>
        <p:grpSpPr>
          <a:xfrm>
            <a:off x="3390480" y="-12240"/>
            <a:ext cx="3467520" cy="1884600"/>
            <a:chOff x="3390480" y="-12240"/>
            <a:chExt cx="3467520" cy="1884600"/>
          </a:xfrm>
        </p:grpSpPr>
        <p:sp>
          <p:nvSpPr>
            <p:cNvPr id="124" name=""/>
            <p:cNvSpPr/>
            <p:nvPr/>
          </p:nvSpPr>
          <p:spPr>
            <a:xfrm>
              <a:off x="3539520" y="830520"/>
              <a:ext cx="1533960" cy="50364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732840" y="830520"/>
              <a:ext cx="1383120" cy="745920"/>
            </a:xfrm>
            <a:custGeom>
              <a:avLst/>
              <a:gdLst/>
              <a:ahLst/>
              <a:rect l="l" t="t" r="r" b="b"/>
              <a:pathLst>
                <a:path w="1936" h="1499">
                  <a:moveTo>
                    <a:pt x="1936" y="0"/>
                  </a:moveTo>
                  <a:lnTo>
                    <a:pt x="0" y="1414"/>
                  </a:lnTo>
                  <a:lnTo>
                    <a:pt x="161" y="1499"/>
                  </a:lnTo>
                  <a:lnTo>
                    <a:pt x="1936"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244120" y="122400"/>
              <a:ext cx="934560" cy="679320"/>
            </a:xfrm>
            <a:custGeom>
              <a:avLst/>
              <a:gdLst/>
              <a:ahLst/>
              <a:rect l="l" t="t" r="r" b="b"/>
              <a:pathLst>
                <a:path w="1232" h="1237">
                  <a:moveTo>
                    <a:pt x="0" y="1237"/>
                  </a:moveTo>
                  <a:lnTo>
                    <a:pt x="1137" y="0"/>
                  </a:lnTo>
                  <a:lnTo>
                    <a:pt x="1232" y="134"/>
                  </a:lnTo>
                  <a:lnTo>
                    <a:pt x="0" y="123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704400" y="688680"/>
              <a:ext cx="1454040" cy="113040"/>
            </a:xfrm>
            <a:custGeom>
              <a:avLst/>
              <a:gdLst/>
              <a:ahLst/>
              <a:rect l="l" t="t" r="r" b="b"/>
              <a:pathLst>
                <a:path w="1858" h="248">
                  <a:moveTo>
                    <a:pt x="1858" y="227"/>
                  </a:moveTo>
                  <a:lnTo>
                    <a:pt x="155" y="0"/>
                  </a:lnTo>
                  <a:lnTo>
                    <a:pt x="0" y="248"/>
                  </a:lnTo>
                  <a:lnTo>
                    <a:pt x="1858" y="22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201640" y="859680"/>
              <a:ext cx="1656360" cy="424080"/>
            </a:xfrm>
            <a:custGeom>
              <a:avLst/>
              <a:gdLst/>
              <a:ahLst/>
              <a:rect l="l" t="t" r="r" b="b"/>
              <a:pathLst>
                <a:path w="2088" h="851">
                  <a:moveTo>
                    <a:pt x="0" y="0"/>
                  </a:moveTo>
                  <a:lnTo>
                    <a:pt x="2088" y="667"/>
                  </a:lnTo>
                  <a:lnTo>
                    <a:pt x="1943" y="851"/>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112640" y="859680"/>
              <a:ext cx="1003680" cy="885600"/>
            </a:xfrm>
            <a:custGeom>
              <a:avLst/>
              <a:gdLst/>
              <a:ahLst/>
              <a:rect l="l" t="t" r="r" b="b"/>
              <a:pathLst>
                <a:path w="1346" h="1647">
                  <a:moveTo>
                    <a:pt x="1346" y="0"/>
                  </a:moveTo>
                  <a:lnTo>
                    <a:pt x="0" y="1561"/>
                  </a:lnTo>
                  <a:lnTo>
                    <a:pt x="350" y="1647"/>
                  </a:lnTo>
                  <a:lnTo>
                    <a:pt x="134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286600" y="719640"/>
              <a:ext cx="1515240" cy="11088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321160" y="866880"/>
              <a:ext cx="1040760" cy="729720"/>
            </a:xfrm>
            <a:custGeom>
              <a:avLst/>
              <a:gdLst/>
              <a:ahLst/>
              <a:rect l="l" t="t" r="r" b="b"/>
              <a:pathLst>
                <a:path w="1653" h="1690">
                  <a:moveTo>
                    <a:pt x="0" y="0"/>
                  </a:moveTo>
                  <a:lnTo>
                    <a:pt x="1653" y="1625"/>
                  </a:lnTo>
                  <a:lnTo>
                    <a:pt x="1569" y="169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244120" y="859680"/>
              <a:ext cx="808560" cy="895320"/>
            </a:xfrm>
            <a:custGeom>
              <a:avLst/>
              <a:gdLst/>
              <a:ahLst/>
              <a:rect l="l" t="t" r="r" b="b"/>
              <a:pathLst>
                <a:path w="1206" h="2148">
                  <a:moveTo>
                    <a:pt x="0" y="0"/>
                  </a:moveTo>
                  <a:lnTo>
                    <a:pt x="1206" y="2106"/>
                  </a:lnTo>
                  <a:lnTo>
                    <a:pt x="1105" y="2148"/>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520520" y="108720"/>
              <a:ext cx="638280" cy="693000"/>
            </a:xfrm>
            <a:custGeom>
              <a:avLst/>
              <a:gdLst/>
              <a:ahLst/>
              <a:rect l="l" t="t" r="r" b="b"/>
              <a:pathLst>
                <a:path w="760" h="1344">
                  <a:moveTo>
                    <a:pt x="760" y="1344"/>
                  </a:moveTo>
                  <a:lnTo>
                    <a:pt x="80" y="0"/>
                  </a:lnTo>
                  <a:lnTo>
                    <a:pt x="0" y="72"/>
                  </a:lnTo>
                  <a:lnTo>
                    <a:pt x="760" y="1344"/>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rot="6261600">
              <a:off x="4607280" y="1317600"/>
              <a:ext cx="979920" cy="12816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rot="17317200">
              <a:off x="4926600" y="299160"/>
              <a:ext cx="808560" cy="20988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rot="742200">
              <a:off x="3428640" y="682200"/>
              <a:ext cx="1659960" cy="54000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rot="20416200">
              <a:off x="5341320" y="526320"/>
              <a:ext cx="1325520" cy="10944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rot="13214400">
              <a:off x="3995280" y="509040"/>
              <a:ext cx="1191600" cy="11340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9" name="" descr=""/>
          <p:cNvPicPr/>
          <p:nvPr/>
        </p:nvPicPr>
        <p:blipFill>
          <a:blip r:embed="rId2"/>
          <a:stretch/>
        </p:blipFill>
        <p:spPr>
          <a:xfrm>
            <a:off x="4365720" y="0"/>
            <a:ext cx="1942920" cy="1407960"/>
          </a:xfrm>
          <a:prstGeom prst="rect">
            <a:avLst/>
          </a:prstGeom>
          <a:ln w="0">
            <a:noFill/>
          </a:ln>
        </p:spPr>
      </p:pic>
      <p:pic>
        <p:nvPicPr>
          <p:cNvPr id="140" name="" descr=""/>
          <p:cNvPicPr/>
          <p:nvPr/>
        </p:nvPicPr>
        <p:blipFill>
          <a:blip r:embed="rId3"/>
          <a:stretch/>
        </p:blipFill>
        <p:spPr>
          <a:xfrm rot="20395800">
            <a:off x="836640" y="1476000"/>
            <a:ext cx="1341360" cy="1020600"/>
          </a:xfrm>
          <a:prstGeom prst="rect">
            <a:avLst/>
          </a:prstGeom>
          <a:ln w="0">
            <a:noFill/>
          </a:ln>
        </p:spPr>
      </p:pic>
      <p:pic>
        <p:nvPicPr>
          <p:cNvPr id="141" name="" descr=""/>
          <p:cNvPicPr/>
          <p:nvPr/>
        </p:nvPicPr>
        <p:blipFill>
          <a:blip r:embed="rId4"/>
          <a:stretch/>
        </p:blipFill>
        <p:spPr>
          <a:xfrm>
            <a:off x="5157720" y="6588000"/>
            <a:ext cx="1441440" cy="2305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8">
                                  <p:stCondLst>
                                    <p:cond delay="0"/>
                                  </p:stCondLst>
                                  <p:childTnLst>
                                    <p:animRot by="5400000">
                                      <p:cBhvr>
                                        <p:cTn id="24" dur="5000" fill="hold"/>
                                        <p:tgtEl>
                                          <p:spTgt spid="123"/>
                                        </p:tgtEl>
                                        <p:attrNameLst>
                                          <p:attrName>r</p:attrName>
                                        </p:attrNameLst>
                                      </p:cBhvr>
                                    </p:animRot>
                                  </p:childTnLst>
                                </p:cTn>
                              </p:par>
                            </p:childTnLst>
                          </p:cTn>
                        </p:par>
                        <p:par>
                          <p:cTn id="25" fill="hold">
                            <p:stCondLst>
                              <p:cond delay="5000"/>
                            </p:stCondLst>
                            <p:childTnLst>
                              <p:par>
                                <p:cTn id="26" nodeType="afterEffect" fill="hold" presetClass="emph" presetID="8">
                                  <p:stCondLst>
                                    <p:cond delay="0"/>
                                  </p:stCondLst>
                                  <p:childTnLst>
                                    <p:animRot by="-5400000">
                                      <p:cBhvr>
                                        <p:cTn id="27" dur="5000" fill="hold"/>
                                        <p:tgtEl>
                                          <p:spTgt spid="12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rcRect l="0" t="305" r="50294" b="0"/>
          <a:stretch/>
        </p:blipFill>
        <p:spPr>
          <a:xfrm>
            <a:off x="0" y="0"/>
            <a:ext cx="6858000" cy="9144000"/>
          </a:xfrm>
          <a:prstGeom prst="rect">
            <a:avLst/>
          </a:prstGeom>
          <a:ln w="0">
            <a:noFill/>
          </a:ln>
        </p:spPr>
      </p:pic>
      <p:sp>
        <p:nvSpPr>
          <p:cNvPr id="143" name=""/>
          <p:cNvSpPr/>
          <p:nvPr/>
        </p:nvSpPr>
        <p:spPr>
          <a:xfrm>
            <a:off x="0" y="395280"/>
            <a:ext cx="6858000" cy="799308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1125360" y="755640"/>
            <a:ext cx="4751640" cy="757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дравствуйте, Наталья Владимировн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провела лето просто отличн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амом начале каникул, на день рождения, мне подарили велосипед. Я была очень рада этому! И целыми днями каталась на своём новом велосипед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июле вместе с мамой, бабушкой и маленькой сестрёнкой мы отдыхали в доме отдыха «Сура». Там мы купались, загорали, кушали шашлык в лесу. Я участвовала в конкурсах, отгадывала загадки и даже выиграла конфеты. У меня появилось очень много новых знакомы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июле мы с семьёй поехали отдыхать в город Анапа. Каждый день мы ходили на море. Купались, собирали ракушки. Мы с сестрёнкой прыгали на бабуте. Было очень смешно и весело. Мы всё время падал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дин раз я плавала в шаре по воде. В шаре было очень жарко и нельзя было встать на ноги, потому что он катился в разные стороны. Ещё мы с папой катались на квадрацикле  по песку  и на гидроцикле в море. Мне было очень страшно. Я боялась, что утону.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чень мне хотелось попрыгать на «тарзанке», но оказалось, это очень страшно. Я прыгала, но низк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сей семьёй мы ходили в аквапарк. Он называется «Олимпия». Там я плавала в глубоком бассейне под водой, каталась на водных горках. Горки были открытые и закрытые, как труба. Вечером в аквапарке была пенная вечеринка. Всё вокруг было в пене. Пена была у меня и в волосах, и в глаза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щё мы ходили дельфинарий. Там было два дельфина и маленькая белуга. Они прыгали в высоту, танцевали, выталкивали из воды своего тренера и даже рисовали картину. Морская львица ходила на задних ласта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днажды вечером мы вышли в открытое море на яте. Там мы видели больших медуз. Два маленьких дельфинчика плавали прямо под яхтой и выпрыгивали из вод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наш отдых подошёл к концу, мы попрощались с Анапой и уехали в Саранс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ставшуюся часть лета я провела в деревне у бабушки и каталась на своём любимом велосипед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ландина Дарь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pic>
        <p:nvPicPr>
          <p:cNvPr id="145" name="" descr=""/>
          <p:cNvPicPr/>
          <p:nvPr/>
        </p:nvPicPr>
        <p:blipFill>
          <a:blip r:embed="rId2"/>
          <a:stretch/>
        </p:blipFill>
        <p:spPr>
          <a:xfrm rot="20395800">
            <a:off x="5516640" y="7596000"/>
            <a:ext cx="1341360" cy="1020600"/>
          </a:xfrm>
          <a:prstGeom prst="rect">
            <a:avLst/>
          </a:prstGeom>
          <a:ln w="0">
            <a:noFill/>
          </a:ln>
        </p:spPr>
      </p:pic>
      <p:pic>
        <p:nvPicPr>
          <p:cNvPr id="146" name="" descr=""/>
          <p:cNvPicPr/>
          <p:nvPr/>
        </p:nvPicPr>
        <p:blipFill>
          <a:blip r:embed="rId3"/>
          <a:stretch/>
        </p:blipFill>
        <p:spPr>
          <a:xfrm rot="4203000">
            <a:off x="5676120" y="6244920"/>
            <a:ext cx="1341720" cy="1020600"/>
          </a:xfrm>
          <a:prstGeom prst="rect">
            <a:avLst/>
          </a:prstGeom>
          <a:ln w="0">
            <a:noFill/>
          </a:ln>
        </p:spPr>
      </p:pic>
      <p:pic>
        <p:nvPicPr>
          <p:cNvPr id="147" name="" descr=""/>
          <p:cNvPicPr/>
          <p:nvPr/>
        </p:nvPicPr>
        <p:blipFill>
          <a:blip r:embed="rId4"/>
          <a:stretch/>
        </p:blipFill>
        <p:spPr>
          <a:xfrm rot="1608000">
            <a:off x="4292280" y="8123040"/>
            <a:ext cx="1341360" cy="102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rcRect l="0" t="305" r="50294" b="0"/>
          <a:stretch/>
        </p:blipFill>
        <p:spPr>
          <a:xfrm>
            <a:off x="0" y="0"/>
            <a:ext cx="6858000" cy="9144000"/>
          </a:xfrm>
          <a:prstGeom prst="rect">
            <a:avLst/>
          </a:prstGeom>
          <a:ln w="0">
            <a:noFill/>
          </a:ln>
        </p:spPr>
      </p:pic>
      <p:sp>
        <p:nvSpPr>
          <p:cNvPr id="149" name=""/>
          <p:cNvSpPr/>
          <p:nvPr/>
        </p:nvSpPr>
        <p:spPr>
          <a:xfrm>
            <a:off x="-603360" y="539640"/>
            <a:ext cx="7848720" cy="755964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476280" y="611280"/>
            <a:ext cx="5759280" cy="823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200" spc="-1" strike="noStrike">
                <a:solidFill>
                  <a:srgbClr val="000000"/>
                </a:solidFill>
                <a:latin typeface="Arial"/>
              </a:rPr>
              <a:t>Моё любимое время года - лето. Вокруг много зелен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певает ягода, а в небе, словно белые кораблик,и парят облак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ето дарит нам время путешествовать, увидеть много 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тересного и познакомиться с новыми друзьям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от и моё путешествие началось в самом начале лета. Я со своей семьей, с папой и мамой, побывала в Греции на сказочном острове Крит</a:t>
            </a:r>
            <a:r>
              <a:rPr b="0" lang="ru-RU" sz="1800" spc="-1" strike="noStrike">
                <a:solidFill>
                  <a:srgbClr val="000000"/>
                </a:solidFill>
                <a:latin typeface="Arial"/>
              </a:rPr>
              <a:t>. </a:t>
            </a:r>
            <a:r>
              <a:rPr b="0" lang="ru-RU" sz="1200" spc="-1" strike="noStrike">
                <a:solidFill>
                  <a:srgbClr val="000000"/>
                </a:solidFill>
                <a:latin typeface="Arial"/>
              </a:rPr>
              <a:t>Прилетев в Грецию, мы поселились на берегу Критского моря в отеле «Митсис Ренила Бич».У отеля большая зеленая территория и огромный детский бассейн с водяными горкам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 территории отел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аботал детский клуб «Лёв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 я познакомилась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детишками не только из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оссии, но и из Латвии, 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аины, Италии и конечн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селыми аниматорам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 мы играли, рисовал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память об отдыхе в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еции мы разукрашивал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тболки со своими именами. Вечером в амфитеатре отеля начиналась детская дискотека и было очень весело . Мы ездили в аквапарк «</a:t>
            </a:r>
            <a:r>
              <a:rPr b="0" lang="en-US" sz="1200" spc="-1" strike="noStrike">
                <a:solidFill>
                  <a:srgbClr val="000000"/>
                </a:solidFill>
                <a:latin typeface="Arial"/>
              </a:rPr>
              <a:t>Water Citi</a:t>
            </a:r>
            <a:r>
              <a:rPr b="0" lang="ru-RU" sz="1200" spc="-1" strike="noStrike">
                <a:solidFill>
                  <a:srgbClr val="000000"/>
                </a:solidFill>
                <a:latin typeface="Arial"/>
              </a:rPr>
              <a:t>» и провели там целый день. Я каталась на детских горках и купалась в бассейнах на искусственных волна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этот день мне можно было много мороженного, потому что было очень тепло. С папой мы катались по искусственной реке на подушке. Это было незабываемо и весело. Мы хохотали и кричали «Урааа!!!! Лет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Ещё мы побывали на острове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пиналонга –это остров-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репость, который находитс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 востоке Крита. Дальше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вигаясь по Криту  м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обрались до озера Курнас. Эт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единственное пресное озеро н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рите  и глубина достигает д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26 метров. На озере Курнас 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ама управляла катамарано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pic>
        <p:nvPicPr>
          <p:cNvPr id="151" name="" descr=""/>
          <p:cNvPicPr/>
          <p:nvPr/>
        </p:nvPicPr>
        <p:blipFill>
          <a:blip r:embed="rId2"/>
          <a:stretch/>
        </p:blipFill>
        <p:spPr>
          <a:xfrm>
            <a:off x="3068640" y="2627280"/>
            <a:ext cx="2809800" cy="1706760"/>
          </a:xfrm>
          <a:prstGeom prst="rect">
            <a:avLst/>
          </a:prstGeom>
          <a:ln w="0">
            <a:noFill/>
          </a:ln>
        </p:spPr>
      </p:pic>
      <p:pic>
        <p:nvPicPr>
          <p:cNvPr id="152" name="" descr=""/>
          <p:cNvPicPr/>
          <p:nvPr/>
        </p:nvPicPr>
        <p:blipFill>
          <a:blip r:embed="rId3"/>
          <a:stretch/>
        </p:blipFill>
        <p:spPr>
          <a:xfrm>
            <a:off x="692280" y="5796000"/>
            <a:ext cx="2828880" cy="1888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rcRect l="0" t="305" r="50294" b="0"/>
          <a:stretch/>
        </p:blipFill>
        <p:spPr>
          <a:xfrm>
            <a:off x="0" y="0"/>
            <a:ext cx="6858000" cy="9144000"/>
          </a:xfrm>
          <a:prstGeom prst="rect">
            <a:avLst/>
          </a:prstGeom>
          <a:ln w="0">
            <a:noFill/>
          </a:ln>
        </p:spPr>
      </p:pic>
      <p:sp>
        <p:nvSpPr>
          <p:cNvPr id="154" name=""/>
          <p:cNvSpPr/>
          <p:nvPr/>
        </p:nvSpPr>
        <p:spPr>
          <a:xfrm>
            <a:off x="-603360" y="539640"/>
            <a:ext cx="7848720" cy="755964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752480" y="4448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836640" y="755640"/>
            <a:ext cx="56880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последний денек нашего отдыха на Крите мы отправились н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лияние трёх морей: Ионического, Ливийского и Критского…в лагуну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бухты Балос.</a:t>
            </a:r>
            <a:endParaRPr b="0" lang="en-US" sz="1200" spc="-1" strike="noStrike">
              <a:solidFill>
                <a:srgbClr val="000000"/>
              </a:solidFill>
              <a:latin typeface="Arial"/>
            </a:endParaRPr>
          </a:p>
        </p:txBody>
      </p:sp>
      <p:sp>
        <p:nvSpPr>
          <p:cNvPr id="157" name=""/>
          <p:cNvSpPr/>
          <p:nvPr/>
        </p:nvSpPr>
        <p:spPr>
          <a:xfrm>
            <a:off x="816120" y="3419640"/>
            <a:ext cx="5637240" cy="255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то сказочное и красивое место. На очарование трёх морей насчитывается до 25 оттенков.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июле месяце я с бабушкой вновь вернулась на остров Крит. Мы купались в ласковом море и загорали. Любовались прекрасной природо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вгуст месяц я провела в деревне. Там у нас в доме живет мой любимый котик Барсик. Я его очень сильно люблю. С ним я играла и кормила молочком. С подружкой Юлей мы читали книжки и играли в разные игры. А вечером гуляли по парку.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200" spc="-1" strike="noStrike">
                <a:solidFill>
                  <a:srgbClr val="000000"/>
                </a:solidFill>
                <a:latin typeface="Arial"/>
              </a:rPr>
              <a:t>Как жалко, что так быстро пролетело лето. Но впереди новый учебный год и много нового интересного. И надеюсь на следующее лето еще будут новые путешествия и приключени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яскина Мария</a:t>
            </a:r>
            <a:endParaRPr b="0" lang="en-US" sz="1200" spc="-1" strike="noStrike">
              <a:solidFill>
                <a:srgbClr val="000000"/>
              </a:solidFill>
              <a:latin typeface="Arial"/>
            </a:endParaRPr>
          </a:p>
        </p:txBody>
      </p:sp>
      <p:pic>
        <p:nvPicPr>
          <p:cNvPr id="158" name="" descr=""/>
          <p:cNvPicPr/>
          <p:nvPr/>
        </p:nvPicPr>
        <p:blipFill>
          <a:blip r:embed="rId2"/>
          <a:stretch/>
        </p:blipFill>
        <p:spPr>
          <a:xfrm>
            <a:off x="1916280" y="5867280"/>
            <a:ext cx="2779560" cy="1852560"/>
          </a:xfrm>
          <a:prstGeom prst="rect">
            <a:avLst/>
          </a:prstGeom>
          <a:ln w="0">
            <a:noFill/>
          </a:ln>
        </p:spPr>
      </p:pic>
      <p:pic>
        <p:nvPicPr>
          <p:cNvPr id="159" name="" descr=""/>
          <p:cNvPicPr/>
          <p:nvPr/>
        </p:nvPicPr>
        <p:blipFill>
          <a:blip r:embed="rId3"/>
          <a:stretch/>
        </p:blipFill>
        <p:spPr>
          <a:xfrm>
            <a:off x="2133720" y="1476360"/>
            <a:ext cx="2755800" cy="1841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rcRect l="0" t="16776" r="44890" b="4120"/>
          <a:stretch/>
        </p:blipFill>
        <p:spPr>
          <a:xfrm>
            <a:off x="0" y="-324000"/>
            <a:ext cx="6858000" cy="9468000"/>
          </a:xfrm>
          <a:prstGeom prst="rect">
            <a:avLst/>
          </a:prstGeom>
          <a:ln w="0">
            <a:noFill/>
          </a:ln>
        </p:spPr>
      </p:pic>
      <p:sp>
        <p:nvSpPr>
          <p:cNvPr id="44" name=""/>
          <p:cNvSpPr txBox="1"/>
          <p:nvPr/>
        </p:nvSpPr>
        <p:spPr>
          <a:xfrm>
            <a:off x="765000" y="1042920"/>
            <a:ext cx="5256360" cy="83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0033"/>
                  </a:solidFill>
                  <a:miter/>
                </a:ln>
                <a:solidFill>
                  <a:srgbClr val="990033"/>
                </a:solidFill>
                <a:latin typeface="Monotype Corsiva"/>
              </a:rPr>
              <a:t>Сегодня в номере:</a:t>
            </a:r>
            <a:endParaRPr b="1" lang="en-US" sz="1800" spc="1" strike="noStrike">
              <a:ln w="9360">
                <a:solidFill>
                  <a:srgbClr val="990033"/>
                </a:solidFill>
                <a:miter/>
              </a:ln>
              <a:solidFill>
                <a:srgbClr val="990033"/>
              </a:solidFill>
              <a:latin typeface="Monotype Corsiva"/>
              <a:ea typeface="Monotype Corsiva"/>
            </a:endParaRPr>
          </a:p>
        </p:txBody>
      </p:sp>
      <p:sp>
        <p:nvSpPr>
          <p:cNvPr id="45" name=""/>
          <p:cNvSpPr/>
          <p:nvPr/>
        </p:nvSpPr>
        <p:spPr>
          <a:xfrm>
            <a:off x="1197000" y="2050920"/>
            <a:ext cx="4537080" cy="645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33"/>
                </a:solidFill>
                <a:latin typeface="Times New Roman"/>
              </a:rPr>
              <a:t>Здравствуй, школа!</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Свешников Эдуард «Здравствуй, школа!»</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Гилева Анастасия «Мы соскучились по школе»</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33"/>
                </a:solidFill>
                <a:latin typeface="Times New Roman"/>
              </a:rPr>
              <a:t>Вот и осень наступила…</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Трифонов Даниил</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Туракевич Артур</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ТолмаеваСофья</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Щемерова Дарья</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Тимонькина Арина</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Волков Виталий</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33"/>
                </a:solidFill>
                <a:latin typeface="Arial"/>
              </a:rPr>
              <a:t>Учителю посвящается</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660033"/>
                </a:solidFill>
                <a:latin typeface="Arial"/>
              </a:rPr>
              <a:t>Ларин Сергей «День учителя», Прахов Дмитрий, </a:t>
            </a:r>
            <a:endParaRPr b="0" lang="en-US" sz="1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660033"/>
                </a:solidFill>
                <a:latin typeface="Arial"/>
              </a:rPr>
              <a:t>Яковлев Евгений, Щемерова Дарья, </a:t>
            </a:r>
            <a:endParaRPr b="0" lang="en-US" sz="1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660033"/>
                </a:solidFill>
                <a:latin typeface="Arial"/>
              </a:rPr>
              <a:t>Дурнайкина Виктория, Боровец Андрей</a:t>
            </a:r>
            <a:endParaRPr b="0" lang="en-US" sz="1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660033"/>
                </a:solidFill>
                <a:latin typeface="Arial"/>
              </a:rPr>
              <a:t>Тукузов Кирилл «Монолог от имени учителя»</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33"/>
                </a:solidFill>
                <a:latin typeface="Times New Roman"/>
              </a:rPr>
              <a:t>Письма из лета</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Тимонькина Арина,  Сенгаева Вероника,</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Тукузов Кирилл, Баландина Дарья,</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Лияскина Мария, Яковлев Евгений,</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Елистратов Сергей, Щемерова Дарья,</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Борисов Данила, Дурнайкина Виктория,</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Буянкина Юлия, Чайников Егор,</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Моисеенко Яна, Боровец Андрей</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rcRect l="0" t="305" r="50294" b="0"/>
          <a:stretch/>
        </p:blipFill>
        <p:spPr>
          <a:xfrm>
            <a:off x="0" y="-252360"/>
            <a:ext cx="6858000" cy="9144000"/>
          </a:xfrm>
          <a:prstGeom prst="rect">
            <a:avLst/>
          </a:prstGeom>
          <a:ln w="0">
            <a:noFill/>
          </a:ln>
        </p:spPr>
      </p:pic>
      <p:sp>
        <p:nvSpPr>
          <p:cNvPr id="161" name=""/>
          <p:cNvSpPr/>
          <p:nvPr/>
        </p:nvSpPr>
        <p:spPr>
          <a:xfrm>
            <a:off x="0" y="1332000"/>
            <a:ext cx="6453360" cy="655308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1125360" y="1692360"/>
            <a:ext cx="4465800" cy="611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дравствуйте, дорогая Наталья Владимировн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Хочу рассказать Вам, как я провёл лет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только начались каникулы, мы всей семьёй поехали отдыхать на Азовское море. Там я много купался, катался на банане и даже сам управлял гидроциклом. Мы ездили на экскурсию в Анапу, посещали аквапарк в посёлке Джимит. В городе Темрюк мы посетили музей под открытым небом «Военная горка». Там хранится военная техника: самолёты, танки, корабли. Вся эта техника сохранилась со времён войны. В этом музее можно даже посидеть в танке!  Но особо мне понравилось местечко Коса Тузла. Это место, где встречаются сразу два моря Азовское и Черное. Там такая красота! Одним словом, наш отдых на море удалс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щё этим летом я побывал в Москве. Вместе с папой мы побывали на Красной площади, ездили в метро, катались на катере, побывали в зоопарке и планетарии. В планетарии мне очень понравилось! Особенно стеклянный шар, в котором сверкали молни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том наш папа поехал в детский лагерь работать. Я поехал с ним и помогал ему охранять отдыхающих детей. В лагере тоже было хорошо. Практически каждый день мы ходили купаться на речку Сур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 в августе я опять, как и в прошлом году, поехал в лагерь актива.  В лагере каждый день насыщен мероприятиями. Но самым запоминающимся стал тот день, когда я стал дежкомо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у, вот и всё, что я хотел рассказать Вам о своих летних каникула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ковлев Евгени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63" name=""/>
          <p:cNvGrpSpPr/>
          <p:nvPr/>
        </p:nvGrpSpPr>
        <p:grpSpPr>
          <a:xfrm>
            <a:off x="3390480" y="-12240"/>
            <a:ext cx="3467520" cy="1884600"/>
            <a:chOff x="3390480" y="-12240"/>
            <a:chExt cx="3467520" cy="1884600"/>
          </a:xfrm>
        </p:grpSpPr>
        <p:sp>
          <p:nvSpPr>
            <p:cNvPr id="164" name=""/>
            <p:cNvSpPr/>
            <p:nvPr/>
          </p:nvSpPr>
          <p:spPr>
            <a:xfrm>
              <a:off x="3539520" y="830520"/>
              <a:ext cx="1533960" cy="50364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732840" y="830520"/>
              <a:ext cx="1383120" cy="745920"/>
            </a:xfrm>
            <a:custGeom>
              <a:avLst/>
              <a:gdLst/>
              <a:ahLst/>
              <a:rect l="l" t="t" r="r" b="b"/>
              <a:pathLst>
                <a:path w="1936" h="1499">
                  <a:moveTo>
                    <a:pt x="1936" y="0"/>
                  </a:moveTo>
                  <a:lnTo>
                    <a:pt x="0" y="1414"/>
                  </a:lnTo>
                  <a:lnTo>
                    <a:pt x="161" y="1499"/>
                  </a:lnTo>
                  <a:lnTo>
                    <a:pt x="1936"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244120" y="122400"/>
              <a:ext cx="934560" cy="679320"/>
            </a:xfrm>
            <a:custGeom>
              <a:avLst/>
              <a:gdLst/>
              <a:ahLst/>
              <a:rect l="l" t="t" r="r" b="b"/>
              <a:pathLst>
                <a:path w="1232" h="1237">
                  <a:moveTo>
                    <a:pt x="0" y="1237"/>
                  </a:moveTo>
                  <a:lnTo>
                    <a:pt x="1137" y="0"/>
                  </a:lnTo>
                  <a:lnTo>
                    <a:pt x="1232" y="134"/>
                  </a:lnTo>
                  <a:lnTo>
                    <a:pt x="0" y="123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704400" y="688680"/>
              <a:ext cx="1454040" cy="113040"/>
            </a:xfrm>
            <a:custGeom>
              <a:avLst/>
              <a:gdLst/>
              <a:ahLst/>
              <a:rect l="l" t="t" r="r" b="b"/>
              <a:pathLst>
                <a:path w="1858" h="248">
                  <a:moveTo>
                    <a:pt x="1858" y="227"/>
                  </a:moveTo>
                  <a:lnTo>
                    <a:pt x="155" y="0"/>
                  </a:lnTo>
                  <a:lnTo>
                    <a:pt x="0" y="248"/>
                  </a:lnTo>
                  <a:lnTo>
                    <a:pt x="1858" y="22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201640" y="859680"/>
              <a:ext cx="1656360" cy="424080"/>
            </a:xfrm>
            <a:custGeom>
              <a:avLst/>
              <a:gdLst/>
              <a:ahLst/>
              <a:rect l="l" t="t" r="r" b="b"/>
              <a:pathLst>
                <a:path w="2088" h="851">
                  <a:moveTo>
                    <a:pt x="0" y="0"/>
                  </a:moveTo>
                  <a:lnTo>
                    <a:pt x="2088" y="667"/>
                  </a:lnTo>
                  <a:lnTo>
                    <a:pt x="1943" y="851"/>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112640" y="859680"/>
              <a:ext cx="1003680" cy="885600"/>
            </a:xfrm>
            <a:custGeom>
              <a:avLst/>
              <a:gdLst/>
              <a:ahLst/>
              <a:rect l="l" t="t" r="r" b="b"/>
              <a:pathLst>
                <a:path w="1346" h="1647">
                  <a:moveTo>
                    <a:pt x="1346" y="0"/>
                  </a:moveTo>
                  <a:lnTo>
                    <a:pt x="0" y="1561"/>
                  </a:lnTo>
                  <a:lnTo>
                    <a:pt x="350" y="1647"/>
                  </a:lnTo>
                  <a:lnTo>
                    <a:pt x="134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286600" y="719640"/>
              <a:ext cx="1515240" cy="11088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321160" y="866880"/>
              <a:ext cx="1040760" cy="729720"/>
            </a:xfrm>
            <a:custGeom>
              <a:avLst/>
              <a:gdLst/>
              <a:ahLst/>
              <a:rect l="l" t="t" r="r" b="b"/>
              <a:pathLst>
                <a:path w="1653" h="1690">
                  <a:moveTo>
                    <a:pt x="0" y="0"/>
                  </a:moveTo>
                  <a:lnTo>
                    <a:pt x="1653" y="1625"/>
                  </a:lnTo>
                  <a:lnTo>
                    <a:pt x="1569" y="169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244120" y="859680"/>
              <a:ext cx="808560" cy="895320"/>
            </a:xfrm>
            <a:custGeom>
              <a:avLst/>
              <a:gdLst/>
              <a:ahLst/>
              <a:rect l="l" t="t" r="r" b="b"/>
              <a:pathLst>
                <a:path w="1206" h="2148">
                  <a:moveTo>
                    <a:pt x="0" y="0"/>
                  </a:moveTo>
                  <a:lnTo>
                    <a:pt x="1206" y="2106"/>
                  </a:lnTo>
                  <a:lnTo>
                    <a:pt x="1105" y="2148"/>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520520" y="108720"/>
              <a:ext cx="638280" cy="693000"/>
            </a:xfrm>
            <a:custGeom>
              <a:avLst/>
              <a:gdLst/>
              <a:ahLst/>
              <a:rect l="l" t="t" r="r" b="b"/>
              <a:pathLst>
                <a:path w="760" h="1344">
                  <a:moveTo>
                    <a:pt x="760" y="1344"/>
                  </a:moveTo>
                  <a:lnTo>
                    <a:pt x="80" y="0"/>
                  </a:lnTo>
                  <a:lnTo>
                    <a:pt x="0" y="72"/>
                  </a:lnTo>
                  <a:lnTo>
                    <a:pt x="760" y="1344"/>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rot="6261600">
              <a:off x="4607280" y="1317600"/>
              <a:ext cx="979920" cy="12816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rot="17317200">
              <a:off x="4926600" y="299160"/>
              <a:ext cx="808560" cy="20988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rot="742200">
              <a:off x="3428640" y="682200"/>
              <a:ext cx="1659960" cy="54000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rot="20416200">
              <a:off x="5341320" y="526320"/>
              <a:ext cx="1325520" cy="10944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rot="13214400">
              <a:off x="3995280" y="509040"/>
              <a:ext cx="1191600" cy="11340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79" name="" descr=""/>
          <p:cNvPicPr/>
          <p:nvPr/>
        </p:nvPicPr>
        <p:blipFill>
          <a:blip r:embed="rId2"/>
          <a:stretch/>
        </p:blipFill>
        <p:spPr>
          <a:xfrm>
            <a:off x="4365720" y="0"/>
            <a:ext cx="1942920" cy="1407960"/>
          </a:xfrm>
          <a:prstGeom prst="rect">
            <a:avLst/>
          </a:prstGeom>
          <a:ln w="0">
            <a:noFill/>
          </a:ln>
        </p:spPr>
      </p:pic>
      <p:pic>
        <p:nvPicPr>
          <p:cNvPr id="180" name="" descr=""/>
          <p:cNvPicPr/>
          <p:nvPr/>
        </p:nvPicPr>
        <p:blipFill>
          <a:blip r:embed="rId3"/>
          <a:stretch/>
        </p:blipFill>
        <p:spPr>
          <a:xfrm>
            <a:off x="5157720" y="6227640"/>
            <a:ext cx="1441440" cy="23050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mph" presetID="8">
                                  <p:stCondLst>
                                    <p:cond delay="0"/>
                                  </p:stCondLst>
                                  <p:childTnLst>
                                    <p:animRot by="5400000">
                                      <p:cBhvr>
                                        <p:cTn id="33" dur="5000" fill="hold"/>
                                        <p:tgtEl>
                                          <p:spTgt spid="163"/>
                                        </p:tgtEl>
                                        <p:attrNameLst>
                                          <p:attrName>r</p:attrName>
                                        </p:attrNameLst>
                                      </p:cBhvr>
                                    </p:animRot>
                                  </p:childTnLst>
                                </p:cTn>
                              </p:par>
                            </p:childTnLst>
                          </p:cTn>
                        </p:par>
                        <p:par>
                          <p:cTn id="34" fill="hold">
                            <p:stCondLst>
                              <p:cond delay="5000"/>
                            </p:stCondLst>
                            <p:childTnLst>
                              <p:par>
                                <p:cTn id="35" nodeType="afterEffect" fill="hold" presetClass="emph" presetID="8">
                                  <p:stCondLst>
                                    <p:cond delay="0"/>
                                  </p:stCondLst>
                                  <p:childTnLst>
                                    <p:animRot by="-5400000">
                                      <p:cBhvr>
                                        <p:cTn id="36" dur="5000" fill="hold"/>
                                        <p:tgtEl>
                                          <p:spTgt spid="16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rcRect l="0" t="305" r="50294" b="0"/>
          <a:stretch/>
        </p:blipFill>
        <p:spPr>
          <a:xfrm>
            <a:off x="0" y="0"/>
            <a:ext cx="6858000" cy="9144000"/>
          </a:xfrm>
          <a:prstGeom prst="rect">
            <a:avLst/>
          </a:prstGeom>
          <a:ln w="0">
            <a:noFill/>
          </a:ln>
        </p:spPr>
      </p:pic>
      <p:sp>
        <p:nvSpPr>
          <p:cNvPr id="182" name=""/>
          <p:cNvSpPr/>
          <p:nvPr/>
        </p:nvSpPr>
        <p:spPr>
          <a:xfrm>
            <a:off x="333360" y="250920"/>
            <a:ext cx="5975280" cy="352908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960480" y="4874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4" name=""/>
          <p:cNvSpPr/>
          <p:nvPr/>
        </p:nvSpPr>
        <p:spPr>
          <a:xfrm>
            <a:off x="836640" y="468360"/>
            <a:ext cx="5040360" cy="337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дравствуйте, Наталья Владимировн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Вам интересно, как я провёл лето? Тогда расскаж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Этим летом я ездил в Абхазию. Там такая красота! Мама говорила, что  мы попали в джунгли. Вокруг росли кипарисы, магнолии и другие необычные деревья. Всё время мы проводили на море. Купались, загорали, собирали ракушки. И нам не было скучн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Всё остальное время я провёл в деревне. Помогал взрослым на огороде, поливал, убирал траву, полол грядки. По вечерам я катался на велосипеде и играл с сестрёнкой в догонялк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дин раз мы ездили с дедушкой на пруд купаться. Нам там очень понравилось! Бабушка сказала: «Нисколько не хуже, чем  на море!». И это та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Лето пролетело очень быстро, даже грустно как-то. Зато я снова скоро встречу своих друзей, свою любимую учительницу! Настроение снова отлично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Елистратов Серге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
          <p:cNvSpPr/>
          <p:nvPr/>
        </p:nvSpPr>
        <p:spPr>
          <a:xfrm>
            <a:off x="260280" y="3995640"/>
            <a:ext cx="6193080" cy="424836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836640" y="4140360"/>
            <a:ext cx="5040360" cy="41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Здравствуйте, дорогая Наталья Владимировн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Это лето я провела просто отлично! Хорошо отдохнула и набралась си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этом году я впервые с родителями ездила на море. Мы отдыхали в городе Геленджик, в одном из самых популярных Черноморских курортов. Этот город находится в Краснодарском крае. Он очень красивы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Каждый день  мы ходили на море, купались, загорали. Море было очень тёплое и очень приятная галька на берег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едалеко от Геленджика находится город-герой Новороссийск. Мы с родителями посетили Малую Землю. Во время Великой Отечественной войны оборона этого клочка земли продолжалась 225 дней. Защитники города были отважными и смелыми. В 1943 году город был освобождён от немецких захватчико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Вернувшись с моря, я ездила в город Луховцы Московской области и в деревню Андреевка. Там живут мои  бабушки и дедушка. Я им помогала полоть грядки, собирать картошку, поливать цветы. Мыла посуду, убиралась, чистила пала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Лето – прекрасная пора. Жаль, что оно заканчивается и пора в школ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Щемерова Дарья       </a:t>
            </a:r>
            <a:endParaRPr b="0" lang="en-US" sz="1200" spc="-1" strike="noStrike">
              <a:solidFill>
                <a:srgbClr val="000000"/>
              </a:solidFill>
              <a:latin typeface="Arial"/>
            </a:endParaRPr>
          </a:p>
        </p:txBody>
      </p:sp>
      <p:pic>
        <p:nvPicPr>
          <p:cNvPr id="187" name="" descr=""/>
          <p:cNvPicPr/>
          <p:nvPr/>
        </p:nvPicPr>
        <p:blipFill>
          <a:blip r:embed="rId2"/>
          <a:stretch/>
        </p:blipFill>
        <p:spPr>
          <a:xfrm rot="3766800">
            <a:off x="5355720" y="3724200"/>
            <a:ext cx="1341360" cy="1020600"/>
          </a:xfrm>
          <a:prstGeom prst="rect">
            <a:avLst/>
          </a:prstGeom>
          <a:ln w="0">
            <a:noFill/>
          </a:ln>
        </p:spPr>
      </p:pic>
      <p:pic>
        <p:nvPicPr>
          <p:cNvPr id="188" name="" descr=""/>
          <p:cNvPicPr/>
          <p:nvPr/>
        </p:nvPicPr>
        <p:blipFill>
          <a:blip r:embed="rId3"/>
          <a:stretch/>
        </p:blipFill>
        <p:spPr>
          <a:xfrm rot="21394800">
            <a:off x="5516640" y="2843280"/>
            <a:ext cx="1341360" cy="102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rcRect l="0" t="305" r="50294" b="0"/>
          <a:stretch/>
        </p:blipFill>
        <p:spPr>
          <a:xfrm>
            <a:off x="0" y="0"/>
            <a:ext cx="6858000" cy="9144000"/>
          </a:xfrm>
          <a:prstGeom prst="rect">
            <a:avLst/>
          </a:prstGeom>
          <a:ln w="0">
            <a:noFill/>
          </a:ln>
        </p:spPr>
      </p:pic>
      <p:sp>
        <p:nvSpPr>
          <p:cNvPr id="190" name=""/>
          <p:cNvSpPr/>
          <p:nvPr/>
        </p:nvSpPr>
        <p:spPr>
          <a:xfrm>
            <a:off x="0" y="1979640"/>
            <a:ext cx="6669000" cy="540072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1052640" y="2843280"/>
            <a:ext cx="4751280" cy="456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провёл лето супер! Я ездил в деревню. Там мы с папой ходили на рыбалку. Папа поймал щуку, а я всего лишь пескариков. Но я не расстраиваюсь,  потому что папа поймал одну щуку, а я десять пескаре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гда я залезал в речку, меня кто-то кусал. Я думаю, что это были краснопёрки. Я их очень не любл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городе, вместе с мамой и крёстным, мы были в парке. И там мы все вместе проходили семейный маршрут. Там нужно проходить по канатам, висящим брёвнам и другим препятствиям. Это очень интересн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Ещё я замечательно отпраздновал день Рождени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дыхать было весело! Немного жаль, что лето закончилос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рисов Данил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92" name="" descr=""/>
          <p:cNvPicPr/>
          <p:nvPr/>
        </p:nvPicPr>
        <p:blipFill>
          <a:blip r:embed="rId2"/>
          <a:stretch/>
        </p:blipFill>
        <p:spPr>
          <a:xfrm>
            <a:off x="4076640" y="250920"/>
            <a:ext cx="1943280" cy="1407960"/>
          </a:xfrm>
          <a:prstGeom prst="rect">
            <a:avLst/>
          </a:prstGeom>
          <a:ln w="0">
            <a:noFill/>
          </a:ln>
        </p:spPr>
      </p:pic>
      <p:grpSp>
        <p:nvGrpSpPr>
          <p:cNvPr id="193" name=""/>
          <p:cNvGrpSpPr/>
          <p:nvPr/>
        </p:nvGrpSpPr>
        <p:grpSpPr>
          <a:xfrm>
            <a:off x="2270160" y="-553320"/>
            <a:ext cx="5406480" cy="3537000"/>
            <a:chOff x="2270160" y="-553320"/>
            <a:chExt cx="5406480" cy="3537000"/>
          </a:xfrm>
        </p:grpSpPr>
        <p:sp>
          <p:nvSpPr>
            <p:cNvPr id="194" name=""/>
            <p:cNvSpPr/>
            <p:nvPr/>
          </p:nvSpPr>
          <p:spPr>
            <a:xfrm>
              <a:off x="2521440" y="1024920"/>
              <a:ext cx="2383560" cy="94932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821680" y="1024920"/>
              <a:ext cx="2149200" cy="1406520"/>
            </a:xfrm>
            <a:custGeom>
              <a:avLst/>
              <a:gdLst/>
              <a:ahLst/>
              <a:rect l="l" t="t" r="r" b="b"/>
              <a:pathLst>
                <a:path w="1936" h="1499">
                  <a:moveTo>
                    <a:pt x="1936" y="0"/>
                  </a:moveTo>
                  <a:lnTo>
                    <a:pt x="0" y="1414"/>
                  </a:lnTo>
                  <a:lnTo>
                    <a:pt x="161" y="1499"/>
                  </a:lnTo>
                  <a:lnTo>
                    <a:pt x="1936"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169240" y="-309960"/>
              <a:ext cx="1451880" cy="1280880"/>
            </a:xfrm>
            <a:custGeom>
              <a:avLst/>
              <a:gdLst/>
              <a:ahLst/>
              <a:rect l="l" t="t" r="r" b="b"/>
              <a:pathLst>
                <a:path w="1232" h="1237">
                  <a:moveTo>
                    <a:pt x="0" y="1237"/>
                  </a:moveTo>
                  <a:lnTo>
                    <a:pt x="1137" y="0"/>
                  </a:lnTo>
                  <a:lnTo>
                    <a:pt x="1232" y="134"/>
                  </a:lnTo>
                  <a:lnTo>
                    <a:pt x="0" y="123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777400" y="757440"/>
              <a:ext cx="2259360" cy="213120"/>
            </a:xfrm>
            <a:custGeom>
              <a:avLst/>
              <a:gdLst/>
              <a:ahLst/>
              <a:rect l="l" t="t" r="r" b="b"/>
              <a:pathLst>
                <a:path w="1858" h="248">
                  <a:moveTo>
                    <a:pt x="1858" y="227"/>
                  </a:moveTo>
                  <a:lnTo>
                    <a:pt x="155" y="0"/>
                  </a:lnTo>
                  <a:lnTo>
                    <a:pt x="0" y="248"/>
                  </a:lnTo>
                  <a:lnTo>
                    <a:pt x="1858" y="22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103360" y="1079280"/>
              <a:ext cx="2573280" cy="799560"/>
            </a:xfrm>
            <a:custGeom>
              <a:avLst/>
              <a:gdLst/>
              <a:ahLst/>
              <a:rect l="l" t="t" r="r" b="b"/>
              <a:pathLst>
                <a:path w="2088" h="851">
                  <a:moveTo>
                    <a:pt x="0" y="0"/>
                  </a:moveTo>
                  <a:lnTo>
                    <a:pt x="2088" y="667"/>
                  </a:lnTo>
                  <a:lnTo>
                    <a:pt x="1943" y="851"/>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411360" y="1079280"/>
              <a:ext cx="1559160" cy="1669680"/>
            </a:xfrm>
            <a:custGeom>
              <a:avLst/>
              <a:gdLst/>
              <a:ahLst/>
              <a:rect l="l" t="t" r="r" b="b"/>
              <a:pathLst>
                <a:path w="1346" h="1647">
                  <a:moveTo>
                    <a:pt x="1346" y="0"/>
                  </a:moveTo>
                  <a:lnTo>
                    <a:pt x="0" y="1561"/>
                  </a:lnTo>
                  <a:lnTo>
                    <a:pt x="350" y="1647"/>
                  </a:lnTo>
                  <a:lnTo>
                    <a:pt x="134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235480" y="815040"/>
              <a:ext cx="2354400" cy="20952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289120" y="1092960"/>
              <a:ext cx="1617480" cy="1375920"/>
            </a:xfrm>
            <a:custGeom>
              <a:avLst/>
              <a:gdLst/>
              <a:ahLst/>
              <a:rect l="l" t="t" r="r" b="b"/>
              <a:pathLst>
                <a:path w="1653" h="1690">
                  <a:moveTo>
                    <a:pt x="0" y="0"/>
                  </a:moveTo>
                  <a:lnTo>
                    <a:pt x="1653" y="1625"/>
                  </a:lnTo>
                  <a:lnTo>
                    <a:pt x="1569" y="169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169240" y="1079280"/>
              <a:ext cx="1256400" cy="1688040"/>
            </a:xfrm>
            <a:custGeom>
              <a:avLst/>
              <a:gdLst/>
              <a:ahLst/>
              <a:rect l="l" t="t" r="r" b="b"/>
              <a:pathLst>
                <a:path w="1206" h="2148">
                  <a:moveTo>
                    <a:pt x="0" y="0"/>
                  </a:moveTo>
                  <a:lnTo>
                    <a:pt x="1206" y="2106"/>
                  </a:lnTo>
                  <a:lnTo>
                    <a:pt x="1105" y="2148"/>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044960" y="-335880"/>
              <a:ext cx="991800" cy="1306800"/>
            </a:xfrm>
            <a:custGeom>
              <a:avLst/>
              <a:gdLst/>
              <a:ahLst/>
              <a:rect l="l" t="t" r="r" b="b"/>
              <a:pathLst>
                <a:path w="760" h="1344">
                  <a:moveTo>
                    <a:pt x="760" y="1344"/>
                  </a:moveTo>
                  <a:lnTo>
                    <a:pt x="80" y="0"/>
                  </a:lnTo>
                  <a:lnTo>
                    <a:pt x="0" y="72"/>
                  </a:lnTo>
                  <a:lnTo>
                    <a:pt x="760" y="1344"/>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rot="6261600">
              <a:off x="4017240" y="1963800"/>
              <a:ext cx="1847880" cy="19944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rot="17317200">
              <a:off x="4542840" y="57600"/>
              <a:ext cx="1524240" cy="32616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rot="742200">
              <a:off x="2349000" y="744480"/>
              <a:ext cx="2579040" cy="101844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rot="20416200">
              <a:off x="5320440" y="451080"/>
              <a:ext cx="2059560" cy="20628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rot="13214400">
              <a:off x="3228840" y="419040"/>
              <a:ext cx="1851480" cy="21420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9" name="" descr=""/>
          <p:cNvPicPr/>
          <p:nvPr/>
        </p:nvPicPr>
        <p:blipFill>
          <a:blip r:embed="rId3"/>
          <a:stretch/>
        </p:blipFill>
        <p:spPr>
          <a:xfrm>
            <a:off x="1989000" y="4788000"/>
            <a:ext cx="2451240" cy="15667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8">
                                  <p:stCondLst>
                                    <p:cond delay="0"/>
                                  </p:stCondLst>
                                  <p:childTnLst>
                                    <p:animRot by="5400000">
                                      <p:cBhvr>
                                        <p:cTn id="42" dur="5000" fill="hold"/>
                                        <p:tgtEl>
                                          <p:spTgt spid="193"/>
                                        </p:tgtEl>
                                        <p:attrNameLst>
                                          <p:attrName>r</p:attrName>
                                        </p:attrNameLst>
                                      </p:cBhvr>
                                    </p:animRot>
                                  </p:childTnLst>
                                </p:cTn>
                              </p:par>
                            </p:childTnLst>
                          </p:cTn>
                        </p:par>
                        <p:par>
                          <p:cTn id="43" fill="hold">
                            <p:stCondLst>
                              <p:cond delay="5000"/>
                            </p:stCondLst>
                            <p:childTnLst>
                              <p:par>
                                <p:cTn id="44" nodeType="afterEffect" fill="hold" presetClass="emph" presetID="8">
                                  <p:stCondLst>
                                    <p:cond delay="0"/>
                                  </p:stCondLst>
                                  <p:childTnLst>
                                    <p:animRot by="-5400000">
                                      <p:cBhvr>
                                        <p:cTn id="45" dur="5000" fill="hold"/>
                                        <p:tgtEl>
                                          <p:spTgt spid="19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rcRect l="0" t="305" r="50294" b="0"/>
          <a:stretch/>
        </p:blipFill>
        <p:spPr>
          <a:xfrm>
            <a:off x="0" y="0"/>
            <a:ext cx="6858000" cy="9144000"/>
          </a:xfrm>
          <a:prstGeom prst="rect">
            <a:avLst/>
          </a:prstGeom>
          <a:ln w="0">
            <a:noFill/>
          </a:ln>
        </p:spPr>
      </p:pic>
      <p:sp>
        <p:nvSpPr>
          <p:cNvPr id="211" name=""/>
          <p:cNvSpPr/>
          <p:nvPr/>
        </p:nvSpPr>
        <p:spPr>
          <a:xfrm>
            <a:off x="404640" y="395280"/>
            <a:ext cx="6193080" cy="410544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981000" y="468360"/>
            <a:ext cx="5184720" cy="412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тим летом наша семья ездила отдыхать в курортный город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напа. Очень запомнился мне поход в аквапарк. Там я каталась на различных водных горках.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помнилась также экскурсия «морская прогулка на катере». В открытом море вода чистая, голубая. Вид с катера очень красивый. Сор всех сторон   море с небом сливается.  Красота, да и тольк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ще на одну замечательную экскурсию  мы ездили - Сафари-Парк в г.Геленджик. Место просто чудеснейшее! В  нижней части  парка в просторных вольерах размещены различные дикие животные. Сам парк находится на высоте 500 метров над уровнем моря! Пока поднимались по канатному пути  (длина дороги 1600 метров, это приблизительно 20минут), испытали массу непередаваемых ощущений.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м же на территории парка есть пещера. Я побывала в ней и мне очень понравилось. В пещере было очень интересно.  Там сыро, прохладно и темно. Есть коридор с выставкой камней.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т отдых мне запомнится  надолг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урнайкина Виктория</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
          <p:cNvSpPr/>
          <p:nvPr/>
        </p:nvSpPr>
        <p:spPr>
          <a:xfrm>
            <a:off x="404640" y="4932360"/>
            <a:ext cx="6191280" cy="338472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1320840" y="5383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15" name=""/>
          <p:cNvSpPr/>
          <p:nvPr/>
        </p:nvSpPr>
        <p:spPr>
          <a:xfrm>
            <a:off x="907920" y="5003640"/>
            <a:ext cx="532944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дравствуйте, Наталья Владимировн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чу рассказать Вам, как прошёл один, самый интересный, день моих канику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тот день был праздник, день города. Мы всей семьёй отправились в центр города. Вначале мы пошли в зоопарк. Там видели медведей, ослика, павлина и других животных. Смотреть на них, конечно, интересно. Но, если честно, жаль этих зверей и птиц. Они всю свою жизнь проведут в клетке! Наверное, им хочется на свобод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зоопарка мы пошли в парк. Я каталась на разных аттракционах. Мне  было очень весело. И меня вовсе не пугали огромные очеред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ом мы пошли в кафе. Мы ели мороженое, пили сок. Но больше всего мне понравился коктейль под названием «мохит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т так прошёл один день моих каникул. К сожалению, лето закончилось. Но я не огорчаюсь, потому что я соскучилась по одноклассникам и рада, что скоро увижу их.</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Буянкина Юли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16" name="" descr=""/>
          <p:cNvPicPr/>
          <p:nvPr/>
        </p:nvPicPr>
        <p:blipFill>
          <a:blip r:embed="rId2"/>
          <a:stretch/>
        </p:blipFill>
        <p:spPr>
          <a:xfrm>
            <a:off x="0" y="0"/>
            <a:ext cx="1341360" cy="1020600"/>
          </a:xfrm>
          <a:prstGeom prst="rect">
            <a:avLst/>
          </a:prstGeom>
          <a:ln w="0">
            <a:noFill/>
          </a:ln>
        </p:spPr>
      </p:pic>
      <p:pic>
        <p:nvPicPr>
          <p:cNvPr id="217" name="" descr=""/>
          <p:cNvPicPr/>
          <p:nvPr/>
        </p:nvPicPr>
        <p:blipFill>
          <a:blip r:embed="rId3"/>
          <a:stretch/>
        </p:blipFill>
        <p:spPr>
          <a:xfrm rot="4801800">
            <a:off x="5676480" y="3868560"/>
            <a:ext cx="1341360" cy="1020600"/>
          </a:xfrm>
          <a:prstGeom prst="rect">
            <a:avLst/>
          </a:prstGeom>
          <a:ln w="0">
            <a:noFill/>
          </a:ln>
        </p:spPr>
      </p:pic>
      <p:pic>
        <p:nvPicPr>
          <p:cNvPr id="218" name="" descr=""/>
          <p:cNvPicPr/>
          <p:nvPr/>
        </p:nvPicPr>
        <p:blipFill>
          <a:blip r:embed="rId4"/>
          <a:stretch/>
        </p:blipFill>
        <p:spPr>
          <a:xfrm rot="1728000">
            <a:off x="5516280" y="4500720"/>
            <a:ext cx="1341360" cy="102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rcRect l="0" t="305" r="50294" b="0"/>
          <a:stretch/>
        </p:blipFill>
        <p:spPr>
          <a:xfrm>
            <a:off x="0" y="0"/>
            <a:ext cx="6858000" cy="9144000"/>
          </a:xfrm>
          <a:prstGeom prst="rect">
            <a:avLst/>
          </a:prstGeom>
          <a:ln w="0">
            <a:noFill/>
          </a:ln>
        </p:spPr>
      </p:pic>
      <p:sp>
        <p:nvSpPr>
          <p:cNvPr id="220" name=""/>
          <p:cNvSpPr/>
          <p:nvPr/>
        </p:nvSpPr>
        <p:spPr>
          <a:xfrm>
            <a:off x="3336840" y="43876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333360" y="468360"/>
            <a:ext cx="6264360" cy="446400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1052640" y="684360"/>
            <a:ext cx="5041800" cy="41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дравствуйте, Наталья Владимировн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апреле этого года у меня родилась сестрёнка – Лерочка! Это самое важное событие в моей жизни. Я очень рад, что у меня теперь есть сестра. Вот поэтому летом мне пришлось помогать маме. Ведь я же теперь старши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могать маме по хозяйству не сложно, а даже интересно. Мы вместе купали Леру. Я  сидел со своей младшей сестрёнкой, когда мама была занята срочными делам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 лето я успел побывать на даче у моей крёстной Наташи и в городе Ардатов у своих бабушки и дедушки. Я помогал бабушке в огороде. Но и на друзей у меня времени хватало. Мои друзья в деревне – это Прохор, Вадим, Маргарита и Полина. Вместе мы играли в разные игры, ходили в походы, жарили сосиски на костре. С Вадимом мы делали сундуки и шкатулки из дерева. Я впервые серьёзно работал молотком. Забивал гвозд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о самым моим любимым занятием было собирать разных жуков. Я их отлавливал, помещал в коробочки, баночки и наблюдал за их жизнью. Жуки – очень интересные существа. Может когда-нибудь я стану изучать жуков всерьёз…</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рустно, что каникулы закончились. Впереди уро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йников Егор </a:t>
            </a:r>
            <a:endParaRPr b="0" lang="en-US" sz="1200" spc="-1" strike="noStrike">
              <a:solidFill>
                <a:srgbClr val="000000"/>
              </a:solidFill>
              <a:latin typeface="Arial"/>
            </a:endParaRPr>
          </a:p>
        </p:txBody>
      </p:sp>
      <p:sp>
        <p:nvSpPr>
          <p:cNvPr id="223" name=""/>
          <p:cNvSpPr/>
          <p:nvPr/>
        </p:nvSpPr>
        <p:spPr>
          <a:xfrm>
            <a:off x="1052640" y="5364000"/>
            <a:ext cx="18396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836640" y="5019840"/>
            <a:ext cx="511344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225" name="" descr=""/>
          <p:cNvPicPr/>
          <p:nvPr/>
        </p:nvPicPr>
        <p:blipFill>
          <a:blip r:embed="rId2"/>
          <a:stretch/>
        </p:blipFill>
        <p:spPr>
          <a:xfrm rot="1728000">
            <a:off x="0" y="4211640"/>
            <a:ext cx="1341360" cy="102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rcRect l="0" t="305" r="50294" b="0"/>
          <a:stretch/>
        </p:blipFill>
        <p:spPr>
          <a:xfrm>
            <a:off x="0" y="0"/>
            <a:ext cx="6858000" cy="9144000"/>
          </a:xfrm>
          <a:prstGeom prst="rect">
            <a:avLst/>
          </a:prstGeom>
          <a:ln w="0">
            <a:noFill/>
          </a:ln>
        </p:spPr>
      </p:pic>
      <p:sp>
        <p:nvSpPr>
          <p:cNvPr id="227" name=""/>
          <p:cNvSpPr/>
          <p:nvPr/>
        </p:nvSpPr>
        <p:spPr>
          <a:xfrm>
            <a:off x="0" y="1403280"/>
            <a:ext cx="6858000" cy="684072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1465200" y="847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29" name=""/>
          <p:cNvSpPr/>
          <p:nvPr/>
        </p:nvSpPr>
        <p:spPr>
          <a:xfrm>
            <a:off x="1268280" y="2268360"/>
            <a:ext cx="4751640" cy="55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тим летом я была в деревне у бабушки и дедушки. Всё лето я помогала им. Мы копали огород, поливали, пололи, собирали ягоды, ходили за грибам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свободное время мы ходили на речку купаться. У нас в деревне протекает река Мокша. Купаемся  мы всегда  рядом с берегом, потому что в этом месте течение  очень-очень быстрое. Можно легко утону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днажды на речке со мной произошёл очень забавный случай. Когда я плавала, мне в руку воткнулся старый  рыболовный крючок. Я попалась на него как рыб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черами мы ходили на спортплощадку, лазили по рукоходу, играли в футбол. Иногда я стояла на воротах. Даже мячом по носу однажды получил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тим летом я побывала ещё в городе Саров Нижегородской области. Там живут мои дядя, крёстная и брат. Саров – закрытый город и попасть туда совсем не просто. Город находится в лесу. Вокруг него заповедник и останавливаться по дороге нельзя, пока не доедешь до блок-поста. Брат мне рассказывал, что на дорогу выходят лоси, кабаны, лис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гда мы подъехали к блок-посту, мы не смогли сразу заехать в город. При въезде стояли военные с автоматами и собаками. Весь город окружён высоким забором с колючей проволокой. Проходя мимо поста, меня спросили, как меня зовут, сколько мне лет и сверили с данными в документа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поста мы ещё долго ехали по лесу, пока не доехали до города.  Город мне понравился. Он похож на наш Саранск, только меньш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от так прошло моё лето. Жду следующих каникул.</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исеенко Яна</a:t>
            </a:r>
            <a:endParaRPr b="0" lang="en-US" sz="1200" spc="-1" strike="noStrike">
              <a:solidFill>
                <a:srgbClr val="000000"/>
              </a:solidFill>
              <a:latin typeface="Arial"/>
            </a:endParaRPr>
          </a:p>
        </p:txBody>
      </p:sp>
      <p:grpSp>
        <p:nvGrpSpPr>
          <p:cNvPr id="230" name=""/>
          <p:cNvGrpSpPr/>
          <p:nvPr/>
        </p:nvGrpSpPr>
        <p:grpSpPr>
          <a:xfrm>
            <a:off x="2860920" y="-625680"/>
            <a:ext cx="4671360" cy="2890080"/>
            <a:chOff x="2860920" y="-625680"/>
            <a:chExt cx="4671360" cy="2890080"/>
          </a:xfrm>
        </p:grpSpPr>
        <p:sp>
          <p:nvSpPr>
            <p:cNvPr id="231" name=""/>
            <p:cNvSpPr/>
            <p:nvPr/>
          </p:nvSpPr>
          <p:spPr>
            <a:xfrm>
              <a:off x="3072960" y="665280"/>
              <a:ext cx="2061720" cy="77472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332880" y="665280"/>
              <a:ext cx="1859040" cy="1147680"/>
            </a:xfrm>
            <a:custGeom>
              <a:avLst/>
              <a:gdLst/>
              <a:ahLst/>
              <a:rect l="l" t="t" r="r" b="b"/>
              <a:pathLst>
                <a:path w="1936" h="1499">
                  <a:moveTo>
                    <a:pt x="1936" y="0"/>
                  </a:moveTo>
                  <a:lnTo>
                    <a:pt x="0" y="1414"/>
                  </a:lnTo>
                  <a:lnTo>
                    <a:pt x="161" y="1499"/>
                  </a:lnTo>
                  <a:lnTo>
                    <a:pt x="1936"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363280" y="-423720"/>
              <a:ext cx="1256040" cy="1045080"/>
            </a:xfrm>
            <a:custGeom>
              <a:avLst/>
              <a:gdLst/>
              <a:ahLst/>
              <a:rect l="l" t="t" r="r" b="b"/>
              <a:pathLst>
                <a:path w="1232" h="1237">
                  <a:moveTo>
                    <a:pt x="0" y="1237"/>
                  </a:moveTo>
                  <a:lnTo>
                    <a:pt x="1137" y="0"/>
                  </a:lnTo>
                  <a:lnTo>
                    <a:pt x="1232" y="134"/>
                  </a:lnTo>
                  <a:lnTo>
                    <a:pt x="0" y="123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3294720" y="447120"/>
              <a:ext cx="1954440" cy="173880"/>
            </a:xfrm>
            <a:custGeom>
              <a:avLst/>
              <a:gdLst/>
              <a:ahLst/>
              <a:rect l="l" t="t" r="r" b="b"/>
              <a:pathLst>
                <a:path w="1858" h="248">
                  <a:moveTo>
                    <a:pt x="1858" y="227"/>
                  </a:moveTo>
                  <a:lnTo>
                    <a:pt x="155" y="0"/>
                  </a:lnTo>
                  <a:lnTo>
                    <a:pt x="0" y="248"/>
                  </a:lnTo>
                  <a:lnTo>
                    <a:pt x="1858" y="22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306400" y="709920"/>
              <a:ext cx="2225880" cy="652320"/>
            </a:xfrm>
            <a:custGeom>
              <a:avLst/>
              <a:gdLst/>
              <a:ahLst/>
              <a:rect l="l" t="t" r="r" b="b"/>
              <a:pathLst>
                <a:path w="2088" h="851">
                  <a:moveTo>
                    <a:pt x="0" y="0"/>
                  </a:moveTo>
                  <a:lnTo>
                    <a:pt x="2088" y="667"/>
                  </a:lnTo>
                  <a:lnTo>
                    <a:pt x="1943" y="851"/>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843000" y="709920"/>
              <a:ext cx="1348560" cy="1362600"/>
            </a:xfrm>
            <a:custGeom>
              <a:avLst/>
              <a:gdLst/>
              <a:ahLst/>
              <a:rect l="l" t="t" r="r" b="b"/>
              <a:pathLst>
                <a:path w="1346" h="1647">
                  <a:moveTo>
                    <a:pt x="1346" y="0"/>
                  </a:moveTo>
                  <a:lnTo>
                    <a:pt x="0" y="1561"/>
                  </a:lnTo>
                  <a:lnTo>
                    <a:pt x="350" y="1647"/>
                  </a:lnTo>
                  <a:lnTo>
                    <a:pt x="134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420880" y="494280"/>
              <a:ext cx="2036520" cy="17100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467320" y="721080"/>
              <a:ext cx="1398960" cy="1122840"/>
            </a:xfrm>
            <a:custGeom>
              <a:avLst/>
              <a:gdLst/>
              <a:ahLst/>
              <a:rect l="l" t="t" r="r" b="b"/>
              <a:pathLst>
                <a:path w="1653" h="1690">
                  <a:moveTo>
                    <a:pt x="0" y="0"/>
                  </a:moveTo>
                  <a:lnTo>
                    <a:pt x="1653" y="1625"/>
                  </a:lnTo>
                  <a:lnTo>
                    <a:pt x="1569" y="169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363280" y="709920"/>
              <a:ext cx="1086840" cy="1377360"/>
            </a:xfrm>
            <a:custGeom>
              <a:avLst/>
              <a:gdLst/>
              <a:ahLst/>
              <a:rect l="l" t="t" r="r" b="b"/>
              <a:pathLst>
                <a:path w="1206" h="2148">
                  <a:moveTo>
                    <a:pt x="0" y="0"/>
                  </a:moveTo>
                  <a:lnTo>
                    <a:pt x="1206" y="2106"/>
                  </a:lnTo>
                  <a:lnTo>
                    <a:pt x="1105" y="2148"/>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390920" y="-444960"/>
              <a:ext cx="857880" cy="1066320"/>
            </a:xfrm>
            <a:custGeom>
              <a:avLst/>
              <a:gdLst/>
              <a:ahLst/>
              <a:rect l="l" t="t" r="r" b="b"/>
              <a:pathLst>
                <a:path w="760" h="1344">
                  <a:moveTo>
                    <a:pt x="760" y="1344"/>
                  </a:moveTo>
                  <a:lnTo>
                    <a:pt x="80" y="0"/>
                  </a:lnTo>
                  <a:lnTo>
                    <a:pt x="0" y="72"/>
                  </a:lnTo>
                  <a:lnTo>
                    <a:pt x="760" y="1344"/>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rot="6261600">
              <a:off x="4411800" y="1426320"/>
              <a:ext cx="1507680" cy="17244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rot="17317200">
              <a:off x="4858560" y="-132120"/>
              <a:ext cx="1243800" cy="28224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rot="742200">
              <a:off x="2923920" y="436320"/>
              <a:ext cx="2230920" cy="83124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rot="20416200">
              <a:off x="5494320" y="196560"/>
              <a:ext cx="1781640" cy="16848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rot="13214400">
              <a:off x="3684960" y="170640"/>
              <a:ext cx="1601640" cy="17460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46" name="" descr=""/>
          <p:cNvPicPr/>
          <p:nvPr/>
        </p:nvPicPr>
        <p:blipFill>
          <a:blip r:embed="rId2"/>
          <a:stretch/>
        </p:blipFill>
        <p:spPr>
          <a:xfrm>
            <a:off x="4437000" y="0"/>
            <a:ext cx="1943280" cy="140796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mph" presetID="8">
                                  <p:stCondLst>
                                    <p:cond delay="0"/>
                                  </p:stCondLst>
                                  <p:childTnLst>
                                    <p:animRot by="5400000">
                                      <p:cBhvr>
                                        <p:cTn id="51" dur="5000" fill="hold"/>
                                        <p:tgtEl>
                                          <p:spTgt spid="230"/>
                                        </p:tgtEl>
                                        <p:attrNameLst>
                                          <p:attrName>r</p:attrName>
                                        </p:attrNameLst>
                                      </p:cBhvr>
                                    </p:animRot>
                                  </p:childTnLst>
                                </p:cTn>
                              </p:par>
                            </p:childTnLst>
                          </p:cTn>
                        </p:par>
                        <p:par>
                          <p:cTn id="52" fill="hold">
                            <p:stCondLst>
                              <p:cond delay="5000"/>
                            </p:stCondLst>
                            <p:childTnLst>
                              <p:par>
                                <p:cTn id="53" nodeType="afterEffect" fill="hold" presetClass="emph" presetID="8">
                                  <p:stCondLst>
                                    <p:cond delay="0"/>
                                  </p:stCondLst>
                                  <p:childTnLst>
                                    <p:animRot by="-5400000">
                                      <p:cBhvr>
                                        <p:cTn id="54" dur="5000" fill="hold"/>
                                        <p:tgtEl>
                                          <p:spTgt spid="2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rcRect l="0" t="305" r="50294" b="0"/>
          <a:stretch/>
        </p:blipFill>
        <p:spPr>
          <a:xfrm>
            <a:off x="0" y="0"/>
            <a:ext cx="6858000" cy="9144000"/>
          </a:xfrm>
          <a:prstGeom prst="rect">
            <a:avLst/>
          </a:prstGeom>
          <a:ln w="0">
            <a:noFill/>
          </a:ln>
        </p:spPr>
      </p:pic>
      <p:sp>
        <p:nvSpPr>
          <p:cNvPr id="248" name=""/>
          <p:cNvSpPr/>
          <p:nvPr/>
        </p:nvSpPr>
        <p:spPr>
          <a:xfrm>
            <a:off x="0" y="611280"/>
            <a:ext cx="6858000" cy="540072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1197000" y="1042920"/>
            <a:ext cx="4537080" cy="486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дравствуйте, Наталья Владимировн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200" spc="-1" strike="noStrike">
                <a:solidFill>
                  <a:srgbClr val="000000"/>
                </a:solidFill>
                <a:latin typeface="Arial"/>
              </a:rPr>
              <a:t>Своё лето я провёл в лагере «Орлёнок» Там было весело. Наш вожатый Игорь был строгим и справедливым воспитателем и беззаботным другом одновременно. Концерты, игры, дискотеки, купание в озере сопровождали нас каждый ден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первые дни после заезда я заметил у турника группу ребят, которые выполняли разные трюки. У ребят получалось всё легко и быстро. Я подумал, что эти упражнения по плечу и мне. Но, когда я попробовал, то не смог  сделать даже половину их увиденног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о я решил не сдаваться. Каждую минуту свободного времени я бегал к турнику заниматься. Не хватало силы в руках, мышцах пресса, был страх сорваться с турника и упас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таршие ребята помогали советом. К концу смены все они стали моими друзьям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помню тот день, когда у меня получился первый трюк: подъём с переворотом. Я был счастлив! Это была моя побед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от таким победным было моё лет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ш ученик Боровец Андрей</a:t>
            </a:r>
            <a:endParaRPr b="0" lang="en-US" sz="1200" spc="-1" strike="noStrike">
              <a:solidFill>
                <a:srgbClr val="000000"/>
              </a:solidFill>
              <a:latin typeface="Arial"/>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pic>
        <p:nvPicPr>
          <p:cNvPr id="250" name="" descr=""/>
          <p:cNvPicPr/>
          <p:nvPr/>
        </p:nvPicPr>
        <p:blipFill>
          <a:blip r:embed="rId2"/>
          <a:stretch/>
        </p:blipFill>
        <p:spPr>
          <a:xfrm>
            <a:off x="4653000" y="5796000"/>
            <a:ext cx="1441440" cy="230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rcRect l="33512" t="30043" r="13260" b="0"/>
          <a:stretch/>
        </p:blipFill>
        <p:spPr>
          <a:xfrm>
            <a:off x="0" y="0"/>
            <a:ext cx="6832440" cy="9144000"/>
          </a:xfrm>
          <a:prstGeom prst="rect">
            <a:avLst/>
          </a:prstGeom>
          <a:ln w="0">
            <a:noFill/>
          </a:ln>
        </p:spPr>
      </p:pic>
      <p:sp>
        <p:nvSpPr>
          <p:cNvPr id="47" name=""/>
          <p:cNvSpPr/>
          <p:nvPr/>
        </p:nvSpPr>
        <p:spPr>
          <a:xfrm>
            <a:off x="1341360" y="2436120"/>
            <a:ext cx="4392720" cy="5235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Arial"/>
              </a:rPr>
              <a:t>Свешников Эдуард</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дравствуй, школ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дравствуй, класс!</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т пришёл я к вам сейчас.</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дохнувший, загоревш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немного повзрослевш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печатлений очень мног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сскажу я вам немног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к я плавал, загора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немножечко чита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Ездил на велосипед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таблицу вспомина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асто за компом сид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ас я вспоминал, друзь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де ты там Тимур, Дима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аня, Владик и Рома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коро свидимся, друзь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школу всем уже пор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дравствуй школ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дравствуй класс!</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ы пришли, встречайте нас!</a:t>
            </a:r>
            <a:endParaRPr b="0" lang="en-US" sz="1600" spc="-1" strike="noStrike">
              <a:solidFill>
                <a:srgbClr val="000000"/>
              </a:solidFill>
              <a:latin typeface="Arial"/>
            </a:endParaRPr>
          </a:p>
        </p:txBody>
      </p:sp>
      <p:pic>
        <p:nvPicPr>
          <p:cNvPr id="48" name="" descr=""/>
          <p:cNvPicPr/>
          <p:nvPr/>
        </p:nvPicPr>
        <p:blipFill>
          <a:blip r:embed="rId2"/>
          <a:stretch/>
        </p:blipFill>
        <p:spPr>
          <a:xfrm rot="3086400">
            <a:off x="3872880" y="5736240"/>
            <a:ext cx="3141720" cy="2828880"/>
          </a:xfrm>
          <a:prstGeom prst="rect">
            <a:avLst/>
          </a:prstGeom>
          <a:ln w="0">
            <a:noFill/>
          </a:ln>
        </p:spPr>
      </p:pic>
      <p:sp>
        <p:nvSpPr>
          <p:cNvPr id="49" name=""/>
          <p:cNvSpPr txBox="1"/>
          <p:nvPr/>
        </p:nvSpPr>
        <p:spPr>
          <a:xfrm>
            <a:off x="981000" y="971640"/>
            <a:ext cx="4632480" cy="110016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33"/>
                  </a:solidFill>
                  <a:miter/>
                </a:ln>
                <a:solidFill>
                  <a:srgbClr val="990033"/>
                </a:solidFill>
                <a:latin typeface="Arial"/>
              </a:rPr>
              <a:t>Здравствуй, школа!</a:t>
            </a:r>
            <a:endParaRPr b="0" lang="en-US" sz="1800" spc="1" strike="noStrike">
              <a:ln w="9360">
                <a:solidFill>
                  <a:srgbClr val="990033"/>
                </a:solidFill>
                <a:miter/>
              </a:ln>
              <a:solidFill>
                <a:srgbClr val="990033"/>
              </a:solidFill>
              <a:latin typeface="Arial"/>
              <a:ea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rcRect l="50425" t="46875" r="13260" b="5786"/>
          <a:stretch/>
        </p:blipFill>
        <p:spPr>
          <a:xfrm>
            <a:off x="-19080" y="0"/>
            <a:ext cx="6891480" cy="9144000"/>
          </a:xfrm>
          <a:prstGeom prst="rect">
            <a:avLst/>
          </a:prstGeom>
          <a:ln w="0">
            <a:noFill/>
          </a:ln>
        </p:spPr>
      </p:pic>
      <p:sp>
        <p:nvSpPr>
          <p:cNvPr id="51" name=""/>
          <p:cNvSpPr/>
          <p:nvPr/>
        </p:nvSpPr>
        <p:spPr>
          <a:xfrm>
            <a:off x="1413000" y="2843280"/>
            <a:ext cx="448452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ы соскучились по школ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друзьям, учителя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етом долго отдыхал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ё, пора учиться на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учитель очень добры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д он очень видеть все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чень будем мы старатьс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тоб в учебе ждал успе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учитель нам поможе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ласкает, ободр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Если нужно, поругае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с отцом поговор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илева Анастаси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6858000" cy="9144000"/>
          </a:xfrm>
          <a:prstGeom prst="rect">
            <a:avLst/>
          </a:prstGeom>
          <a:ln w="0">
            <a:noFill/>
          </a:ln>
        </p:spPr>
      </p:pic>
      <p:sp>
        <p:nvSpPr>
          <p:cNvPr id="53" name=""/>
          <p:cNvSpPr/>
          <p:nvPr/>
        </p:nvSpPr>
        <p:spPr>
          <a:xfrm>
            <a:off x="836640" y="5292000"/>
            <a:ext cx="5041800" cy="2101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т и наступила осень. С дождями, со слякотью и ветром. Дни стали короче, темнеет ран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ревья осенью стремительно меняют свой наряд. Листья играют бурыми красками и заставляют любоваться своей красотой.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ень звуки становятся громче, и, кажется, что даже воздух звени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осени особый запах, не сравнимый ни с чем. Запах прелых листьев и засохшей травы заставляет немного  грустить о лет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ень не является  моим любимым временем года, но в буйстве красок есть своя преле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уракевич Артур</a:t>
            </a:r>
            <a:endParaRPr b="0" lang="en-US" sz="1200" spc="-1" strike="noStrike">
              <a:solidFill>
                <a:srgbClr val="000000"/>
              </a:solidFill>
              <a:latin typeface="Arial"/>
            </a:endParaRPr>
          </a:p>
        </p:txBody>
      </p:sp>
      <p:sp>
        <p:nvSpPr>
          <p:cNvPr id="54" name=""/>
          <p:cNvSpPr/>
          <p:nvPr/>
        </p:nvSpPr>
        <p:spPr>
          <a:xfrm>
            <a:off x="836640" y="1907640"/>
            <a:ext cx="5184720" cy="2649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езаметно пролетело беззаботное лето, и наступила осень. Стало прохладно. Солнечных дней становится меньше. Небо всё чаще затягивают тучи, накрапывает мелкий дождь. Дни стали короч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сень красивое время года! Деревья раскрашены яркими красками: жёлтыми, оранжевыми, багровыми. Только вечнозелёные деревья остаются неизменно зелёным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сенью особенными становятся  и шёпот ветра, и грустное пение птиц. Шорох листьев под ногами – ещё одна примета осени. Звук дождя – самый грустный звук осен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сень пахнет пожелтевшей травой, опавшими листьями, сыростью. Это неповторимые запах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сень – действительно красивая пора. Только становится немного грустно от того, что эта красота так недолговеч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рифонов Даниил</a:t>
            </a:r>
            <a:endParaRPr b="0" lang="en-US" sz="1200" spc="-1" strike="noStrike">
              <a:solidFill>
                <a:srgbClr val="000000"/>
              </a:solidFill>
              <a:latin typeface="Arial"/>
            </a:endParaRPr>
          </a:p>
        </p:txBody>
      </p:sp>
      <p:sp>
        <p:nvSpPr>
          <p:cNvPr id="55" name=""/>
          <p:cNvSpPr txBox="1"/>
          <p:nvPr/>
        </p:nvSpPr>
        <p:spPr>
          <a:xfrm>
            <a:off x="549360" y="755640"/>
            <a:ext cx="55245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3300"/>
                </a:solidFill>
                <a:latin typeface="Georgia"/>
              </a:rPr>
              <a:t>Вот и осень наступила</a:t>
            </a:r>
            <a:endParaRPr b="1" lang="en-US" sz="1800" spc="1" strike="noStrike">
              <a:ln w="9360">
                <a:solidFill>
                  <a:srgbClr val="000000"/>
                </a:solidFill>
                <a:miter/>
              </a:ln>
              <a:solidFill>
                <a:srgbClr val="cc3300"/>
              </a:solidFill>
              <a:latin typeface="Georgia"/>
              <a:ea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6858000" cy="9144000"/>
          </a:xfrm>
          <a:prstGeom prst="rect">
            <a:avLst/>
          </a:prstGeom>
          <a:ln w="0">
            <a:noFill/>
          </a:ln>
        </p:spPr>
      </p:pic>
      <p:sp>
        <p:nvSpPr>
          <p:cNvPr id="57" name=""/>
          <p:cNvSpPr/>
          <p:nvPr/>
        </p:nvSpPr>
        <p:spPr>
          <a:xfrm>
            <a:off x="692280" y="826560"/>
            <a:ext cx="5472000" cy="2649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ступила осень. Перелётные птицы потянулись на юг. С каждым годом становятся холоднее. Деревья меняют свой наряд. Листья окрасились в разные цвета: красный, жёлтый, коричневый. Деревья стали похожи на барышень, готовящихся к бал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 осени много звуков. Идёшь  через, а ветер с шумом срывает листья и бросает тебе под ноги. Ты специально, так легонечко шаркнешь ногами по этим упавшим листьям, и получается такое громкое приятное шуршание. А в небе слышны прощальные песни. Это птицы, которые улетают на зимовку в дальние страны, делают круг над родными просторами и громко крича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эту пору тёплый воздух, смешанный с последними остатками солнца, пахнет листьями, сырой травой и костро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ак же можно не любить осен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олмаева Софья</a:t>
            </a:r>
            <a:endParaRPr b="0" lang="en-US" sz="1200" spc="-1" strike="noStrike">
              <a:solidFill>
                <a:srgbClr val="000000"/>
              </a:solidFill>
              <a:latin typeface="Arial"/>
            </a:endParaRPr>
          </a:p>
        </p:txBody>
      </p:sp>
      <p:sp>
        <p:nvSpPr>
          <p:cNvPr id="58" name=""/>
          <p:cNvSpPr/>
          <p:nvPr/>
        </p:nvSpPr>
        <p:spPr>
          <a:xfrm>
            <a:off x="765000" y="3850560"/>
            <a:ext cx="538956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ступила осень. На улице стало холодно, чаще стали  лить дожди. Дети пошли в школу. А деревья, словно королевы, идут в красивых платьях на бал. На балу ветер качает их платья. Как прекрасен их наря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вуки осени такие приятные! Листья шуршат под ногами. Капли дождя стучат по окна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сенью так вкусно пахнет свежестью и дождём!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Я люблю осень. После долгих каникул мы снова встречаемся с друзьями. А по выходным можно сходить в лес и полюбоваться всеми прелестями осен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Щемерова Дарь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
          <p:cNvSpPr/>
          <p:nvPr/>
        </p:nvSpPr>
        <p:spPr>
          <a:xfrm>
            <a:off x="765000" y="6516720"/>
            <a:ext cx="5415120" cy="224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Осень. Золотая пора. Она от души дарит нам свои подарки: плоды садов и огородов, поля спелых колосьев, поляны грибов и яго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Деревья надели свой праздничный наря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Под ногами шуршит листва. Слышен гогот улетающих пти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Дни становятся короче. Воздух пахнет дождём и сырость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о, ни сырость, ни слякоть красы не нарушат. Я люблю это время год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имонькина Арин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6858000" cy="9144000"/>
          </a:xfrm>
          <a:prstGeom prst="rect">
            <a:avLst/>
          </a:prstGeom>
          <a:ln w="0">
            <a:noFill/>
          </a:ln>
        </p:spPr>
      </p:pic>
      <p:sp>
        <p:nvSpPr>
          <p:cNvPr id="61" name=""/>
          <p:cNvSpPr/>
          <p:nvPr/>
        </p:nvSpPr>
        <p:spPr>
          <a:xfrm>
            <a:off x="765000" y="1763640"/>
            <a:ext cx="51134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Начало осени – это прекрасные тёплые дни, тёплый ветерок, нежаркое солнышко. Но природа уже как будто прощается с лето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Каждое время года хорошо по-своему. Осень нравится мне своей красотой. Все деревья стоят в нарядных уборах. В лесу можно встретить полную палитру красок. Здесь и красный, и жёлтый, и оранжевый, и разные оттенки зелёног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Опавшие листья ложатся на землю золотым ковром. Как мне нравится бегать по этому золотому ковру, шуршать листьями, или упасть в кучу собранной листв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В осеннем лесу появляются разнообразные запахи: запах осенней листвы,  грибов, осенней свежест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Я люблю раннюю осень, когда ещё тёплый ветерок играет листвой. Я ношусь по этим листьям, подбрасываю их над головой и стою под листопад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Волков Виталий</a:t>
            </a:r>
            <a:endParaRPr b="0" lang="en-US" sz="1200" spc="-1" strike="noStrike">
              <a:solidFill>
                <a:srgbClr val="000000"/>
              </a:solidFill>
              <a:latin typeface="Arial"/>
            </a:endParaRPr>
          </a:p>
        </p:txBody>
      </p:sp>
      <p:pic>
        <p:nvPicPr>
          <p:cNvPr id="62" name="" descr=""/>
          <p:cNvPicPr/>
          <p:nvPr/>
        </p:nvPicPr>
        <p:blipFill>
          <a:blip r:embed="rId2"/>
          <a:stretch/>
        </p:blipFill>
        <p:spPr>
          <a:xfrm>
            <a:off x="2060640" y="4932360"/>
            <a:ext cx="2638440" cy="280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rcRect l="6743" t="4323" r="6629" b="5900"/>
          <a:stretch/>
        </p:blipFill>
        <p:spPr>
          <a:xfrm>
            <a:off x="0" y="0"/>
            <a:ext cx="6818400" cy="9144000"/>
          </a:xfrm>
          <a:prstGeom prst="rect">
            <a:avLst/>
          </a:prstGeom>
          <a:ln w="0">
            <a:noFill/>
          </a:ln>
        </p:spPr>
      </p:pic>
      <p:sp>
        <p:nvSpPr>
          <p:cNvPr id="64" name=""/>
          <p:cNvSpPr txBox="1"/>
          <p:nvPr/>
        </p:nvSpPr>
        <p:spPr>
          <a:xfrm>
            <a:off x="907920" y="1763640"/>
            <a:ext cx="4824720" cy="88416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3300"/>
                </a:solidFill>
                <a:latin typeface="Arial"/>
              </a:rPr>
              <a:t>Учителю посвящается...</a:t>
            </a:r>
            <a:endParaRPr b="0" lang="en-US" sz="1800" spc="1" strike="noStrike">
              <a:ln w="9360">
                <a:solidFill>
                  <a:srgbClr val="000000"/>
                </a:solidFill>
                <a:miter/>
              </a:ln>
              <a:solidFill>
                <a:srgbClr val="cc3300"/>
              </a:solidFill>
              <a:latin typeface="Arial"/>
              <a:ea typeface="Arial"/>
            </a:endParaRPr>
          </a:p>
        </p:txBody>
      </p:sp>
      <p:sp>
        <p:nvSpPr>
          <p:cNvPr id="65" name=""/>
          <p:cNvSpPr/>
          <p:nvPr/>
        </p:nvSpPr>
        <p:spPr>
          <a:xfrm>
            <a:off x="1557360" y="2974320"/>
            <a:ext cx="3887640" cy="3289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Главный праздник в октябре</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День Учителя!</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Почему несут цветы?</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День Учителя!</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Поздравляют, поздравляют!</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День Учителя!</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И здоровья всем желают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В День Учителя!</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Море, море добрых слов</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В День Учителя!</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Низкий-низкий вам поклон!</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С Днём Учителя!</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Ларин Сергей</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rcRect l="6743" t="4323" r="6629" b="5900"/>
          <a:stretch/>
        </p:blipFill>
        <p:spPr>
          <a:xfrm>
            <a:off x="0" y="0"/>
            <a:ext cx="6818400" cy="9144000"/>
          </a:xfrm>
          <a:prstGeom prst="rect">
            <a:avLst/>
          </a:prstGeom>
          <a:ln w="0">
            <a:noFill/>
          </a:ln>
        </p:spPr>
      </p:pic>
      <p:sp>
        <p:nvSpPr>
          <p:cNvPr id="67" name=""/>
          <p:cNvSpPr/>
          <p:nvPr/>
        </p:nvSpPr>
        <p:spPr>
          <a:xfrm>
            <a:off x="981000" y="1550160"/>
            <a:ext cx="4824360" cy="31827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Быть учителем очень непросто.  Эта работа требует много сил и терпения. Нужно уделять время каждому ученику и никого не оставлять без внимания. Нужно достучаться до каждого сердца.</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Учителя не только учат нас читать, писать, решать задачи. Они, как мамы, могут  выслушать,  помочь в трудную минуту. За наши плохие оценки и неудачи они переживают, как за свои собственные.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Поэтому учителей нужно ценить и уважать, не расстраивать своим плохим поведением. Ведь за всё, что мы знаем сейчас, мы должны благодарить именно учителей!</a:t>
            </a:r>
            <a:endParaRPr b="0" lang="en-US" sz="13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Прахов Дмитрий</a:t>
            </a:r>
            <a:endParaRPr b="0" lang="en-US" sz="1300" spc="-1" strike="noStrike">
              <a:solidFill>
                <a:srgbClr val="000000"/>
              </a:solidFill>
              <a:latin typeface="Arial"/>
            </a:endParaRPr>
          </a:p>
        </p:txBody>
      </p:sp>
      <p:sp>
        <p:nvSpPr>
          <p:cNvPr id="68" name=""/>
          <p:cNvSpPr/>
          <p:nvPr/>
        </p:nvSpPr>
        <p:spPr>
          <a:xfrm>
            <a:off x="836640" y="4861080"/>
            <a:ext cx="4968720" cy="246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Каждый учитель хочет, чтобы дети в классе были послушными и хорошо учились. И наш учитель мечтает о том, чтобы мы, её ученики, получали хорошие оценки. Она много трудиться, чтобы дать нам прочные знания. Она пытается достучаться до каждого сердца. Это под силу не каждому, а только тому учителю, кто любит свою работу, не боится трудностей и имеет большое терпение.</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Наша Наталья Владимировна – талантливый учитель и самый классный руководитель!</a:t>
            </a:r>
            <a:endParaRPr b="0" lang="en-US" sz="13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Яковлев Евгений</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06:24:03Z</dcterms:created>
  <dc:creator>User</dc:creator>
  <dc:description/>
  <dc:language>en-US</dc:language>
  <cp:lastModifiedBy>User</cp:lastModifiedBy>
  <dcterms:modified xsi:type="dcterms:W3CDTF">2014-02-07T04:19:44Z</dcterms:modified>
  <cp:revision>18</cp:revision>
  <dc:subject/>
  <dc:title>Слайд 1</dc:title>
</cp:coreProperties>
</file>