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18.jpeg" ContentType="image/jpeg"/>
  <Override PartName="/ppt/media/image17.png" ContentType="image/png"/>
  <Override PartName="/ppt/media/image32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10.png" ContentType="image/png"/>
  <Override PartName="/ppt/media/image35.jpeg" ContentType="image/jpeg"/>
  <Override PartName="/ppt/media/image27.jpeg" ContentType="image/jpeg"/>
  <Override PartName="/ppt/media/image42.jpeg" ContentType="image/jpeg"/>
  <Override PartName="/ppt/media/image19.jpeg" ContentType="image/jpeg"/>
  <Override PartName="/ppt/media/image29.jpeg" ContentType="image/jpeg"/>
  <Override PartName="/ppt/media/image13.jpeg" ContentType="image/jpeg"/>
  <Override PartName="/ppt/media/image40.jpeg" ContentType="image/jpeg"/>
  <Override PartName="/ppt/media/image11.png" ContentType="image/png"/>
  <Override PartName="/ppt/media/image9.jpeg" ContentType="image/jpeg"/>
  <Override PartName="/ppt/media/image30.jpeg" ContentType="image/jpeg"/>
  <Override PartName="/ppt/media/image24.jpeg" ContentType="image/jpeg"/>
  <Override PartName="/ppt/media/image2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6.png" ContentType="image/png"/>
  <Override PartName="/ppt/media/image5.jpeg" ContentType="image/jpeg"/>
  <Override PartName="/ppt/media/image26.jpeg" ContentType="image/jpeg"/>
  <Override PartName="/ppt/media/image3.jpeg" ContentType="image/jpeg"/>
  <Override PartName="/ppt/media/image37.jpeg" ContentType="image/jpeg"/>
  <Override PartName="/ppt/media/image36.jpeg" ContentType="image/jpeg"/>
  <Override PartName="/ppt/media/image2.jpeg" ContentType="image/jpeg"/>
  <Override PartName="/ppt/media/image12.png" ContentType="image/png"/>
  <Override PartName="/ppt/media/image2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EF74F-FB0B-45FF-B77B-25AFB001B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3B970-03A4-4B81-9474-4A86A7EAD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68535-52EB-487F-BE43-4170E5ECD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4E225-3F26-485C-91BE-2DD2BF723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C59DD-4647-49CC-A6DC-954D96E30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62541-C5D4-43CB-B66D-111F8E336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F1B82-BFC1-4437-82BB-5C5E9449F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C4A8E-8A77-44E5-A592-0B812AC37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E69CB-F3B4-4F9F-8029-2214792E8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FDEA0-8171-4B7F-A9F0-574824278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4B07F-AC15-4E93-A2A5-8FEE495A4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AA324-8111-4250-A080-F582E51DB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8D747-85A2-4C0E-B048-AB92B04EC9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0.pn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0.png"/><Relationship Id="rId3" Type="http://schemas.openxmlformats.org/officeDocument/2006/relationships/image" Target="../media/image12.png"/><Relationship Id="rId4" Type="http://schemas.openxmlformats.org/officeDocument/2006/relationships/image" Target="../media/image11.png"/><Relationship Id="rId5" Type="http://schemas.openxmlformats.org/officeDocument/2006/relationships/image" Target="../media/image35.jpeg"/><Relationship Id="rId6" Type="http://schemas.openxmlformats.org/officeDocument/2006/relationships/image" Target="../media/image36.jpeg"/><Relationship Id="rId7" Type="http://schemas.openxmlformats.org/officeDocument/2006/relationships/image" Target="../media/image37.jpeg"/><Relationship Id="rId8" Type="http://schemas.openxmlformats.org/officeDocument/2006/relationships/image" Target="../media/image38.jpeg"/><Relationship Id="rId9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0.pn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0.png"/><Relationship Id="rId3" Type="http://schemas.openxmlformats.org/officeDocument/2006/relationships/image" Target="../media/image12.png"/><Relationship Id="rId4" Type="http://schemas.openxmlformats.org/officeDocument/2006/relationships/image" Target="../media/image11.pn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0" t="0" r="78782" b="55978"/>
          <a:stretch/>
        </p:blipFill>
        <p:spPr>
          <a:xfrm>
            <a:off x="0" y="0"/>
            <a:ext cx="6858000" cy="9540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9360" y="468360"/>
            <a:ext cx="5761080" cy="955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Муниципально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общеобразовательное учреждени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«Средняя общеобразовательная школа № 27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г. о. Саранс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6600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Литературно- художественны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журнал №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0000"/>
                </a:solidFill>
                <a:latin typeface="Arial"/>
              </a:rPr>
              <a:t>       </a:t>
            </a:r>
            <a:r>
              <a:rPr b="1" i="1" lang="en-US" sz="4400" spc="-1" strike="noStrike">
                <a:solidFill>
                  <a:srgbClr val="cc0000"/>
                </a:solidFill>
                <a:latin typeface="Arial"/>
              </a:rPr>
              <a:t>«Родничок»</a:t>
            </a:r>
            <a:r>
              <a:rPr b="1" i="1" lang="en-US" sz="4400" spc="-1" strike="noStrike">
                <a:solidFill>
                  <a:srgbClr val="339933"/>
                </a:solidFill>
                <a:latin typeface="Arial"/>
              </a:rPr>
              <a:t>                                                        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0000"/>
                </a:solidFill>
                <a:latin typeface="Arial"/>
              </a:rPr>
              <a:t>    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2013-201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rcRect l="27388" t="0" r="32886" b="0"/>
          <a:stretch/>
        </p:blipFill>
        <p:spPr>
          <a:xfrm>
            <a:off x="2781360" y="1619280"/>
            <a:ext cx="1290600" cy="17287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981000" y="5364000"/>
            <a:ext cx="5327640" cy="27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rcRect l="50007" t="0" r="0" b="0"/>
          <a:stretch/>
        </p:blipFill>
        <p:spPr>
          <a:xfrm>
            <a:off x="-68400" y="0"/>
            <a:ext cx="6926400" cy="91440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692280" y="468360"/>
            <a:ext cx="5400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06720" y="4612680"/>
            <a:ext cx="295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Жестков Макси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60280" y="611280"/>
            <a:ext cx="4105440" cy="3456000"/>
          </a:xfrm>
          <a:prstGeom prst="wedgeRoundRectCallout">
            <a:avLst>
              <a:gd name="adj1" fmla="val 56379"/>
              <a:gd name="adj2" fmla="val 66856"/>
              <a:gd name="adj3" fmla="val 16667"/>
            </a:avLst>
          </a:prstGeom>
          <a:solidFill>
            <a:srgbClr val="d5dde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коро зажжется олимпийский огонь в Сочи и начнутся Олимпийские игры. Я очень хочу побывать там  и болеть за российскую команд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На соревнования приедут спортсмены со всего мира. Участники будут соревноваться в разных видах спорта. Мне бы очень хотелось побывать на хоккее. Это мой любимый вид спорта. Я с большим интересом смотрю хоккейные матчи по телевизору и болею за нашу команд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Я обязательно буду следить за Олимпиадой, за успехами наших спортсменов. Удачи всем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" y="6659640"/>
            <a:ext cx="21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Ерзамаева Дарь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133720" y="5219640"/>
            <a:ext cx="4464000" cy="3673440"/>
          </a:xfrm>
          <a:prstGeom prst="wedgeRoundRectCallout">
            <a:avLst>
              <a:gd name="adj1" fmla="val -80620"/>
              <a:gd name="adj2" fmla="val 3629"/>
              <a:gd name="adj3" fmla="val 16667"/>
            </a:avLst>
          </a:prstGeom>
          <a:solidFill>
            <a:srgbClr val="d5dde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Впервые Олимпийские игры проводились Древней Греции, в Олимпии. В соревнованиях тогда могли принимать участие только мужчины. Женщин, даже в качестве зрителей, не пускали на стадион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Сегодня в Олимпиаде участвуют атлеты со всего мира. Каждая страна готовит своих спортсменов и мечтает выиграть как можно больше золотых медалей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Олимпийские игры проходят раз в четыре года. В 2014 году зимние Олимпийские игры будут проходить в России, в городе Сочи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К этим играм наша страна готовилась очень долго. Построены новые стадионы, арены, спортивные комплексы.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Я горда тем, что наша страна будет принимать такие важные игры!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rcRect l="50008" t="0" r="0" b="0"/>
          <a:stretch/>
        </p:blipFill>
        <p:spPr>
          <a:xfrm>
            <a:off x="4797360" y="250920"/>
            <a:ext cx="1820880" cy="18288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4581360" y="2340000"/>
            <a:ext cx="1914840" cy="22305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333360" y="4284720"/>
            <a:ext cx="1822320" cy="223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rcRect l="50007" t="0" r="0" b="0"/>
          <a:stretch/>
        </p:blipFill>
        <p:spPr>
          <a:xfrm>
            <a:off x="0" y="0"/>
            <a:ext cx="6926400" cy="91440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4724280" y="2562120"/>
            <a:ext cx="1729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-1873080" y="3778560"/>
            <a:ext cx="1873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89000" y="2556000"/>
            <a:ext cx="4535640" cy="3456000"/>
          </a:xfrm>
          <a:prstGeom prst="wedgeRoundRectCallout">
            <a:avLst>
              <a:gd name="adj1" fmla="val -43351"/>
              <a:gd name="adj2" fmla="val -80824"/>
              <a:gd name="adj3" fmla="val 16667"/>
            </a:avLst>
          </a:prstGeom>
          <a:solidFill>
            <a:srgbClr val="d5dde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же совсем скоро в Сочи пройдут зимние Олимпийские игры. Спортсмены будут бороться, но победят сильнейшие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первые Олимпийские игры проходили в Древней Греции. Атлетов, которые участвовали в соревнованиях называли олимпиониками. Состязались они только в пяти видах спорт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нтересно, что во время проведения соревнований на территории всей страны прекращались войны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Я с нетерпением жду приближение Олимпиады и надеюсь на победу нашей сборной. Особенно я желаю победы своим землякам, мордовским спортсменам, которые будут участвовать в соревнованиях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160" y="2987640"/>
            <a:ext cx="199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Ларин Серге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60280" y="6372360"/>
            <a:ext cx="4105440" cy="2087280"/>
          </a:xfrm>
          <a:prstGeom prst="wedgeRoundRectCallout">
            <a:avLst>
              <a:gd name="adj1" fmla="val 56842"/>
              <a:gd name="adj2" fmla="val 58212"/>
              <a:gd name="adj3" fmla="val 16667"/>
            </a:avLst>
          </a:prstGeom>
          <a:solidFill>
            <a:srgbClr val="d5dde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овсем скоро начнутся Олимпийские игры в Сочи. В нашу страну приедет очень много спортсменов из разных стран мир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Мне хочется, чтобы наши спортсмены стали победителями во всех видах соревновани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Я буду болеть и переживать за российскую сборную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512600" y="8532720"/>
            <a:ext cx="224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Голова Елизав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3357720" y="250920"/>
            <a:ext cx="2062080" cy="219528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5084640" y="395280"/>
            <a:ext cx="1228680" cy="202104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4"/>
          <a:stretch/>
        </p:blipFill>
        <p:spPr>
          <a:xfrm>
            <a:off x="333360" y="395280"/>
            <a:ext cx="1809720" cy="237816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5"/>
          <a:stretch/>
        </p:blipFill>
        <p:spPr>
          <a:xfrm>
            <a:off x="4653000" y="6084720"/>
            <a:ext cx="180972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rcRect l="50007" t="0" r="0" b="0"/>
          <a:stretch/>
        </p:blipFill>
        <p:spPr>
          <a:xfrm>
            <a:off x="0" y="0"/>
            <a:ext cx="6926400" cy="91440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836640" y="684360"/>
            <a:ext cx="5400720" cy="4103640"/>
          </a:xfrm>
          <a:prstGeom prst="wedgeRoundRectCallout">
            <a:avLst>
              <a:gd name="adj1" fmla="val 43240"/>
              <a:gd name="adj2" fmla="val 71856"/>
              <a:gd name="adj3" fmla="val 16667"/>
            </a:avLst>
          </a:prstGeom>
          <a:solidFill>
            <a:srgbClr val="d5dde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052640" y="900000"/>
            <a:ext cx="5040360" cy="37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Через 56 дней в городе Сочи пройдут зимние Олимпийские игр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Олимпийский огонь путешествует по всей России. Он побывал в космосе и на дне океана. И вот, 9 января 2014 года Олимпийский огонь приедет в Саранск. Он пройдёт по улицам нашего города. А в феврале он будет уже в Соч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Я обязательно буду следить за Олимпиадой. Я буду болеть за нашу сборную по фигурному катанию. Мне нравится биатлон. Я верю в победу Ольги Зайцевой и Антона Шипулин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Из Мордовии в Сочи уже уехало много людей. Это волонтёры, которые будут следить за порядком на Олимпийских играх. В их числе и мой дядя. Он уехал в Сочи ещё в ноябре, а вернётся только в март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Я желаю нашим спортсменам только победы!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Вперёд, Россия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23880" y="8101080"/>
            <a:ext cx="215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Щемерова Дарь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1413000" y="5292720"/>
            <a:ext cx="2270160" cy="27352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4292640" y="5724360"/>
            <a:ext cx="1908000" cy="223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rcRect l="50007" t="0" r="0" b="0"/>
          <a:stretch/>
        </p:blipFill>
        <p:spPr>
          <a:xfrm>
            <a:off x="-68400" y="0"/>
            <a:ext cx="6926400" cy="91440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692280" y="4211640"/>
            <a:ext cx="5400720" cy="3816360"/>
          </a:xfrm>
          <a:prstGeom prst="wedgeRoundRectCallout">
            <a:avLst>
              <a:gd name="adj1" fmla="val 115"/>
              <a:gd name="adj2" fmla="val -68175"/>
              <a:gd name="adj3" fmla="val 16667"/>
            </a:avLst>
          </a:prstGeom>
          <a:solidFill>
            <a:srgbClr val="d5dde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65000" y="4284720"/>
            <a:ext cx="5040360" cy="35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коро начнутся зимние Олимпийские игры. Они будут проходить в нашей стране, в городе Сочи. К нам приедут спортсмены со всего мира и будут соревноваться  в силе, ловкости, быстрот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Олимпийские игры являются крупным спортивным событием, где каждый участник может показать то, на что он способен. Ведь каждый спортсмен готовился к этому событию несколько лет. Но представлять свою страну на Олимпиаде – это ещё очень большая ответственност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Из всех видов спорта мне больше всего нравится хоккей. Это интересная и динамичная игра. Хоккей – игра настоящих мужчин. Даже песня есть такая: «Трус не играет в хоккей!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Я желаю удачи всем нашим спортсменам и верю, что они завоюют много золотых медалей! Ведь вся страна будет болет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за Россию!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907920" y="3348000"/>
            <a:ext cx="23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Трифонов Дании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rcRect l="11863" t="0" r="20211" b="0"/>
          <a:stretch/>
        </p:blipFill>
        <p:spPr>
          <a:xfrm>
            <a:off x="3716280" y="679320"/>
            <a:ext cx="2738520" cy="269244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1125360" y="971640"/>
            <a:ext cx="187200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rcRect l="50007" t="0" r="0" b="0"/>
          <a:stretch/>
        </p:blipFill>
        <p:spPr>
          <a:xfrm>
            <a:off x="0" y="0"/>
            <a:ext cx="6926400" cy="91440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692280" y="3924360"/>
            <a:ext cx="5400720" cy="4392720"/>
          </a:xfrm>
          <a:prstGeom prst="wedgeRoundRectCallout">
            <a:avLst>
              <a:gd name="adj1" fmla="val -587"/>
              <a:gd name="adj2" fmla="val -63152"/>
              <a:gd name="adj3" fmla="val 16667"/>
            </a:avLst>
          </a:prstGeom>
          <a:solidFill>
            <a:srgbClr val="d5dde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65000" y="4140360"/>
            <a:ext cx="504036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лимпийские игры возникли в Древней Греции в 776 году до нашей эры. Женщины дети и негры не имели право принимать участие в этих соревнованиях. Атлеты соревновались в беге, метании копья и диска, в гонках на колесницах, в фехтовании и борьб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ервые игры современности прошли в 1896 году. В программе уже было девять видов спорта Сегодня в программе зимних Олимпийских игр более 15 видов спорт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лимпийские игры проводятся каждые четыре года Это праздник спорта для всех спортсменов, участвующих в соревнованиях. Это праздник для всех людей мир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2014 году в нашей стране будут проводиться зимние Олимпийские игры в Соч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не нравится фигурное катание. Я  обязательно буду болеть за наших фигурист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Я верю в наших спортсменов и желаю им только победы!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938760" y="3203640"/>
            <a:ext cx="20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Прахов Дмитр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rcRect l="34129" t="0" r="0" b="0"/>
          <a:stretch/>
        </p:blipFill>
        <p:spPr>
          <a:xfrm>
            <a:off x="692280" y="755640"/>
            <a:ext cx="2670120" cy="25369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4149720" y="826920"/>
            <a:ext cx="1835280" cy="223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rcRect l="9052" t="0" r="4863" b="0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 txBox="1"/>
          <p:nvPr/>
        </p:nvSpPr>
        <p:spPr>
          <a:xfrm>
            <a:off x="1989000" y="1187280"/>
            <a:ext cx="280836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ЗАГАДК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65000" y="3564000"/>
            <a:ext cx="5185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660066"/>
                </a:solidFill>
                <a:latin typeface="Arial"/>
              </a:rPr>
              <a:t>Дети очень любят разгадывать загадки.  Но придумывать загадки самим оказывается тоже очень увлекательное и интересное заняти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66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660066"/>
                </a:solidFill>
                <a:latin typeface="Arial"/>
              </a:rPr>
              <a:t>Все наши загадки про зимние виды спорт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66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rcRect l="65137" t="17221" r="0" b="5203"/>
          <a:stretch/>
        </p:blipFill>
        <p:spPr>
          <a:xfrm>
            <a:off x="0" y="0"/>
            <a:ext cx="6850080" cy="91440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20640" y="2566440"/>
            <a:ext cx="540072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Что за игра такая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 ну, ответь скорей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 клюшками и шайбо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 этот спорт…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уракевич Арту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от я еду на конька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люшка у меня в рука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Я обвёл соседа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ужен гол. Победа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рифонов Дании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Этот зимний вид спорта очень серьёзный и травмоопасный. Его называют игрой настоящих мужчин. Очень похож на футбол. Только матч проходит на льду, вместо мяча – шайба, а в руках - клюшк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екарев Тиму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3573360" y="684360"/>
            <a:ext cx="2908440" cy="404784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692280" y="324000"/>
            <a:ext cx="2128680" cy="21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rcRect l="65137" t="17221" r="0" b="5203"/>
          <a:stretch/>
        </p:blipFill>
        <p:spPr>
          <a:xfrm>
            <a:off x="0" y="0"/>
            <a:ext cx="6850080" cy="91440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692280" y="1043640"/>
            <a:ext cx="5688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руках палки, на ногах доски. Кто скорее придёт к финишу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вешников Эдуар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тот вид спорта похож на лыжные гонки. Но в этом виде спорта лыжники должны уметь кататься с горы.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нилова Миле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игурное катание на лыжах.                             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расавин Герм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476280" y="5435640"/>
            <a:ext cx="5871960" cy="27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rcRect l="65137" t="17221" r="0" b="5203"/>
          <a:stretch/>
        </p:blipFill>
        <p:spPr>
          <a:xfrm>
            <a:off x="0" y="0"/>
            <a:ext cx="6850080" cy="91440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620640" y="820800"/>
            <a:ext cx="3816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тот вид спорта очень популярен в разных странах мира. Спортсмены должны уметь не только хорошо кататься на лыжах, но и отлично стреля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енгаева Верон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20640" y="3420000"/>
            <a:ext cx="5761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мушек по льду катает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цель попасть спешит, пытает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Щеткой лёд команда трё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мень в «дом» она пошлё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илева Анастас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то зимний вид спорта. Командная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гра с камнем и щётк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аландина Дарь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907920" y="5940360"/>
            <a:ext cx="3170520" cy="277992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3"/>
          <a:stretch/>
        </p:blipFill>
        <p:spPr>
          <a:xfrm>
            <a:off x="4508640" y="684360"/>
            <a:ext cx="1885680" cy="29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rcRect l="65137" t="17221" r="0" b="5203"/>
          <a:stretch/>
        </p:blipFill>
        <p:spPr>
          <a:xfrm>
            <a:off x="0" y="0"/>
            <a:ext cx="6850080" cy="914400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1125360" y="1042560"/>
            <a:ext cx="511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то спорт и танец, в парах и по одному, мужчины и женщи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уянкина Юл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125360" y="4427640"/>
            <a:ext cx="51102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 коньках я бегу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бедить я всех смог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тому что у мен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ва серебряных кон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орисов Дани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1916280" y="197964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3"/>
          <a:stretch/>
        </p:blipFill>
        <p:spPr>
          <a:xfrm>
            <a:off x="1341360" y="6227640"/>
            <a:ext cx="4295880" cy="24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rcRect l="0" t="0" r="78782" b="55978"/>
          <a:stretch/>
        </p:blipFill>
        <p:spPr>
          <a:xfrm>
            <a:off x="0" y="0"/>
            <a:ext cx="6858000" cy="95407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 txBox="1"/>
          <p:nvPr/>
        </p:nvSpPr>
        <p:spPr>
          <a:xfrm>
            <a:off x="1125360" y="1908000"/>
            <a:ext cx="4464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Сегодня в номере: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36640" y="755640"/>
            <a:ext cx="5472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1933"/>
                </a:solidFill>
                <a:latin typeface="Arial"/>
              </a:rPr>
              <a:t>      </a:t>
            </a:r>
            <a:r>
              <a:rPr b="0" i="1" lang="en-US" sz="1300" spc="-1" strike="noStrike">
                <a:solidFill>
                  <a:srgbClr val="001933"/>
                </a:solidFill>
                <a:latin typeface="Arial"/>
              </a:rPr>
              <a:t>Совсем скоро в нашей стране пройдут зимние Олимпийские Игры в городе Сочи. Весь народ находится в предвкушении этого великого события. Поэтому мы решили этот выпуск нашего журнала целиком посвятить Олимпиаде и зимним видам спорта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81000" y="2700360"/>
            <a:ext cx="5256360" cy="606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Из истории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Талисманы Олимпийских иг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лимпийская надежда России.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укузов Кирил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лимпийский Новый год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имонькина Ари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Дети об Олимпиад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Чайников Его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имонькина Ари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екарев Тиму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Жестков Макси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Ерзамаева Дарь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Ларин Серге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Щемерова Дарь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олова Елизаве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рифонов Дании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ахов Дмитр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Загад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Туракевич Артур, Трифонов Даниил, Текарев Тимур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вешников Эдуард, Данилова Милена, Красавин Герман, Сенгаева Вероника, Гилева Анастасия, Баландина Дарья, Буянкина Юлия, Борисов Данил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Шифровки и ребус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Кроссворд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Жестков Максим, Тимонькина Арина, Данилова Миле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3573360" y="3851280"/>
            <a:ext cx="1779840" cy="23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rcRect l="65137" t="17221" r="0" b="5203"/>
          <a:stretch/>
        </p:blipFill>
        <p:spPr>
          <a:xfrm>
            <a:off x="0" y="0"/>
            <a:ext cx="6850080" cy="914400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2421000" y="5219640"/>
            <a:ext cx="2089080" cy="36036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effectLst>
                  <a:outerShdw dist="107932" dir="18900000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РЕБУСЫ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effectLst>
                <a:outerShdw dist="107932" dir="18900000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981000" y="1908000"/>
          <a:ext cx="3981600" cy="720720"/>
        </p:xfrm>
        <a:graphic>
          <a:graphicData uri="http://schemas.openxmlformats.org/drawingml/2006/table">
            <a:tbl>
              <a:tblPr/>
              <a:tblGrid>
                <a:gridCol w="443160"/>
                <a:gridCol w="441360"/>
                <a:gridCol w="442800"/>
                <a:gridCol w="441360"/>
                <a:gridCol w="442800"/>
                <a:gridCol w="441360"/>
                <a:gridCol w="442800"/>
                <a:gridCol w="443160"/>
                <a:gridCol w="442800"/>
              </a:tblGrid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153" name=""/>
          <p:cNvSpPr/>
          <p:nvPr/>
        </p:nvSpPr>
        <p:spPr>
          <a:xfrm>
            <a:off x="1265760" y="1403280"/>
            <a:ext cx="248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Какие слова зашифрованы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770120" y="3635280"/>
            <a:ext cx="1469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Ключ к отгадке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1125360" y="2771640"/>
          <a:ext cx="3095640" cy="720720"/>
        </p:xfrm>
        <a:graphic>
          <a:graphicData uri="http://schemas.openxmlformats.org/drawingml/2006/table">
            <a:tbl>
              <a:tblPr/>
              <a:tblGrid>
                <a:gridCol w="442800"/>
                <a:gridCol w="441360"/>
                <a:gridCol w="442800"/>
                <a:gridCol w="441360"/>
                <a:gridCol w="443160"/>
                <a:gridCol w="441000"/>
                <a:gridCol w="443160"/>
              </a:tblGrid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4946760" y="395280"/>
            <a:ext cx="1911240" cy="230364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3"/>
          <a:stretch/>
        </p:blipFill>
        <p:spPr>
          <a:xfrm>
            <a:off x="5516640" y="7164360"/>
            <a:ext cx="1096920" cy="180504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4"/>
          <a:stretch/>
        </p:blipFill>
        <p:spPr>
          <a:xfrm>
            <a:off x="0" y="4788000"/>
            <a:ext cx="1790640" cy="1906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9" name=""/>
          <p:cNvGraphicFramePr/>
          <p:nvPr/>
        </p:nvGraphicFramePr>
        <p:xfrm>
          <a:off x="1413000" y="4067280"/>
          <a:ext cx="4424400" cy="720720"/>
        </p:xfrm>
        <a:graphic>
          <a:graphicData uri="http://schemas.openxmlformats.org/drawingml/2006/table">
            <a:tbl>
              <a:tblPr/>
              <a:tblGrid>
                <a:gridCol w="442800"/>
                <a:gridCol w="441360"/>
                <a:gridCol w="442800"/>
                <a:gridCol w="441360"/>
                <a:gridCol w="442800"/>
                <a:gridCol w="441360"/>
                <a:gridCol w="443160"/>
                <a:gridCol w="442800"/>
                <a:gridCol w="442800"/>
                <a:gridCol w="443160"/>
              </a:tblGrid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a0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a0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a0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a0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a0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a0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a0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a0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a0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a0fe"/>
                    </a:solidFill>
                  </a:tcPr>
                </a:tc>
              </a:tr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ea0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ea0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ea0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ea0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ea0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ea0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ea0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ea0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ea0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ea0fe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1413000" y="6084720"/>
            <a:ext cx="4321080" cy="863640"/>
          </a:xfrm>
          <a:prstGeom prst="rect">
            <a:avLst/>
          </a:prstGeom>
          <a:solidFill>
            <a:srgbClr val="effc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5"/>
          <a:stretch/>
        </p:blipFill>
        <p:spPr>
          <a:xfrm>
            <a:off x="1557360" y="6156360"/>
            <a:ext cx="1008000" cy="72540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 flipH="1">
            <a:off x="2565000" y="6156360"/>
            <a:ext cx="360360" cy="792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2637000" y="637236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500280" y="6372360"/>
            <a:ext cx="2890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6"/>
          <a:stretch/>
        </p:blipFill>
        <p:spPr>
          <a:xfrm>
            <a:off x="4076640" y="6156360"/>
            <a:ext cx="1049400" cy="69228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 txBox="1"/>
          <p:nvPr/>
        </p:nvSpPr>
        <p:spPr>
          <a:xfrm>
            <a:off x="5445000" y="6156360"/>
            <a:ext cx="14472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229360" y="6156360"/>
            <a:ext cx="14436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989000" y="684360"/>
            <a:ext cx="2880000" cy="36036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effectLst>
                  <a:outerShdw dist="107932" dir="18900000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ШИФРОВК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effectLst>
                <a:outerShdw dist="107932" dir="18900000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628640" y="7164360"/>
            <a:ext cx="3816360" cy="863640"/>
          </a:xfrm>
          <a:prstGeom prst="rect">
            <a:avLst/>
          </a:prstGeom>
          <a:solidFill>
            <a:srgbClr val="effc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7"/>
          <a:stretch/>
        </p:blipFill>
        <p:spPr>
          <a:xfrm>
            <a:off x="1916280" y="7236000"/>
            <a:ext cx="896760" cy="6937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>
            <a:off x="3141720" y="7236000"/>
            <a:ext cx="14436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2924280" y="7236000"/>
            <a:ext cx="14436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5013360" y="7451640"/>
            <a:ext cx="28872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д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3357720" y="7451640"/>
            <a:ext cx="50292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оу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8"/>
          <a:stretch/>
        </p:blipFill>
        <p:spPr>
          <a:xfrm>
            <a:off x="4005360" y="7236000"/>
            <a:ext cx="911160" cy="68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rcRect l="0" t="17681" r="0" b="16763"/>
          <a:stretch/>
        </p:blipFill>
        <p:spPr>
          <a:xfrm>
            <a:off x="0" y="0"/>
            <a:ext cx="6858000" cy="280188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 txBox="1"/>
          <p:nvPr/>
        </p:nvSpPr>
        <p:spPr>
          <a:xfrm>
            <a:off x="1773360" y="900000"/>
            <a:ext cx="3456000" cy="43200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effectLst>
                  <a:outerShdw dist="107932" dir="18900000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КРОССВОРДЫ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effectLst>
                <a:outerShdw dist="107932" dir="18900000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1197000" y="2411280"/>
          <a:ext cx="4572000" cy="3286080"/>
        </p:xfrm>
        <a:graphic>
          <a:graphicData uri="http://schemas.openxmlformats.org/drawingml/2006/table">
            <a:tbl>
              <a:tblPr/>
              <a:tblGrid>
                <a:gridCol w="326880"/>
                <a:gridCol w="393840"/>
                <a:gridCol w="258840"/>
                <a:gridCol w="326880"/>
                <a:gridCol w="327240"/>
                <a:gridCol w="326880"/>
                <a:gridCol w="325440"/>
                <a:gridCol w="326880"/>
                <a:gridCol w="327240"/>
                <a:gridCol w="325440"/>
                <a:gridCol w="326880"/>
                <a:gridCol w="327240"/>
                <a:gridCol w="326880"/>
                <a:gridCol w="3254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cdb2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cdb2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cdb2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cdb2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cdb2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cdb2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cdb2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cdb2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5cdb2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9" name=""/>
          <p:cNvSpPr/>
          <p:nvPr/>
        </p:nvSpPr>
        <p:spPr>
          <a:xfrm>
            <a:off x="620640" y="5867280"/>
            <a:ext cx="5761080" cy="27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Как называется скоростной спуск с горы по ледовой трассе на управляемых санях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В каком зимнем виде спорта используют гранитные камн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Игрок с клюшко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Чем награждают спортсменов за победу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Откуда прыгают летающие лыжники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Зимний спортивный инвентар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порт, где катаются и стреляю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Как называется одна широкая лыжа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Район города Сочи, где находится аэропор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2"/>
          <a:srcRect l="0" t="55541" r="0" b="29319"/>
          <a:stretch/>
        </p:blipFill>
        <p:spPr>
          <a:xfrm>
            <a:off x="0" y="8496360"/>
            <a:ext cx="6858000" cy="64764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4581000" y="1692360"/>
            <a:ext cx="178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cc"/>
                </a:solidFill>
                <a:latin typeface="Arial"/>
              </a:rPr>
              <a:t>Данилова Миле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20640" y="5867280"/>
            <a:ext cx="5761080" cy="27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Как называется скоростной спуск с горы по ледовой трассе на управляемых санях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В каком зимнем виде спорта используют гранитные камн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Игрок с клюшко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Чем награждают спортсменов за победу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Откуда прыгают летающие лыжники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Зимний спортивный инвентар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порт, где катаются и стреляю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Как называется одна широкая лыжа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Район города Сочи, где находится аэропор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" descr=""/>
          <p:cNvPicPr/>
          <p:nvPr/>
        </p:nvPicPr>
        <p:blipFill>
          <a:blip r:embed="rId1"/>
          <a:srcRect l="0" t="0" r="0" b="29817"/>
          <a:stretch/>
        </p:blipFill>
        <p:spPr>
          <a:xfrm>
            <a:off x="0" y="0"/>
            <a:ext cx="6858000" cy="262728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816120" y="4375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692280" y="2987640"/>
          <a:ext cx="5548320" cy="2495520"/>
        </p:xfrm>
        <a:graphic>
          <a:graphicData uri="http://schemas.openxmlformats.org/drawingml/2006/table">
            <a:tbl>
              <a:tblPr/>
              <a:tblGrid>
                <a:gridCol w="326880"/>
                <a:gridCol w="393840"/>
                <a:gridCol w="258480"/>
                <a:gridCol w="327240"/>
                <a:gridCol w="326880"/>
                <a:gridCol w="327240"/>
                <a:gridCol w="325440"/>
                <a:gridCol w="326880"/>
                <a:gridCol w="326880"/>
                <a:gridCol w="325440"/>
                <a:gridCol w="327240"/>
                <a:gridCol w="326880"/>
                <a:gridCol w="327240"/>
                <a:gridCol w="325440"/>
                <a:gridCol w="325440"/>
                <a:gridCol w="325440"/>
                <a:gridCol w="3254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cdb2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cdb2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cdb2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cdb2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cdb2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cdb2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cdb2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6" name="" descr=""/>
          <p:cNvPicPr/>
          <p:nvPr/>
        </p:nvPicPr>
        <p:blipFill>
          <a:blip r:embed="rId2"/>
          <a:srcRect l="0" t="55541" r="0" b="29319"/>
          <a:stretch/>
        </p:blipFill>
        <p:spPr>
          <a:xfrm>
            <a:off x="0" y="8496360"/>
            <a:ext cx="6858000" cy="64764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4580280" y="25560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Arial"/>
              </a:rPr>
              <a:t>Тимонькина Ари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197000" y="5940360"/>
            <a:ext cx="489600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алисман зимних Олимпийских игр 2014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есто проведения Олимпиады 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алисман Паралимпийских игр 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ид лыжного спор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имний спортивный инвентар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частники Олимпийских иг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имвол Олимпийских иг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" descr=""/>
          <p:cNvPicPr/>
          <p:nvPr/>
        </p:nvPicPr>
        <p:blipFill>
          <a:blip r:embed="rId1"/>
          <a:srcRect l="0" t="55541" r="0" b="29319"/>
          <a:stretch/>
        </p:blipFill>
        <p:spPr>
          <a:xfrm>
            <a:off x="0" y="8496360"/>
            <a:ext cx="6858000" cy="64764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2"/>
          <a:srcRect l="0" t="14810" r="0" b="8147"/>
          <a:stretch/>
        </p:blipFill>
        <p:spPr>
          <a:xfrm>
            <a:off x="0" y="0"/>
            <a:ext cx="6858000" cy="2973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1" name=""/>
          <p:cNvGraphicFramePr/>
          <p:nvPr/>
        </p:nvGraphicFramePr>
        <p:xfrm>
          <a:off x="333360" y="684360"/>
          <a:ext cx="6087960" cy="5146560"/>
        </p:xfrm>
        <a:graphic>
          <a:graphicData uri="http://schemas.openxmlformats.org/drawingml/2006/table">
            <a:tbl>
              <a:tblPr/>
              <a:tblGrid>
                <a:gridCol w="471600"/>
                <a:gridCol w="326880"/>
                <a:gridCol w="393840"/>
                <a:gridCol w="393480"/>
                <a:gridCol w="258840"/>
                <a:gridCol w="327240"/>
                <a:gridCol w="326880"/>
                <a:gridCol w="326880"/>
                <a:gridCol w="325440"/>
                <a:gridCol w="327240"/>
                <a:gridCol w="326880"/>
                <a:gridCol w="325440"/>
                <a:gridCol w="327240"/>
                <a:gridCol w="326880"/>
                <a:gridCol w="365040"/>
                <a:gridCol w="250920"/>
                <a:gridCol w="361800"/>
                <a:gridCol w="325440"/>
              </a:tblGrid>
              <a:tr h="48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2" name=""/>
          <p:cNvSpPr/>
          <p:nvPr/>
        </p:nvSpPr>
        <p:spPr>
          <a:xfrm>
            <a:off x="1989000" y="4788000"/>
            <a:ext cx="463572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По вертикали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трана – хозяйка Олимпийских игр в 2014 году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Вид спорта, в котором две команды стараются поразить ворота противника, используя клюшки и шайб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портивное соревнование за звание сильнейшего в мир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Девиз Олимпийских игр: «Быстрее, выше, ….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Зимний спортивный инвентар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трана-родина современного хокке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92280" y="6948360"/>
            <a:ext cx="590544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По горизонтал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. Родина Олимпийских иг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. Оружие биатлонист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9. Лыжная гонка со стрельбой из винтов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. Стиль движения на лыжах, при котором лыжник сам выбирает способ передвижения на дистанц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866840" y="395280"/>
            <a:ext cx="1663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cc"/>
                </a:solidFill>
                <a:latin typeface="Arial"/>
              </a:rPr>
              <a:t>Жестков Макси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rcRect l="0" t="0" r="78782" b="57808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765000" y="1619280"/>
            <a:ext cx="5472360" cy="363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933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1933"/>
                </a:solidFill>
                <a:latin typeface="Arial"/>
              </a:rPr>
              <a:t>Первые Олимпийские игры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остоялись в 776 году до нашей эры</a:t>
            </a:r>
            <a:r>
              <a:rPr b="0" lang="en-US" sz="1600" spc="-1" strike="noStrike">
                <a:solidFill>
                  <a:srgbClr val="001933"/>
                </a:solidFill>
                <a:latin typeface="Arial"/>
              </a:rPr>
              <a:t> в Древней Греции в городе Олимп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933"/>
                </a:solidFill>
                <a:latin typeface="Arial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о тем временам Олимпийские игры были не просто спортивными соревнованиями, а очень важным религиозным обрядом, который посвящался главному богу греков Зевс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933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1933"/>
                </a:solidFill>
                <a:latin typeface="Arial"/>
              </a:rPr>
              <a:t>Во время Олимпийских игр на всей территории Греции объявлялось священное перемирие. Бывшие враги могли состязаться за право быть самыми сильными, быстрыми, ловки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933"/>
                </a:solidFill>
                <a:latin typeface="Arial"/>
              </a:rPr>
              <a:t>       </a:t>
            </a:r>
            <a:r>
              <a:rPr b="0" lang="en-US" sz="1600" spc="-1" strike="noStrike">
                <a:solidFill>
                  <a:srgbClr val="001933"/>
                </a:solidFill>
                <a:latin typeface="Arial"/>
              </a:rPr>
              <a:t>В античных Олимпийских играх соревновались и были зрителями  только мужчины. Женщины на эти игры вообще не допускалис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1773360" y="900000"/>
            <a:ext cx="388764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Из истории...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836640" y="4932360"/>
            <a:ext cx="5276880" cy="385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0" t="0" r="78782" b="57808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620640" y="684360"/>
            <a:ext cx="5904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о во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I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толетии до нашей эры Олимпийские игры потеряли свое значение, а в 394 году уже нашей эры  декретом римского императора Феодосия I Олимпийские игры были вообще запрещен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20640" y="1835280"/>
            <a:ext cx="583272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нова Олимпийские игры стали проводиться только с апреля 1896 года. Теперь они проводились в Афина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Именно в этом городе состоялась первая Олимпиада, с которой начались привычные нам соревнова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ейчас Олимпийские игры - это международные спортивные соревнования, которые происходят каждые четыре год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Они делятся на летные и зимние. А организовывает их Международный олимпийский комите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1773360" y="4211640"/>
            <a:ext cx="3240000" cy="243036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620640" y="6804000"/>
            <a:ext cx="5904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Кстати, современные Олимпийские игры имеют эмблему, которая состоит из пяти сцепленных между собой колец. Ее разработал в 1913 году основатель современных Олимпийских Игр барон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Пьер де Куберте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rcRect l="0" t="0" r="78782" b="57808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765000" y="2340000"/>
            <a:ext cx="54723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Каждая Олимпиада имеет свой талисман. Талисманами XXI зимних Олимпийских Игр 2014 года, которые  пройдут в России в Сочи с 7 по 23 февраля, будут Леопард, Белый мишка и Зайк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907920" y="1116000"/>
            <a:ext cx="50421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Талисманы 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Олимпийских игр в Соч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65000" y="6877080"/>
            <a:ext cx="532944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Миссия олимпийского талисмана — отразить дух страны-хозяйки игр, принести удачу спортсменам и накалить праздничну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атмосфер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907920" y="3780000"/>
            <a:ext cx="5327640" cy="27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rcRect l="4634" t="0" r="34870" b="0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60280" y="1623600"/>
            <a:ext cx="4537080" cy="67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66"/>
                </a:solidFill>
                <a:latin typeface="Arial"/>
              </a:rPr>
              <a:t>Грандиозное событие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66"/>
                </a:solidFill>
                <a:latin typeface="Arial"/>
              </a:rPr>
              <a:t>Скоро в Сочи случится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66"/>
                </a:solidFill>
                <a:latin typeface="Arial"/>
              </a:rPr>
              <a:t>Зимняя олимпиада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66"/>
                </a:solidFill>
                <a:latin typeface="Arial"/>
              </a:rPr>
              <a:t>Будет там проводиться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66"/>
                </a:solidFill>
                <a:latin typeface="Arial"/>
              </a:rPr>
              <a:t>Сотни спортсменов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66"/>
                </a:solidFill>
                <a:latin typeface="Arial"/>
              </a:rPr>
              <a:t>Выстроятся в ряд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66"/>
                </a:solidFill>
                <a:latin typeface="Arial"/>
              </a:rPr>
              <a:t>И великолепный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66"/>
                </a:solidFill>
                <a:latin typeface="Arial"/>
              </a:rPr>
              <a:t>Будет там парад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66"/>
                </a:solidFill>
                <a:latin typeface="Arial"/>
              </a:rPr>
              <a:t>Российские спортсмены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66"/>
                </a:solidFill>
                <a:latin typeface="Arial"/>
              </a:rPr>
              <a:t>Победить всех смогут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66"/>
                </a:solidFill>
                <a:latin typeface="Arial"/>
              </a:rPr>
              <a:t>В этом талисманы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66"/>
                </a:solidFill>
                <a:latin typeface="Arial"/>
              </a:rPr>
              <a:t>Очень им помогут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66"/>
                </a:solidFill>
                <a:latin typeface="Arial"/>
              </a:rPr>
              <a:t>Ягуар, заяц и белый медведь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66"/>
                </a:solidFill>
                <a:latin typeface="Arial"/>
              </a:rPr>
              <a:t>Помогут им всех одолеть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66"/>
                </a:solidFill>
                <a:latin typeface="Arial"/>
              </a:rPr>
              <a:t>Я в волейбол люблю играть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66"/>
                </a:solidFill>
                <a:latin typeface="Arial"/>
              </a:rPr>
              <a:t>Спортсменом тоже хочу стать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66"/>
                </a:solidFill>
                <a:latin typeface="Arial"/>
              </a:rPr>
              <a:t>Я обожаю побеждать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66"/>
                </a:solidFill>
                <a:latin typeface="Arial"/>
              </a:rPr>
              <a:t>Призы, награды получать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66"/>
                </a:solidFill>
                <a:latin typeface="Arial"/>
              </a:rPr>
              <a:t>Наступит время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66"/>
                </a:solidFill>
                <a:latin typeface="Arial"/>
              </a:rPr>
              <a:t>Пробегут  год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66"/>
                </a:solidFill>
                <a:latin typeface="Arial"/>
              </a:rPr>
              <a:t>И в Корее Южной на олимпиаде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66"/>
                </a:solidFill>
                <a:latin typeface="Arial"/>
              </a:rPr>
              <a:t>Взойдет моя спортивная звезда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66"/>
                </a:solidFill>
                <a:latin typeface="Arial"/>
              </a:rPr>
              <a:t>Тукузов Кирилл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836640" y="971640"/>
            <a:ext cx="43210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99"/>
                </a:solidFill>
                <a:latin typeface="Arial"/>
              </a:rPr>
              <a:t>Олимпийские надежды Росси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99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476280" y="2349720"/>
            <a:ext cx="2851200" cy="313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Новый год! Новый год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Олимпиаду нам несёт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Собрались у нашей ёл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Талисманы  в хорово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Заяц, барс и медвежоно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Очень любят зимний спор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И желают всем побед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В Олимпийский Новый год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Тимонькина Ари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549360" y="1476360"/>
            <a:ext cx="43210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99"/>
                </a:solidFill>
                <a:latin typeface="Arial"/>
              </a:rPr>
              <a:t>Олимпийский Новый год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99"/>
              </a:solidFill>
              <a:latin typeface="Arial"/>
              <a:ea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1413000" y="5580000"/>
            <a:ext cx="1904760" cy="22957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0" y="6227640"/>
            <a:ext cx="2332080" cy="24829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4"/>
          <a:stretch/>
        </p:blipFill>
        <p:spPr>
          <a:xfrm>
            <a:off x="1989000" y="6516720"/>
            <a:ext cx="1229040" cy="202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rcRect l="50007" t="0" r="0" b="0"/>
          <a:stretch/>
        </p:blipFill>
        <p:spPr>
          <a:xfrm>
            <a:off x="0" y="0"/>
            <a:ext cx="6926400" cy="91440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765000" y="1835280"/>
            <a:ext cx="5329440" cy="3024000"/>
          </a:xfrm>
          <a:prstGeom prst="wedgeRoundRectCallout">
            <a:avLst>
              <a:gd name="adj1" fmla="val 42226"/>
              <a:gd name="adj2" fmla="val 72888"/>
              <a:gd name="adj3" fmla="val 16667"/>
            </a:avLst>
          </a:prstGeom>
          <a:solidFill>
            <a:srgbClr val="d5dde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907920" y="1759680"/>
            <a:ext cx="5257800" cy="35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Зимние Олимпийские игры будут проходить в нашей стране впервые. Их открытие состоится 7 февраля 2014 года в городе Сочи. На Олимпиаду приедут лучшие спортсмены из разных стран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Мой самый любимый зимний вид спорта — биатлон. Биатлонисты сильные, ловкие и умелые. У них сложная задача, потому что им нужно быстро бежать на лыжах и метко стрелять. Ещё мне нравится фигурное катание, потому что это очень красиво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Я буду болеть за Россию и думаю, что у нас будет много бронзовых, серебряных и золотых медалей. Я желаю чтобы мы победили. Все страны хороши, но наша лучшая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584240" y="8101080"/>
            <a:ext cx="18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Чайников Ег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1268280" y="900000"/>
            <a:ext cx="446580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Дети об Олимпиад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1125360" y="5724360"/>
            <a:ext cx="2332080" cy="24829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3068640" y="6588000"/>
            <a:ext cx="1228680" cy="202104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4"/>
          <a:stretch/>
        </p:blipFill>
        <p:spPr>
          <a:xfrm>
            <a:off x="333360" y="5003640"/>
            <a:ext cx="1905120" cy="22957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5"/>
          <a:stretch/>
        </p:blipFill>
        <p:spPr>
          <a:xfrm>
            <a:off x="4508640" y="5580000"/>
            <a:ext cx="1938240" cy="245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rcRect l="50007" t="0" r="0" b="0"/>
          <a:stretch/>
        </p:blipFill>
        <p:spPr>
          <a:xfrm>
            <a:off x="0" y="0"/>
            <a:ext cx="6926400" cy="91440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476280" y="6156360"/>
            <a:ext cx="4825800" cy="2663640"/>
          </a:xfrm>
          <a:prstGeom prst="wedgeRoundRectCallout">
            <a:avLst>
              <a:gd name="adj1" fmla="val -36546"/>
              <a:gd name="adj2" fmla="val -63884"/>
              <a:gd name="adj3" fmla="val 16667"/>
            </a:avLst>
          </a:prstGeom>
          <a:solidFill>
            <a:srgbClr val="d5dde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коро начнутся олимпийские игры 2014 года. Они будут проходить в нашей стране. Я их давно жду. Но начнутся они только в феврале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ой любимый вид спорта –  хоккей. Это очень сложная и серьёзная игра. У меня есть любимая  хоккейная команда – Ак Барс из города Казан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Я мечтаю  попасть в Сочи на матч с участием российской сборной и поболеть за нашу страну, за наш хоккей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сем нашим спортсменам, особенно хоккеистам, я желаю победы!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76280" y="5154840"/>
            <a:ext cx="2448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Текарев Тиму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952880" y="6848640"/>
            <a:ext cx="1905120" cy="22953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4410000" y="6155640"/>
            <a:ext cx="24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Тимонькина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Ар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125360" y="468360"/>
            <a:ext cx="5185080" cy="2951280"/>
          </a:xfrm>
          <a:prstGeom prst="wedgeRoundRectCallout">
            <a:avLst>
              <a:gd name="adj1" fmla="val 48407"/>
              <a:gd name="adj2" fmla="val 64416"/>
              <a:gd name="adj3" fmla="val 16667"/>
            </a:avLst>
          </a:prstGeom>
          <a:solidFill>
            <a:srgbClr val="d5dde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Олимпийские игры – международное спортивное мероприятие . В 2014 году олимпиада будет проходить на территории нашей страны  в городе Соч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оревнования пройдут по зимним видам спорта. Сотни спортсменов готовятся к стартам. Все они мечтают взойти на Олимпийских пьедестал. Но победят сильнейши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Мы всей семьёй будем следить за играми и активно болеть за российских спортсменов. Мама и бабушка любят и ждут фигурное катание. А мне нравится биатлон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Желаю нашим спортсменам только победы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60280" y="971640"/>
            <a:ext cx="1228680" cy="20206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4"/>
          <a:stretch/>
        </p:blipFill>
        <p:spPr>
          <a:xfrm>
            <a:off x="2492280" y="3780000"/>
            <a:ext cx="2062080" cy="21952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5"/>
          <a:stretch/>
        </p:blipFill>
        <p:spPr>
          <a:xfrm>
            <a:off x="549360" y="3492360"/>
            <a:ext cx="1719000" cy="20178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6"/>
          <a:stretch/>
        </p:blipFill>
        <p:spPr>
          <a:xfrm>
            <a:off x="4724280" y="3924360"/>
            <a:ext cx="1743120" cy="21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01T16:47:38Z</dcterms:created>
  <dc:creator>User</dc:creator>
  <dc:description/>
  <dc:language>en-US</dc:language>
  <cp:lastModifiedBy>User</cp:lastModifiedBy>
  <dcterms:modified xsi:type="dcterms:W3CDTF">2014-02-07T04:37:38Z</dcterms:modified>
  <cp:revision>17</cp:revision>
  <dc:subject/>
  <dc:title>Слайд 1</dc:title>
</cp:coreProperties>
</file>