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42.jpeg" ContentType="image/jpeg"/>
  <Override PartName="/ppt/media/image19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9B8-31B6-4B65-A76E-466DA0D7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E18-876E-4BD0-B4BC-47DCE8FA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703-8BA9-476E-920D-AA082890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F73F-6847-41CF-81EC-E4B7463F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349E-70ED-4AFF-9475-F21360BD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BB0-F437-4AC8-B172-B23AF7F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661-D467-44E4-8A96-3DD413D0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606-5DE0-460E-9227-FCA0F71C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876-6CED-4EA5-BE5A-00064A66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6E2-BA91-43C4-AFB3-171423A7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6FA-4637-4141-AA36-B9715273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000-C3E8-4825-88F2-C0F82C5E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B0E-AC4D-4F58-8E21-751D0BE33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9360" y="468360"/>
            <a:ext cx="5761080" cy="9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Муницип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Литературно- 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журнал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«Родничок»</a:t>
            </a:r>
            <a:r>
              <a:rPr b="1" i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013-20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27388" t="0" r="32886" b="0"/>
          <a:stretch/>
        </p:blipFill>
        <p:spPr>
          <a:xfrm>
            <a:off x="2781360" y="1619280"/>
            <a:ext cx="129060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81000" y="5364000"/>
            <a:ext cx="5327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92280" y="468360"/>
            <a:ext cx="540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06720" y="461268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0280" y="611280"/>
            <a:ext cx="4105440" cy="3456000"/>
          </a:xfrm>
          <a:prstGeom prst="wedgeRoundRectCallout">
            <a:avLst>
              <a:gd name="adj1" fmla="val 56379"/>
              <a:gd name="adj2" fmla="val 66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зажжется олимпийский огонь в Сочи и начнутся Олимпийские игры. Я очень хочу побывать там  и болеть за российск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соревнования приедут спортсмены со всего мира. Участники будут соревноваться в разных видах спорта. Мне бы очень хотелось побывать на хоккее. Это мой любимый вид спорта. Я с большим интересом смотрю хоккейные матчи по телевизору и болею за нашу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, за успехами наших спортсменов. Удачи все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" y="6659640"/>
            <a:ext cx="21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рзамае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5219640"/>
            <a:ext cx="4464000" cy="3673440"/>
          </a:xfrm>
          <a:prstGeom prst="wedgeRoundRectCallout">
            <a:avLst>
              <a:gd name="adj1" fmla="val -80620"/>
              <a:gd name="adj2" fmla="val 3629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Впервые Олимпийские игры проводились Древней Греции, в Олимпии. В соревнованиях тогда могли принимать участие только мужчины. Женщин, даже в качестве зрителей, не пускали на стадио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Сегодня в Олимпиаде участвуют атлеты со всего мира. Каждая страна готовит своих спортсменов и мечтает выиграть как можно больше золотых меда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лимпийские игры проходят раз в четыре года. В 2014 году зимние Олимпийские игры будут проходить в России, в городе Соч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 этим играм наша страна готовилась очень долго. Построены новые стадионы, арены, спортивные комплекс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Я горда тем, что наша страна будет принимать такие важные игры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50008" t="0" r="0" b="0"/>
          <a:stretch/>
        </p:blipFill>
        <p:spPr>
          <a:xfrm>
            <a:off x="4797360" y="250920"/>
            <a:ext cx="182088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581360" y="2340000"/>
            <a:ext cx="1914840" cy="2230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33360" y="4284720"/>
            <a:ext cx="18223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24280" y="2562120"/>
            <a:ext cx="1729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873080" y="3778560"/>
            <a:ext cx="187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9000" y="2556000"/>
            <a:ext cx="4535640" cy="3456000"/>
          </a:xfrm>
          <a:prstGeom prst="wedgeRoundRectCallout">
            <a:avLst>
              <a:gd name="adj1" fmla="val -43351"/>
              <a:gd name="adj2" fmla="val -8082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же совсем скоро в Сочи пройдут зимние Олимпийские игры. Спортсмены будут бороться, но победят сильнейш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первые Олимпийские игры проходили в Древней Греции. Атлетов, которые участвовали в соревнованиях называли олимпиониками. Состязались они только в пяти видах сп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есно, что во время проведения соревнований на территории всей страны прекращались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с нетерпением жду приближение Олимпиады и надеюсь на победу нашей сборной. Особенно я желаю победы своим землякам, мордовским спортсменам, которые будут участвовать в соревнования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0" y="2987640"/>
            <a:ext cx="19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Ларин Серг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280" y="6372360"/>
            <a:ext cx="4105440" cy="2087280"/>
          </a:xfrm>
          <a:prstGeom prst="wedgeRoundRectCallout">
            <a:avLst>
              <a:gd name="adj1" fmla="val 56842"/>
              <a:gd name="adj2" fmla="val 5821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всем скоро начнутся Олимпийские игры в Сочи. В нашу страну приедет очень много спортсменов из разных стран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е хочется, чтобы наши спортсмены стали победителями во всех видах соревно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и переживать за российскую сборну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12600" y="853272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Голова Елиза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57720" y="25092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084640" y="39528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333360" y="395280"/>
            <a:ext cx="1809720" cy="2378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4653000" y="6084720"/>
            <a:ext cx="1809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6640" y="684360"/>
            <a:ext cx="5400720" cy="4103640"/>
          </a:xfrm>
          <a:prstGeom prst="wedgeRoundRectCallout">
            <a:avLst>
              <a:gd name="adj1" fmla="val 43240"/>
              <a:gd name="adj2" fmla="val 7185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2640" y="900000"/>
            <a:ext cx="5040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рез 56 дней в городе Сочи пройдут зимние Олимпийски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й огонь путешествует по всей России. Он побывал в космосе и на дне океана. И вот, 9 января 2014 года Олимпийский огонь приедет в Саранск. Он пройдёт по улицам нашего города. А в феврале он будет уже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обязательно буду следить за Олимпиадой. Я буду болеть за нашу сборную по фигурному катанию. Мне нравится биатлон. Я верю в победу Ольги Зайцевой и Антона Шипул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ордовии в Сочи уже уехало много людей. Это волонтёры, которые будут следить за порядком на Олимпийских играх. В их числе и мой дядя. Он уехал в Сочи ещё в ноябре, а вернётся только в мар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нашим спортсмена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перёд, Росси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23880" y="810108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Щемерова Да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13000" y="5292720"/>
            <a:ext cx="2270160" cy="2735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292640" y="5724360"/>
            <a:ext cx="19080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-6840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92280" y="4211640"/>
            <a:ext cx="5400720" cy="3816360"/>
          </a:xfrm>
          <a:prstGeom prst="wedgeRoundRectCallout">
            <a:avLst>
              <a:gd name="adj1" fmla="val 115"/>
              <a:gd name="adj2" fmla="val -68175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5000" y="4284720"/>
            <a:ext cx="5040360" cy="35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ро начнутся зимние Олимпийские игры. Они будут проходить в нашей стране, в городе Сочи. К нам приедут спортсмены со всего мира и будут соревноваться  в силе, ловкости, быстр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являются крупным спортивным событием, где каждый участник может показать то, на что он способен. Ведь каждый спортсмен готовился к этому событию несколько лет. Но представлять свою страну на Олимпиаде – это ещё очень большая ответствен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всех видов спорта мне больше всего нравится хоккей. Это интересная и динамичная игра. Хоккей – игра настоящих мужчин. Даже песня есть такая: «Трус не играет в хоккей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желаю удачи всем нашим спортсменам и верю, что они завоюют много золотых медалей! Ведь вся страна будет бол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 Россию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7920" y="3348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рифонов Дани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11863" t="0" r="20211" b="0"/>
          <a:stretch/>
        </p:blipFill>
        <p:spPr>
          <a:xfrm>
            <a:off x="3716280" y="679320"/>
            <a:ext cx="2738520" cy="2692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125360" y="971640"/>
            <a:ext cx="187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92280" y="3924360"/>
            <a:ext cx="5400720" cy="4392720"/>
          </a:xfrm>
          <a:prstGeom prst="wedgeRoundRectCallout">
            <a:avLst>
              <a:gd name="adj1" fmla="val -587"/>
              <a:gd name="adj2" fmla="val -63152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5000" y="4140360"/>
            <a:ext cx="504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возникли в Древней Греции в 776 году до нашей эры. Женщины дети и негры не имели право принимать участие в этих соревнованиях. Атлеты соревновались в беге, метании копья и диска, в гонках на колесницах, в фехтовании и борь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игры современности прошли в 1896 году. В программе уже было девять видов спорта Сегодня в программе зимних Олимпийских игр более 15 видов спорт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лимпийские игры проводятся каждые четыре года Это праздник спорта для всех спортсменов, участвующих в соревнованиях. Это праздник для всех людей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2014 году в нашей стране будут проводиться зимние Олимпийские игры в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ится фигурное катание. Я  обязательно буду болеть за наших фигурис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верю в наших спортсменов и желаю им только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38760" y="32036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рахов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rcRect l="34129" t="0" r="0" b="0"/>
          <a:stretch/>
        </p:blipFill>
        <p:spPr>
          <a:xfrm>
            <a:off x="692280" y="755640"/>
            <a:ext cx="2670120" cy="2536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149720" y="826920"/>
            <a:ext cx="18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rcRect l="9052" t="0" r="4863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1989000" y="1187280"/>
            <a:ext cx="280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ГАД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5000" y="3564000"/>
            <a:ext cx="51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Дети очень любят разгадывать загадки.  Но придумывать загадки самим оказывается тоже очень увлекательное и интересное занят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Все наши загадки про зимние виды спо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20640" y="2566440"/>
            <a:ext cx="540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за игра так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ну, ответь скор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клюшками и шай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этот спорт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я еду на конь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юшка у меня в ру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бвёл сосед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жен гол. Побед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т зимний вид спорта очень серьёзный и травмоопасный. Его называют игрой настоящих мужчин. Очень похож на футбол. Только матч проходит на льду, вместо мяча – шайба, а в руках - клю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573360" y="684360"/>
            <a:ext cx="2908440" cy="40478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92280" y="324000"/>
            <a:ext cx="212868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92280" y="1043640"/>
            <a:ext cx="56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уках палки, на ногах доски. Кто скорее придёт к финиш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шников Эдуа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похож на лыжные гонки. Но в этом виде спорта лыжники должны уметь кататься с горы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ова Ми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гурное катание на лыжах.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авин Гер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6280" y="5435640"/>
            <a:ext cx="5871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20640" y="8208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вид спорта очень популярен в разных странах мира. Спортсмены должны уметь не только хорошо кататься на лыжах, но и отлично стре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0640" y="3420000"/>
            <a:ext cx="57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ушек по льду кат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ь попасть спешит, пыт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ткой лёд команда тр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мень в «дом» она пошл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зимний вид спорта. Командная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с камнем и щё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ндина Дар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907920" y="5940360"/>
            <a:ext cx="3170520" cy="2779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508640" y="684360"/>
            <a:ext cx="1885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25360" y="1042560"/>
            <a:ext cx="51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порт и танец, в парах и по одному, мужчины и жен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25360" y="4427640"/>
            <a:ext cx="511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ньках я бе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бедить я всех см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ому что у ме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серебряных ко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916280" y="19796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341360" y="6227640"/>
            <a:ext cx="42958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78782" b="55978"/>
          <a:stretch/>
        </p:blipFill>
        <p:spPr>
          <a:xfrm>
            <a:off x="0" y="0"/>
            <a:ext cx="6858000" cy="954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125360" y="1908000"/>
            <a:ext cx="4464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егодня в номере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6640" y="755640"/>
            <a:ext cx="54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i="1" lang="en-US" sz="1300" spc="-1" strike="noStrike">
                <a:solidFill>
                  <a:srgbClr val="001933"/>
                </a:solidFill>
                <a:latin typeface="Arial"/>
              </a:rPr>
              <a:t>Совсем скоро в нашей стране пройдут зимние Олимпийские Игры в городе Сочи. Весь народ находится в предвкушении этого великого события. Поэтому мы решили этот выпуск нашего журнала целиком посвятить Олимпиаде и зимним видам спор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2700360"/>
            <a:ext cx="525636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 истори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лисманы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ая надежда России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лимпийский Новый год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ти об Олимпи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рзамае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га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уракевич Артур, Трифонов Даниил, Текарев Тимур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ешников Эдуард, Данилова Милена, Красавин Герман, Сенгаева Вероника, Гилева Анастасия, Баландина Дарья, Буянкина Юлия, 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ифровки и ребус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россвор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естков Максим, Тимонькина Арина, 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73360" y="3851280"/>
            <a:ext cx="177984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65137" t="17221" r="0" b="5203"/>
          <a:stretch/>
        </p:blipFill>
        <p:spPr>
          <a:xfrm>
            <a:off x="0" y="0"/>
            <a:ext cx="6850080" cy="914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421000" y="5219640"/>
            <a:ext cx="208908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РЕБУ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81000" y="1908000"/>
          <a:ext cx="3981600" cy="720720"/>
        </p:xfrm>
        <a:graphic>
          <a:graphicData uri="http://schemas.openxmlformats.org/drawingml/2006/table">
            <a:tbl>
              <a:tblPr/>
              <a:tblGrid>
                <a:gridCol w="443160"/>
                <a:gridCol w="441360"/>
                <a:gridCol w="442800"/>
                <a:gridCol w="441360"/>
                <a:gridCol w="442800"/>
                <a:gridCol w="441360"/>
                <a:gridCol w="442800"/>
                <a:gridCol w="443160"/>
                <a:gridCol w="44280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265760" y="1403280"/>
            <a:ext cx="24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е слова зашифрован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70120" y="363528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юч к отгад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25360" y="2771640"/>
          <a:ext cx="309564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3160"/>
                <a:gridCol w="4410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946760" y="395280"/>
            <a:ext cx="191124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5516640" y="7164360"/>
            <a:ext cx="1096920" cy="18050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0" y="4788000"/>
            <a:ext cx="1790640" cy="190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413000" y="4067280"/>
          <a:ext cx="4424400" cy="720720"/>
        </p:xfrm>
        <a:graphic>
          <a:graphicData uri="http://schemas.openxmlformats.org/drawingml/2006/table">
            <a:tbl>
              <a:tblPr/>
              <a:tblGrid>
                <a:gridCol w="442800"/>
                <a:gridCol w="441360"/>
                <a:gridCol w="442800"/>
                <a:gridCol w="441360"/>
                <a:gridCol w="442800"/>
                <a:gridCol w="441360"/>
                <a:gridCol w="443160"/>
                <a:gridCol w="442800"/>
                <a:gridCol w="442800"/>
                <a:gridCol w="44316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a0fe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413000" y="6084720"/>
            <a:ext cx="432108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557360" y="6156360"/>
            <a:ext cx="1008000" cy="725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2565000" y="6156360"/>
            <a:ext cx="36036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637000" y="6372360"/>
            <a:ext cx="287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00280" y="6372360"/>
            <a:ext cx="28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4076640" y="6156360"/>
            <a:ext cx="1049400" cy="692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5445000" y="6156360"/>
            <a:ext cx="14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29360" y="615636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989000" y="684360"/>
            <a:ext cx="288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ШИФРОВК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28640" y="7164360"/>
            <a:ext cx="3816360" cy="863640"/>
          </a:xfrm>
          <a:prstGeom prst="rect">
            <a:avLst/>
          </a:prstGeom>
          <a:solidFill>
            <a:srgbClr val="ef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916280" y="7236000"/>
            <a:ext cx="896760" cy="693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314172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24280" y="723600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013360" y="745164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357720" y="7451640"/>
            <a:ext cx="5029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8"/>
          <a:stretch/>
        </p:blipFill>
        <p:spPr>
          <a:xfrm>
            <a:off x="4005360" y="7236000"/>
            <a:ext cx="9111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17681" r="0" b="16763"/>
          <a:stretch/>
        </p:blipFill>
        <p:spPr>
          <a:xfrm>
            <a:off x="0" y="0"/>
            <a:ext cx="6858000" cy="2801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773360" y="900000"/>
            <a:ext cx="3456000" cy="4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КРОССВОРД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97000" y="2411280"/>
          <a:ext cx="4572000" cy="328608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840"/>
                <a:gridCol w="326880"/>
                <a:gridCol w="327240"/>
                <a:gridCol w="326880"/>
                <a:gridCol w="325440"/>
                <a:gridCol w="326880"/>
                <a:gridCol w="327240"/>
                <a:gridCol w="325440"/>
                <a:gridCol w="326880"/>
                <a:gridCol w="327240"/>
                <a:gridCol w="32688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81000" y="16923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Данилова Миле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20640" y="5867280"/>
            <a:ext cx="576108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скоростной спуск с горы по ледовой трассе на управляемых сан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каком зимнем виде спорта используют гранитные кам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ок с клюш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м награждают спортсменов за побед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уда прыгают летающие лыжник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, где катаются и стре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 называется одна широкая лыж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йон города Сочи, где находится аэропо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29817"/>
          <a:stretch/>
        </p:blipFill>
        <p:spPr>
          <a:xfrm>
            <a:off x="0" y="0"/>
            <a:ext cx="6858000" cy="2627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16120" y="4375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92280" y="2987640"/>
          <a:ext cx="5548320" cy="2495520"/>
        </p:xfrm>
        <a:graphic>
          <a:graphicData uri="http://schemas.openxmlformats.org/drawingml/2006/table">
            <a:tbl>
              <a:tblPr/>
              <a:tblGrid>
                <a:gridCol w="326880"/>
                <a:gridCol w="393840"/>
                <a:gridCol w="258480"/>
                <a:gridCol w="327240"/>
                <a:gridCol w="326880"/>
                <a:gridCol w="327240"/>
                <a:gridCol w="325440"/>
                <a:gridCol w="326880"/>
                <a:gridCol w="326880"/>
                <a:gridCol w="325440"/>
                <a:gridCol w="327240"/>
                <a:gridCol w="326880"/>
                <a:gridCol w="327240"/>
                <a:gridCol w="325440"/>
                <a:gridCol w="325440"/>
                <a:gridCol w="325440"/>
                <a:gridCol w="32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cdb2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" descr=""/>
          <p:cNvPicPr/>
          <p:nvPr/>
        </p:nvPicPr>
        <p:blipFill>
          <a:blip r:embed="rId2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580280" y="25560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97000" y="5940360"/>
            <a:ext cx="489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зимних Олимпийских игр 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сто проведения Олимпиады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лисман Паралимпийских игр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 лыжного 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астники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мвол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rcRect l="0" t="55541" r="0" b="29319"/>
          <a:stretch/>
        </p:blipFill>
        <p:spPr>
          <a:xfrm>
            <a:off x="0" y="8496360"/>
            <a:ext cx="6858000" cy="647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0" t="14810" r="0" b="8147"/>
          <a:stretch/>
        </p:blipFill>
        <p:spPr>
          <a:xfrm>
            <a:off x="0" y="0"/>
            <a:ext cx="685800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333360" y="684360"/>
          <a:ext cx="6087960" cy="5146560"/>
        </p:xfrm>
        <a:graphic>
          <a:graphicData uri="http://schemas.openxmlformats.org/drawingml/2006/table">
            <a:tbl>
              <a:tblPr/>
              <a:tblGrid>
                <a:gridCol w="471600"/>
                <a:gridCol w="326880"/>
                <a:gridCol w="393840"/>
                <a:gridCol w="393480"/>
                <a:gridCol w="258840"/>
                <a:gridCol w="327240"/>
                <a:gridCol w="326880"/>
                <a:gridCol w="326880"/>
                <a:gridCol w="325440"/>
                <a:gridCol w="327240"/>
                <a:gridCol w="326880"/>
                <a:gridCol w="325440"/>
                <a:gridCol w="327240"/>
                <a:gridCol w="326880"/>
                <a:gridCol w="365040"/>
                <a:gridCol w="250920"/>
                <a:gridCol w="361800"/>
                <a:gridCol w="32544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989000" y="4788000"/>
            <a:ext cx="4635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вертика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 – хозяйка Олимпийских игр в 2014 г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ид спорта, в котором две команды стараются поразить ворота противника, используя клюшки и шайб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ортивное соревнование за звание сильнейшего в ми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виз Олимпийских игр: «Быстрее, выше, …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й спортивный инвента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трана-родина современного хокке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2280" y="6948360"/>
            <a:ext cx="5905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По горизонтал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 Родина Олимпийских иг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 Оружие биатлон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 Лыжная гонка со стрельбой из винт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 Стиль движения на лыжах, при котором лыжник сам выбирает способ передвижения на диста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66840" y="39528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65000" y="1619280"/>
            <a:ext cx="5472360" cy="36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Первые Олимпийские иг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стоялись в 776 году до нашей эры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в Древней Греции в городе Олимп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тем временам Олимпийские игры были не просто спортивными соревнованиями, а очень важным религиозным обрядом, который посвящался главному богу греков Зевс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о время Олимпийских игр на всей территории Греции объявлялось священное перемирие. Бывшие враги могли состязаться за право быть самыми сильными, быстрыми, ловк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1933"/>
                </a:solidFill>
                <a:latin typeface="Arial"/>
              </a:rPr>
              <a:t>В античных Олимпийских играх соревновались и были зрителями  только мужчины. Женщины на эти игры вообще не допускали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73360" y="900000"/>
            <a:ext cx="3887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з истории..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36640" y="4932360"/>
            <a:ext cx="52768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20640" y="68436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 в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и до нашей эры Олимпийские игры потеряли свое значение, а в 394 году уже нашей эры  декретом римского императора Феодосия I Олимпийские игры были вообще запрещ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640" y="1835280"/>
            <a:ext cx="5832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ова Олимпийские игры стали проводиться только с апреля 1896 года. Теперь они проводились в Афи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менно в этом городе состоялась первая Олимпиада, с которой начались привычные нам соревн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ейчас Олимпийские игры - это международные спортивные соревнования, которые происходят каждые четыре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ни делятся на летные и зимние. А организовывает их Международный олимпийский комит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73360" y="421164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20640" y="6804000"/>
            <a:ext cx="590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стати, современные Олимпийские игры имеют эмблему, которая состоит из пяти сцепленных между собой колец. Ее разработал в 1913 году основатель современных Олимпийских Игр барон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78782" b="5780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5000" y="2340000"/>
            <a:ext cx="547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ждая Олимпиада имеет свой талисман. Талисманами XXI зимних Олимпийских Игр 2014 года, которые  пройдут в России в Сочи с 7 по 23 февраля, будут Леопард, Белый мишка и Зай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07920" y="1116000"/>
            <a:ext cx="5042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алисманы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лимпийских игр в Соч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5000" y="6877080"/>
            <a:ext cx="5329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иссия олимпийского талисмана — отразить дух страны-хозяйки игр, принести удачу спортсменам и накалить праздничн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тмосфе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907920" y="3780000"/>
            <a:ext cx="5327640" cy="27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4634" t="0" r="34870" b="0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0280" y="1623600"/>
            <a:ext cx="4537080" cy="67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Грандиозное событ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коро в Сочи случи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Зимняя олимпиад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роводи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отни спортсме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ыстроятся в ря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еликолепны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Будет там пара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Российские спортсме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бедить всех смогут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 этом талисман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Очень им помогу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гуар, заяц и белый медвед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омогут им всех одоле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в волейбол люблю игр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Спортсменом тоже хочу ст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Я обожаю побеждать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изы, награды получать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Наступит время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Пробегут  го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И в Корее Южной на олимпиа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Взойдет моя спортивная звез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66"/>
                </a:solidFill>
                <a:latin typeface="Arial"/>
              </a:rPr>
              <a:t>Тукузов Кирил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6640" y="97164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е надежды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76280" y="2349720"/>
            <a:ext cx="285120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Новый год!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лимпиаду нам несё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Собрались у нашей ёл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алисманы  в хоро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Заяц, барс и медвежо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Очень любят зимний 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И желают всем поб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В Олимпийский Новый го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Тимонькина 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49360" y="1476360"/>
            <a:ext cx="4321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Олимпийский Новый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13000" y="5580000"/>
            <a:ext cx="1904760" cy="2295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622764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89000" y="6516720"/>
            <a:ext cx="12290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000" y="1835280"/>
            <a:ext cx="5329440" cy="3024000"/>
          </a:xfrm>
          <a:prstGeom prst="wedgeRoundRectCallout">
            <a:avLst>
              <a:gd name="adj1" fmla="val 42226"/>
              <a:gd name="adj2" fmla="val 72888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7920" y="1759680"/>
            <a:ext cx="5257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имние Олимпийские игры будут проходить в нашей стране впервые. Их открытие состоится 7 февраля 2014 года в городе Сочи. На Олимпиаду приедут лучшие спортсмены из разных стра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самый любимый зимний вид спорта — биатлон. Биатлонисты сильные, ловкие и умелые. У них сложная задача, потому что им нужно быстро бежать на лыжах и метко стрелять. Ещё мне нравится фигурное катание, потому что это очень красив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буду болеть за Россию и думаю, что у нас будет много бронзовых, серебряных и золотых медалей. Я желаю чтобы мы победили. Все страны хороши, но наша лучша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84240" y="8101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Чайник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268280" y="900000"/>
            <a:ext cx="44658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Дети об Олимпиад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125360" y="5724360"/>
            <a:ext cx="2332080" cy="2482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068640" y="6588000"/>
            <a:ext cx="1228680" cy="20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33360" y="500364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508640" y="5580000"/>
            <a:ext cx="1938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50007" t="0" r="0" b="0"/>
          <a:stretch/>
        </p:blipFill>
        <p:spPr>
          <a:xfrm>
            <a:off x="0" y="0"/>
            <a:ext cx="6926400" cy="914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6280" y="6156360"/>
            <a:ext cx="4825800" cy="2663640"/>
          </a:xfrm>
          <a:prstGeom prst="wedgeRoundRectCallout">
            <a:avLst>
              <a:gd name="adj1" fmla="val -36546"/>
              <a:gd name="adj2" fmla="val -63884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 начнутся олимпийские игры 2014 года. Они будут проходить в нашей стране. Я их давно жду. Но начнутся они только в феврал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вид спорта –  хоккей. Это очень сложная и серьёзная игра. У меня есть любимая  хоккейная команда – Ак Барс из города Казан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мечтаю  попасть в Сочи на матч с участием российской сборной и поболеть за нашу страну, за наш хокк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м нашим спортсменам, особенно хоккеистам, я желаю побед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5154840"/>
            <a:ext cx="2448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Текарев Тим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6848640"/>
            <a:ext cx="1905120" cy="2295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410000" y="615564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имонь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468360"/>
            <a:ext cx="5185080" cy="2951280"/>
          </a:xfrm>
          <a:prstGeom prst="wedgeRoundRectCallout">
            <a:avLst>
              <a:gd name="adj1" fmla="val 48407"/>
              <a:gd name="adj2" fmla="val 64416"/>
              <a:gd name="adj3" fmla="val 16667"/>
            </a:avLst>
          </a:prstGeom>
          <a:solidFill>
            <a:srgbClr val="d5d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лимпийские игры – международное спортивное мероприятие . В 2014 году олимпиада будет проходить на территории нашей страны  в городе Со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ревнования пройдут по зимним видам спорта. Сотни спортсменов готовятся к стартам. Все они мечтают взойти на Олимпийских пьедестал. Но победят сильнейш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сей семьёй будем следить за играми и активно болеть за российских спортсменов. Мама и бабушка любят и ждут фигурное катание. А мне нравится биатл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Желаю нашим спортсменам только побед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0280" y="971640"/>
            <a:ext cx="1228680" cy="2020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492280" y="3780000"/>
            <a:ext cx="2062080" cy="219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49360" y="3492360"/>
            <a:ext cx="1719000" cy="201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724280" y="3924360"/>
            <a:ext cx="174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16:47:38Z</dcterms:created>
  <dc:creator>User</dc:creator>
  <dc:description/>
  <dc:language>en-US</dc:language>
  <cp:lastModifiedBy>User</cp:lastModifiedBy>
  <dcterms:modified xsi:type="dcterms:W3CDTF">2014-02-07T04:37:38Z</dcterms:modified>
  <cp:revision>17</cp:revision>
  <dc:subject/>
  <dc:title>Слайд 1</dc:title>
</cp:coreProperties>
</file>