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42.jpeg" ContentType="image/jpeg"/>
  <Override PartName="/ppt/media/image19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50C-4B1D-451C-AEC6-A346C840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5AB-50E3-4359-99FE-5C65019F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7E1-374E-4FD4-8C03-0C06CEEA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0F2-FC19-4002-A248-BED0A79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A37-3A29-4C33-B6EF-868958B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2D4-74E7-4CC2-9536-5274351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A91-EA25-4264-B64B-B0575CDB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1B8-8AB9-4808-A69E-32FF3B8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712-0F56-4FA8-9799-AF7CE4B9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91A-3D96-4FC2-AC41-9085BB2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CFC-B981-46AF-9B31-10F2541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42E-7077-4550-9DFA-0B94CA6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C7F-1E23-436B-8D9A-368AD3B4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9360" y="468360"/>
            <a:ext cx="5761080" cy="9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уницип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Литературно- 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журнал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«Родничок»</a:t>
            </a:r>
            <a:r>
              <a:rPr b="1" i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013-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7388" t="0" r="32886" b="0"/>
          <a:stretch/>
        </p:blipFill>
        <p:spPr>
          <a:xfrm>
            <a:off x="2781360" y="1619280"/>
            <a:ext cx="129060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81000" y="5364000"/>
            <a:ext cx="5327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2280" y="468360"/>
            <a:ext cx="54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06720" y="4612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611280"/>
            <a:ext cx="4105440" cy="3456000"/>
          </a:xfrm>
          <a:prstGeom prst="wedgeRoundRectCallout">
            <a:avLst>
              <a:gd name="adj1" fmla="val 56379"/>
              <a:gd name="adj2" fmla="val 66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зажжется олимпийский огонь в Сочи и начнутся Олимпийские игры. Я очень хочу побывать там  и болеть за российск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оревнования приедут спортсмены со всего мира. Участники будут соревноваться в разных видах спорта. Мне бы очень хотелось побывать на хоккее. Это мой любимый вид спорта. Я с большим интересом смотрю хоккейные матчи по телевизору и болею за нашу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, за успехами наших спортсменов. Удачи вс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" y="6659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рзамае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5219640"/>
            <a:ext cx="4464000" cy="3673440"/>
          </a:xfrm>
          <a:prstGeom prst="wedgeRoundRectCallout">
            <a:avLst>
              <a:gd name="adj1" fmla="val -80620"/>
              <a:gd name="adj2" fmla="val 3629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первые Олимпийские игры проводились Древней Греции, в Олимпии. В соревнованиях тогда могли принимать участие только мужчины. Женщин, даже в качестве зрителей, не пускали на стади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егодня в Олимпиаде участвуют атлеты со всего мира. Каждая страна готовит своих спортсменов и мечтает выиграть как можно больше золотых меда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лимпийские игры проходят раз в четыре года. В 2014 году зимние Олимпийские игры будут проходить в России, в городе Соч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 этим играм наша страна готовилась очень долго. Построены новые стадионы, арены, спортивные комплекс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Я горда тем, что наша страна будет принимать такие важные игры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50008" t="0" r="0" b="0"/>
          <a:stretch/>
        </p:blipFill>
        <p:spPr>
          <a:xfrm>
            <a:off x="4797360" y="25092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81360" y="2340000"/>
            <a:ext cx="1914840" cy="223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33360" y="4284720"/>
            <a:ext cx="1822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2562120"/>
            <a:ext cx="172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873080" y="377856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9000" y="2556000"/>
            <a:ext cx="4535640" cy="3456000"/>
          </a:xfrm>
          <a:prstGeom prst="wedgeRoundRectCallout">
            <a:avLst>
              <a:gd name="adj1" fmla="val -43351"/>
              <a:gd name="adj2" fmla="val -8082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же совсем скоро в Сочи пройдут зимние Олимпийские игры. Спортсмены будут бороться, но победят сильнейш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ервые Олимпийские игры проходили в Древней Греции. Атлетов, которые участвовали в соревнованиях называли олимпиониками. Состязались они только в пяти видах сп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но, что во время проведения соревнований на территории всей страны прекращались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 нетерпением жду приближение Олимпиады и надеюсь на победу нашей сборной. Особенно я желаю победы своим землякам, мордовским спортсменам, которые будут участвовать в соревнования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298764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Ларин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280" y="6372360"/>
            <a:ext cx="4105440" cy="2087280"/>
          </a:xfrm>
          <a:prstGeom prst="wedgeRoundRectCallout">
            <a:avLst>
              <a:gd name="adj1" fmla="val 56842"/>
              <a:gd name="adj2" fmla="val 5821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сем скоро начнутся Олимпийские игры в Сочи. В нашу страну приедет очень много спортсменов из разных стран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е хочется, чтобы наши спортсмены стали победителями во всех видах соревно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и переживать за российскую сборну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12600" y="8532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олова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7720" y="25092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84640" y="39528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3360" y="395280"/>
            <a:ext cx="180972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653000" y="6084720"/>
            <a:ext cx="18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6640" y="684360"/>
            <a:ext cx="5400720" cy="4103640"/>
          </a:xfrm>
          <a:prstGeom prst="wedgeRoundRectCallout">
            <a:avLst>
              <a:gd name="adj1" fmla="val 43240"/>
              <a:gd name="adj2" fmla="val 71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2640" y="900000"/>
            <a:ext cx="5040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56 дней в городе Сочи пройдут зимние Олимпийски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й огонь путешествует по всей России. Он побывал в космосе и на дне океана. И вот, 9 января 2014 года Олимпийский огонь приедет в Саранск. Он пройдёт по улицам нашего города. А в феврале он будет уже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. Я буду болеть за нашу сборную по фигурному катанию. Мне нравится биатлон. Я верю в победу Ольги Зайцевой и Антона Шипул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ордовии в Сочи уже уехало много людей. Это волонтёры, которые будут следить за порядком на Олимпийских играх. В их числе и мой дядя. Он уехал в Сочи ещё в ноябре, а вернётся только в ма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нашим спортсмена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перёд, Росс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3880" y="810108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13000" y="5292720"/>
            <a:ext cx="227016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92640" y="5724360"/>
            <a:ext cx="1908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2280" y="4211640"/>
            <a:ext cx="5400720" cy="3816360"/>
          </a:xfrm>
          <a:prstGeom prst="wedgeRoundRectCallout">
            <a:avLst>
              <a:gd name="adj1" fmla="val 115"/>
              <a:gd name="adj2" fmla="val -68175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000" y="4284720"/>
            <a:ext cx="5040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начнутся зимние Олимпийские игры. Они будут проходить в нашей стране, в городе Сочи. К нам приедут спортсмены со всего мира и будут соревноваться  в силе, ловкости, быстр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являются крупным спортивным событием, где каждый участник может показать то, на что он способен. Ведь каждый спортсмен готовился к этому событию несколько лет. Но представлять свою страну на Олимпиаде – это ещё очень большая ответств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всех видов спорта мне больше всего нравится хоккей. Это интересная и динамичная игра. Хоккей – игра настоящих мужчин. Даже песня есть такая: «Трус не играет в хоккей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удачи всем нашим спортсменам и верю, что они завоюют много золотых медалей! Ведь вся страна будет бол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Россию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3348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рифонов Дани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1863" t="0" r="20211" b="0"/>
          <a:stretch/>
        </p:blipFill>
        <p:spPr>
          <a:xfrm>
            <a:off x="3716280" y="679320"/>
            <a:ext cx="2738520" cy="269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25360" y="971640"/>
            <a:ext cx="187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2280" y="3924360"/>
            <a:ext cx="5400720" cy="4392720"/>
          </a:xfrm>
          <a:prstGeom prst="wedgeRoundRectCallout">
            <a:avLst>
              <a:gd name="adj1" fmla="val -587"/>
              <a:gd name="adj2" fmla="val -6315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5000" y="4140360"/>
            <a:ext cx="504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возникли в Древней Греции в 776 году до нашей эры. Женщины дети и негры не имели право принимать участие в этих соревнованиях. Атлеты соревновались в беге, метании копья и диска, в гонках на колесницах, в фехтовании и бор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игры современности прошли в 1896 году. В программе уже было девять видов спорта Сегодня в программе зимних Олимпийских игр более 15 видов сп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Это праздник спорта для всех спортсменов, участвующих в соревнованиях. Это праздник для всех людей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2014 году в нашей стране будут проводиться зимние Олимпийские игры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ится фигурное катание. Я  обязательно буду болеть за наших фигури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ерю в наших спортсменов и желаю и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38760" y="3203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34129" t="0" r="0" b="0"/>
          <a:stretch/>
        </p:blipFill>
        <p:spPr>
          <a:xfrm>
            <a:off x="692280" y="755640"/>
            <a:ext cx="2670120" cy="2536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9720" y="826920"/>
            <a:ext cx="18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9052" t="0" r="4863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89000" y="118728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5000" y="3564000"/>
            <a:ext cx="51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ти очень любят разгадывать загадки.  Но придумывать загадки самим оказывается тоже очень увлекательное и интересное заня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се наши загадки про зимние виды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20640" y="2566440"/>
            <a:ext cx="540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за игра так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ну, ответь скор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люшками и шай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этот спорт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я еду на конь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шка у меня в ру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бвёл сос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ен гол. Побе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зимний вид спорта очень серьёзный и травмоопасный. Его называют игрой настоящих мужчин. Очень похож на футбол. Только матч проходит на льду, вместо мяча – шайба, а в руках - клю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73360" y="684360"/>
            <a:ext cx="2908440" cy="40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92280" y="324000"/>
            <a:ext cx="21286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2280" y="1043640"/>
            <a:ext cx="56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палки, на ногах доски. Кто скорее придёт к финиш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похож на лыжные гонки. Но в этом виде спорта лыжники должны уметь кататься с горы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ное катание на лыжах.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авин Ге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6280" y="5435640"/>
            <a:ext cx="5871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0640" y="8208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очень популярен в разных странах мира. Спортсмены должны уметь не только хорошо кататься на лыжах, но и отлично стре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342000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ушек по льду ка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ь попасть спешит, пыт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ткой лёд команда тр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в «дом» она пошл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имний вид спорта. Командна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с камнем и щё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7920" y="5940360"/>
            <a:ext cx="3170520" cy="277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508640" y="684360"/>
            <a:ext cx="1885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25360" y="10425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порт и танец, в парах и по одному, мужчины и жен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5360" y="4427640"/>
            <a:ext cx="511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ньках я бе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ь я всех с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ому что у м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еребряных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16280" y="1979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341360" y="6227640"/>
            <a:ext cx="42958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25360" y="1908000"/>
            <a:ext cx="44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годня в номер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6640" y="755640"/>
            <a:ext cx="54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Совсем скоро в нашей стране пройдут зимние Олимпийские Игры в городе Сочи. Весь народ находится в предвкушении этого великого события. Поэтому мы решили этот выпуск нашего журнала целиком посвятить Олимпиаде и зимним видам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2700360"/>
            <a:ext cx="52563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 истори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лисманы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ая надежда Росси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ий Новый год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об Олимпи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рзамае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, Трифонов Даниил, Текарев Тиму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шников Эдуард, Данилова Милена, Красавин Герман, Сенгаева Вероника, Гилева Анастасия, Баландина Дарья, Буянкина Юлия, 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фровки и ребу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ссвор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стков Максим, Тимонькина Арина, 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73360" y="3851280"/>
            <a:ext cx="17798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421000" y="5219640"/>
            <a:ext cx="2089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ЕБУ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81000" y="1908000"/>
          <a:ext cx="3981600" cy="720720"/>
        </p:xfrm>
        <a:graphic>
          <a:graphicData uri="http://schemas.openxmlformats.org/drawingml/2006/table">
            <a:tbl>
              <a:tblPr/>
              <a:tblGrid>
                <a:gridCol w="443160"/>
                <a:gridCol w="441360"/>
                <a:gridCol w="442800"/>
                <a:gridCol w="441360"/>
                <a:gridCol w="442800"/>
                <a:gridCol w="441360"/>
                <a:gridCol w="442800"/>
                <a:gridCol w="443160"/>
                <a:gridCol w="4428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265760" y="1403280"/>
            <a:ext cx="24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е слова зашифров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70120" y="363528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юч к отгад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25360" y="2771640"/>
          <a:ext cx="309564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3160"/>
                <a:gridCol w="4410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46760" y="395280"/>
            <a:ext cx="19112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516640" y="7164360"/>
            <a:ext cx="1096920" cy="180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4788000"/>
            <a:ext cx="1790640" cy="19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413000" y="4067280"/>
          <a:ext cx="442440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2800"/>
                <a:gridCol w="441360"/>
                <a:gridCol w="443160"/>
                <a:gridCol w="442800"/>
                <a:gridCol w="4428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13000" y="6084720"/>
            <a:ext cx="432108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557360" y="6156360"/>
            <a:ext cx="1008000" cy="725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65000" y="6156360"/>
            <a:ext cx="36036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37000" y="6372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0280" y="6372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076640" y="6156360"/>
            <a:ext cx="104940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445000" y="6156360"/>
            <a:ext cx="14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29360" y="615636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9000" y="68436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ШИФРОВ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8640" y="7164360"/>
            <a:ext cx="381636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916280" y="7236000"/>
            <a:ext cx="896760" cy="69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14172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2428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13360" y="745164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357720" y="7451640"/>
            <a:ext cx="50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4005360" y="7236000"/>
            <a:ext cx="9111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7681" r="0" b="16763"/>
          <a:stretch/>
        </p:blipFill>
        <p:spPr>
          <a:xfrm>
            <a:off x="0" y="0"/>
            <a:ext cx="6858000" cy="2801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773360" y="90000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РОССВОР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97000" y="2411280"/>
          <a:ext cx="4572000" cy="328608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840"/>
                <a:gridCol w="326880"/>
                <a:gridCol w="327240"/>
                <a:gridCol w="326880"/>
                <a:gridCol w="325440"/>
                <a:gridCol w="326880"/>
                <a:gridCol w="327240"/>
                <a:gridCol w="325440"/>
                <a:gridCol w="326880"/>
                <a:gridCol w="327240"/>
                <a:gridCol w="32688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81000" y="16923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29817"/>
          <a:stretch/>
        </p:blipFill>
        <p:spPr>
          <a:xfrm>
            <a:off x="0" y="0"/>
            <a:ext cx="6858000" cy="262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16120" y="4375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92280" y="2987640"/>
          <a:ext cx="5548320" cy="249552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480"/>
                <a:gridCol w="327240"/>
                <a:gridCol w="326880"/>
                <a:gridCol w="327240"/>
                <a:gridCol w="325440"/>
                <a:gridCol w="326880"/>
                <a:gridCol w="326880"/>
                <a:gridCol w="325440"/>
                <a:gridCol w="327240"/>
                <a:gridCol w="326880"/>
                <a:gridCol w="327240"/>
                <a:gridCol w="325440"/>
                <a:gridCol w="325440"/>
                <a:gridCol w="32544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80280" y="25560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97000" y="5940360"/>
            <a:ext cx="489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зимних Олимпийских игр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проведения Олимпиады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Паралимпийских игр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 лыжн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ники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14810" r="0" b="8147"/>
          <a:stretch/>
        </p:blipFill>
        <p:spPr>
          <a:xfrm>
            <a:off x="0" y="0"/>
            <a:ext cx="685800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33360" y="684360"/>
          <a:ext cx="6087960" cy="5146560"/>
        </p:xfrm>
        <a:graphic>
          <a:graphicData uri="http://schemas.openxmlformats.org/drawingml/2006/table">
            <a:tbl>
              <a:tblPr/>
              <a:tblGrid>
                <a:gridCol w="471600"/>
                <a:gridCol w="326880"/>
                <a:gridCol w="393840"/>
                <a:gridCol w="393480"/>
                <a:gridCol w="258840"/>
                <a:gridCol w="327240"/>
                <a:gridCol w="326880"/>
                <a:gridCol w="326880"/>
                <a:gridCol w="325440"/>
                <a:gridCol w="327240"/>
                <a:gridCol w="326880"/>
                <a:gridCol w="325440"/>
                <a:gridCol w="327240"/>
                <a:gridCol w="326880"/>
                <a:gridCol w="365040"/>
                <a:gridCol w="250920"/>
                <a:gridCol w="361800"/>
                <a:gridCol w="32544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989000" y="4788000"/>
            <a:ext cx="4635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вертик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 – хозяйка Олимпийских игр в 2014 г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 спорта, в котором две команды стараются поразить ворота противника, используя клюшки и шай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ивное соревнование за звание сильнейшего в ми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виз Олимпийских игр: «Быстрее, выше, 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-родина современного хокк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2280" y="6948360"/>
            <a:ext cx="5905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горизонта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Родина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Оружие биатлон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Лыжная гонка со стрельбой из вин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Стиль движения на лыжах, при котором лыжник сам выбирает способ передвижения на диста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6840" y="395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5000" y="1619280"/>
            <a:ext cx="547236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Первые Олимпийские иг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оялись в 776 году до нашей эры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в Древней Греции в городе Олим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ем временам Олимпийские игры были не просто спортивными соревнованиями, а очень важным религиозным обрядом, который посвящался главному богу греков Зев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о время Олимпийских игр на всей территории Греции объявлялось священное перемирие. Бывшие враги могли состязаться за право быть самыми сильными, быстрыми, ловк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 античных Олимпийских играх соревновались и были зрителями  только мужчины. Женщины на эти игры вообще не допуск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73360" y="900000"/>
            <a:ext cx="38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истории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6640" y="4932360"/>
            <a:ext cx="5276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0640" y="68436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и до нашей эры Олимпийские игры потеряли свое значение, а в 394 году уже нашей эры  декретом римского императора Феодосия I Олимпийские игры были вообще запрещ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1835280"/>
            <a:ext cx="583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ова Олимпийские игры стали проводиться только с апреля 1896 года. Теперь они проводились в Афи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нно в этом городе состоялась первая Олимпиада, с которой начались привычные нам соревн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йчас Олимпийские игры - это международные спортивные соревнования, которые происходят каждые четыре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делятся на летные и зимние. А организовывает их Международный олимпийский комит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73360" y="4211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0640" y="680400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стати, современные Олимпийские игры имеют эмблему, которая состоит из пяти сцепленных между собой колец. Ее разработал в 1913 году основатель современных Олимпийских Игр баро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5000" y="2340000"/>
            <a:ext cx="54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ая Олимпиада имеет свой талисман. Талисманами XXI зимних Олимпийских Игр 2014 года, которые  пройдут в России в Сочи с 7 по 23 февраля, будут Леопард, Белый мишка и Зай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7920" y="1116000"/>
            <a:ext cx="504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алисман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лимпийских игр в Соч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5000" y="6877080"/>
            <a:ext cx="53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ссия олимпийского талисмана — отразить дух страны-хозяйки игр, принести удачу спортсменам и накалить праздничн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тмосфе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7920" y="3780000"/>
            <a:ext cx="532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634" t="0" r="34870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0280" y="1623600"/>
            <a:ext cx="453708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Грандиозное событ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коро в Сочи случи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Зимняя олимпиад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роводи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отни спортсме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ыстроятся в ря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еликолепны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ара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Российские спортсме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бедить всех смогу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 этом талисма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чень им помогу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гуар, заяц и белый медвед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могут им всех одоле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в волейбол люблю игр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портсменом тоже хочу ст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обожаю побежд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изы, награды получ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Наступит врем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обегут  г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 Корее Южной на олимпиа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зойдет моя спортивная звез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Тукузов Кирил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6640" y="97164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е надежды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6280" y="2349720"/>
            <a:ext cx="28512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Новый год!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лимпиаду нам несё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Собрались у нашей ё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алисманы  в хо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Заяц, барс и медвежо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чень любят зимний 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И желают всем поб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В Олимпийский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имонькина 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49360" y="147636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й Новый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13000" y="5580000"/>
            <a:ext cx="190476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622764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89000" y="6516720"/>
            <a:ext cx="12290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000" y="1835280"/>
            <a:ext cx="5329440" cy="3024000"/>
          </a:xfrm>
          <a:prstGeom prst="wedgeRoundRectCallout">
            <a:avLst>
              <a:gd name="adj1" fmla="val 42226"/>
              <a:gd name="adj2" fmla="val 72888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7920" y="1759680"/>
            <a:ext cx="5257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е Олимпийские игры будут проходить в нашей стране впервые. Их открытие состоится 7 февраля 2014 года в городе Сочи. На Олимпиаду приедут лучшие спортсмены из разных стр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самый любимый зимний вид спорта — биатлон. Биатлонисты сильные, ловкие и умелые. У них сложная задача, потому что им нужно быстро бежать на лыжах и метко стрелять. Ещё мне нравится фигурное катание, потому что это очень краси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за Россию и думаю, что у нас будет много бронзовых, серебряных и золотых медалей. Я желаю чтобы мы победили. Все страны хороши, но наша лучш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84240" y="8101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йник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68280" y="900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об Олимпиад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25360" y="572436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68640" y="658800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33360" y="500364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08640" y="5580000"/>
            <a:ext cx="1938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6280" y="6156360"/>
            <a:ext cx="4825800" cy="2663640"/>
          </a:xfrm>
          <a:prstGeom prst="wedgeRoundRectCallout">
            <a:avLst>
              <a:gd name="adj1" fmla="val -36546"/>
              <a:gd name="adj2" fmla="val -6388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начнутся олимпийские игры 2014 года. Они будут проходить в нашей стране. Я их давно жду. Но начнутся они только в февр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вид спорта –  хоккей. Это очень сложная и серьёзная игра. У меня есть любимая  хоккейная команда – Ак Барс из города Каз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мечтаю  попасть в Сочи на матч с участием российской сборной и поболеть за нашу страну, за наш хокк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м нашим спортсменам, особенно хоккеистам, я желаю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515484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684864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10000" y="6155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имонь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468360"/>
            <a:ext cx="5185080" cy="2951280"/>
          </a:xfrm>
          <a:prstGeom prst="wedgeRoundRectCallout">
            <a:avLst>
              <a:gd name="adj1" fmla="val 48407"/>
              <a:gd name="adj2" fmla="val 6441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– международное спортивное мероприятие . В 2014 году олимпиада будет проходить на территории нашей страны  в городе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ревнования пройдут по зимним видам спорта. Сотни спортсменов готовятся к стартам. Все они мечтают взойти на Олимпийских пьедестал. Но победят сильнейш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сей семьёй будем следить за играми и активно болеть за российских спортсменов. Мама и бабушка любят и ждут фигурное катание. А мне нравится биатл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елаю нашим спортсменам только по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0280" y="971640"/>
            <a:ext cx="1228680" cy="202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492280" y="378000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49360" y="3492360"/>
            <a:ext cx="1719000" cy="201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724280" y="3924360"/>
            <a:ext cx="174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6:47:38Z</dcterms:created>
  <dc:creator>User</dc:creator>
  <dc:description/>
  <dc:language>en-US</dc:language>
  <cp:lastModifiedBy>User</cp:lastModifiedBy>
  <dcterms:modified xsi:type="dcterms:W3CDTF">2014-02-07T04:37:38Z</dcterms:modified>
  <cp:revision>17</cp:revision>
  <dc:subject/>
  <dc:title>Слайд 1</dc:title>
</cp:coreProperties>
</file>