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3117-72F8-420F-8A8F-6DDDFD1D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E81D-6043-41C2-BC38-4B4A1B0B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C3D-0B37-480C-BBD2-BC7CB060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AFE-5104-44E5-A685-7BE89C9A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BB6-551E-4061-A020-420072C5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EB99-AF72-4934-B5F3-2127D802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B98-DCA5-4257-A31C-C70940B3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AE48-9A5C-4A48-B4B5-41B7FA70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10B1-589F-4436-8DCF-7890D7FE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7E57-2315-4E6C-B009-BD14E218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C3ED-AE6A-49C9-968A-D768C43C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FB3-A93D-45AB-A497-60B4A499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5D66-B3A9-4F34-8E02-6761F6A28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3972" t="0" r="29923" b="0"/>
          <a:stretch/>
        </p:blipFill>
        <p:spPr>
          <a:xfrm>
            <a:off x="0" y="0"/>
            <a:ext cx="684036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07920" y="539640"/>
            <a:ext cx="51436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«Средняя общеобразовательная школа № 27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г. о. Сара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Литературно-художественный журн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№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i="1" lang="en-US" sz="4800" spc="-1" strike="noStrike">
                <a:solidFill>
                  <a:srgbClr val="333399"/>
                </a:solidFill>
                <a:latin typeface="Times New Roman"/>
              </a:rPr>
              <a:t>«Родничо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33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07560" y="83628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012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640" y="0"/>
            <a:ext cx="6840360" cy="946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818720" y="3630960"/>
            <a:ext cx="3843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плодисменты, музыка, цв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екорации невиданной кра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тист стоит на сцене, рампы св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крики «Браво!», и поклон в отв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зритель, затаив дыханье, ждё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новь и вновь сюда ещё прид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дальше будет и каков фина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занавес открыт, ликует з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атр – это маленькая жизнь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нова «Браво» улетает ввы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десь есть стремленья, радости, меч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ё не напрасно, понимаешь т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ракевич Ар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313200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еа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балет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65000" y="1261800"/>
            <a:ext cx="5545440" cy="70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встреча с театром у каждого человека происходит по- своему. Кто-то впервые попадает в театр, будучи совсем маленьким ребёнком. Кто-то уже взрослым человеком. Ясно одно, если попал в этот удивительный мир, ты будешь возвращаться сюда снова и снова… И не важно, сколько тебе 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помню, когда я впервые переступил порог театра. Наверное, я тогда был слишком маленький. И это был, наверняка, кукольный спектакль. С тех пор я был на спектаклях в национальном театре, в драматическом, в музыкальном. Но у меня была мечта. Мне всегда хотелось сходить на балет, где движения под музыку заменяют сл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о балете я узнал на уроках сольфеджио в музыкальной школе, когда мне было 5 лет. Я познакомился с разными композиторами и слушал музыку, написанную специально для балетных постановок. Балет меня поражал и захватывал. Я всегда хотел увидеть его воочию. Прожужжал все уши родителям: «Хочу на балет!»  Мама говорила, что ещё очень рано, что я вряд ли что-то пойму. Но я не унимал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моя мечта осуществилась. К тому времени у нас в городе построили новый театр Оперы и Балета. И мама купила мне билет на балет «Щелкунчик». Я очень обрадовался и стал считать дни до спектакл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 долгожданный удивительный день – день моей первой встречи с новым театром и балетом. Я даже не пошел в школу, потому что спектакль начинался в 11.00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81000" y="611280"/>
            <a:ext cx="5311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660033"/>
                </a:solidFill>
                <a:latin typeface="Times New Roman"/>
              </a:rPr>
              <a:t>Моя первая встреча с театром 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660033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балет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20640" y="830160"/>
            <a:ext cx="5630760" cy="67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я подхожу к зданию  театра. Снаружи он показался мне большим и величественным. Внутри  тоже было очень красиво.  Я с восхищением разглядывал все вокруг. Хрустальную многоярусную люстру, бархатный тяжелый занавес на сцене, ряды обтянутых красивой тканью кресе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о зал заполнился зрителями. Раздался первый звонок, затем второй, третий. Свет погас, медленно раздвинулся занавес и началось действие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абыл обо всем на свете, утонул в прекрасной музыке. Меня сразу удивило увиденное. В спектакле участвовали танцоры дети. Кто-то был старше меня, кто-то младше. Они так красиво двигались! На них были такие красивые костюмы! Мне тоже захотелось научиться так двигаться и говорить «движениями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то самое главное, я понимал все без слов! Вместе с персонажами спектакля я смеялся и плакал, грустил  и радовал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езаметно пролетело время! Спектакль закончился и все маленькие актеры вышли на сцену. Вокруг царило радостное оживление, раздавались крики: "Браво", «Бис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аться домой совсем не хотелось. Выйдя из здания театра, я уже мечтал скорее вернуться сюда – в этот таинственный и захватывающий мир искус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27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fedadd"/>
              </a:gs>
              <a:gs pos="50000">
                <a:srgbClr val="ffffff"/>
              </a:gs>
              <a:gs pos="100000">
                <a:srgbClr val="feda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6640" y="1329120"/>
            <a:ext cx="51116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еатр в моей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й первый визит в театр состоялся, когда мне было всего четыре годика. Тогда я ходил на новогоднее представление в театр кукол. Мне очень понравило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тех пор я ещё не раз бывал в театре. С мамой, крёстной, с класс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театре мне очень нравится. Красивый зал, много музыки, ярких красок. Нравится игра актё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мое яркое впечатление от увиденного, у меня осталось от спектакля «Золушка», который мы  смотрели всем классом в театре Оперы и Бал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моей жизни театр занимает не самое главное место. Прожить без театра можно, но неинтересно и скуч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хотел бы посещать театр чащ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айников Ег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6640" y="5504760"/>
            <a:ext cx="51832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гда это было, не помню. Я тогда был совсем маленький. Мы всей семьёй поехали в театр кукол «Крошка». Мама с папой мне много рассказывали о театре кукол и том, как там интересно. Я так мечтал туда попас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вот мы приехали, Взяли билеты на первый рад, сели и ждё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т поднялся занавес, зазвучала красивая музыка и начался спектак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Я весь переместился в сказку. Всю постановку я просмотрел на одном дыхании. Мне очень понравилос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том я ещё не раз бывал в театрах. Но свой первый визит в театр я запомню навсег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лков Витал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724280" y="250920"/>
            <a:ext cx="1773360" cy="12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3972" t="0" r="29923" b="0"/>
          <a:stretch/>
        </p:blipFill>
        <p:spPr>
          <a:xfrm>
            <a:off x="0" y="0"/>
            <a:ext cx="6840360" cy="914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844640" y="1258920"/>
            <a:ext cx="38163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Monotype Corsiva"/>
              </a:rPr>
              <a:t>Сегодня в номер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Monotype Corsiva"/>
              <a:ea typeface="Monotype Corsiva"/>
            </a:endParaRPr>
          </a:p>
        </p:txBody>
      </p:sp>
      <p:sp>
        <p:nvSpPr>
          <p:cNvPr id="46" name=""/>
          <p:cNvSpPr/>
          <p:nvPr/>
        </p:nvSpPr>
        <p:spPr>
          <a:xfrm>
            <a:off x="1773360" y="2124000"/>
            <a:ext cx="3816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Моя любимая игру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кузов Кирил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лева Анаста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нгаева Веро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хов Дмит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Мой любимый школьный предм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нгаева Вероника, Тимонькина Арина, Прахов Дмит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Щемрова Дарья, Дурнайкина Виктория, Туракевич Артур, Волков Витал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Times New Roman"/>
              </a:rPr>
              <a:t>Волшебный мир теа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ракевич Артур «Теат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имонькина Арина «Что такое теат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укузов Кирилл «Моя первая встреча с театро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йников Егор «Театр в моей жизн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ков Виталий «Мой первый визит в теат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92920" cy="10333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060640" y="3199680"/>
            <a:ext cx="32414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еня есть игрушка. Это обезьяна по имени Клара. Её мне подарили, когда я только родила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очень большая, мягкая, красивая и пушистая. Глаза у Клары Большие и тёмные, совсем как живые. Но у неё очень интересный, не как у люд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вся тёмно-коричневая, а ладошки и животик светл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ней очнь интересно играть в школу. Я её очень люблю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илева Анастас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276640" y="1908000"/>
            <a:ext cx="309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Monotype Corsiva"/>
              </a:rPr>
              <a:t>Моя любима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Monotype Corsiva"/>
              </a:rPr>
              <a:t>игру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92920" cy="1033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33720" y="2157840"/>
            <a:ext cx="3240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я был маленьким, у меня было много мягких игрушек. Самая любимая – тиг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огромный. Я мог спокойно сидеть или лежать на его спине. Когда смотришь на него издалека, кажется, что он живой. Становится страшно. Хотя на самом деле мой тигр плюшев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тигр оранжевый, с чёрными полосками. У него белая грудка, зелёные глаза и длинные  чёрные у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очень люблю своего тиг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кузов Кирил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92920" cy="10333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89000" y="2266920"/>
            <a:ext cx="3024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еня есть игрушка по имени Минни. Это серенькая мышка. Мне её подарили мама с папой на Новый год, когда мне было два год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ини серо-белые ушки, фиолетовые глазки и персиковые тени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ета моя мышка в жёлтое платье с цветочками. На голове розовый бантик, на ногах – розовые балетки. Мини – балер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раннего детства мышка Мини – моя самая любимая игрушка. Я её очень любл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нгаева Веро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92920" cy="1033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133720" y="1860480"/>
            <a:ext cx="3168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я любимая игрушка - тигрёнок. Он очень мягкий и приятный. Весь оранжевый, в чёрную полоску, только лапы белые. У тигрёнка удивительно добрые глаза. Мне подарил его папа на Новый г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 тигра есть волшебная кнопка. Если нажать на неё, тигрёнок споёт вам замечательную песенку. А если надоест, его тут же можно выключить (это особенно нравиться моей мам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огда я был маленький, тигрёнок помогал мне есть кашу. Когда я болел, он всегда был рядом и не давал мне скуч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грая с ним, у меня всегда улучшалось настро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ейчас я уже не играю в такие игрушки, но тигрёнка всё равно люблю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хов Дмит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38675" t="0" r="0" b="0"/>
          <a:stretch/>
        </p:blipFill>
        <p:spPr>
          <a:xfrm>
            <a:off x="0" y="0"/>
            <a:ext cx="6800760" cy="9144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81000" y="1613160"/>
            <a:ext cx="540072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любимый предмет – музыка. На этом уроке мы изучаем разную музыку, знакомимся с разными композиторами, с разными музыкальными инструментами. На прошлом уроке, например, нас знакомили с театральным искусством: балетом, опереттой, мюзикл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зыка развивает слух, учит красиво петь, слышать звуки. Но самое главное, музыка учит восторгаться прекрасным. Вот поэтому я и люблю этот предм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нгаева Веро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е нравятся все школьные предметы, Но больше всего я люблю мордовский язы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язык моей родины, Мордовии. Он очень красивый. Мне хочется поскорее выучить его. Было бы здорово, приехав в эрзянскую деревню, разговаривать с её жителями на мордовском языке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е всего из школьных предметов мне нравится чтение. На уроках чтения мы читаем интересные рассказы, стихи и сказки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тая, человек узнаёт много нового и интересного. Кроме этого, на уроках чтения  мы учимся правильно и красиво  говор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хов Дмитр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0640" y="684360"/>
            <a:ext cx="56880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Monotype Corsiva"/>
              </a:rPr>
              <a:t>Мой любимый школьный предм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8675" t="0" r="0" b="0"/>
          <a:stretch/>
        </p:blipFill>
        <p:spPr>
          <a:xfrm>
            <a:off x="0" y="0"/>
            <a:ext cx="6800760" cy="914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36640" y="748440"/>
            <a:ext cx="525636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любимый предмет - математика. На уроках математики  мы решаем примеры, задачи, изучаем геометрические фигуры. Математика помогает нам решать жизненные  за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будущем я хочу выбрать профессию, связанную с математи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Щемеров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любимый предмет – изобразительное искусство. Он мне нравится потому, что очень люблю рисовать. На уроках изобразительного искусства мы учимся не только рисовать, но и любоваться картинами и ценить красоту окружающего м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рнайкина Вик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е очень нравится английский язык. На этом уроке всегда интересно, хочется узнавать всё больше нового. Я всегда с нетерпением жду начало уро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мире много людей, которые говорят по английски. Я тоже хочу знать этот язы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ракевич Ар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любимый школьный предмет – английский язык. На уроках мы изучаем новые сл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к всегда проходит в форме иг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глийский язык  мне пригодиться в будущем для работы и общения с иностранц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лков Витал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gradFill rotWithShape="0">
            <a:gsLst>
              <a:gs pos="0">
                <a:srgbClr val="ffd9f0"/>
              </a:gs>
              <a:gs pos="50000">
                <a:srgbClr val="ffffff"/>
              </a:gs>
              <a:gs pos="100000">
                <a:srgbClr val="ffd9f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124000"/>
            <a:ext cx="6858000" cy="4564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20640" y="900000"/>
            <a:ext cx="56008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Волшебный мир театра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57720" y="3492360"/>
            <a:ext cx="287964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еатр – это что-то величественное. Огромные люстры, много света, красивый занавес. Всё как в сказочном замке. Я, как маленькая принцесса, иду по лестнице мимо огромных зерка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вонок. Ещё звонок. И начинается сказка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17:15:55Z</dcterms:created>
  <dc:creator>User</dc:creator>
  <dc:description/>
  <dc:language>en-US</dc:language>
  <cp:lastModifiedBy>User</cp:lastModifiedBy>
  <dcterms:modified xsi:type="dcterms:W3CDTF">2013-04-28T13:14:39Z</dcterms:modified>
  <cp:revision>9</cp:revision>
  <dc:subject/>
  <dc:title>Слайд 1</dc:title>
</cp:coreProperties>
</file>