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3CE-D22F-4E08-89C3-DB8FEC68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AD2-C35D-4CD4-8E5A-7B7946DE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C79-DEB5-47B6-9362-F3E04287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BC6-E202-4D62-A5AF-DD3C8E04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A5E-911D-4334-9B92-47492190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1C6-EAC6-4ED1-B00F-6A65F16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2FF-7920-4960-957D-9D784943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FFE-F6C3-4E1E-8193-F4C957EA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925-AAEE-4CEB-BD9A-CDBB90FF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E61-4A14-4D01-AB2B-022593BF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8D7-4FFC-4D98-8B6A-76BECC1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E4B-4A22-486F-94E9-25CDE78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92D7-32CC-4ACC-9A7F-AEB7D2676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972" t="0" r="29923" b="0"/>
          <a:stretch/>
        </p:blipFill>
        <p:spPr>
          <a:xfrm>
            <a:off x="0" y="0"/>
            <a:ext cx="684036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7920" y="539640"/>
            <a:ext cx="51436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«Средняя общеобразовательная школа № 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г. о. Сар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Литературно-художественный жур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№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«Роднич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7560" y="8362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6840360" cy="946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8720" y="3630960"/>
            <a:ext cx="3843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лодисменты, музыка,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корации невиданной кра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тист стоит на сцене, рампы с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ики «Браво!», и поклон в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ритель, затаив дыханье, жд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новь и вновь сюда ещё прид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альше будет и каков фина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занавес открыт, ликует з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 – это маленькая жизн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нова «Браво» улетает ввы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есть стремленья, радости, ме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ё не напрасно, понимаешь 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3132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алет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5000" y="1261800"/>
            <a:ext cx="554544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встреча с театром у каждого человека происходит по- своему. Кто-то впервые попадает в театр, будучи совсем маленьким ребёнком. Кто-то уже взрослым человеком. Ясно одно, если попал в этот удивительный мир, ты будешь возвращаться сюда снова и снова… И не важно, сколько тебе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омню, когда я впервые переступил порог театра. Наверное, я тогда был слишком маленький. И это был, наверняка, кукольный спектакль. С тех пор я был на спектаклях в национальном театре, в драматическом, в музыкальном. Но у меня была мечта. Мне всегда хотелось сходить на балет, где движения под музыку заменяют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о балете я узнал на уроках сольфеджио в музыкальной школе, когда мне было 5 лет. Я познакомился с разными композиторами и слушал музыку, написанную специально для балетных постановок. Балет меня поражал и захватывал. Я всегда хотел увидеть его воочию. Прожужжал все уши родителям: «Хочу на балет!»  Мама говорила, что ещё очень рано, что я вряд ли что-то пойму. Но я не уним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оя мечта осуществилась. К тому времени у нас в городе построили новый театр Оперы и Балета. И мама купила мне билет на балет «Щелкунчик». Я очень обрадовался и стал считать дни до спектак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 долгожданный удивительный день – день моей первой встречи с новым театром и балетом. Я даже не пошел в школу, потому что спектакль начинался в 11.0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81000" y="611280"/>
            <a:ext cx="5311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Моя первая встреча с театром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балет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0640" y="830160"/>
            <a:ext cx="56307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я подхожу к зданию  театра. Снаружи он показался мне большим и величественным. Внутри  тоже было очень красиво.  Я с восхищением разглядывал все вокруг. Хрустальную многоярусную люстру, бархатный тяжелый занавес на сцене, ряды обтянутых красивой тканью крес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зал заполнился зрителями. Раздался первый звонок, затем второй, третий. Свет погас, медленно раздвинулся занавес и началось действие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был обо всем на свете, утонул в прекрасной музыке. Меня сразу удивило увиденное. В спектакле участвовали танцоры дети. Кто-то был старше меня, кто-то младше. Они так красиво двигались! На них были такие красивые костюмы! Мне тоже захотелось научиться так двигаться и говорить «движениям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 самое главное, я понимал все без слов! Вместе с персонажами спектакля я смеялся и плакал, грустил  и радовал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заметно пролетело время! Спектакль закончился и все маленькие актеры вышли на сцену. Вокруг царило радостное оживление, раздавались крики: "Браво", «Бис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ться домой совсем не хотелось. Выйдя из здания театра, я уже мечтал скорее вернуться сюда – в этот таинственный и захватывающий мир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fedadd"/>
              </a:gs>
              <a:gs pos="50000">
                <a:srgbClr val="ffffff"/>
              </a:gs>
              <a:gs pos="100000">
                <a:srgbClr val="feda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6640" y="1329120"/>
            <a:ext cx="51116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атр в мое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первый визит в театр состоялся, когда мне было всего четыре годика. Тогда я ходил на новогоднее представление в театр кукол. Мне очень понрав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х пор я ещё не раз бывал в театре. С мамой, крёстной, с клас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еатре мне очень нравится. Красивый зал, много музыки, ярких красок. Нравится игра актё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е яркое впечатление от увиденного, у меня осталось от спектакля «Золушка», который мы  смотрели всем классом в театре Оперы и Ба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моей жизни театр занимает не самое главное место. Прожить без театра можно, но неинтересно и скуч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хотел бы посещать театр ча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6640" y="5504760"/>
            <a:ext cx="5183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это было, не помню. Я тогда был совсем маленький. Мы всей семьёй поехали в театр кукол «Крошка». Мама с папой мне много рассказывали о театре кукол и том, как там интересно. Я так мечтал туда попас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от мы приехали, Взяли билеты на первый рад, сели и жд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поднялся занавес, зазвучала красивая музыка и начался спектак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весь переместился в сказку. Всю постановку я просмотрел на одном дыхании. Мне очень понравило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ом я ещё не раз бывал в театрах. Но свой первый визит в театр я запомню навсег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50920"/>
            <a:ext cx="1773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972" t="0" r="29923" b="0"/>
          <a:stretch/>
        </p:blipFill>
        <p:spPr>
          <a:xfrm>
            <a:off x="0" y="0"/>
            <a:ext cx="684036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44640" y="1258920"/>
            <a:ext cx="3816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2124000"/>
            <a:ext cx="3816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оя любимая игр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кузов Кири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лева Анаста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гаева Веро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хов 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ой любимый школьный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гаева Вероника, Тимонькина Арина, Прахов 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Щемрова Дарья, Дурнайкина Виктория, Туракевич Артур, Волков Вита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Волшебный мир теа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ракевич Артур «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монькина Арина «Что такое 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кузов Кирилл «Моя первая встреча с театр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йников Егор «Театр в моей жиз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 Виталий «Мой первый визит в 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60640" y="3199680"/>
            <a:ext cx="3241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игрушка. Это обезьяна по имени Клара. Её мне подарили, когда я только род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чень большая, мягкая, красивая и пушистая. Глаза у Клары Большие и тёмные, совсем как живые. Но у неё очень интересный, не как у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вся тёмно-коричневая, а ладошки и животик светл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ей очнь интересно играть в школу. Я её очень любл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лева Анаст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6640" y="190800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Моя любим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игр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2157840"/>
            <a:ext cx="3240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я был маленьким, у меня было много мягких игрушек. Самая любимая – т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омный. Я мог спокойно сидеть или лежать на его спине. Когда смотришь на него издалека, кажется, что он живой. Становится страшно. Хотя на самом деле мой тигр плюше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тигр оранжевый, с чёрными полосками. У него белая грудка, зелёные глаза и длинные  чёрные у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люблю своего тиг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89000" y="2266920"/>
            <a:ext cx="3024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игрушка по имени Минни. Это серенькая мышка. Мне её подарили мама с папой на Новый год, когда мне было два год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ини серо-белые ушки, фиолетовые глазки и персиковые тени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ета моя мышка в жёлтое платье с цветочками. На голове розовый бантик, на ногах – розовые балетки. Мини – бале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раннего детства мышка Мини – моя самая любимая игрушка. Я её очень любл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1860480"/>
            <a:ext cx="316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я любимая игрушка - тигрёнок. Он очень мягкий и приятный. Весь оранжевый, в чёрную полоску, только лапы белые. У тигрёнка удивительно добрые глаза. Мне подарил его папа на Новый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тигра есть волшебная кнопка. Если нажать на неё, тигрёнок споёт вам замечательную песенку. А если надоест, его тут же можно выключить (это особенно нравиться моей мам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я был маленький, тигрёнок помогал мне есть кашу. Когда я болел, он всегда был рядом и не давал мне скуч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ая с ним, у меня всегда улучшалось настро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йчас я уже не играю в такие игрушки, но тигрёнка всё равно любл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8675" t="0" r="0" b="0"/>
          <a:stretch/>
        </p:blipFill>
        <p:spPr>
          <a:xfrm>
            <a:off x="0" y="0"/>
            <a:ext cx="680076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81000" y="1613160"/>
            <a:ext cx="5400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– музыка. На этом уроке мы изучаем разную музыку, знакомимся с разными композиторами, с разными музыкальными инструментами. На прошлом уроке, например, нас знакомили с театральным искусством: балетом, опереттой, мюзик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 развивает слух, учит красиво петь, слышать звуки. Но самое главное, музыка учит восторгаться прекрасным. Вот поэтому я и люблю этот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нравятся все школьные предметы, Но больше всего я люблю мордовский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язык моей родины, Мордовии. Он очень красивый. Мне хочется поскорее выучить его. Было бы здорово, приехав в эрзянскую деревню, разговаривать с её жителями на мордовском язык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е всего из школьных предметов мне нравится чтение. На уроках чтения мы читаем интересные рассказы, стихи и сказки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тая, человек узнаёт много нового и интересного. Кроме этого, на уроках чтения  мы учимся правильно и красиво  говор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0640" y="684360"/>
            <a:ext cx="5688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Мой любимый школьный предм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8675" t="0" r="0" b="0"/>
          <a:stretch/>
        </p:blipFill>
        <p:spPr>
          <a:xfrm>
            <a:off x="0" y="0"/>
            <a:ext cx="6800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6640" y="748440"/>
            <a:ext cx="5256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- математика. На уроках математики  мы решаем примеры, задачи, изучаем геометрические фигуры. Математика помогает нам решать жизненные 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удущем я хочу выбрать профессию, связанную с матема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– изобразительное искусство. Он мне нравится потому, что очень люблю рисовать. На уроках изобразительного искусства мы учимся не только рисовать, но и любоваться картинами и ценить красоту окружающе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очень нравится английский язык. На этом уроке всегда интересно, хочется узнавать всё больше нового. Я всегда с нетерпением жду начало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 много людей, которые говорят по английски. Я тоже хочу знать этот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школьный предмет – английский язык. На уроках мы изучаем новы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всегда проходит в форм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й язык  мне пригодиться в будущем для работы и общения с иностран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ffd9f0"/>
              </a:gs>
              <a:gs pos="50000">
                <a:srgbClr val="ffffff"/>
              </a:gs>
              <a:gs pos="100000">
                <a:srgbClr val="ffd9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68580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20640" y="900000"/>
            <a:ext cx="560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лшебный мир театр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7720" y="3492360"/>
            <a:ext cx="28796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атр – это что-то величественное. Огромные люстры, много света, красивый занавес. Всё как в сказочном замке. Я, как маленькая принцесса, иду по лестнице мимо огромных зерк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ок. Ещё звонок. И начинается сказка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7:15:55Z</dcterms:created>
  <dc:creator>User</dc:creator>
  <dc:description/>
  <dc:language>en-US</dc:language>
  <cp:lastModifiedBy>User</cp:lastModifiedBy>
  <dcterms:modified xsi:type="dcterms:W3CDTF">2013-04-28T13:14:39Z</dcterms:modified>
  <cp:revision>9</cp:revision>
  <dc:subject/>
  <dc:title>Слайд 1</dc:title>
</cp:coreProperties>
</file>