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7D46-4E89-4549-A69F-92F782F81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B941-D0E0-4723-B1D1-C8A3A2F0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C658-7F7F-4D75-8EC9-959F598AF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87AF-B32E-480A-87CB-FBCEBAA29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CFC3-DAB6-4C71-BB21-E68B6685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7380-7949-4E52-8F02-0CA85C21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FD8C-936B-49A1-AA71-2E253F02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BBCA-382F-46E0-8D38-CD5CBB21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2A29-FFE8-44B0-87AD-C3EFF473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4BFF-599C-424D-A109-18BA210C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6E39-4B52-47FF-BFCE-63BE57A7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FEE5-7713-419B-9231-085C3D41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70DC-A1EB-4850-8456-9C8417B7B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3972" t="0" r="29923" b="0"/>
          <a:stretch/>
        </p:blipFill>
        <p:spPr>
          <a:xfrm>
            <a:off x="0" y="0"/>
            <a:ext cx="684036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07920" y="539640"/>
            <a:ext cx="514368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Муниципальное общеобразовательное учрежд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«Средняя общеобразовательная школа № 27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г. о. Саран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Литературно-художественный журна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№ </a:t>
            </a: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«Родничок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9933"/>
                </a:solidFill>
                <a:latin typeface="Arial"/>
              </a:rPr>
              <a:t>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9933"/>
                </a:solidFill>
                <a:latin typeface="Arial"/>
              </a:rPr>
              <a:t>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07560" y="83628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2012-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640" y="0"/>
            <a:ext cx="6840360" cy="946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818720" y="3630960"/>
            <a:ext cx="38430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плодисменты, музыка, цве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декорации невиданной крас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ртист стоит на сцене, рампы све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крики «Браво!», и поклон в отв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зритель, затаив дыханье, ждё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вновь и вновь сюда ещё придё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дальше будет и каков финал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т занавес открыт, ликует за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атр – это маленькая жизнь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снова «Браво» улетает ввыс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десь есть стремленья, радости, меч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ё не напрасно, понимаешь ты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уракевич Арту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3132000"/>
            <a:ext cx="23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еат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балет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65000" y="1261800"/>
            <a:ext cx="5545440" cy="70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ая встреча с театром у каждого человека происходит по- своему. Кто-то впервые попадает в театр, будучи совсем маленьким ребёнком. Кто-то уже взрослым человеком. Ясно одно, если попал в этот удивительный мир, ты будешь возвращаться сюда снова и снова… И не важно, сколько тебе л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е помню, когда я впервые переступил порог театра. Наверное, я тогда был слишком маленький. И это был, наверняка, кукольный спектакль. С тех пор я был на спектаклях в национальном театре, в драматическом, в музыкальном. Но у меня была мечта. Мне всегда хотелось сходить на балет, где движения под музыку заменяют сло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о балете я узнал на уроках сольфеджио в музыкальной школе, когда мне было 5 лет. Я познакомился с разными композиторами и слушал музыку, написанную специально для балетных постановок. Балет меня поражал и захватывал. Я всегда хотел увидеть его воочию. Прожужжал все уши родителям: «Хочу на балет!»  Мама говорила, что ещё очень рано, что я вряд ли что-то пойму. Но я не унимал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жды моя мечта осуществилась. К тому времени у нас в городе построили новый театр Оперы и Балета. И мама купила мне билет на балет «Щелкунчик». Я очень обрадовался и стал считать дни до спектакл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л долгожданный удивительный день – день моей первой встречи с новым театром и балетом. Я даже не пошел в школу, потому что спектакль начинался в 11.00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81000" y="611280"/>
            <a:ext cx="53118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660033"/>
                </a:solidFill>
                <a:latin typeface="Times New Roman"/>
              </a:rPr>
              <a:t>Моя первая встреча с театром 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660033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балет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20640" y="830160"/>
            <a:ext cx="5630760" cy="67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от я подхожу к зданию  театра. Снаружи он показался мне большим и величественным. Внутри  тоже было очень красиво.  Я с восхищением разглядывал все вокруг. Хрустальную многоярусную люстру, бархатный тяжелый занавес на сцене, ряды обтянутых красивой тканью кресе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епенно зал заполнился зрителями. Раздался первый звонок, затем второй, третий. Свет погас, медленно раздвинулся занавес и началось действие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забыл обо всем на свете, утонул в прекрасной музыке. Меня сразу удивило увиденное. В спектакле участвовали танцоры дети. Кто-то был старше меня, кто-то младше. Они так красиво двигались! На них были такие красивые костюмы! Мне тоже захотелось научиться так двигаться и говорить «движениями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что самое главное, я понимал все без слов! Вместе с персонажами спектакля я смеялся и плакал, грустил  и радовалс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езаметно пролетело время! Спектакль закончился и все маленькие актеры вышли на сцену. Вокруг царило радостное оживление, раздавались крики: "Браво", «Бис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вращаться домой совсем не хотелось. Выйдя из здания театра, я уже мечтал скорее вернуться сюда – в этот таинственный и захватывающий мир искус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gradFill rotWithShape="0">
            <a:gsLst>
              <a:gs pos="0">
                <a:srgbClr val="fedadd"/>
              </a:gs>
              <a:gs pos="50000">
                <a:srgbClr val="ffffff"/>
              </a:gs>
              <a:gs pos="100000">
                <a:srgbClr val="feda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6640" y="1329120"/>
            <a:ext cx="51116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еатр в моей жиз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ой первый визит в театр состоялся, когда мне было всего четыре годика. Тогда я ходил на новогоднее представление в театр кукол. Мне очень понравилос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 тех пор я ещё не раз бывал в театре. С мамой, крёстной, с класс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театре мне очень нравится. Красивый зал, много музыки, ярких красок. Нравится игра актё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мое яркое впечатление от увиденного, у меня осталось от спектакля «Золушка», который мы  смотрели всем классом в театре Оперы и Бале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моей жизни театр занимает не самое главное место. Прожить без театра можно, но неинтересно и скуч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Я хотел бы посещать театр чащ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айников Ег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6640" y="5504760"/>
            <a:ext cx="518328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гда это было, не помню. Я тогда был совсем маленький. Мы всей семьёй поехали в театр кукол «Крошка». Мама с папой мне много рассказывали о театре кукол и том, как там интересно. Я так мечтал туда попаст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вот мы приехали, Взяли билеты на первый рад, сели и ждё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т поднялся занавес, зазвучала красивая музыка и начался спектакл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Я весь переместился в сказку. Всю постановку я просмотрел на одном дыхании. Мне очень понравилос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том я ещё не раз бывал в театрах. Но свой первый визит в театр я запомню навсег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лков Витал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724280" y="250920"/>
            <a:ext cx="1773360" cy="12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13972" t="0" r="29923" b="0"/>
          <a:stretch/>
        </p:blipFill>
        <p:spPr>
          <a:xfrm>
            <a:off x="0" y="0"/>
            <a:ext cx="6840360" cy="9144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844640" y="1258920"/>
            <a:ext cx="381636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33"/>
                </a:solidFill>
                <a:latin typeface="Monotype Corsiva"/>
              </a:rPr>
              <a:t>Сегодня в номере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33"/>
              </a:solidFill>
              <a:latin typeface="Monotype Corsiva"/>
              <a:ea typeface="Monotype Corsiva"/>
            </a:endParaRPr>
          </a:p>
        </p:txBody>
      </p:sp>
      <p:sp>
        <p:nvSpPr>
          <p:cNvPr id="46" name=""/>
          <p:cNvSpPr/>
          <p:nvPr/>
        </p:nvSpPr>
        <p:spPr>
          <a:xfrm>
            <a:off x="1773360" y="2124000"/>
            <a:ext cx="38163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Times New Roman"/>
              </a:rPr>
              <a:t>Моя любимая игруш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укузов Кирил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лева Анаста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нгаева Веро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хов Дмитр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Times New Roman"/>
              </a:rPr>
              <a:t>Мой любимый школьный предм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нгаева Вероника, Тимонькина Арина, Прахов Дмитр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Щемрова Дарья, Дурнайкина Виктория, Туракевич Артур, Волков Витал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Times New Roman"/>
              </a:rPr>
              <a:t>Волшебный мир теат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уракевич Артур «Театр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имонькина Арина «Что такое театр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укузов Кирилл «Моя первая встреча с театро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йников Егор «Театр в моей жизн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ков Виталий «Мой первый визит в театр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92920" cy="10333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060640" y="3199680"/>
            <a:ext cx="324144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меня есть игрушка. Это обезьяна по имени Клара. Её мне подарили, когда я только родилас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а очень большая, мягкая, красивая и пушистая. Глаза у Клары Большие и тёмные, совсем как живые. Но у неё очень интересный, не как у люд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а вся тёмно-коричневая, а ладошки и животик светлы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ней очнь интересно играть в школу. Я её очень люблю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илева Анастас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276640" y="1908000"/>
            <a:ext cx="3095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33"/>
                </a:solidFill>
                <a:latin typeface="Monotype Corsiva"/>
              </a:rPr>
              <a:t>Моя любимая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33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33"/>
                </a:solidFill>
                <a:latin typeface="Monotype Corsiva"/>
              </a:rPr>
              <a:t>игруш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33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92920" cy="10333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133720" y="2157840"/>
            <a:ext cx="3240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гда я был маленьким, у меня было много мягких игрушек. Самая любимая – тиг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огромный. Я мог спокойно сидеть или лежать на его спине. Когда смотришь на него издалека, кажется, что он живой. Становится страшно. Хотя на самом деле мой тигр плюшевы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тигр оранжевый, с чёрными полосками. У него белая грудка, зелёные глаза и длинные  чёрные ус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очень люблю своего тиг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укузов Кирил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92920" cy="10333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89000" y="2266920"/>
            <a:ext cx="302436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меня есть игрушка по имени Минни. Это серенькая мышка. Мне её подарили мама с папой на Новый год, когда мне было два годи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Мини серо-белые ушки, фиолетовые глазки и персиковые тени.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ета моя мышка в жёлтое платье с цветочками. На голове розовый бантик, на ногах – розовые балетки. Мини – балери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раннего детства мышка Мини – моя самая любимая игрушка. Я её очень любл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нгаева Верон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92920" cy="10333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133720" y="1860480"/>
            <a:ext cx="316836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оя любимая игрушка - тигрёнок. Он очень мягкий и приятный. Весь оранжевый, в чёрную полоску, только лапы белые. У тигрёнка удивительно добрые глаза. Мне подарил его папа на Новый год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 тигра есть волшебная кнопка. Если нажать на неё, тигрёнок споёт вам замечательную песенку. А если надоест, его тут же можно выключить (это особенно нравиться моей маме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гда я был маленький, тигрёнок помогал мне есть кашу. Когда я болел, он всегда был рядом и не давал мне скуч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грая с ним, у меня всегда улучшалось настро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ейчас я уже не играю в такие игрушки, но тигрёнка всё равно люблю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хов Дмит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38675" t="0" r="0" b="0"/>
          <a:stretch/>
        </p:blipFill>
        <p:spPr>
          <a:xfrm>
            <a:off x="0" y="0"/>
            <a:ext cx="6800760" cy="9144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81000" y="1613160"/>
            <a:ext cx="540072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любимый предмет – музыка. На этом уроке мы изучаем разную музыку, знакомимся с разными композиторами, с разными музыкальными инструментами. На прошлом уроке, например, нас знакомили с театральным искусством: балетом, опереттой, мюзикл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узыка развивает слух, учит красиво петь, слышать звуки. Но самое главное, музыка учит восторгаться прекрасным. Вот поэтому я и люблю этот предм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нгаева Верон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не нравятся все школьные предметы, Но больше всего я люблю мордовский язы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язык моей родины, Мордовии. Он очень красивый. Мне хочется поскорее выучить его. Было бы здорово, приехав в эрзянскую деревню, разговаривать с её жителями на мордовском языке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имонькина Ар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льше всего из школьных предметов мне нравится чтение. На уроках чтения мы читаем интересные рассказы, стихи и сказки.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итая, человек узнаёт много нового и интересного. Кроме этого, на уроках чтения  мы учимся правильно и красиво  говор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хов Дмит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20640" y="684360"/>
            <a:ext cx="568800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33"/>
                </a:solidFill>
                <a:latin typeface="Monotype Corsiva"/>
              </a:rPr>
              <a:t>Мой любимый школьный предм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33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38675" t="0" r="0" b="0"/>
          <a:stretch/>
        </p:blipFill>
        <p:spPr>
          <a:xfrm>
            <a:off x="0" y="0"/>
            <a:ext cx="6800760" cy="9144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36640" y="748440"/>
            <a:ext cx="5256360" cy="69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любимый предмет - математика. На уроках математики  мы решаем примеры, задачи, изучаем геометрические фигуры. Математика помогает нам решать жизненные  задач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будущем я хочу выбрать профессию, связанную с математик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Щемерова Дар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любимый предмет – изобразительное искусство. Он мне нравится потому, что очень люблю рисовать. На уроках изобразительного искусства мы учимся не только рисовать, но и любоваться картинами и ценить красоту окружающего ми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урнайкина Викто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не очень нравится английский язык. На этом уроке всегда интересно, хочется узнавать всё больше нового. Я всегда с нетерпением жду начало уро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мире много людей, которые говорят по английски. Я тоже хочу знать этот язы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уракевич Арту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любимый школьный предмет – английский язык. На уроках мы изучаем новые сло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рок всегда проходит в форме иг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глийский язык  мне пригодиться в будущем для работы и общения с иностранц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лков Витал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gradFill rotWithShape="0">
            <a:gsLst>
              <a:gs pos="0">
                <a:srgbClr val="ffd9f0"/>
              </a:gs>
              <a:gs pos="50000">
                <a:srgbClr val="ffffff"/>
              </a:gs>
              <a:gs pos="100000">
                <a:srgbClr val="ffd9f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2124000"/>
            <a:ext cx="6858000" cy="4564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620640" y="900000"/>
            <a:ext cx="56008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Волшебный мир театра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57720" y="3492360"/>
            <a:ext cx="287964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еатр – это что-то величественное. Огромные люстры, много света, красивый занавес. Всё как в сказочном замке. Я, как маленькая принцесса, иду по лестнице мимо огромных зерка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вонок. Ещё звонок. И начинается сказка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имонькина Ар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17:15:55Z</dcterms:created>
  <dc:creator>User</dc:creator>
  <dc:description/>
  <dc:language>en-US</dc:language>
  <cp:lastModifiedBy>User</cp:lastModifiedBy>
  <dcterms:modified xsi:type="dcterms:W3CDTF">2013-04-28T13:14:39Z</dcterms:modified>
  <cp:revision>9</cp:revision>
  <dc:subject/>
  <dc:title>Слайд 1</dc:title>
</cp:coreProperties>
</file>