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54FFC-6FF1-45E9-88BA-264612220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63E48-9597-436C-92AA-BF660CA89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D1B0C-2748-4BE6-A29D-0CEECF155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227E9-ABE8-4774-B485-394CAB426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B05A1-9060-49D7-B98F-AE0967D89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6867C-1AB5-4B18-8222-69127B765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03156-D427-471F-9DDD-9B1F79C9A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DDCD4-67EE-45CE-8271-8E0C166F6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4A1D4-5738-40D1-8AB9-E22D7022C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D683A-B708-40E0-9C94-904F8D2C1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5D01B-6C0F-4128-94E3-78B456779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4FBB3-D9E9-4391-989E-F3A69084A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84A5-4A6C-470B-8C4A-DEC2F4665C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47429" b="0"/>
          <a:stretch/>
        </p:blipFill>
        <p:spPr>
          <a:xfrm>
            <a:off x="0" y="0"/>
            <a:ext cx="6934320" cy="9144000"/>
          </a:xfrm>
          <a:prstGeom prst="rect">
            <a:avLst/>
          </a:prstGeom>
          <a:ln w="0">
            <a:noFill/>
          </a:ln>
        </p:spPr>
      </p:pic>
      <p:sp>
        <p:nvSpPr>
          <p:cNvPr id="42" name=""/>
          <p:cNvSpPr/>
          <p:nvPr/>
        </p:nvSpPr>
        <p:spPr>
          <a:xfrm>
            <a:off x="692280" y="324000"/>
            <a:ext cx="5759280" cy="853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Муниципальное общеобразовательное учреждени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Средняя общеобразовательная школа № 27»</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г. о. Саранс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Литературно-художественны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журнал</a:t>
            </a:r>
            <a:r>
              <a:rPr b="1" i="1" lang="en-US" sz="2400" spc="-1" strike="noStrike">
                <a:solidFill>
                  <a:srgbClr val="996633"/>
                </a:solidFill>
                <a:latin typeface="Arial"/>
              </a:rPr>
              <a:t>  </a:t>
            </a:r>
            <a:r>
              <a:rPr b="1" i="1" lang="en-US" sz="2400" spc="-1" strike="noStrike">
                <a:solidFill>
                  <a:srgbClr val="333399"/>
                </a:solidFill>
                <a:latin typeface="Arial"/>
              </a:rPr>
              <a:t>№ 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0bc26"/>
                </a:solidFill>
                <a:latin typeface="Arial"/>
              </a:rPr>
              <a:t>     </a:t>
            </a:r>
            <a:r>
              <a:rPr b="1" i="1" lang="en-US" sz="4800" spc="-1" strike="noStrike">
                <a:solidFill>
                  <a:srgbClr val="d0bc26"/>
                </a:solidFill>
                <a:latin typeface="Arial"/>
              </a:rPr>
              <a:t>«Родничок»</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993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333399"/>
                </a:solidFill>
                <a:latin typeface="Arial"/>
              </a:rPr>
              <a:t>2012-2013</a:t>
            </a:r>
            <a:r>
              <a:rPr b="0" lang="en-US"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6865920" cy="9144000"/>
          </a:xfrm>
          <a:prstGeom prst="rect">
            <a:avLst/>
          </a:prstGeom>
          <a:ln w="0">
            <a:noFill/>
          </a:ln>
        </p:spPr>
      </p:pic>
      <p:sp>
        <p:nvSpPr>
          <p:cNvPr id="64" name=""/>
          <p:cNvSpPr/>
          <p:nvPr/>
        </p:nvSpPr>
        <p:spPr>
          <a:xfrm>
            <a:off x="692280" y="684360"/>
            <a:ext cx="5688000" cy="767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3200"/>
                </a:solidFill>
                <a:latin typeface="Times New Roman"/>
              </a:rPr>
              <a:t>Экспедиция на планету Зелюшк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200"/>
                </a:solidFill>
                <a:latin typeface="Times New Roman"/>
              </a:rPr>
              <a:t>        </a:t>
            </a:r>
            <a:r>
              <a:rPr b="0" lang="ru-RU" sz="1400" spc="-1" strike="noStrike">
                <a:solidFill>
                  <a:srgbClr val="003200"/>
                </a:solidFill>
                <a:latin typeface="Times New Roman"/>
              </a:rPr>
              <a:t>Совсем недавно учёные-астрономы в центре одной из чёрных дыр космоса обнаружили портал в другую Вселенную. А в этой Вселенной – новую треугольную планету зелёного цвета. Учёные предположили, что зелёный цвет могут давать растения. А если есть растения, значит есть кислород и вода. Эту планету назвали Зелюшка.</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Вскоре на Зелюшку была отправлена экспедиция.</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Когда космический корабль землян приземлился на Зелюшку, космонавты увидели на небосводе сразу три солнца: жёлтое, синее и красное. О этого всё небо было разноцветным. </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Из космоса планета казалась зелёной, благодаря растениям, которые действительно росли на этой планете.</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Кроме растений учёные встретили на Зелюшке разумных существ, похожих на людей. Они имели серебряную кожу и большие глаза. Поэтому люди стали называть их серебриками. Серебрики имели способность становиться невидимыми в минуты опасности. Серебрики были очень добродушными и не мешали нашим учёным изучать их планету.</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Учёные почти месяц изучали новую планету, пытаясь ответить на вопрос, смогут ли на Зелюшке жить люди. </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За это время серебряки так привыкли к землянам, что уже не боялись их и не исчезали.</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Что же будет с этими милыми существами, если на Зелюшку приедут люди? Наверное, погибнут…</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 Зелюшка, Зелюшка! Я - Земля! – послышался голос из динамика. – Так ответьте же, возможна ли жизнь на Зелюшке?</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 Нет! Мы летим обратно!</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Прощайте, серебрики! Живите спокойно на своей зелёной планете! Люди вас больше не побеспокоят!</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Яковлев Евгений</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7920" y="0"/>
            <a:ext cx="6865920" cy="9144000"/>
          </a:xfrm>
          <a:prstGeom prst="rect">
            <a:avLst/>
          </a:prstGeom>
          <a:ln w="0">
            <a:noFill/>
          </a:ln>
        </p:spPr>
      </p:pic>
      <p:pic>
        <p:nvPicPr>
          <p:cNvPr id="66" name="" descr=""/>
          <p:cNvPicPr/>
          <p:nvPr/>
        </p:nvPicPr>
        <p:blipFill>
          <a:blip r:embed="rId2"/>
          <a:stretch/>
        </p:blipFill>
        <p:spPr>
          <a:xfrm>
            <a:off x="765000" y="971640"/>
            <a:ext cx="5383440" cy="69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7920" y="0"/>
            <a:ext cx="6865920" cy="9144000"/>
          </a:xfrm>
          <a:prstGeom prst="rect">
            <a:avLst/>
          </a:prstGeom>
          <a:ln w="0">
            <a:noFill/>
          </a:ln>
        </p:spPr>
      </p:pic>
      <p:sp>
        <p:nvSpPr>
          <p:cNvPr id="68" name=""/>
          <p:cNvSpPr/>
          <p:nvPr/>
        </p:nvSpPr>
        <p:spPr>
          <a:xfrm>
            <a:off x="620640" y="900000"/>
            <a:ext cx="5803920" cy="71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утешествие в открытый космос</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0" lang="en-US" sz="1500" spc="-1" strike="noStrike">
                <a:solidFill>
                  <a:srgbClr val="000000"/>
                </a:solidFill>
                <a:latin typeface="Times New Roman"/>
              </a:rPr>
              <a:t>С моим</a:t>
            </a:r>
            <a:r>
              <a:rPr b="1" lang="en-US" sz="1500" spc="-1" strike="noStrike">
                <a:solidFill>
                  <a:srgbClr val="000000"/>
                </a:solidFill>
                <a:latin typeface="Times New Roman"/>
              </a:rPr>
              <a:t> </a:t>
            </a:r>
            <a:r>
              <a:rPr b="0" lang="en-US" sz="1500" spc="-1" strike="noStrike">
                <a:solidFill>
                  <a:srgbClr val="000000"/>
                </a:solidFill>
                <a:latin typeface="Times New Roman"/>
              </a:rPr>
              <a:t>другом Вадиком мы играли в разные игры и не знали, что бы ещё придумать. Я предложил помечтать о далёком космосе…</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Вместе с Вадиком на космическом корабле мы бороздим космическое пространство.</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Вот мы уже на какой-то планете. Нас встретили инопланетяне. Они похожи на роботов с большими глазами и выглядят не очень дружелюбно. У них в руках оружие.</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Бежим отсюда! – крикнул я.</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И мы побежали. Вдруг перед нами возникли высокие горы.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Как же нам через них перебраться? – чуть не плача спрашивал я. Роботы были уже близко.</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Тут Вадик  заметил какой-то странный объект</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Да, это же летающая тарелка!</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Мы быстро забрались внутрь и спокойно перелетели горы.</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То, что мы увидели за горами, очень нас с Вадимом удивило и поразило.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Красивый город, с аквапарком и спортивными площадками, с цирком и кино. В городе чистота и порядок.</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Люди ни чем не отличаются от нас, только весёлые, счастливые и добрые.</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А кто же тогда  роботы? Оказывается, это охранники, солдаты, которые защищают свою планету от пришельцев.</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Погуляв по городу и попробовав  инопланетное мороженое, мы вернулись на корабль и полетели обратно на Землю.</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Чайников Егор</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7920" y="0"/>
            <a:ext cx="6865920" cy="9144000"/>
          </a:xfrm>
          <a:prstGeom prst="rect">
            <a:avLst/>
          </a:prstGeom>
          <a:ln w="0">
            <a:noFill/>
          </a:ln>
        </p:spPr>
      </p:pic>
      <p:sp>
        <p:nvSpPr>
          <p:cNvPr id="70" name=""/>
          <p:cNvSpPr/>
          <p:nvPr/>
        </p:nvSpPr>
        <p:spPr>
          <a:xfrm>
            <a:off x="620640" y="847800"/>
            <a:ext cx="5545080" cy="450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74"/>
                </a:solidFill>
                <a:latin typeface="Arial"/>
              </a:rPr>
              <a:t>     </a:t>
            </a:r>
            <a:r>
              <a:rPr b="1" lang="en-US" sz="1600" spc="-1" strike="noStrike">
                <a:solidFill>
                  <a:srgbClr val="262674"/>
                </a:solidFill>
                <a:latin typeface="Arial"/>
              </a:rPr>
              <a:t>Страна моих сно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74"/>
                </a:solidFill>
                <a:latin typeface="Arial"/>
              </a:rPr>
              <a:t>        </a:t>
            </a:r>
            <a:r>
              <a:rPr b="0" lang="en-US" sz="1500" spc="-1" strike="noStrike">
                <a:solidFill>
                  <a:srgbClr val="262674"/>
                </a:solidFill>
                <a:latin typeface="Arial"/>
              </a:rPr>
              <a:t>Однажды я попала в очень красивую страну. Всё вокруг было соткано из цветов. И дома, и школы, и магазины. И даже вместо деревьев росли огромные цветы.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74"/>
                </a:solidFill>
                <a:latin typeface="Arial"/>
              </a:rPr>
              <a:t>       </a:t>
            </a:r>
            <a:r>
              <a:rPr b="0" lang="en-US" sz="1500" spc="-1" strike="noStrike">
                <a:solidFill>
                  <a:srgbClr val="262674"/>
                </a:solidFill>
                <a:latin typeface="Arial"/>
              </a:rPr>
              <a:t>Люди ходили в одежде из лепестков. Машины были - большие кувшинки, а вместо колёс – одуванчики.</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74"/>
                </a:solidFill>
                <a:latin typeface="Arial"/>
              </a:rPr>
              <a:t>      </a:t>
            </a:r>
            <a:r>
              <a:rPr b="0" lang="en-US" sz="1500" spc="-1" strike="noStrike">
                <a:solidFill>
                  <a:srgbClr val="262674"/>
                </a:solidFill>
                <a:latin typeface="Arial"/>
              </a:rPr>
              <a:t>В воздухе витал  прекрасный аромат ландышей и сирени.</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74"/>
                </a:solidFill>
                <a:latin typeface="Arial"/>
              </a:rPr>
              <a:t>      </a:t>
            </a:r>
            <a:r>
              <a:rPr b="0" lang="en-US" sz="1500" spc="-1" strike="noStrike">
                <a:solidFill>
                  <a:srgbClr val="262674"/>
                </a:solidFill>
                <a:latin typeface="Arial"/>
              </a:rPr>
              <a:t>Неожиданно солнце спряталось за тучку и пошёл дождь. Но вместо капель воды на землю посыпалась пыльца цветов.</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74"/>
                </a:solidFill>
                <a:latin typeface="Arial"/>
              </a:rPr>
              <a:t>     </a:t>
            </a:r>
            <a:r>
              <a:rPr b="0" lang="en-US" sz="1500" spc="-1" strike="noStrike">
                <a:solidFill>
                  <a:srgbClr val="262674"/>
                </a:solidFill>
                <a:latin typeface="Arial"/>
              </a:rPr>
              <a:t>Это была прекрасная страна - -страна моих снов!</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74"/>
                </a:solidFill>
                <a:latin typeface="Arial"/>
              </a:rPr>
              <a:t>Голова Елизавета</a:t>
            </a: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1" name="" descr=""/>
          <p:cNvPicPr/>
          <p:nvPr/>
        </p:nvPicPr>
        <p:blipFill>
          <a:blip r:embed="rId2"/>
          <a:stretch/>
        </p:blipFill>
        <p:spPr>
          <a:xfrm>
            <a:off x="620640" y="4572000"/>
            <a:ext cx="581652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920" y="0"/>
            <a:ext cx="6865920" cy="9144000"/>
          </a:xfrm>
          <a:prstGeom prst="rect">
            <a:avLst/>
          </a:prstGeom>
          <a:ln w="0">
            <a:noFill/>
          </a:ln>
        </p:spPr>
      </p:pic>
      <p:sp>
        <p:nvSpPr>
          <p:cNvPr id="73" name=""/>
          <p:cNvSpPr/>
          <p:nvPr/>
        </p:nvSpPr>
        <p:spPr>
          <a:xfrm>
            <a:off x="692280" y="826920"/>
            <a:ext cx="5832360" cy="579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600" spc="-1" strike="noStrike">
                <a:solidFill>
                  <a:srgbClr val="262674"/>
                </a:solidFill>
                <a:latin typeface="Arial"/>
              </a:rPr>
              <a:t>Путешествие на планету Бл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74"/>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74"/>
                </a:solidFill>
                <a:latin typeface="Arial"/>
              </a:rPr>
              <a:t>        </a:t>
            </a:r>
            <a:r>
              <a:rPr b="0" lang="ru-RU" sz="1500" spc="-1" strike="noStrike">
                <a:solidFill>
                  <a:srgbClr val="262674"/>
                </a:solidFill>
                <a:latin typeface="Times New Roman"/>
              </a:rPr>
              <a:t>Я ещё с детства я мечтал о космосе. Я представлял, как лечу на космическом корабле к краю Вселенной, как высаживаюсь на другую планету, как выхожу в открытый космос.</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r>
              <a:rPr b="0" lang="ru-RU" sz="1500" spc="-1" strike="noStrike">
                <a:solidFill>
                  <a:srgbClr val="262674"/>
                </a:solidFill>
                <a:latin typeface="Times New Roman"/>
              </a:rPr>
              <a:t>Прошли годы. Я стал космонавтом. И сейчас я готовлюсь к экспедиции на новую неизведанную планету.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r>
              <a:rPr b="0" lang="ru-RU" sz="1500" spc="-1" strike="noStrike">
                <a:solidFill>
                  <a:srgbClr val="262674"/>
                </a:solidFill>
                <a:latin typeface="Times New Roman"/>
              </a:rPr>
              <a:t>В назначенный час наш корабль взял курс на планету Блу.</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r>
              <a:rPr b="0" lang="ru-RU" sz="1500" spc="-1" strike="noStrike">
                <a:solidFill>
                  <a:srgbClr val="262674"/>
                </a:solidFill>
                <a:latin typeface="Times New Roman"/>
              </a:rPr>
              <a:t>Через несколько недель пути, приборы определили цель.</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Планета Блу встретила нас густой растительностью синего цвета. Пробираясь через неё, мы чуть не попали в зыбучие пески. А когда выбрались, чуть не погибли от огромных крыльев каких-то странных животных, похожих на больших куриц. Под ногами бегали мелкие зверьки, которые напоминали улиток  со змеиными хвостами.</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r>
              <a:rPr b="0" lang="ru-RU" sz="1500" spc="-1" strike="noStrike">
                <a:solidFill>
                  <a:srgbClr val="262674"/>
                </a:solidFill>
                <a:latin typeface="Times New Roman"/>
              </a:rPr>
              <a:t>Да! Не очень добродушно встретила нас планета! Всё вокруг было чужим и незнакомым.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r>
              <a:rPr b="0" lang="ru-RU" sz="1500" spc="-1" strike="noStrike">
                <a:solidFill>
                  <a:srgbClr val="262674"/>
                </a:solidFill>
                <a:latin typeface="Times New Roman"/>
              </a:rPr>
              <a:t>Нужно было возвращаться на корабль. По дороге мы захватили образцы грунта, растительности и несколько змееулиток.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r>
              <a:rPr b="0" lang="ru-RU" sz="1500" spc="-1" strike="noStrike">
                <a:solidFill>
                  <a:srgbClr val="262674"/>
                </a:solidFill>
                <a:latin typeface="Times New Roman"/>
              </a:rPr>
              <a:t>У нас было достаточно материала, чтобы подробно изучить устройство этой планеты. А пока домой, на Землю!</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r>
              <a:rPr b="0" lang="ru-RU" sz="1500" spc="-1" strike="noStrike">
                <a:solidFill>
                  <a:srgbClr val="262674"/>
                </a:solidFill>
                <a:latin typeface="Times New Roman"/>
              </a:rPr>
              <a:t>Борисов Данила</a:t>
            </a: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endParaRPr b="0" lang="en-US" sz="1500" spc="-1" strike="noStrike">
              <a:solidFill>
                <a:srgbClr val="000000"/>
              </a:solidFill>
              <a:latin typeface="Arial"/>
            </a:endParaRPr>
          </a:p>
        </p:txBody>
      </p:sp>
      <p:pic>
        <p:nvPicPr>
          <p:cNvPr id="74" name="" descr=""/>
          <p:cNvPicPr/>
          <p:nvPr/>
        </p:nvPicPr>
        <p:blipFill>
          <a:blip r:embed="rId2"/>
          <a:stretch/>
        </p:blipFill>
        <p:spPr>
          <a:xfrm>
            <a:off x="1916280" y="6804000"/>
            <a:ext cx="3168360" cy="177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7920" y="0"/>
            <a:ext cx="6865920" cy="9144000"/>
          </a:xfrm>
          <a:prstGeom prst="rect">
            <a:avLst/>
          </a:prstGeom>
          <a:ln w="0">
            <a:noFill/>
          </a:ln>
        </p:spPr>
      </p:pic>
      <p:sp>
        <p:nvSpPr>
          <p:cNvPr id="76" name=""/>
          <p:cNvSpPr/>
          <p:nvPr/>
        </p:nvSpPr>
        <p:spPr>
          <a:xfrm>
            <a:off x="692280" y="358200"/>
            <a:ext cx="5742000" cy="7687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262674"/>
                </a:solidFill>
                <a:latin typeface="Arial"/>
              </a:rPr>
              <a:t>       </a:t>
            </a:r>
            <a:r>
              <a:rPr b="1" lang="ru-RU" sz="1700" spc="-1" strike="noStrike">
                <a:solidFill>
                  <a:srgbClr val="262674"/>
                </a:solidFill>
                <a:latin typeface="Arial"/>
              </a:rPr>
              <a:t>Ниберу</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С давних времён на планете Земля живут люди. Огромное количество звёзд окружает нашу планету. Нам кажется, что мы единственные живые существа во Вселенной. На самом деле это не так.</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Однажды я гулял на улице. В нашем дворе на лавочке сидела какая-то  странная бабушка. Она чертила что-то веточкой на песке и повторяла одно слово: «Ниберу,  Ниберу, Ниберу»</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Мне стало интересно. Я подсел к ней и спросил, что же такое Ниберу.</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Вот что она рассказала….</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Совсем рядом, на  другой стороне Солнечной системы есть планета Ниберу. По преданию на этой планете тоже живут люди. Они как раз и были прародителями землян.</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Ниберуанцы очень умные и справедливый. Они любят свою планету, не засоряют природу, не отравляют воздух и реки. Там растут удивительные растения. Там нет хищных животных. Та есть живая вода, которая разговаривает с людьми, даёт советы.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Жители этой планеты понимают язык зверей и птиц, заботятся о них.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Счастье, радость и мир царят на Ниберу.</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Бабушка замолчала.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Откуда вы, бабушка, всё знаете?»  - спросил я.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Я многое знаю», - ответила старушка. – «Я даже знаю, например, что ты вырастишь большой, станешь космонавтом и обязательно полетишь на эту планету».</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Не знаю почему, но я тогда поверил этой бабушке. А вы верите?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Боровец Андрей</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7920" y="0"/>
            <a:ext cx="6865920" cy="9144000"/>
          </a:xfrm>
          <a:prstGeom prst="rect">
            <a:avLst/>
          </a:prstGeom>
          <a:ln w="0">
            <a:noFill/>
          </a:ln>
        </p:spPr>
      </p:pic>
      <p:pic>
        <p:nvPicPr>
          <p:cNvPr id="78" name="" descr=""/>
          <p:cNvPicPr/>
          <p:nvPr/>
        </p:nvPicPr>
        <p:blipFill>
          <a:blip r:embed="rId2"/>
          <a:stretch/>
        </p:blipFill>
        <p:spPr>
          <a:xfrm>
            <a:off x="934920" y="1403280"/>
            <a:ext cx="5106960" cy="5832720"/>
          </a:xfrm>
          <a:prstGeom prst="rect">
            <a:avLst/>
          </a:prstGeom>
          <a:ln w="0">
            <a:noFill/>
          </a:ln>
        </p:spPr>
      </p:pic>
      <p:sp>
        <p:nvSpPr>
          <p:cNvPr id="79" name=""/>
          <p:cNvSpPr/>
          <p:nvPr/>
        </p:nvSpPr>
        <p:spPr>
          <a:xfrm>
            <a:off x="3213000" y="4356000"/>
            <a:ext cx="719280" cy="360360"/>
          </a:xfrm>
          <a:prstGeom prst="line">
            <a:avLst/>
          </a:prstGeom>
          <a:ln w="9360">
            <a:solidFill>
              <a:srgbClr val="26267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23880" y="399564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74"/>
                </a:solidFill>
                <a:latin typeface="Arial"/>
              </a:rPr>
              <a:t>НИБЕРУ</a:t>
            </a:r>
            <a:endParaRPr b="0" lang="en-US" sz="1800" spc="-1" strike="noStrike">
              <a:solidFill>
                <a:srgbClr val="000000"/>
              </a:solidFill>
              <a:latin typeface="Arial"/>
            </a:endParaRPr>
          </a:p>
        </p:txBody>
      </p:sp>
      <p:sp>
        <p:nvSpPr>
          <p:cNvPr id="81" name=""/>
          <p:cNvSpPr/>
          <p:nvPr/>
        </p:nvSpPr>
        <p:spPr>
          <a:xfrm>
            <a:off x="4076640" y="4572000"/>
            <a:ext cx="576360" cy="576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7920" y="0"/>
            <a:ext cx="6865920" cy="9144000"/>
          </a:xfrm>
          <a:prstGeom prst="rect">
            <a:avLst/>
          </a:prstGeom>
          <a:ln w="0">
            <a:noFill/>
          </a:ln>
        </p:spPr>
      </p:pic>
      <p:sp>
        <p:nvSpPr>
          <p:cNvPr id="83" name=""/>
          <p:cNvSpPr/>
          <p:nvPr/>
        </p:nvSpPr>
        <p:spPr>
          <a:xfrm>
            <a:off x="692280" y="618840"/>
            <a:ext cx="5616360" cy="7428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7a005a"/>
                </a:solidFill>
                <a:latin typeface="Times New Roman"/>
              </a:rPr>
              <a:t>Моя планета Доброты</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В тёплый летний день я люблю смотреть на небо и любоваться звёздами. Звёзды кажутся нам маленькими точками. На самом деле это не так. Они гигантские. Многие из них даже больше Солнца. Просто они очень-очень далеко от нас.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Глядя на звёзды, я люблю мечтать. Я не верю, что жизнь существует только на нашей планете.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Где-нибудь далеко-далеко, может даже в другой галактике, есть планета, на которой тоже живут люди. Интересно, какие они?</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Внешне, наверное, эти люди похожи на нас, землян. Но они никогда не злятся, не лгут и уважают друг друга. На этой планете нет воров, пьяниц и убийц. Родители никогда не бросают своих детей.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Жители  этой планеты любят работать и учиться. Они умеют веселиться. Придумывают добрые развлечения, чтобы жилось интересней.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Сама планета похожа на огромное радужное сердце. И каждый житель планеты заботится о том, чтобы это сердце никогда не перестало биться.</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Как бы я хотела жить на этой планете! Вместе с мамой, папой и всеми бабушками и дедушками!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К сожалению, это только мои фантазии.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Но, если подумать, ведь всё зависит от нас самих! В наших силах изменить себя, своё отношение к другим людям, отношение к нашей планете. И тогда на Земле исчезнут зависть и злость, равнодушие и чёрствость, ложь и предательство. И наша планета  станет планетой Доброты!</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Данилова Милена</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7920" y="0"/>
            <a:ext cx="6865920" cy="9144000"/>
          </a:xfrm>
          <a:prstGeom prst="rect">
            <a:avLst/>
          </a:prstGeom>
          <a:ln w="0">
            <a:noFill/>
          </a:ln>
        </p:spPr>
      </p:pic>
      <p:pic>
        <p:nvPicPr>
          <p:cNvPr id="85" name="" descr=""/>
          <p:cNvPicPr/>
          <p:nvPr/>
        </p:nvPicPr>
        <p:blipFill>
          <a:blip r:embed="rId2"/>
          <a:srcRect l="13951" t="0" r="17457" b="0"/>
          <a:stretch/>
        </p:blipFill>
        <p:spPr>
          <a:xfrm>
            <a:off x="404640" y="900000"/>
            <a:ext cx="6189840" cy="637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7920" y="0"/>
            <a:ext cx="6865920" cy="9144000"/>
          </a:xfrm>
          <a:prstGeom prst="rect">
            <a:avLst/>
          </a:prstGeom>
          <a:ln w="0">
            <a:noFill/>
          </a:ln>
        </p:spPr>
      </p:pic>
      <p:sp>
        <p:nvSpPr>
          <p:cNvPr id="87" name=""/>
          <p:cNvSpPr/>
          <p:nvPr/>
        </p:nvSpPr>
        <p:spPr>
          <a:xfrm>
            <a:off x="620640" y="1171440"/>
            <a:ext cx="5878440" cy="6883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200"/>
                </a:solidFill>
                <a:latin typeface="Times New Roman"/>
              </a:rPr>
              <a:t>        </a:t>
            </a:r>
            <a:r>
              <a:rPr b="1" lang="ru-RU" sz="1600" spc="-1" strike="noStrike">
                <a:solidFill>
                  <a:srgbClr val="003200"/>
                </a:solidFill>
                <a:latin typeface="Times New Roman"/>
              </a:rPr>
              <a:t>Путешествие на планету Люка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В одном маленьком провинциальном городке под названием Саранск жил мальчик по имени Сен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Однажды он поссорился со своими родителями и вышел на улицу подышать свежим воздухом. Сеня  медленно брёл по тропинке к парку.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Вдруг яркая вспышка озарила всё вокруг. Арсений обернулся.  В нескольких метрах от себя он увидел яркий свет.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Мальчик испугался и замер как вкопанный.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Через несколько минут  любопытство взяло верх над страхом. Сеня подошёл ближе к тому месту, откуда исходил свет. Приглядевшись, он увидел перед собой какой-то странный космический объект. Мальчик подошёл ещё ближе, чтобы лучше рассмотреть корабл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Вдруг дверь корабля открылась. Арсений со страхом ждал, что же будет дальше? Он даже мысленно попрощался со своими родителями и попросил у них прощение за своё поведени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Прошла минута, другая. Но из корабля так никто и не вышел.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Что бы это значило?, - подумал Сеня. -  Может меня приглашают войт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Мальчик робко двинулся по направлению к кораблю. Как только он очутился внутри, двери за ним захлопнулись. И Арсений почувствовал, что корабль взлетает, а сам он становится невесомым.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Неужели я полечу в космос?, - не мог поверить Сеня. Страха почему-то не было совсем. Он куда-то исчез…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Но через несколько минут двери корабля вновь открылись.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 Жаль, - подумал Арсений,  и направился к выход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Каково же было его удивление, когда он увидел перед собой совершенно другую планету, совсем непохожую на нашу Земл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Эта планета  была необычайно красивой. Вся поверхность планеты была покрыта травой, похожей на  ярко-зелёный пуховый платок. Деревья напоминали огромные цветы. </a:t>
            </a:r>
            <a:r>
              <a:rPr b="0" lang="ru-RU" sz="1400" spc="-1" strike="noStrike">
                <a:solidFill>
                  <a:srgbClr val="003200"/>
                </a:solidFill>
                <a:latin typeface="Arial"/>
              </a:rPr>
              <a:t>С гор струились</a:t>
            </a:r>
            <a:r>
              <a:rPr b="0" lang="ru-RU"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36616" t="0" r="7509" b="0"/>
          <a:stretch/>
        </p:blipFill>
        <p:spPr>
          <a:xfrm>
            <a:off x="0" y="0"/>
            <a:ext cx="6858000" cy="9144000"/>
          </a:xfrm>
          <a:prstGeom prst="rect">
            <a:avLst/>
          </a:prstGeom>
          <a:ln w="0">
            <a:noFill/>
          </a:ln>
        </p:spPr>
      </p:pic>
      <p:sp>
        <p:nvSpPr>
          <p:cNvPr id="44" name=""/>
          <p:cNvSpPr txBox="1"/>
          <p:nvPr/>
        </p:nvSpPr>
        <p:spPr>
          <a:xfrm>
            <a:off x="1268280" y="1332000"/>
            <a:ext cx="417672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99"/>
                </a:solidFill>
                <a:latin typeface="Monotype Corsiva"/>
              </a:rPr>
              <a:t>Сегодня в номере:</a:t>
            </a:r>
            <a:endParaRPr b="1" lang="en-US" sz="1800" spc="1" strike="noStrike">
              <a:ln w="9360">
                <a:solidFill>
                  <a:srgbClr val="000000"/>
                </a:solidFill>
                <a:miter/>
              </a:ln>
              <a:solidFill>
                <a:srgbClr val="333399"/>
              </a:solidFill>
              <a:latin typeface="Monotype Corsiva"/>
              <a:ea typeface="Monotype Corsiva"/>
            </a:endParaRPr>
          </a:p>
        </p:txBody>
      </p:sp>
      <p:sp>
        <p:nvSpPr>
          <p:cNvPr id="45" name=""/>
          <p:cNvSpPr/>
          <p:nvPr/>
        </p:nvSpPr>
        <p:spPr>
          <a:xfrm>
            <a:off x="907920" y="2268360"/>
            <a:ext cx="4753080" cy="579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Times New Roman"/>
              </a:rPr>
              <a:t>Как мы провели весенние каникул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Голова Елизавета</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Свешников Эдуард</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Трифонов Даниил</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Тимонькина Арина</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Елистратов Сергей</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Прахов Дмитрий</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Волков Виталий</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Текарев Тимур</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Лияскина Мар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Times New Roman"/>
              </a:rPr>
              <a:t>Космос глазами дет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Яковлев Евгений «Экспедиция на планету Зелюшка»</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Чайников Егор «Путешествие в открытый космос»</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Голова Елизавета «Страна моих снов»</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Борисов Данила «Путешествие на планету Блу»</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Боровец Андрей «Ниберу»</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Данилова Милена «Моя планета Доброты»</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Сенгаева вероника «Путешествие на планету Люкан»</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Тукузов Кирилл «Экскурсия в космический музей»</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Щемерова Дарья «Удивительный сон или полёт </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на Зелёную планету»</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7920" y="0"/>
            <a:ext cx="6865920" cy="9144000"/>
          </a:xfrm>
          <a:prstGeom prst="rect">
            <a:avLst/>
          </a:prstGeom>
          <a:ln w="0">
            <a:noFill/>
          </a:ln>
        </p:spPr>
      </p:pic>
      <p:sp>
        <p:nvSpPr>
          <p:cNvPr id="89" name=""/>
          <p:cNvSpPr/>
          <p:nvPr/>
        </p:nvSpPr>
        <p:spPr>
          <a:xfrm>
            <a:off x="692280" y="395280"/>
            <a:ext cx="5689440" cy="707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красивейшие водопады.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Жители этой планеты были в два раза выше, чем люди. Арсению они казались великанами. Но великаны были очень добродушные, на лицах у них сияли улыбки. Одеты они были в специальные костюмы, но которых высвечивались их имена, адрес и личные данные. Они называли себя люканцами. И, хотя они не произнесли ни звука, Арсений их прекрасно понима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 Планета Люкан, - пояснили её обитатели, - находится в той же галактике, что и ваша Земля. Только на очень большом расстоянии от неё.</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Поэтому ваши астрономы не могли увидеть её даже в  самый сильный телескоп.</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Оказывается, всего за несколько минут, на  сверхмощном космическом корабле Сёма переместился в другой конец Вселенной, на планету Люкан!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Вот это скорость!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Узнав так много о планете Люкан, о её жителях, Арсений стал увлечённо рассказывать о своей планете Земля, о своей стране России, о своей республике Мордовия, о своём родном городе Саранск. Люканцы слушали и улыбалис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Но тут какой-то внутренний голос сказа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Пор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И, подчиняясь ему, Сеня вновь вошёл в корабль.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Через несколько минут  Арсений оказался на Земле. На том самом месте, в парке. Он ещё долго стоял, смотрел на небо, пытаясь отыскать среди миллиардов звёзд планету Люка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 Мы ещё обязательно встретимся, - подумал мальчик и поспешил домой.</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Сенгаева Вероник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90" name="" descr=""/>
          <p:cNvPicPr/>
          <p:nvPr/>
        </p:nvPicPr>
        <p:blipFill>
          <a:blip r:embed="rId2"/>
          <a:stretch/>
        </p:blipFill>
        <p:spPr>
          <a:xfrm>
            <a:off x="1773360" y="6659640"/>
            <a:ext cx="2952720" cy="1942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7920" y="0"/>
            <a:ext cx="6865920" cy="9144000"/>
          </a:xfrm>
          <a:prstGeom prst="rect">
            <a:avLst/>
          </a:prstGeom>
          <a:ln w="0">
            <a:noFill/>
          </a:ln>
        </p:spPr>
      </p:pic>
      <p:sp>
        <p:nvSpPr>
          <p:cNvPr id="92" name=""/>
          <p:cNvSpPr/>
          <p:nvPr/>
        </p:nvSpPr>
        <p:spPr>
          <a:xfrm>
            <a:off x="620640" y="323640"/>
            <a:ext cx="5761080" cy="80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c1900"/>
                </a:solidFill>
                <a:latin typeface="Arial"/>
              </a:rPr>
              <a:t>Экскурсия в космический музе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Сегодня 12 апреля мы всем классом пошли в космический музе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Мы медленно прогуливаемся по залам музея и слушаем неторопливую речь экскурсовод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4c1900"/>
                </a:solidFill>
                <a:latin typeface="Arial"/>
              </a:rPr>
              <a:t>      </a:t>
            </a:r>
            <a:r>
              <a:rPr b="1" i="1" lang="ru-RU" sz="1400" spc="-1" strike="noStrike">
                <a:solidFill>
                  <a:srgbClr val="4c1900"/>
                </a:solidFill>
                <a:latin typeface="Arial"/>
              </a:rPr>
              <a:t>«А это – гордость нашего музея – ракета «Ландыш». Ее спроектировали ученые специально для полета на Марс».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Меня очень заинтересовала ракета. Я посмотрел на своего друга Димку. Он тоже с любопытством разглядывал ракет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Дим, давай посмотрим, что там внутри»,- предложил 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Ух, ты! Сколько кнопок! Вот сейчас как нажму вот эту! Эй, эй! Вот этого не надо! Ой, мамочка! Да, где же Димка? Дима! Мы летим в космо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Пять минут. Десять. Полёт проходит нормально. Хочется есть. Уже совсем не страшно. Но ощущение противное – невесомость.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Что это надвигается на нас? Такое огромное и почему-то красное.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Ба-бах! Ого, как нас тряхануло! Ну, и космодромы у них!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Дим, вставай скорей, приехали! Мы, кажется, на Марсе!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Ага! Вот инструкция: «Надеть скафандры, быть предельно осторожными на предмет инопланетных существ».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Да откуда они здесь? Все знают – на Марсе жизни нет.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Ой, кто это?! Что это?! Смотри, Дим, что-то присвистывает, шипит и крякает! Может, сказать, что хочет?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Ну, здравствуйте, коли не шутит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Здрав-ствуй-т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Смотри-ка, Дим, быстро он на русский настроился. Ты кто? Марсиани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Да! Я хочу вам помоч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А чего нам помогать? Сейчас все посмотрим, поедим и назад домо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Оглянитесь вокруг. Это останки космических корабле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У вас, что тут была войн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7920" y="0"/>
            <a:ext cx="6865920" cy="9144000"/>
          </a:xfrm>
          <a:prstGeom prst="rect">
            <a:avLst/>
          </a:prstGeom>
          <a:ln w="0">
            <a:noFill/>
          </a:ln>
        </p:spPr>
      </p:pic>
      <p:sp>
        <p:nvSpPr>
          <p:cNvPr id="94" name=""/>
          <p:cNvSpPr/>
          <p:nvPr/>
        </p:nvSpPr>
        <p:spPr>
          <a:xfrm>
            <a:off x="692280" y="468360"/>
            <a:ext cx="5473440" cy="633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3300"/>
                </a:solidFill>
                <a:latin typeface="Arial"/>
              </a:rPr>
              <a:t>        </a:t>
            </a:r>
            <a:r>
              <a:rPr b="0" lang="ru-RU" sz="1400" spc="-1" strike="noStrike">
                <a:solidFill>
                  <a:srgbClr val="4c1900"/>
                </a:solidFill>
                <a:latin typeface="Arial"/>
              </a:rPr>
              <a:t>-Сейчас нет. Но много лет назад была. Раньше Марс называли райской планетой. Здесь всегда было тепло, солнечно, пели птицы, звенели ручьи, росли диковинные цветы. Марсиане погубили все это. Вода ушла вглубь планеты. Поверхностный слой обезводился и окаменел. Те, кто выжил в этой войне, ушли глубоко вниз, вслед за водо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c1900"/>
                </a:solidFill>
                <a:latin typeface="Arial"/>
              </a:rPr>
              <a:t>      </a:t>
            </a:r>
            <a:r>
              <a:rPr b="0" lang="ru-RU" sz="1400" spc="-1" strike="noStrike">
                <a:solidFill>
                  <a:srgbClr val="4c1900"/>
                </a:solidFill>
                <a:latin typeface="Arial"/>
              </a:rPr>
              <a:t>На Марс часто прилетают корабли с других планет. Хотят освоить его и использовать в своих целях. Наши власти не желают этого, поэтому уничтожают любых пришельцев без суда и следствия. Вам надо срочно улета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Ты нам поможеш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Да. Вы приземлились на неохраняемую территорию. Вот вам горючее! Его хватит, чтобы вернуться на Землю.</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Спасибо тебе, марсианин. Поверь, земляне не хотят вам зл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Как знать, как знать… У вас ведь тоже войны есть. Летите с миром.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Ого! Как опять нас тряхануло! Дим, а в школе нам говорили, что Марс необитае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c1900"/>
                </a:solidFill>
                <a:latin typeface="Arial"/>
              </a:rPr>
              <a:t>    </a:t>
            </a:r>
            <a:r>
              <a:rPr b="1" i="1" lang="ru-RU" sz="1400" spc="-1" strike="noStrike">
                <a:solidFill>
                  <a:srgbClr val="4c1900"/>
                </a:solidFill>
                <a:latin typeface="Arial"/>
              </a:rPr>
              <a:t>«На этом наша экскурсия заканчивается. Благодарим за внимани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Что такое? Какая экскурсия? Мы уже на Земле? А как же Марс? Ба, да это же Димка спит! Так это был со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Дим, проснись, мы уже прилетел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Идём, идём,  Наталья Владимировн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Как здорово, что светит солнце и поют птицы! Как восхитительно, что я дома, рядом мои друзь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Тукузов Кирилл</a:t>
            </a:r>
            <a:endParaRPr b="0" lang="en-US" sz="1400" spc="-1" strike="noStrike">
              <a:solidFill>
                <a:srgbClr val="000000"/>
              </a:solidFill>
              <a:latin typeface="Arial"/>
            </a:endParaRPr>
          </a:p>
        </p:txBody>
      </p:sp>
      <p:pic>
        <p:nvPicPr>
          <p:cNvPr id="95" name="" descr=""/>
          <p:cNvPicPr/>
          <p:nvPr/>
        </p:nvPicPr>
        <p:blipFill>
          <a:blip r:embed="rId2"/>
          <a:stretch/>
        </p:blipFill>
        <p:spPr>
          <a:xfrm>
            <a:off x="2060640" y="6877080"/>
            <a:ext cx="3024000" cy="180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6865920" cy="9144000"/>
          </a:xfrm>
          <a:prstGeom prst="rect">
            <a:avLst/>
          </a:prstGeom>
          <a:ln w="0">
            <a:noFill/>
          </a:ln>
        </p:spPr>
      </p:pic>
      <p:sp>
        <p:nvSpPr>
          <p:cNvPr id="97" name=""/>
          <p:cNvSpPr/>
          <p:nvPr/>
        </p:nvSpPr>
        <p:spPr>
          <a:xfrm>
            <a:off x="620640" y="460440"/>
            <a:ext cx="5616720" cy="8452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200"/>
                </a:solidFill>
                <a:latin typeface="Arial"/>
              </a:rPr>
              <a:t>Удивительный сон или полё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200"/>
                </a:solidFill>
                <a:latin typeface="Arial"/>
              </a:rPr>
              <a:t>на Зелёную планету</a:t>
            </a:r>
            <a:r>
              <a:rPr b="0" lang="en-US" sz="1800" spc="-1" strike="noStrike">
                <a:solidFill>
                  <a:srgbClr val="0032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Жил-был мальчик Витя. Он очень любил читать книги про космические приключения. Однажды он так увлёкся чтением, что уснул вместе с книгой. И ему приснился удивительный со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Летит Витя на космическом корабле. Свет звёзд освещает ему дорогу. В космосе звёзды кажутся больше, чем на Земле.     Вот мимо пролетел метеорит. А вот комета промелькнула, помахав своим хвостом. Красот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Вдруг впереди по курсу показалась планета. Что это за планета? Почему она не отмечена на звёздных картах?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Витя решил, что нужно обязательно изучить эту новую планету. Он развернул корабль и стал приземлятьс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Чем ближе корабль подлетал к планете, тем понятнее становилось, что на планете есть жизнь. Из космоса она казалась огромным ярко-зелёным шаром. Зелёной планета казалась благодаря деревьям и травам, покрывающим всю её поверхность.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 Если есть растения, значит есть кислород, - подумал Витя. И вышел из корабл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Воздух на этой планете был такой чистый, что у Вити закружилась голов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Под ногами Витя увидел красивейший цветок. Он наклонился, чтобы лучше рассмотреть его. Но цветок вспорхнул и улетел.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 Какая огромная бабочка! – удивился Вит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Вдруг из-за кустов появился человек с огромными крыльями. Но, не сказав ни слова, он взлетел, словно птица, и унёсся вдаль.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Мимо пробежало существо, очень похожее на собаку, но с рыбьим хвостом. За ним летела птица с огромным хоботом, которым она отталкивалась от деревьев.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Вдруг Витя отчётливо услышал какие-то звуки. Он прислушался, но не мог понять, откуда они исходят. Наконец, он понял, что это камни разговаривают с ним.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Чтобы лучше разобрать, он поднял один камень и поднёс к ух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7920" y="0"/>
            <a:ext cx="6865920" cy="9144000"/>
          </a:xfrm>
          <a:prstGeom prst="rect">
            <a:avLst/>
          </a:prstGeom>
          <a:ln w="0">
            <a:noFill/>
          </a:ln>
        </p:spPr>
      </p:pic>
      <p:sp>
        <p:nvSpPr>
          <p:cNvPr id="99" name=""/>
          <p:cNvSpPr/>
          <p:nvPr/>
        </p:nvSpPr>
        <p:spPr>
          <a:xfrm>
            <a:off x="476280" y="826920"/>
            <a:ext cx="5761080" cy="44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Но в этот момент зазвонил будильник.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 Какая обида! Что же хотел сказать мне камень? – думал мальчик, не желая просыпатьс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 Вставай, Витя! Пора в школ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Мама ласково гладила по голове мальчик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 Опять уснул с книжкой! А это что ещё за камен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Витя чуть не подпрыгнул от этих слов. Камень?! Значит, это был не со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Это тот самый камень, что умеет разговаривать? Витя не верил своим глаза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Он поднёс камень к уху, но камень молчал. Он гладил его и уговаривал сказать хотя бы слово, издать хотя бы звук. Но камень молча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С тех пор прошло много лет. Мальчик Витя вырос. Но своё путешествие на другую планету он не забыл. А камень до сих пор хранится в шкатулке с драгоценными вещами.</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200"/>
                </a:solidFill>
                <a:latin typeface="Arial"/>
              </a:rPr>
              <a:t> </a:t>
            </a:r>
            <a:r>
              <a:rPr b="0" lang="en-US" sz="1400" spc="-1" strike="noStrike">
                <a:solidFill>
                  <a:srgbClr val="003200"/>
                </a:solidFill>
                <a:latin typeface="Arial"/>
              </a:rPr>
              <a:t>Щемерова Дарь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 descr=""/>
          <p:cNvPicPr/>
          <p:nvPr/>
        </p:nvPicPr>
        <p:blipFill>
          <a:blip r:embed="rId2"/>
          <a:stretch/>
        </p:blipFill>
        <p:spPr>
          <a:xfrm>
            <a:off x="1413000" y="5148360"/>
            <a:ext cx="4321080" cy="3019320"/>
          </a:xfrm>
          <a:prstGeom prst="rect">
            <a:avLst/>
          </a:prstGeom>
          <a:ln w="0">
            <a:noFill/>
          </a:ln>
        </p:spPr>
      </p:pic>
      <p:sp>
        <p:nvSpPr>
          <p:cNvPr id="101" name=""/>
          <p:cNvSpPr/>
          <p:nvPr/>
        </p:nvSpPr>
        <p:spPr>
          <a:xfrm>
            <a:off x="4437000" y="5364000"/>
            <a:ext cx="792360" cy="792360"/>
          </a:xfrm>
          <a:prstGeom prst="ellipse">
            <a:avLst/>
          </a:pr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rcRect l="0" t="0" r="45637" b="0"/>
          <a:stretch/>
        </p:blipFill>
        <p:spPr>
          <a:xfrm>
            <a:off x="0" y="0"/>
            <a:ext cx="6859440" cy="9144000"/>
          </a:xfrm>
          <a:prstGeom prst="rect">
            <a:avLst/>
          </a:prstGeom>
          <a:ln w="0">
            <a:noFill/>
          </a:ln>
        </p:spPr>
      </p:pic>
      <p:sp>
        <p:nvSpPr>
          <p:cNvPr id="47" name=""/>
          <p:cNvSpPr/>
          <p:nvPr/>
        </p:nvSpPr>
        <p:spPr>
          <a:xfrm>
            <a:off x="981000" y="2268360"/>
            <a:ext cx="5184720" cy="516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И вот наступил последний учебный день. Мы так долго его ждали! Наша учительница впервые выставила нам оценки за четверть. Впереди свобода и отды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Сначала мне хотелось выспаться, потом поиграть, потом почитать, потом погулять, потом порисовать, потом просто полежать, потом посмотреть телевизор…</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И незаметно наступило воскресенье. Нужно было снова собираться в школу. Как много всего хотелось успеть! Но весенние каникулы такие короткие!</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Голова Елизавета</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Я провёл весенние каникулы здоров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Каждый день я гулял во дворе с друзьями, играл в компьютер и смотрел телевизор. Иногда помогал маме и брату. Ещё немного читал рассказы Ю.И. Коваля, решал задач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Запомнился мне день, когда мы с мамой пекли огромный торт. Торт получился очень вкусный. За ужином мы все его ели, запивая ароматным чае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В общем, провёл я эти каникулы хорошо и ни о чём ни пожале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Свешников Эдуард</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
          <p:cNvSpPr txBox="1"/>
          <p:nvPr/>
        </p:nvSpPr>
        <p:spPr>
          <a:xfrm>
            <a:off x="1484280" y="971640"/>
            <a:ext cx="432108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00"/>
                  </a:solidFill>
                  <a:miter/>
                </a:ln>
                <a:solidFill>
                  <a:srgbClr val="ffff00"/>
                </a:solidFill>
                <a:latin typeface="Georgia"/>
              </a:rPr>
              <a:t>Как мы провели </a:t>
            </a:r>
            <a:endParaRPr b="1" lang="en-US" sz="1800" spc="1" strike="noStrike">
              <a:ln w="9360">
                <a:solidFill>
                  <a:srgbClr val="ffff00"/>
                </a:solidFill>
                <a:miter/>
              </a:ln>
              <a:solidFill>
                <a:srgbClr val="ffff00"/>
              </a:solidFill>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00"/>
                  </a:solidFill>
                  <a:miter/>
                </a:ln>
                <a:solidFill>
                  <a:srgbClr val="ffff00"/>
                </a:solidFill>
                <a:latin typeface="Georgia"/>
              </a:rPr>
              <a:t>весенние каникулы</a:t>
            </a:r>
            <a:endParaRPr b="1" lang="en-US" sz="1800" spc="1" strike="noStrike">
              <a:ln w="9360">
                <a:solidFill>
                  <a:srgbClr val="ffff00"/>
                </a:solidFill>
                <a:miter/>
              </a:ln>
              <a:solidFill>
                <a:srgbClr val="ffff00"/>
              </a:solidFill>
              <a:latin typeface="Georgia"/>
              <a:ea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0" t="0" r="45637" b="0"/>
          <a:stretch/>
        </p:blipFill>
        <p:spPr>
          <a:xfrm>
            <a:off x="0" y="0"/>
            <a:ext cx="6859440" cy="9144000"/>
          </a:xfrm>
          <a:prstGeom prst="rect">
            <a:avLst/>
          </a:prstGeom>
          <a:ln w="0">
            <a:noFill/>
          </a:ln>
        </p:spPr>
      </p:pic>
      <p:sp>
        <p:nvSpPr>
          <p:cNvPr id="50" name=""/>
          <p:cNvSpPr/>
          <p:nvPr/>
        </p:nvSpPr>
        <p:spPr>
          <a:xfrm>
            <a:off x="1484280" y="2556000"/>
            <a:ext cx="432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1" name=""/>
          <p:cNvSpPr/>
          <p:nvPr/>
        </p:nvSpPr>
        <p:spPr>
          <a:xfrm>
            <a:off x="907920" y="1187280"/>
            <a:ext cx="5400720" cy="690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25 марта начались весенние   каникулы. Как хорошо, что они есть!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о время каникул я встречался с друзьями. Мы играли в снежки, ходили друг к другу в гости, играли в разные игры.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За то, что я хорошо закончил четверть, папа подарил мне книгу про танки Великой Отечественной войны. Её я и начал читать в эти каникул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выходные я ездил с бабушкой и дедушкой в деревню. Погода была хорошая. Мы с дедом ходили в лес на лыжах. Там мы видели заячьи след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Я хорошо провёл каникулы и пойду в школу с новыми силам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рифонов Дании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Закончилась третья четверть. Ура! Начались долгожданные каникул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каникулы я читала, играла, гуляла на улице, ходила в кинотеатр на фильм «Семейка Крудс». Была на детской дискотеке в пиццери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о особенно мне запомнилась пиратская вечеринка у Евы. Мы были в пиратских костюмах, на лице аквагрим.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У капитана Джека в старинном сундуке было много фокусов, конкурсов и призов. А главный приз – шляпа капитана. В некоторых состязаниях мне удавалось ею завладе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Каникулы пролетели быстро и незаметн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имонькина Арин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rcRect l="0" t="0" r="45637" b="0"/>
          <a:stretch/>
        </p:blipFill>
        <p:spPr>
          <a:xfrm>
            <a:off x="0" y="0"/>
            <a:ext cx="6859440" cy="9144000"/>
          </a:xfrm>
          <a:prstGeom prst="rect">
            <a:avLst/>
          </a:prstGeom>
          <a:ln w="0">
            <a:noFill/>
          </a:ln>
        </p:spPr>
      </p:pic>
      <p:sp>
        <p:nvSpPr>
          <p:cNvPr id="53" name=""/>
          <p:cNvSpPr/>
          <p:nvPr/>
        </p:nvSpPr>
        <p:spPr>
          <a:xfrm>
            <a:off x="836640" y="755640"/>
            <a:ext cx="5616720" cy="62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Наконец-то  начались каникулы!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Весь первый день я провёл на улице. Встретился с друзьями. Мы весело играли в снежки. А снег всё падал и падал каждый день. Выросли сугробы. Казалось, что у нас наступили не весенние, а зимние каникулы! Вот мы порезвились на снег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В каникулы мы всей семьёй ездили в деревню. Там мы окапывали дом, сарай, погреб и баню от снега, чтобы их потом не затопил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Мне хотелось сделать ещё много чего, но каникулы закончились. Пора идти в школ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Елистратов Серге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Я провёл каникулы очень замечательн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На каникулах мы всей семьёй отдыхали в Египте. Я первый раз летел на самолёте, и мне не было страшн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Из зимы мы попали в лето. Город Шарм-Ель-Шейх встретил нас жарой в 30 градус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Я купался в Красном море. Оно удивительно красивое и чисто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Папа купил мне маску. Я нырял  и под водой видел много разных рыб.</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Ещё мы были в аквапарке, где катались с горок и плавали в бассейн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Вот такими незабываемыми были мои каникулы! Мне очень понравилось путешествоват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Прахов Дмитр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0" t="0" r="45637" b="0"/>
          <a:stretch/>
        </p:blipFill>
        <p:spPr>
          <a:xfrm>
            <a:off x="0" y="0"/>
            <a:ext cx="6859440" cy="9144000"/>
          </a:xfrm>
          <a:prstGeom prst="rect">
            <a:avLst/>
          </a:prstGeom>
          <a:ln w="0">
            <a:noFill/>
          </a:ln>
        </p:spPr>
      </p:pic>
      <p:sp>
        <p:nvSpPr>
          <p:cNvPr id="55" name=""/>
          <p:cNvSpPr/>
          <p:nvPr/>
        </p:nvSpPr>
        <p:spPr>
          <a:xfrm>
            <a:off x="981000" y="1187280"/>
            <a:ext cx="5256360" cy="5459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аконец-то закончилась самая длинная четверть. Начались долгожданные каникулы!</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есенние каникулы длятся всего неделю, и поэтому я их провёл дом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Для того, чтобы дома не скучать, я играл в компьютерные игры, с дедом мы играли в настольный домашний футбол, читал книгу.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Книгу для чтения мне выбрали родители. Это сказка А. Волкова, моего однофамильца,  «Волшебник изумрудного города». Эта история про маленькую девочку Элли и её друзей мне очень понравилась.</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о самое важное событие на каникулах – это мой день рождения!</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н был в субботу, 30 марта. Мне подарили большой настольный хоккей.</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А в воскресенье я ходил в цирк. Там было очень интересно.</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о вот каникулы подошли к концу. Не смотря на то, что они длились всего неделю, они прошли очень весело и забавно!</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олков Витали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0" t="0" r="45637" b="0"/>
          <a:stretch/>
        </p:blipFill>
        <p:spPr>
          <a:xfrm>
            <a:off x="0" y="0"/>
            <a:ext cx="6859440" cy="9144000"/>
          </a:xfrm>
          <a:prstGeom prst="rect">
            <a:avLst/>
          </a:prstGeom>
          <a:ln w="0">
            <a:noFill/>
          </a:ln>
        </p:spPr>
      </p:pic>
      <p:sp>
        <p:nvSpPr>
          <p:cNvPr id="57" name=""/>
          <p:cNvSpPr/>
          <p:nvPr/>
        </p:nvSpPr>
        <p:spPr>
          <a:xfrm>
            <a:off x="1125360" y="1332000"/>
            <a:ext cx="4751640" cy="3958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есенние каникулы я провёл весело и интересно.</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первый день каникул я был у бабушки. Там играл в компьютерные игры и смотрел телевизор.</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а следующий день мы с мамой ходили на выставку обезьян. Обезьянки очень забавные. У них есть имена: Боня, Паша, Марго и Василиса. После выставки мы ходили в кафе и ели мороженое.</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а следующий день я снова был у бабушки. Вместе с ней мы ходили навещать прабабушку, которая болеет.</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се остальные дни я был дома. Читал, играл и просто отдыхал.</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общем время пролетело незаметно. И скоро опять в школу. Жаль, каникулы такие короткие!</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екарев Тимур</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rcRect l="0" t="0" r="45637" b="0"/>
          <a:stretch/>
        </p:blipFill>
        <p:spPr>
          <a:xfrm>
            <a:off x="0" y="0"/>
            <a:ext cx="6859440" cy="9144000"/>
          </a:xfrm>
          <a:prstGeom prst="rect">
            <a:avLst/>
          </a:prstGeom>
          <a:ln w="0">
            <a:noFill/>
          </a:ln>
        </p:spPr>
      </p:pic>
      <p:sp>
        <p:nvSpPr>
          <p:cNvPr id="59" name=""/>
          <p:cNvSpPr/>
          <p:nvPr/>
        </p:nvSpPr>
        <p:spPr>
          <a:xfrm>
            <a:off x="1125360" y="1332000"/>
            <a:ext cx="4751640" cy="5895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от и наступили весенние каникулы! Мы их ждали с нетерпением.</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первый день каникул мы с бабушкой уехали в деревню. Наша деревня называется Подлесная Тавл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ней есть большая гора. Там построена канатная дорога. На канатах лыжники поднимаются на вершину горы. Вниз спускаются на лыжах.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ам с моей подругой Юлей очень хотелось подняться на вершину горы, но взрослые нам не разрешили. Тогда мы стали кататься на ледянках с небольшой горки. Было очень весело!</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воскресенье мы с мамой и папой ходили в кинотеатр «Синема Сттар» на мультфильм «Семейка Крудс». Мультик мне очень понравился. Герои такие забавные и смешные!</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ак я провела свои весенние каникулы.</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Лияскина Мария</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7920" y="0"/>
            <a:ext cx="6865920" cy="9144000"/>
          </a:xfrm>
          <a:prstGeom prst="rect">
            <a:avLst/>
          </a:prstGeom>
          <a:ln w="0">
            <a:noFill/>
          </a:ln>
        </p:spPr>
      </p:pic>
      <p:pic>
        <p:nvPicPr>
          <p:cNvPr id="61" name="" descr=""/>
          <p:cNvPicPr/>
          <p:nvPr/>
        </p:nvPicPr>
        <p:blipFill>
          <a:blip r:embed="rId2"/>
          <a:stretch/>
        </p:blipFill>
        <p:spPr>
          <a:xfrm>
            <a:off x="1341360" y="2411280"/>
            <a:ext cx="4424400" cy="5899320"/>
          </a:xfrm>
          <a:prstGeom prst="rect">
            <a:avLst/>
          </a:prstGeom>
          <a:ln w="0">
            <a:noFill/>
          </a:ln>
        </p:spPr>
      </p:pic>
      <p:sp>
        <p:nvSpPr>
          <p:cNvPr id="62" name=""/>
          <p:cNvSpPr txBox="1"/>
          <p:nvPr/>
        </p:nvSpPr>
        <p:spPr>
          <a:xfrm>
            <a:off x="765000" y="1258920"/>
            <a:ext cx="54486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99"/>
                </a:solidFill>
                <a:latin typeface="Georgia"/>
              </a:rPr>
              <a:t>Космос глазами детей</a:t>
            </a:r>
            <a:endParaRPr b="1" lang="en-US" sz="1800" spc="1" strike="noStrike">
              <a:ln w="9360">
                <a:solidFill>
                  <a:srgbClr val="000000"/>
                </a:solidFill>
                <a:miter/>
              </a:ln>
              <a:solidFill>
                <a:srgbClr val="333399"/>
              </a:solidFill>
              <a:latin typeface="Georgia"/>
              <a:ea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7T06:13:40Z</dcterms:created>
  <dc:creator>User</dc:creator>
  <dc:description/>
  <dc:language>en-US</dc:language>
  <cp:lastModifiedBy>User</cp:lastModifiedBy>
  <dcterms:modified xsi:type="dcterms:W3CDTF">2013-04-28T13:14:13Z</dcterms:modified>
  <cp:revision>12</cp:revision>
  <dc:subject/>
  <dc:title>Слайд 1</dc:title>
</cp:coreProperties>
</file>