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D08-92C6-45F4-AD0B-0470AA40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54F-C2AE-4FD0-9C3B-6762D82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3AC-A85F-4F76-96A3-1BFD848F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C36-2295-49C0-A019-2D5EBDED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6705-2671-43AF-8C35-8BA5C360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E53F-4A45-44B1-B422-2AA31429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B971-7FC3-4DC8-9C5C-14BD789F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085B-FD1E-4829-B971-5A00ADD6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4B76-318C-4F3B-A5E4-F851903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6A08-E5FC-4D2B-A449-CFE2297B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C912-EB75-4B20-8C68-EA1BFD06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0BE-7554-4F8A-BA50-42F7B36A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1625-BB1A-4D4B-967A-6F667632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E1CD-244F-449E-83B2-6A3C03F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C5EF-3BBF-4B19-B0A8-F257851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61B1-1396-400D-8FDD-8651D704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D806-E37A-4421-B008-E6E58A3B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794-9DA8-48F8-BBBF-1D408034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AE2-B7C2-4D0C-818A-27ADD625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12C-56B4-4E88-BC6A-B5692D3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1DF-5829-4C29-A6F9-8B52F7F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9D5-3002-4727-A8E5-58E94EF8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155-F332-4988-9E5B-1DABF2FC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7AB-014A-442B-AEFC-09FB3F9D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4A22-3253-4393-88EA-8A9761B8DC2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F55-EA64-41D9-B15D-19A34FB3D4C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yandex.ru/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96720" y="390600"/>
            <a:ext cx="8631360" cy="52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1640" y="5084640"/>
            <a:ext cx="4329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готовил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-логопе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мельянова Е.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7"/>
          <p:cNvSpPr/>
          <p:nvPr/>
        </p:nvSpPr>
        <p:spPr>
          <a:xfrm>
            <a:off x="214200" y="115920"/>
            <a:ext cx="635796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«Кто у к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ь соотносить название животных и их детенышей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детей карточки-картинки, в названиях которых названия детеныш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трая плутов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ыжая голов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вост пушистый - крас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зовут ее ... (Лис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ак называют детеныша лисы? Лисенок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Кто детеныши? Лися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азывайте детенышей (упражнение с мячом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ОГОПЕ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дь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двежо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яц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онок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волчонок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2" descr="http://900igr.net/Detskie_prezentatsii/biologiya/Dikie_1.files/slide0013_image02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1197000"/>
            <a:ext cx="1969920" cy="278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omorfia.ru/system/user/image/normal/27987/normal_SsW1Oxn13EQ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364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7"/>
          <p:cNvSpPr/>
          <p:nvPr/>
        </p:nvSpPr>
        <p:spPr>
          <a:xfrm>
            <a:off x="214200" y="285840"/>
            <a:ext cx="635796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Назови профессию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вставляет стекла?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Стеколь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работает на кране?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- Кранов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чинит часы? 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Часовщ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работает на экскаваторе? -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Экскаваторщик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звать того, кто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управляет поездом? - Машин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играет на рояле (пианино)? - Пиани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сочиняет пес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водит самол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то такой архитектор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http://licey507.ru/userImages/6260279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51640" y="260280"/>
            <a:ext cx="1457280" cy="147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900igr.net/data/chelovek/Professii-02.files/0009-015-Professii-02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2205000"/>
            <a:ext cx="2420640" cy="225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kgleyzer.narod.ru/machinist.jpg"/>
          <p:cNvPicPr/>
          <p:nvPr/>
        </p:nvPicPr>
        <p:blipFill>
          <a:blip r:embed="rId6"/>
          <a:stretch/>
        </p:blipFill>
        <p:spPr>
          <a:xfrm>
            <a:off x="6443640" y="4869000"/>
            <a:ext cx="244944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7"/>
          <p:cNvSpPr/>
          <p:nvPr/>
        </p:nvSpPr>
        <p:spPr>
          <a:xfrm>
            <a:off x="214200" y="-316080"/>
            <a:ext cx="63579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«Чьи хвосты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85840" y="1591920"/>
            <a:ext cx="442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 называются хвосты у домашних живот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ст собаки - собачий, хвост кошки - кошачий, хвост коровы -коровий, хвост лошади - лошадиный, хвост быка - бычий, хвост козы -козий, хвост барана - бараний, хвост овцы - ове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http://s5.gallery.aystatic.by/650/349/336/508/508336349_2.jpg"/>
          <p:cNvPicPr/>
          <p:nvPr/>
        </p:nvPicPr>
        <p:blipFill>
          <a:blip r:embed="rId2"/>
          <a:stretch/>
        </p:blipFill>
        <p:spPr>
          <a:xfrm>
            <a:off x="5238720" y="1413000"/>
            <a:ext cx="37162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7"/>
          <p:cNvSpPr/>
          <p:nvPr/>
        </p:nvSpPr>
        <p:spPr>
          <a:xfrm>
            <a:off x="214200" y="28584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5840" y="1144800"/>
            <a:ext cx="4857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разование относительных прилагатель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березы - берез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липы - лип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ст с рябины - рябиновый лис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Шишка с сосны - сосновая шишка и т.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571680" y="0"/>
            <a:ext cx="788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С какого дерева слетел лист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http://img.labirint.ru/images/comments_pic/1010/011labgi0l1268185210.jpg"/>
          <p:cNvPicPr/>
          <p:nvPr/>
        </p:nvPicPr>
        <p:blipFill>
          <a:blip r:embed="rId2"/>
          <a:srcRect l="15477" t="0" r="0" b="0"/>
          <a:stretch/>
        </p:blipFill>
        <p:spPr>
          <a:xfrm>
            <a:off x="5292720" y="2071800"/>
            <a:ext cx="3643200" cy="30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7"/>
          <p:cNvSpPr/>
          <p:nvPr/>
        </p:nvSpPr>
        <p:spPr>
          <a:xfrm>
            <a:off x="214200" y="285840"/>
            <a:ext cx="635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85840" y="180432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СПАСИБО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З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c000"/>
                </a:solidFill>
                <a:latin typeface="Times New Roman"/>
              </a:rPr>
              <a:t>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493560" y="774720"/>
            <a:ext cx="8242560" cy="5162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000680" y="4285800"/>
            <a:ext cx="4900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.А. Сухомлински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85840" y="857160"/>
          <a:ext cx="8501040" cy="5607000"/>
        </p:xfrm>
        <a:graphic>
          <a:graphicData uri="http://schemas.openxmlformats.org/drawingml/2006/table">
            <a:tbl>
              <a:tblPr/>
              <a:tblGrid>
                <a:gridCol w="85010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руктура дидактической игры: 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0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дактическая задача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ая задача.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ровые действия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а игры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 (подведение итогов) 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000"/>
                </a:solidFill>
                <a:latin typeface="Times New Roman"/>
              </a:rPr>
              <a:t>Этапы развития словообразования различных частей речи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c000"/>
                </a:solidFill>
                <a:uFillTx/>
                <a:latin typeface="Times New Roman"/>
              </a:rPr>
              <a:t>1 ЭТАП:</a:t>
            </a:r>
            <a:r>
              <a:rPr b="0" lang="ru-RU" sz="38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Образование уменьшительно-ласкательных существительных с суффиксами: </a:t>
            </a:r>
            <a:r>
              <a:rPr b="1" i="1" lang="ru-RU" sz="3800" spc="-1" strike="noStrike">
                <a:solidFill>
                  <a:srgbClr val="ffc000"/>
                </a:solidFill>
                <a:latin typeface="Times New Roman"/>
              </a:rPr>
              <a:t>-к, -ик, -чик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imes New Roman"/>
              </a:rPr>
              <a:t>Глаголы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дифференциация современного и несовершенного вида;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возвратных и не возвратных глаголов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imes New Roman"/>
              </a:rPr>
              <a:t>-образование притяжательных прилагательных с помощью суффикса </a:t>
            </a:r>
            <a:r>
              <a:rPr b="0" i="1" lang="ru-RU" sz="3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ru-RU" sz="3800" spc="-1" strike="noStrike">
                <a:solidFill>
                  <a:srgbClr val="ffc000"/>
                </a:solidFill>
                <a:latin typeface="Times New Roman"/>
              </a:rPr>
              <a:t>ин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c000"/>
                </a:solidFill>
                <a:uFillTx/>
                <a:latin typeface="Times New Roman"/>
              </a:rPr>
              <a:t>2 ЭТАП</a:t>
            </a:r>
            <a:r>
              <a:rPr b="0" lang="ru-RU" sz="2900" spc="-1" strike="noStrike">
                <a:solidFill>
                  <a:srgbClr val="ffc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Существительные</a:t>
            </a:r>
            <a:r>
              <a:rPr b="1" lang="ru-RU" sz="29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уменьшительно-ласкательные 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оньк, -енък, -ышек, -ышк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buClr>
                <a:srgbClr val="f9f9f9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–инн (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ылинка, соломинка)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ин (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виноградина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Глаголы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 приставками  е-, 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вы-, на-;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лаголы  пространственного значения с приставкой при-.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притяжательные 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и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(лисий);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относительные с суффиксом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-н, -ан, -ян, -енн;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качественные с суффиксами </a:t>
            </a:r>
            <a:r>
              <a:rPr b="0" i="1" lang="ru-RU" sz="2900" spc="-1" strike="noStrike">
                <a:solidFill>
                  <a:srgbClr val="ffffff"/>
                </a:solidFill>
                <a:latin typeface="Times New Roman"/>
              </a:rPr>
              <a:t>—н, -ив, -чив, -лив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5480" y="285480"/>
            <a:ext cx="84294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c000"/>
                </a:solidFill>
                <a:uFillTx/>
                <a:latin typeface="Times New Roman"/>
              </a:rPr>
              <a:t>3 ЭТАП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Существительные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образование названий профессий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Глаголы: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пространственного значения с приставками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с-, у-, под-, от-, за-,пере-, до-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c000"/>
                </a:solidFill>
                <a:latin typeface="Times New Roman"/>
              </a:rPr>
              <a:t>Прилагательные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притяжательные с суффиксом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—и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(волчий);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относительные с суффиксом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-ан, -ян, -енн;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- качественные с суффиксами </a:t>
            </a:r>
            <a:r>
              <a:rPr b="0" i="1" lang="ru-RU" sz="3300" spc="-1" strike="noStrike">
                <a:solidFill>
                  <a:srgbClr val="ffffff"/>
                </a:solidFill>
                <a:latin typeface="Times New Roman"/>
              </a:rPr>
              <a:t>-оват, -енък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20840" y="420840"/>
            <a:ext cx="8242200" cy="3870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0" y="-243000"/>
            <a:ext cx="723744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Дидактическая иг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</a:rPr>
              <a:t>«Назови ласково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Цель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учение употреблению существительных с уменьшительно-ласкательными суффик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енку предлагается картинка, н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торой среди кукол есть маленьк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к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Что эт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ая это кукла? (Больш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ая это кукла? (Маленька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 ласково произнесем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кукла-кукол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http://toys-company.ru/upload/iblock/890/890db35c1eee9fd3fb8044998abf5e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7360" y="2205000"/>
            <a:ext cx="2906640" cy="2906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http://toys-company.ru/upload/iblock/890/890db35c1eee9fd3fb8044998abf5e6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5229360"/>
            <a:ext cx="14749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20840" y="208080"/>
            <a:ext cx="8242200" cy="38703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5"/>
          <p:cNvSpPr/>
          <p:nvPr/>
        </p:nvSpPr>
        <p:spPr>
          <a:xfrm>
            <a:off x="214200" y="-243000"/>
            <a:ext cx="6286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Дидактическая иг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c000"/>
                </a:solidFill>
                <a:latin typeface="Times New Roman"/>
              </a:rPr>
              <a:t>«Что для чего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ям предлагается назвать предметы, которые лежат на столе (хлеб, сахар, конфеты, мыло) или показаны на картинк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лежат (хранятся) эти предметы? (Хлеб - в хлебнице, сахар - в сахарнице, конфеты - в конфетнице, мыло - в мыльнице и т.д.). (Соусница, селедочница, салатница, салфетница, сухарница, солонк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игры, дети произносят предложения. Хлеб кладу в хлебницу, конфеты в конфетн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называется посуда, на которую кладут селедочку? и т.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уда наливают соу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8" descr="http://www.hotelsmir.ru/catalogue/files/120/bi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15920"/>
            <a:ext cx="1486080" cy="209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nash-farfor.ru/image/cache/data/verbilki/opi/konfet/nezhnost_2319010p-600x60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32720" y="4437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o-live.com.ua/wp-content/uploads/et_temp/zagruzhennoe121-7998_218x18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32720" y="2349360"/>
            <a:ext cx="22190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шаня</dc:creator>
  <dc:description/>
  <dc:language>en-US</dc:language>
  <cp:lastModifiedBy>Мишаня</cp:lastModifiedBy>
  <dcterms:modified xsi:type="dcterms:W3CDTF">2013-04-27T06:55:31Z</dcterms:modified>
  <cp:revision>16</cp:revision>
  <dc:subject/>
  <dc:title>Использование  наглядно-дидактических игр в работе над словообразованием   у дошкольников  с общим недоразвитием речи</dc:title>
</cp:coreProperties>
</file>