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05D-A177-4F67-96F6-F1BB8218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F69-398F-44ED-8B01-1446984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B94-E91D-4283-B227-E630F2AA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3FB-E782-43CC-A965-88901E3E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193D-CB37-468A-ACBF-0E29DF50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A1D8-0E4E-432D-8D7A-6CCF0D6D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AA63-3E2E-45C2-8091-3DCC767E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A97-A8AD-4114-B015-C290ED71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7B5A-8451-4269-8E95-367383F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1472-2FDC-4734-A010-45F53DC8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88E2-98F9-4618-8363-9724F63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48A-7E1F-4351-BE5A-04C9A338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307-E9BE-4E7C-BDC6-40D9A2F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237-315D-41E3-9D3C-00A33B0A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A967-420D-4C44-AD51-564C2D87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2DAF-7257-4055-9E6E-0F833990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43F9-1FEC-40E5-B6F1-E96EB486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FCF-29DD-479C-AB90-EF9EA7C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757-47F8-4869-89E0-0A91227B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EF9-B087-485A-9F6B-37BE344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E67-4023-4F5B-AE7A-B07BD14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31F-2102-4CC7-801F-F983FE7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F84-47B4-4262-B3B1-3A90E89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FC4-0FB4-46CB-999F-02BA5F9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566-D0A8-4D56-94E9-A27A35A6245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466-1AB7-41D0-A80F-13A2686B145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96720" y="390600"/>
            <a:ext cx="8631360" cy="52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1640" y="5084640"/>
            <a:ext cx="4329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-логоп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мельянова Е.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7"/>
          <p:cNvSpPr/>
          <p:nvPr/>
        </p:nvSpPr>
        <p:spPr>
          <a:xfrm>
            <a:off x="214200" y="115920"/>
            <a:ext cx="635796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«Кто у 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ь соотносить название животных и их детеныше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етей карточки-картинки, в названиях которых названия детеныш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трая плутов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ыжая голов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вост пушистый - крас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зовут ее ... (Лис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называют детеныша лисы? Лисено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то детеныши? Лися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азывайте детенышей (упражнение с мячом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ГОПЕ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вед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вежоно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яц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оно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волчонок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2" descr="http://900igr.net/Detskie_prezentatsii/biologiya/Dikie_1.files/slide0013_image02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197000"/>
            <a:ext cx="1969920" cy="278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omorfia.ru/system/user/image/normal/27987/normal_SsW1Oxn13EQ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7"/>
          <p:cNvSpPr/>
          <p:nvPr/>
        </p:nvSpPr>
        <p:spPr>
          <a:xfrm>
            <a:off x="214200" y="285840"/>
            <a:ext cx="635796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«Назови профессию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вставляет стекла?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Стекольщ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работает на кране?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Крановщ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чинит часы? 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асовщ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работает на экскаваторе? 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кскаваторщик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вать того, кто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управляет поездом? - Машини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играет на рояле (пианино)? - Пиани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сочиняет пес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водит само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такой архитекто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ttp://licey507.ru/userImages/6260279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1640" y="260280"/>
            <a:ext cx="1457280" cy="147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900igr.net/data/chelovek/Professii-02.files/0009-015-Professii-02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2205000"/>
            <a:ext cx="2420640" cy="2255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kgleyzer.narod.ru/machinist.jpg"/>
          <p:cNvPicPr/>
          <p:nvPr/>
        </p:nvPicPr>
        <p:blipFill>
          <a:blip r:embed="rId6"/>
          <a:stretch/>
        </p:blipFill>
        <p:spPr>
          <a:xfrm>
            <a:off x="6443640" y="4869000"/>
            <a:ext cx="24494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7"/>
          <p:cNvSpPr/>
          <p:nvPr/>
        </p:nvSpPr>
        <p:spPr>
          <a:xfrm>
            <a:off x="214200" y="-316080"/>
            <a:ext cx="63579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«Чьи хвосты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85840" y="1591920"/>
            <a:ext cx="442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 называются хвосты у домашних животны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ст собаки - собачий, хвост кошки - кошачий, хвост коровы -коровий, хвост лошади - лошадиный, хвост быка - бычий, хвост козы -козий, хвост барана - бараний, хвост овцы - ов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http://s5.gallery.aystatic.by/650/349/336/508/508336349_2.jpg"/>
          <p:cNvPicPr/>
          <p:nvPr/>
        </p:nvPicPr>
        <p:blipFill>
          <a:blip r:embed="rId2"/>
          <a:stretch/>
        </p:blipFill>
        <p:spPr>
          <a:xfrm>
            <a:off x="5238720" y="1413000"/>
            <a:ext cx="3716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7"/>
          <p:cNvSpPr/>
          <p:nvPr/>
        </p:nvSpPr>
        <p:spPr>
          <a:xfrm>
            <a:off x="214200" y="28584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5840" y="1144800"/>
            <a:ext cx="485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бразование относительных прилагатель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 с березы - березовый л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 с липы - липовый л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 с рябины - рябиновый л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ишка с сосны - сосновая шишка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571680" y="0"/>
            <a:ext cx="788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«С какого дерева слетел лист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http://img.labirint.ru/images/comments_pic/1010/011labgi0l1268185210.jpg"/>
          <p:cNvPicPr/>
          <p:nvPr/>
        </p:nvPicPr>
        <p:blipFill>
          <a:blip r:embed="rId2"/>
          <a:srcRect l="15477" t="0" r="0" b="0"/>
          <a:stretch/>
        </p:blipFill>
        <p:spPr>
          <a:xfrm>
            <a:off x="5292720" y="2071800"/>
            <a:ext cx="3643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7"/>
          <p:cNvSpPr/>
          <p:nvPr/>
        </p:nvSpPr>
        <p:spPr>
          <a:xfrm>
            <a:off x="214200" y="28584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5840" y="180432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Times New Roman"/>
              </a:rPr>
              <a:t>З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Times New Roman"/>
              </a:rPr>
              <a:t>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93560" y="774720"/>
            <a:ext cx="8242560" cy="516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000680" y="4285800"/>
            <a:ext cx="4900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.А. Сухомлински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85840" y="857160"/>
          <a:ext cx="8501040" cy="560700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руктура дидактической игры: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0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ая задача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задача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ые действия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а игры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 (подведение итогов) 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</a:rPr>
              <a:t>Этапы развития словообразования различных частей речи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c000"/>
                </a:solidFill>
                <a:uFillTx/>
                <a:latin typeface="Times New Roman"/>
              </a:rPr>
              <a:t>1 ЭТАП:</a:t>
            </a:r>
            <a:r>
              <a:rPr b="0" lang="ru-RU" sz="3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Образование уменьшительно-ласкательных существительных с суффиксами: </a:t>
            </a:r>
            <a:r>
              <a:rPr b="1" i="1" lang="ru-RU" sz="3800" spc="-1" strike="noStrike">
                <a:solidFill>
                  <a:srgbClr val="ffc000"/>
                </a:solidFill>
                <a:latin typeface="Times New Roman"/>
              </a:rPr>
              <a:t>-к, -ик, -чик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imes New Roman"/>
              </a:rPr>
              <a:t>Глаголы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-дифференциация современного и несовершенного вида;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-возвратных и не возвратных глаголов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imes New Roman"/>
              </a:rPr>
              <a:t>Прилагательные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-образование притяжательных прилагательных с помощью суффикса </a:t>
            </a:r>
            <a:r>
              <a:rPr b="0" i="1" lang="ru-RU" sz="3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ru-RU" sz="3800" spc="-1" strike="noStrike">
                <a:solidFill>
                  <a:srgbClr val="ffc000"/>
                </a:solidFill>
                <a:latin typeface="Times New Roman"/>
              </a:rPr>
              <a:t>ин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c000"/>
                </a:solidFill>
                <a:uFillTx/>
                <a:latin typeface="Times New Roman"/>
              </a:rPr>
              <a:t>2 ЭТАП</a:t>
            </a:r>
            <a:r>
              <a:rPr b="0" lang="ru-RU" sz="29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Times New Roman"/>
              </a:rPr>
              <a:t>Существительные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уменьшительно-ласкательные с суффиксами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оньк, -енък, -ышек, -ышк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 суффиксами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–инн (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ылинка, соломинка)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 суффиксом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ин (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виноградина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Times New Roman"/>
              </a:rPr>
              <a:t>Глаголы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 приставками  е-, 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вы-, на-;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лаголы  пространственного значения с приставкой при-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Times New Roman"/>
              </a:rPr>
              <a:t>Прилагательные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притяжательные с суффиксом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и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(лисий);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относительные с суффиксом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н, -ан, -ян, -енн;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качественные с суффиксами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—н, -ив, -чив, -лив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c000"/>
                </a:solidFill>
                <a:uFillTx/>
                <a:latin typeface="Times New Roman"/>
              </a:rPr>
              <a:t>3 ЭТАП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000"/>
                </a:solidFill>
                <a:latin typeface="Times New Roman"/>
              </a:rPr>
              <a:t>Существительные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образование названий профессий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000"/>
                </a:solidFill>
                <a:latin typeface="Times New Roman"/>
              </a:rPr>
              <a:t>Глаголы: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пространственного значения с приставками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с-, у-, под-, от-, за-,пере-, до-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000"/>
                </a:solidFill>
                <a:latin typeface="Times New Roman"/>
              </a:rPr>
              <a:t>Прилагательные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притяжательные с суффиксом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—и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(волчий);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относительные с суффиксом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-ан, -ян, -енн;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качественные с суффиксами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-оват, -енък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0" y="-243000"/>
            <a:ext cx="72374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Дидактическая иг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«Назови ласково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ение употреблению существительных с уменьшительно-ласкательными суффик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бенку предлагается картинка, н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торой среди кукол есть малень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к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Что эт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ая это кукла? (Больш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ая это кукла? (Маленьк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 ласково произнесем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кукла-кукол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http://toys-company.ru/upload/iblock/890/890db35c1eee9fd3fb8044998abf5e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7360" y="2205000"/>
            <a:ext cx="2906640" cy="290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toys-company.ru/upload/iblock/890/890db35c1eee9fd3fb8044998abf5e6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5229360"/>
            <a:ext cx="1474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20840" y="208080"/>
            <a:ext cx="8242200" cy="3870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14200" y="-243000"/>
            <a:ext cx="6286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«Что для чего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ям предлагается назвать предметы, которые лежат на столе (хлеб, сахар, конфеты, мыло) или показаны на картин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лежат (хранятся) эти предметы? (Хлеб - в хлебнице, сахар - в сахарнице, конфеты - в конфетнице, мыло - в мыльнице и т.д.). (Соусница, селедочница, салатница, салфетница, сухарница, солонк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игры, дети произносят предложения. Хлеб кладу в хлебницу, конфеты в конфетн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называется посуда, на которую кладут селедочку?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да наливают соу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http://www.hotelsmir.ru/catalogue/files/120/bi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15920"/>
            <a:ext cx="1486080" cy="209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nash-farfor.ru/image/cache/data/verbilki/opi/konfet/nezhnost_2319010p-600x6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443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o-live.com.ua/wp-content/uploads/et_temp/zagruzhennoe121-7998_218x18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349360"/>
            <a:ext cx="22190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шаня</dc:creator>
  <dc:description/>
  <dc:language>en-US</dc:language>
  <cp:lastModifiedBy>Мишаня</cp:lastModifiedBy>
  <dcterms:modified xsi:type="dcterms:W3CDTF">2013-04-27T06:55:31Z</dcterms:modified>
  <cp:revision>16</cp:revision>
  <dc:subject/>
  <dc:title>Использование  наглядно-дидактических игр в работе над словообразованием   у дошкольников  с общим недоразвитием речи</dc:title>
</cp:coreProperties>
</file>