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6355-AA3A-4480-BAF2-F31CCEBE3D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9B5C-ED9B-435A-B082-749CA175163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DDFD-F688-47F2-99DF-EB3304678CC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0819-89A9-40D1-9D4B-5D24D10E12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EC3A-62DE-4F71-8E17-1A62263A395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1425-5A74-4F10-87F9-963DBFE1672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C67B-DAF1-4E25-8A5F-6A4B338E4C0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E778-0C56-4675-912B-1CA6833279B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2124-BFC1-4A3F-82DA-DF2010CBC29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52C0-C705-4CBF-9697-ABD39C9B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076A-B535-458B-917E-481049D5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39156-7990-4AB2-867C-FD2DA8C8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5ABC1-2321-4938-A4C2-1B44AC6C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E6FD9-E029-4BCF-995C-4914A4A3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357F7-3926-43EE-BB19-35261FBA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BB186-B688-4784-AC32-D4F46244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F9723-2B5C-4A69-B3FD-95582C42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7F190-779C-4621-92D5-ED9C9D20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CA7E2-8A8E-4195-AE1C-A7BAB917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1FE1A-C02A-4806-9217-028846F8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777A1-81B7-47A2-B5ED-0D56CDC9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9C98-077C-4785-B4DA-DBCC5520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1DA8B-28F0-4ACA-BA58-DEC24B8F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37FF5-5BFB-4493-83A9-D02DAE18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10A43-ED18-48F7-9C6D-CB58997D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2A49A-8004-49D9-B278-2EE0DDF1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C72E4-3AAA-4C9D-9FD7-007A6A56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9BD56-5A77-4621-9CD5-92EBFB22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453A7-DC77-4EF2-977B-ABF5DCB7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7441B-030B-4202-89BE-1D34A1C2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1B3FD-EAF3-4667-9DCE-B3D7E6D6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9046C-AFA6-4A50-9A66-96780E53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BD91-4A69-4690-9877-2AB1C0BD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7803C-D492-43B5-90E2-8407F7B3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6B50E-C9A5-4642-AA27-92027A1B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FC44A-CCCE-4A96-83A0-CD54255B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3057C-0DCD-454B-BCA8-AE01ECB4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E8E25-67BA-4C2E-AD39-AF14C9EA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4FB6E-541E-44FC-A8F4-2B61CC96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1B94E-F6D8-4013-B7ED-AC732BCF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3C949-53DA-418E-BF7E-32740330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17FC4-A55B-4986-880F-35E13AC1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608A8-B13D-4967-8186-8270DD63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C4D8-3E03-430C-90DF-7CBFA252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0C80A-30D0-4F9E-9D0B-6FAA5B1D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B2AF4-21E0-4D04-984F-639D943D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C9DBD-B728-48AA-B199-85A261B3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443A0-9FA6-47C9-B616-9241BAC6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B12A2-9CA6-4EAC-A7FF-DCA707DC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34CE2-EEA8-409E-A556-13397EC7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630A0-D0AC-4F9F-9CE1-61A1A75A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6ADD8-EB18-4A42-B60F-E696CEF5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2EBA5-A1DE-40EF-A326-63DD3596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102B0-072D-4FD4-97B7-B346CE37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ED55-210F-4364-9002-530B4128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529A6-DEBC-4478-BEA0-65A482C0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C14D3-3D59-40F4-8057-013B2233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C4EE3-3226-42D2-8AC2-BB7E733C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DAFBF-E395-4784-AB08-695576F3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73516-566D-458F-AB16-A8583228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0F131-2E59-493D-A6C0-2AE0B2D9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86E3D-376E-4C7D-A1E0-479F2882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657040-7CDA-4007-B3F4-64BE92FA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69460-F45B-4C4A-9107-A016F2D5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2038E6-50DD-4C48-BDA3-2726901C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39DA-FBFF-45EA-BE6E-1E4968F2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F792A-2E72-419A-8E6D-4E3C905C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3E52D-CED3-48DC-B7B8-14654C43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6C000D-E193-48E6-9E42-7B4A4752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28934-6CBF-422F-A544-943672CA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AFEBE-219B-425F-AAF2-750FC2A0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25485-B35B-4632-9B5F-789F9260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ED542-619E-4DF0-B617-A177AA4E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6EEC6D-C5F5-407E-85E7-8AEC682E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3072B9-A0A8-4039-AB3C-1452AA25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F9EE2C-24F9-4F4A-8B8E-5159FBDE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9A9F-D9B7-48CE-A1DE-7BD8A134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225952-C61C-4FDC-AAF1-FBE81AD2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43E85-B309-44D6-815A-D270FE44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520A94-F62E-4080-8D25-B7D3CC29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9BF1E-A9E0-4C34-AD23-8D27866B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355D8A-EE5B-42AA-8EFC-621670BA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51561-F24C-4538-B605-D7BF909F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ED75C3-C4F8-4FB6-9ACE-EE49597C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32ADC-21E4-4296-AC98-C1BA79C9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75001-314F-4EDC-86F1-20911C8C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478D8C-51E5-4F35-9746-CFF2BDEB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ECC0-58AE-4679-BE9C-7051C2C6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ACC0FA-8066-412A-8188-34427FDC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4E623A-6FE3-48FB-8145-1AB03F32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CD4E69-74A6-43FD-BDB6-3E86ACBE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265901-0EDF-4F23-AF68-39CA4479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6BECD9-AC87-4B66-BE20-C880C7F1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E566F7-51F7-4DA4-9290-F19DBA80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00E737-6E96-4577-886B-69855C90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F7A1E1-EE88-4425-AA46-E34E08FF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90E39-0F15-4161-ABED-46D412A0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310138-7BC3-44A3-938A-E50906E4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06E1-4E6D-4594-BA03-392DC0AE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9D64FA-7D31-435A-A167-87383190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DE883A-3F3C-4976-B4FA-20AC620A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06A141-70A6-4448-8F71-CA3284D1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E76B55-9B26-495E-BB16-4AEE0F36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4ED6F7-FD26-4547-A5B4-1DE4E25B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593AC8-4561-446A-BB4B-BA169EB9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CF9218-7203-43AD-9568-57EA9384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83DA26-8E32-4197-AFFC-35E4D3C8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FAC30F-2267-417D-A715-8D4E82C0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91B17D-6C14-4F1B-8E0A-FC53E971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1BE3-CF06-452E-82B2-E66E43C8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3FE803-CD38-4E51-B0D4-749E1FC3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C7A583-C821-4C84-9963-C1A6E067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30DFB7-27FF-48BC-9771-3EE35A4A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7CD-3181-4DCA-8841-AA9F8B85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97D3-F417-4259-B979-9DFDE903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969F-420F-4733-8611-CFB48F66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5E9A-79B0-4F51-9C4D-BFDE16B1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165D-8249-417D-9435-D49617EB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D3B1-EC10-4CA0-907B-70B1C4F5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E5962-611F-4F93-A0B6-FA492682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1902B-D284-4638-AB7F-EB6E4BBA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16400-09A2-4F9B-B5F0-0C48FAC4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1F553-2B02-43DF-90B1-7C3E155C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42A8C-6919-49F4-A115-2388FE68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640-A08C-4AEB-8C84-D152DD5C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8C5E3-2DD8-4BCF-B8B4-D73B9EEA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D176C-506D-4677-8219-A0B4CBB1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1B0DA-43E5-4FC9-B3E3-1D1E06E1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07B3F-F19A-47C3-902C-57798687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5103-0683-4F3A-9606-75C40341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C2508-BD4A-49B7-8A91-4C39D748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67380-BF8D-41A7-A201-99633967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E8909-ACD4-44A7-B4AA-147315FB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A773B-D787-4111-99B2-5F28A0D6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54346-E1EA-4100-9497-72CBF306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4D5-0E2E-4F30-844E-4A39A6EF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71D68-F241-40DC-B314-1831623A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C16DB-A2A0-4454-87A7-0F1DC9B9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06508-5A93-44E4-A418-41E3CB98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1FF97-0F54-4E4C-9FE6-F5BFA71D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967CD-D6FE-40B9-8FDF-1E1BA314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CB0AA-E41E-45EB-B301-14822AE4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BE6F4-B6E6-4416-802A-BF9C2257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DC530-7347-4F53-8E59-38AC641F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22B10-7534-4469-87D6-D7887939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DF3F6-EE2F-459E-9422-6407C3D5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59A-7DC9-448D-8F71-DBE31389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B1F5E-DD9D-4D4D-A817-371B4D18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FEAB0-425D-40D2-A8E6-071072E4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25A4C-03FD-4744-9A7E-65AD9A83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FEF22-6633-4434-85BF-C32DF615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DAF51-4B9D-426B-BEC6-A531ACCA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D1CD0-BD33-4317-ADBC-A213D4C8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F0331-EFAD-48C5-AF5C-57758322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BA7FB-92C9-4F4B-8B32-CF7EA382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69FB6-D5F4-484D-BCB9-E297CA92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FC0C6-AF64-437A-A297-A1200C7D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747-CE1F-4FE2-A8F4-798FAA33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6BEEC-DA30-4E14-89ED-DA6A4FF8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7586F-C468-4D66-B9C3-A71DC1D2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179DF-A555-435C-9141-D07CAEAD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05958-C278-44B7-878A-A19485CB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5DD69-D6FA-4D60-9D60-0A287238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2F06B-7BE3-4C80-A4FB-114FA1F9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A874B-2875-4FF4-B2F6-661F62DF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89BCF-B85A-45C6-8889-DAD454B3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40A52-E4D4-491A-9DAC-6707A9A8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C5A8A-0D01-4AF7-B4DE-5F8E4364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1E01-AE80-495F-8B8D-D0585DB2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FCEE7-E67B-4E34-9FA3-1CFD8D21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8EE27-9676-4D41-8FCD-330C3DEF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C614E-BDCB-4422-A942-1A6627DA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5AF01-E863-481E-95BB-3120CA80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19F63-EDCB-468A-9701-C678CBF4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C4027-01B4-4D8E-9457-AE96FA14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485E8-888D-48E7-9E59-28FF0344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03F97-E735-46B4-920A-95C8E41D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E4DCF-C43D-4C28-98C0-E84CE4A6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38715-3072-4C3F-A004-21E1AD94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DC26-1AE0-4DC8-977D-429451A4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70430-E888-4CB0-BAAA-B7A2EA72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D4935-BF0B-476F-BB91-E14F7E0A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4802B-CD59-45E2-A9EF-430E672A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4C107-0017-4057-A682-E1979FEB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B1785-06A9-4649-B5A5-ACA48E70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8E2BB-AC74-4EB8-A88B-A0DD0130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BB36A-58B0-4EC0-8824-C42ACB22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234C1-19A6-4382-884A-40622EFD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88F11-CCFA-4F8C-9532-46925BE8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FFD16-A7CC-444A-9AC3-343F0E32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50C2-894D-4CB4-9B89-C48A7C42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AEFEF-B729-4008-8F74-F1F8B778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E6B76-55DA-4999-8B28-FAE6AFD6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00FE9-8076-4203-BD73-8DD4AFEC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9DB64-B37A-4BB1-9E9D-1D2FBF45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644B9-0B98-43B0-AE5D-84E8F109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EBBCF-27E6-4782-A570-4264170D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B0B91-8412-47FC-A020-E47E42A1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76C8D-72BC-447E-B392-8C10D195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1A52F-CCD1-420E-877D-A856C1CE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3593B-89DB-47BE-B896-879EE6EE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BB2C-ED03-4C52-9CC1-614D4D0F9B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5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BB2D-91DB-4B6D-AE08-4B31E55DFC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3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A505-8A2B-431C-94B1-E4A25897AF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3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FE42-0F16-4645-BFFE-A5B5C6D12F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27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CBF6-5620-4EAF-9613-492F5A40C2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7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CEA9-760A-4D87-AD0E-B04A55282A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615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B5FC-61F2-4E8C-98E7-780C40E127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65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4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4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0758-364C-4778-84F3-84E93A4EC7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631D-D0AC-4BCC-BB0F-15665805AC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8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8EBF-FA1D-40C1-A858-0FF0D5066F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C363-C070-47E5-A89B-A39401B7B0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2EF6-B728-4177-89D3-E79CE4D693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219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Arc 4"/>
            <p:cNvSpPr/>
            <p:nvPr/>
          </p:nvSpPr>
          <p:spPr>
            <a:xfrm>
              <a:off x="-7758000" y="1463760"/>
              <a:ext cx="13452480" cy="1079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FEC1-B691-41D2-B5AB-CB459091CC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3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D2DA-C7F7-4B86-8993-E930FAE795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7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1875-62CE-4581-90F0-69DD5D905A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A811-33F4-4F8C-B208-CFB79123C2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48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Тема занятия: «Обобщение изученного по разделу «Механика»».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евние рассматривали механику двояко: как рациональную (умозрительную), развиваемую точными доказательствами, и как практическую. К практической механике относятся все ремесла и производства, именуемые механическими, от которых получила свое название и сама механика". </a:t>
            </a:r>
            <a:br>
              <a:rPr sz="2800"/>
            </a:br>
            <a:r>
              <a:rPr b="1" i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саак Ньют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1" name="Picture 42" descr="newton"/>
          <p:cNvPicPr/>
          <p:nvPr/>
        </p:nvPicPr>
        <p:blipFill>
          <a:blip r:embed="rId1"/>
          <a:stretch/>
        </p:blipFill>
        <p:spPr>
          <a:xfrm>
            <a:off x="357120" y="2214720"/>
            <a:ext cx="2363760" cy="30715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ефлексия 5мин (в том числе работа жюри по подведению итогов)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371600" y="475920"/>
            <a:ext cx="7772400" cy="6165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857160" y="2000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 занятия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 Проверить глубину и прочность усвоения изученного материал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  Научиться  анализировать  информацию  и  на  её  основе применять знания в жизни и для объяснения явлений в природе и технике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) Учиться взаимодействию с другими людьми, активизации положительных переживаний, чувств, эмоций, связанных с коллективной деятельностью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title"/>
          </p:nvPr>
        </p:nvSpPr>
        <p:spPr>
          <a:xfrm>
            <a:off x="857160" y="11592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Физический ринг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063440" y="0"/>
            <a:ext cx="808020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равила проведения физического ринга</a:t>
            </a:r>
            <a:br>
              <a:rPr sz="40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2560" y="500040"/>
            <a:ext cx="7772400" cy="6215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 Участники разбиваются на команды п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7 - 8 человек. Всего 3 коман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Выбираются судь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 Каждая команда получает оценочный лист, лист для рефлекс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 Судьи получают протокол, ответы к задания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. Игра состоит из шести туров (шестой тур проводится, если останется время), на каждый тур отводится от 2 до 5 минут, на тест – 20мину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. Разрешается пользоваться учебником,  конспектами в тетрад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. Команда, занявшая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место получает оценку «5», занявшая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место «4», занявшая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место оценку «3»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937728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 тур 1) девиз, эмблема 5мин подготовка +6 минут представление; 2) разминка 5мин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2560" y="184428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ур, организационный (максимальное количество 6 балло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 Каждая команда должна выбрать капитана, придумать название команды, девиз, которые отражали бы тематику разде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 Каждая команда должна приготовить эмблему, отражающую название команд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 Составить два вопроса для разминки по разделу Механика. И знать правильные ответы на ни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II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тур (эксперимент) 5мин подготовка+6минут представление, объяснение</a:t>
            </a: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2560" y="162828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 два балла за верно выполненно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д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дание 1: Используя экспериментальные данные вычислить коэффициент трения скольж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дание 2:  Используя экспериментальные данные вычислить коэффициент упругости резинового образц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дание 3: Используя экспериментальные данные вычислить ускорение шар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93772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III</a:t>
            </a: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 тур (качественные задачи) 2мин+6мин на ответ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2560" y="1341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шение качественных задач  ( по два балла за правильный ответ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ему мы не замечаем притяжения окружающих тел друг к другу, хотя притяжение этих же тел к земле наблюдать легко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прос 2: Зачем стапеля, по которым судно спускают в воду, обильно смазывают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прос 3: Почему при резком увеличении скорости автобуса пассажиры отклоняются назад, а при внезапной остановке - вперед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93772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V</a:t>
            </a: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 тур (тест) 20мин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2560" y="1341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V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тур, решение количественных задач в форме тестов (В четвертом туре командам предлагается ответить на 8 вопросов теста, за каждый правильный ответ – 1балл). Ответы заносятся в таблицу, внизу тес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ополнительное задание к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V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туру: (за каждый правильный ответ -3 балл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V </a:t>
            </a: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тур (пойми меня) 2мин+3мин показ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2560" y="1341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ур, пойми меня, проявление знаний и находчивости  (команды создают модели движения, не используя слов, каждая из которых оценивается в 2 балла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VI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тур (исторический) 5мин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2560" y="549000"/>
            <a:ext cx="7772400" cy="6165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тур, исторический ,по три балла за правильный ответ, каждой команде задается по одному вопрос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Вопрос 1: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Английский физик и математик 18 века, создатель теоретических основ механики и астрономи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Вопрос 2: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 Пизанской башни он бросал свинцовые шары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сем местным жителям на удивленье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 обнаружил, что от массы не зависит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иобретаемое телом ускорени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Вопрос 3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: Великий русский ученый Х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века, энциклопедист, основатель Московского университета, носящего его имя. Ему принадлежат выдающиеся труды по физике, химии, горному делу и металлургии. Он развил молекулярно – кинетическую теорию теплоты, в его работах предвосхищены законы сохранения массы и энергии. О ком идет речь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8:59:24Z</dcterms:created>
  <dc:creator>Федорец Елена Владимировна</dc:creator>
  <dc:description/>
  <dc:language>en-US</dc:language>
  <cp:lastModifiedBy>Елена</cp:lastModifiedBy>
  <dcterms:modified xsi:type="dcterms:W3CDTF">2013-09-18T11:33:39Z</dcterms:modified>
  <cp:revision>22</cp:revision>
  <dc:subject/>
  <dc:title>Слайд 1</dc:title>
</cp:coreProperties>
</file>