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11.jpeg" ContentType="image/jpeg"/>
  <Override PartName="/ppt/media/image9.wmf" ContentType="image/x-wmf"/>
  <Override PartName="/ppt/media/image5.png" ContentType="image/png"/>
  <Override PartName="/ppt/media/image10.jpeg" ContentType="image/jpeg"/>
  <Override PartName="/ppt/media/image13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5B2-0F3D-430A-BA8A-6FA6FD0C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751-8F32-466A-8630-86B215C5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677-A47D-4C9E-92F8-BE0D7D6D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E5A-DCA9-429D-9D86-3F90DB41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8DB6-A468-4A5D-8F73-AF158ABD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C7B1-B408-4AE9-BE4B-89909DB7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7911-656F-4D7A-8E0A-C5658694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6DAC-05D7-459E-8DE3-D7E30E9D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44F4-7756-4A8A-8C53-B6EC4FD2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1C25-62E1-4ADB-BADE-04FB8ECC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2B1D-7013-4823-AB7C-A82ABA60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5D7-BB81-47B2-B6C0-E49A6FB0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EEE9-CDE7-4AA4-A076-09D24885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0ECA-57BD-49BA-8A8E-C8862860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9D68-5B03-4C45-B244-B4F96F3D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23D2-072E-4BFE-933F-B3E97BC4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C4D0-3F19-4BCC-90C3-878D67B1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4BF-D7F3-46CB-9867-79089E62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27A-B1FC-4804-8F04-8F2080DE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DC6-CF8C-435C-B3B2-C98F36FB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D0C-EF37-419F-B82C-E25BF65F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F5C-0EB4-4463-BAF4-49472748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67A-8D5F-4AB0-959A-4EC435F9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252-3D50-4CE6-B65B-F8B4F11F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6B74-4A2C-46C7-BE19-3202EEBAF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F323-6800-425D-9CCF-2BD041163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075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74b1"/>
                </a:solidFill>
                <a:latin typeface="Tahoma"/>
              </a:rPr>
              <a:t>МАОУ Альмяковская ООШ</a:t>
            </a:r>
            <a:r>
              <a:rPr b="0" lang="ru-RU" sz="3600" spc="-1" strike="noStrike">
                <a:solidFill>
                  <a:srgbClr val="3774b1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14920" y="1428840"/>
            <a:ext cx="417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фер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74b1"/>
                </a:solidFill>
                <a:latin typeface="Tahoma"/>
              </a:rPr>
              <a:t>«Фразеологизмы о животных в жизни человек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74b1"/>
                </a:solidFill>
                <a:latin typeface="Tahoma"/>
              </a:rPr>
              <a:t>Люди говорят…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ыполнил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еницы 5 класса  Иконникова Анастасия, Лайс Дарья, ученица 6 класса Суханова Эл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уководитель: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лебенкова Маргарита Петровна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итель русского языка и литературы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785880" y="2000160"/>
            <a:ext cx="297648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74b1"/>
                </a:solidFill>
                <a:latin typeface="Arial"/>
              </a:rPr>
              <a:t>Редко люди говорят…</a:t>
            </a:r>
            <a:br>
              <a:rPr sz="3200"/>
            </a:br>
            <a:r>
              <a:rPr b="0" lang="ru-RU" sz="3200" spc="-1" strike="noStrike">
                <a:solidFill>
                  <a:srgbClr val="3774b1"/>
                </a:solidFill>
                <a:latin typeface="Arial"/>
              </a:rPr>
              <a:t>… о птенца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Птенец желтороты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неопытный челов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2560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… </a:t>
            </a: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о лебедя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Лебединая песн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последнее высшее достижение, последнее  проявление таланта, способност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457200" y="26924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… </a:t>
            </a: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о ласточка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Первая ласточ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самый первый среди подобных, таких ж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57200" y="2778120"/>
            <a:ext cx="4038480" cy="25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Антон Павлович Чехов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4214880" y="1714680"/>
            <a:ext cx="4286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 был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щенком,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когда родился, гусем лапчатым, когда вступил в жизнь. Определившись на государственную службу, я стал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крапивным семенем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Начальник величал мен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дубиной,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риятели —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слом,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ольнодумцы —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котиной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утешествуя по железным дорогам, я был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зайцем,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живя в деревне среди мужичья, я чувствовал себ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пиявкой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ле одной из растрат я был некоторое врем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козло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тпущения. Женившись, 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тал рогатым скотом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ыбившись, наконец, на настоящую дорогу, я приобрел брюшко и стал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торжествующей свиньей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3522600" cy="257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Социологический опрос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равнение частоты употребляемых фразеологизм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Возраст и количество опрошенных челове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Содержимое 6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pic>
        <p:nvPicPr>
          <p:cNvPr id="89" name="Object 6" descr=""/>
          <p:cNvPicPr/>
          <p:nvPr/>
        </p:nvPicPr>
        <p:blipFill>
          <a:blip r:embed="rId2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74b1"/>
                </a:solidFill>
                <a:latin typeface="Arial"/>
              </a:rPr>
              <a:t>Рождение фразеологизмов о животных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00320" y="2071800"/>
            <a:ext cx="468612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вторские басни, пьесы, песн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л как ворона в су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Европейские выраже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ть как хомяк в клетк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лигиозные книг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ть бисер перед свинья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уевер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кодиловы слёз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овременный быт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ьяна с гранат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57200" y="2071800"/>
            <a:ext cx="3433680" cy="317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74b1"/>
                </a:solidFill>
                <a:latin typeface="Arial"/>
              </a:rPr>
              <a:t>Использование фразеологизмов</a:t>
            </a:r>
            <a:br>
              <a:rPr sz="3200"/>
            </a:br>
            <a:r>
              <a:rPr b="0" lang="ru-RU" sz="3200" spc="-1" strike="noStrike">
                <a:solidFill>
                  <a:srgbClr val="3774b1"/>
                </a:solidFill>
                <a:latin typeface="Arial"/>
              </a:rPr>
              <a:t>в малых социальных группа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Под малой группой понимается немногочисленная по составу группа, члены которой объединены общей социальной деятельностью и находятся в непосредственном личном общении, что является основой для возникновения эмоциональных отношений, групповых норм и групповых процессов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74b1"/>
                </a:solidFill>
                <a:latin typeface="Arial"/>
              </a:rPr>
              <a:t>Часто люди говорят…</a:t>
            </a:r>
            <a:br>
              <a:rPr sz="3200"/>
            </a:br>
            <a:r>
              <a:rPr b="0" lang="ru-RU" sz="3200" spc="-1" strike="noStrike">
                <a:solidFill>
                  <a:srgbClr val="3774b1"/>
                </a:solidFill>
                <a:latin typeface="Arial"/>
              </a:rPr>
              <a:t>… о зайца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4720" y="1413000"/>
            <a:ext cx="4402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Убить двух зайце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одновременно выполнять два нужных, важных де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4038840" cy="311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… </a:t>
            </a: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о кошка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4114800" cy="25714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5214960" y="2143080"/>
            <a:ext cx="3357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Кошка пробежал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неожиданно возникла неприязнь, отчуждение, недоброжелательность, по отношению друг к друг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74b1"/>
                </a:solidFill>
                <a:latin typeface="Tahoma"/>
              </a:rPr>
              <a:t>… </a:t>
            </a:r>
            <a:r>
              <a:rPr b="0" lang="ru-RU" sz="3200" spc="-1" strike="noStrike">
                <a:solidFill>
                  <a:srgbClr val="3774b1"/>
                </a:solidFill>
                <a:latin typeface="Tahoma"/>
              </a:rPr>
              <a:t>о лошадя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00080" y="1857240"/>
            <a:ext cx="4187880" cy="2643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5429160" y="23572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Ломовая лошад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много и тяжело работающ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… </a:t>
            </a: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о курица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Как курица лапой 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еразборчиво, неряшливо, некраси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57200" y="2793960"/>
            <a:ext cx="4038480" cy="24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… </a:t>
            </a: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о медведя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Медвежий угол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труднодоступное мест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57200" y="26924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4:50:47Z</dcterms:created>
  <dc:creator>Лена</dc:creator>
  <dc:description/>
  <dc:language>en-US</dc:language>
  <cp:lastModifiedBy>Маргарита</cp:lastModifiedBy>
  <dcterms:modified xsi:type="dcterms:W3CDTF">2013-05-08T11:28:10Z</dcterms:modified>
  <cp:revision>120</cp:revision>
  <dc:subject/>
  <dc:title>МОУ «Первомайская среднеобщеобразовательная школа »</dc:title>
</cp:coreProperties>
</file>