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9.wmf" ContentType="image/x-wmf"/>
  <Override PartName="/ppt/media/image5.png" ContentType="image/png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942-42A4-40FD-9A17-3AFBE8E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54D-452D-4120-A596-730BC6D5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0DF-4529-4D6C-B0DC-9464A545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122-EAC9-4946-BA2E-50F94AF1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72D-BE51-4312-985B-99452AF8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44BB-6531-4442-9B44-26F2FCB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4DE-CA93-4A52-BC0F-E15E24E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694-E1E0-41C2-835B-FBA276C7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4FE-76E6-4DEC-967A-EE1D3E3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0FF9-5749-4D64-95BF-50AE287D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DD45-EFE6-4805-A9FA-CC02253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D23-D15D-4B71-8B5D-441868C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199-3D34-4B4B-9A1E-42FCC619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5603-7A79-4771-9D5C-4BD0D82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75A9-4CCA-48F9-BE2C-C6FE051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F04C-3101-4654-85D4-C8FE5B41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532-1C77-47DC-88B4-6D58DC5D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2AC-BCA8-40B5-ACA1-853A83C2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189-2088-4D2D-9452-5FF4E49E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D16-EBEA-4ADC-80DE-B91E04F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C13-B913-4A6F-B841-7C9DA155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BAB-F7D2-4D6E-9F1B-429C503B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7A0-E610-4100-9408-297A852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8C3-1385-4137-B11C-22105B4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5A43-69FD-476C-8FDD-1A9E0AE99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0B17-0946-4447-ADA4-3819ADFF7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075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74b1"/>
                </a:solidFill>
                <a:latin typeface="Tahoma"/>
              </a:rPr>
              <a:t>МАОУ Альмяковская ООШ</a:t>
            </a:r>
            <a:r>
              <a:rPr b="0" lang="ru-RU" sz="3600" spc="-1" strike="noStrike">
                <a:solidFill>
                  <a:srgbClr val="3774b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14920" y="1428840"/>
            <a:ext cx="417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фер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«Фразеологизмы о животных в жизни челове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Люди говорят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ыполнил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ницы 5 класса  Иконникова Анастасия, Лайс Дарья, ученица 6 класса Суханова Эл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уководит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лебенкова Маргарита Петровна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85880" y="2000160"/>
            <a:ext cx="297648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Редко люди говорят…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… о птен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тенец желторот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неопытный челов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2560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лебе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ебединая песн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оследнее высшее достижение, последнее  проявление таланта, способ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ласточк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ервая ласточ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самый первый среди подобных, таких ж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7200" y="2778120"/>
            <a:ext cx="4038480" cy="25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Антон Павлович Чехов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214880" y="1714680"/>
            <a:ext cx="4286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 бы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щенко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когда родился, гусем лапчатым, когда вступил в жизнь. Определившись на государственную службу, я ста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рапивным семен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чальник величал мен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дубиной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ятели —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ло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нодумцы —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котино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утешествуя по железным дорогам, я бы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зайце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живя в деревне среди мужичья, я чувствовал себ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пиявко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одной из растрат я был некоторое врем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озл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пущения. Женившись, 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тал рогатым ското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бившись, наконец, на настоящую дорогу, я приобрел брюшко и стал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торжествующей свинье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522600" cy="257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Социологический опрос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равнение частоты употребляемых фразеологизм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Возраст и количество опрошенных челов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Содержимое 6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4040280" cy="3951360"/>
          </a:xfrm>
          <a:prstGeom prst="rect">
            <a:avLst/>
          </a:prstGeom>
          <a:ln w="0">
            <a:noFill/>
          </a:ln>
        </p:spPr>
      </p:pic>
      <p:pic>
        <p:nvPicPr>
          <p:cNvPr id="89" name="Object 6" descr=""/>
          <p:cNvPicPr/>
          <p:nvPr/>
        </p:nvPicPr>
        <p:blipFill>
          <a:blip r:embed="rId2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74b1"/>
                </a:solidFill>
                <a:latin typeface="Arial"/>
              </a:rPr>
              <a:t>Рождение фразеологизмов о животных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00320" y="2071800"/>
            <a:ext cx="468612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вторские басни, пьесы, песн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л как ворона в су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Европейские выраж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ть как хомяк в клет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лигиозные книг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ть бисер перед свинь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уевер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овы слёз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овременный бы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ьяна с гранат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57200" y="2071800"/>
            <a:ext cx="3433680" cy="31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Использование фразеологизмов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в малых социальных групп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од малой группой понимается немногочисленная по составу группа, члены которой объединены общей социальной деятельностью и находятся в непосредственном личном общении, что является основой для возникновения эмоциональных отношений, групповых норм и групповых процессов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Часто люди говорят…</a:t>
            </a:r>
            <a:br>
              <a:rPr sz="3200"/>
            </a:br>
            <a:r>
              <a:rPr b="0" lang="ru-RU" sz="3200" spc="-1" strike="noStrike">
                <a:solidFill>
                  <a:srgbClr val="3774b1"/>
                </a:solidFill>
                <a:latin typeface="Arial"/>
              </a:rPr>
              <a:t>… о зай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Убить двух зайце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одновременно выполнять два нужных, важных де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4038840" cy="31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кошк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4114800" cy="2571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5214960" y="2143080"/>
            <a:ext cx="3357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ошка пробежа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неожиданно возникла неприязнь, отчуждение, недоброжелательность, по отношению друг к друг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3774b1"/>
                </a:solidFill>
                <a:latin typeface="Tahoma"/>
              </a:rPr>
              <a:t>о лоша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00080" y="1857240"/>
            <a:ext cx="418788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5429160" y="2357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омовая лошад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много и тяжело работающ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курица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Как курица лапой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еразборчиво, неряшливо, некраси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57200" y="2793960"/>
            <a:ext cx="4038480" cy="24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… </a:t>
            </a: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о медведях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двежий уго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труднодоступное ме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26924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4:50:47Z</dcterms:created>
  <dc:creator>Лена</dc:creator>
  <dc:description/>
  <dc:language>en-US</dc:language>
  <cp:lastModifiedBy>Маргарита</cp:lastModifiedBy>
  <dcterms:modified xsi:type="dcterms:W3CDTF">2013-05-08T11:28:10Z</dcterms:modified>
  <cp:revision>120</cp:revision>
  <dc:subject/>
  <dc:title>МОУ «Первомайская среднеобщеобразовательная школа »</dc:title>
</cp:coreProperties>
</file>