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9AA-6275-48AA-AAF6-01908064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A0E-F86A-4F86-9A6E-B7A879E5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845-1046-4584-AA35-71FA674A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1B8-8047-4C98-A354-559AFFE7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838-6C48-4DC5-AA8A-35A4A0CB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66A2-8185-41C8-A115-D1E6F0C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2248-3A50-4DE8-824E-42284695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C053-E352-4F5E-A2D8-AE86EFC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07E-4473-4DF3-BF86-3B6D99EE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12F0-66E4-4B1D-A314-A68FA34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2D8-385A-42C3-A9E4-FB040E1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522-6328-4791-9145-A5EE3E2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BCC4-7E2A-4A8F-967B-8F4A1AD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3D16-F6FE-46FF-9804-0975FF2C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6CF3-3C09-4608-9A02-A1953193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899D-7445-44BE-9F7B-2299C49F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77F5-246B-494D-91A2-1F481C01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D182-5E04-4998-8871-DB0B0659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10A9-0A1B-42EA-94A0-49A5972D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0624-DE6C-4EDD-91F9-5B5E6A6D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6393-5569-4433-91AB-D758E2DB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7505-A015-4578-BB95-FFBA4C8D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A39-BE2B-4B60-8D2C-A6130A47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2247-0E36-4F25-A055-DB408B05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0629-090D-4569-B12C-9DF8EAB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546C-6BE5-469C-8AC3-2ED8E81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7934-CC04-4801-8911-EE2A326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933F-3C6F-4A21-89CB-3553F1F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DDE9-4511-49A0-9C98-DF316AED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0F1C-8A21-4FCC-B90C-0531C3E7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85F6-6602-4D8F-9650-E9CFB587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9F08-57DD-4DA6-8FF8-34208A0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BE5F-5A4F-46EA-B432-1018E100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70A-C805-400E-A440-43FB08D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9CDF8-2B2B-4745-814F-D876B2B2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0945-E622-4EC9-9C58-C5584B61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E10B-A71B-40A1-90D3-E46DC44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83D9-0B30-4D68-83EF-30307E61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8F27-257A-4CDF-9AC7-EE4D06A7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6A9E-D021-44ED-9102-197AF71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5DD2-52DA-4EBC-9151-1DB9C8D9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D042-494A-496B-98F1-5BB1374A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3605-D5C3-4C26-BA7B-6FAFF7C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1D1-8F73-4DB6-80E4-4D431282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228-B3A3-4535-BD2A-BEE24D7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5DF-02B8-4ECA-A654-14C7C75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56A-2D0F-415F-AE33-FBEEAD1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D99-8E8F-4A39-9868-87C89CF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F2F5-E59A-4E8E-B45B-4BD56018381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ff2c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DE6-F318-4DF2-84E9-CBFD379D3268}" type="slidenum"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ff2c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753B-0BF5-42F0-8ABF-65DAA4FBA129}" type="slidenum"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056-C1C6-41C2-A39E-6781FD4267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71bb5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4" descr="post-11-13296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7f5"/>
                </a:solidFill>
                <a:latin typeface="Calibri"/>
              </a:rPr>
              <a:t>Суббота — золовкины посиделки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т день считался всегда семейным. В Золовкины посиделки — новобрачная невестка должна была одаривать золовок подарками. В этот субботний день молодые невестки принимали у себя родных. Приглашали всю семью и кормили их блинами и поили ча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Содержимое 8" descr="1362433068_3456ryi.jpg"/>
          <p:cNvPicPr/>
          <p:nvPr/>
        </p:nvPicPr>
        <p:blipFill>
          <a:blip r:embed="rId1"/>
          <a:stretch/>
        </p:blipFill>
        <p:spPr>
          <a:xfrm>
            <a:off x="857160" y="1714680"/>
            <a:ext cx="3078360" cy="44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278"/>
                </a:solidFill>
                <a:latin typeface="Calibri"/>
              </a:rPr>
              <a:t>Воскресенье — целовальнник, прощальное воскресенье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следний день самый веселый и разгульной, несмотря на то, что его называли «Прощенный день». Люди ходили от двора к двору, просили друг у друга проще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сленицы за околицу деревни, где изображалось избиение нечисти, и сжигалась соломенная Масленица. Пепел, оставшийся от «зимней хозяйки», развеивали над полями в знак будущего урожа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щаю всех, кого простить нельзя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то клеветой мостил мои дорог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сподь учил: "Не будьте к ближнему строги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ас одинаково всех примирит земля"..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Содержимое 4" descr="616d4837f3e9.jpg"/>
          <p:cNvPicPr/>
          <p:nvPr/>
        </p:nvPicPr>
        <p:blipFill>
          <a:blip r:embed="rId1"/>
          <a:stretch/>
        </p:blipFill>
        <p:spPr>
          <a:xfrm>
            <a:off x="4572000" y="1857240"/>
            <a:ext cx="4038480" cy="41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сленичные игр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с го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— зимнее развлечение детей и холостой молодежи. Катание молодежи с ледяных гор было одним из главных развлечений масленичной недели.  Для катания использовались санки, рогожи, шкуры, коньки, ледянки — круглые расплющенные корзины, заледеневшие снизу, катульки — широкие выдолбленные доски, корежки — деревянные корыта, напоминавшие долбленые лодки, короткие скамейки, перевернутые вверх ножка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санях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— зимнее развлечение, характерное для святок, масленицы, престольных праздников. Особенно яркими были катания на масленицу. Они назывались «съездки», так как в них принимали участие жители всех окрестных деревень. К праздничному катанию тщательно готовились: лошадей мыли, расчесывали им хвосты и гривы; столь же внимательно относились к упряжи; приводили в порядок сан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улачные бо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-устраивались зимой в период святок на масленицу и иногда в Семик. При этом предпочтение отдавалось масленице, разгульный характер которой давал возможность мужской части деревни показать перед всеми свою удаль и молодечеств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Хороводные иг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качелях , каруселя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тройк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ляд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Рисунок 3" descr="3f397a2619c4322548cb3d9b4f0f11ec-thumb-690x1500-w.jpg"/>
          <p:cNvPicPr/>
          <p:nvPr/>
        </p:nvPicPr>
        <p:blipFill>
          <a:blip r:embed="rId1"/>
          <a:stretch/>
        </p:blipFill>
        <p:spPr>
          <a:xfrm>
            <a:off x="500040" y="384012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maslenica22.jpg"/>
          <p:cNvPicPr/>
          <p:nvPr/>
        </p:nvPicPr>
        <p:blipFill>
          <a:blip r:embed="rId2"/>
          <a:stretch/>
        </p:blipFill>
        <p:spPr>
          <a:xfrm>
            <a:off x="4429080" y="3000240"/>
            <a:ext cx="4246560" cy="35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9680" y="271440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107f5"/>
                </a:solidFill>
                <a:latin typeface="Constantia"/>
              </a:rPr>
              <a:t>                </a:t>
            </a:r>
            <a:r>
              <a:rPr b="1" i="1" lang="en-US" sz="5500" spc="-1" strike="noStrike">
                <a:solidFill>
                  <a:srgbClr val="de182b"/>
                </a:solidFill>
                <a:latin typeface="Constantia"/>
              </a:rPr>
              <a:t>Масленица </a:t>
            </a:r>
            <a:r>
              <a:rPr b="1" i="1" lang="en-US" sz="5500" spc="-1" strike="noStrike">
                <a:solidFill>
                  <a:srgbClr val="0107f5"/>
                </a:solidFill>
                <a:latin typeface="Constantia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Подготовил</a:t>
            </a:r>
            <a:r>
              <a:rPr b="1" i="1" lang="en-US" sz="2800" spc="-1" strike="noStrike">
                <a:solidFill>
                  <a:srgbClr val="cee80e"/>
                </a:solidFill>
                <a:latin typeface="Arial"/>
              </a:rPr>
              <a:t>а</a:t>
            </a: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Федоровская  Л.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Arial"/>
              </a:rPr>
              <a:t>                                      </a:t>
            </a:r>
            <a:r>
              <a:rPr b="1" i="1" lang="en-US" sz="1800" spc="-1" strike="noStrike">
                <a:solidFill>
                  <a:srgbClr val="cee80e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леница (Масленка) — праздник проводов зимы, восьмая неделя перед Пасхой. Она проходила перед Великим постом, в сыропустную неделю православного календаря, и заканчивалась Прощёным воскресенье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3" descr="16.jpg"/>
          <p:cNvPicPr/>
          <p:nvPr/>
        </p:nvPicPr>
        <p:blipFill>
          <a:blip r:embed="rId1"/>
          <a:stretch/>
        </p:blipFill>
        <p:spPr>
          <a:xfrm>
            <a:off x="928800" y="1857240"/>
            <a:ext cx="70722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праздн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 канонам Православной Церкви сыропустная неделя предназначалась для подготовки верующих людей к посту.Масленица называлась честной, широкой, пьяной, обжорной, разорительницей. Говорили, что она «целую неделю пела-плясала, ела-пила, друг ко дружке в гости хаживала, в блинах валялась, в масле купалась». Масленица отмечалась по всей России и в деревнях, и в городах. Ее празднование считалось для всех русских людей обязательным: «Хоть себя заложи, а масленицу проводи».Там, где он был известен, масленицу встречали блинами, которые раскладывали на возвышенные места с призывами: «Приезжай ко мне в гости, масленица, на широк на двор: на горах покататься, в блинах поваляться, сердцем потешаться!», а также пением песен: Масленица годовая, Гостья наша дорогая! Она пешей к нам не ходит, Все на конях приезжает. У ней кони вороные, Слуги молоды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Содержимое 4" descr="83812447_large_06.jpg"/>
          <p:cNvPicPr/>
          <p:nvPr/>
        </p:nvPicPr>
        <p:blipFill>
          <a:blip r:embed="rId1"/>
          <a:stretch/>
        </p:blipFill>
        <p:spPr>
          <a:xfrm>
            <a:off x="4714920" y="2071800"/>
            <a:ext cx="4071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7e2a"/>
                </a:solidFill>
                <a:latin typeface="Calibri"/>
              </a:rPr>
              <a:t>В масленицу звучало множество песен, прибауток, приговоров, большая часть которых не имела обрядового значения, это были веселые песенки, посвященные масленице и масленичному гулянью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6270750.jpg"/>
          <p:cNvPicPr/>
          <p:nvPr/>
        </p:nvPicPr>
        <p:blipFill>
          <a:blip r:embed="rId1"/>
          <a:stretch/>
        </p:blipFill>
        <p:spPr>
          <a:xfrm>
            <a:off x="357120" y="1962000"/>
            <a:ext cx="3929040" cy="475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solidFill>
            <a:srgbClr val="d0f2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х ты, масленка дорогая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рогая, лели, дорогая. К нам в гости приезжа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езжала, лели, приезжала. Да сыр с маслицем привози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возила, лели, привозила. А мы масленку прокатил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катили, лели, прокатили. На вороненком коне катались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 катались, лели, каталис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онедельник — встреч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й день назывался Чистая масленица — широкая боярыня. В понедельник Масленицу и Масленика, сделанных из соломы и одетых в соответствующие их полу платья — женское и мужское, возили на санях по всей округе, а потом с песнями и плясками усаживали на самом высоком мес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acb44199700a.jpg"/>
          <p:cNvPicPr/>
          <p:nvPr/>
        </p:nvPicPr>
        <p:blipFill>
          <a:blip r:embed="rId1"/>
          <a:stretch/>
        </p:blipFill>
        <p:spPr>
          <a:xfrm>
            <a:off x="4648320" y="1928880"/>
            <a:ext cx="4209840" cy="43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4931c"/>
                </a:solidFill>
                <a:latin typeface="Calibri"/>
              </a:rPr>
              <a:t>Вторник — заигрыш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9" descr="27258-113002-19bc9242aa1c4b563cd52602f8a6fac1.jpg"/>
          <p:cNvPicPr/>
          <p:nvPr/>
        </p:nvPicPr>
        <p:blipFill>
          <a:blip r:embed="rId1"/>
          <a:stretch/>
        </p:blipFill>
        <p:spPr>
          <a:xfrm>
            <a:off x="142920" y="1285920"/>
            <a:ext cx="2643120" cy="2782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5572080" y="1643040"/>
            <a:ext cx="3214800" cy="45766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0" descr="98487489_Aleksey_Timkov_Kursk_Maslenica.jpg"/>
          <p:cNvPicPr/>
          <p:nvPr/>
        </p:nvPicPr>
        <p:blipFill>
          <a:blip r:embed="rId3"/>
          <a:stretch/>
        </p:blipFill>
        <p:spPr>
          <a:xfrm>
            <a:off x="1214280" y="4071960"/>
            <a:ext cx="4214880" cy="263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ef100"/>
                </a:solidFill>
                <a:latin typeface="Calibri"/>
              </a:rPr>
              <a:t>Среда — лаком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этот день нужно есть столько, сколько приемлет твоя душа, отсюда и поговорка «Не житье, а масленица». Повсюду поводились ярмарки, шли народные гуляния. Среда открывала угощение во всех домах блинами и другими яствами. В каждой семье накрывали столы со всевозможными угощениями. В этот день зять приходил «к тёще на блины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9" descr="83812447_large_06.jpg"/>
          <p:cNvPicPr/>
          <p:nvPr/>
        </p:nvPicPr>
        <p:blipFill>
          <a:blip r:embed="rId1"/>
          <a:stretch/>
        </p:blipFill>
        <p:spPr>
          <a:xfrm>
            <a:off x="4500720" y="1785960"/>
            <a:ext cx="4429080" cy="38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09e37"/>
                </a:solidFill>
                <a:latin typeface="Calibri"/>
              </a:rPr>
              <a:t>Четверг — перелом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звание само говорит за себя: катание на санях по улицам, кулачные бои, всевозможные обряды. Одним из любимых забав было поджигание тележных колес, и прогонять вдоль по улицам, спускам, склонам оврагов подожженной тележки. Обязательным атрибутом Масленицы являлся медведь — живой, закованный в цепи, или ряженый человек. Нередкой забавой русских людей была борьба с медведем. Дети, также наряженные животными, ходили по дворам и калядовали, собирая себе угощение на праздничный вече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6" descr="52794485_opMS6OQTeP.jpg"/>
          <p:cNvPicPr/>
          <p:nvPr/>
        </p:nvPicPr>
        <p:blipFill>
          <a:blip r:embed="rId1"/>
          <a:stretch/>
        </p:blipFill>
        <p:spPr>
          <a:xfrm>
            <a:off x="214200" y="2286000"/>
            <a:ext cx="4500720" cy="36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7c3ff"/>
                </a:solidFill>
                <a:latin typeface="Calibri"/>
              </a:rPr>
              <a:t>Пятница — Тещины вечор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ый ряд масленичных обычаев был направлен на то, чтобы ускорить свадьбы, содействовать молодежи в нахождении себе пары. Сами же молодожены в этот день выезжали нарядные в расписных санях, наносили визиты всем, кто гулял у них на свадьбе. Теперь уже зять приглашал в себе гости тёщу и угощал ее блина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6" descr="maslenica_4.jpg"/>
          <p:cNvPicPr/>
          <p:nvPr/>
        </p:nvPicPr>
        <p:blipFill>
          <a:blip r:embed="rId1"/>
          <a:stretch/>
        </p:blipFill>
        <p:spPr>
          <a:xfrm>
            <a:off x="4648320" y="2286000"/>
            <a:ext cx="420984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8:51:46Z</dcterms:created>
  <dc:creator>IRONMANN (AKA SHAMAN)</dc:creator>
  <dc:description/>
  <dc:language>en-US</dc:language>
  <cp:lastModifiedBy>Portable</cp:lastModifiedBy>
  <dcterms:modified xsi:type="dcterms:W3CDTF">2014-02-25T19:31:14Z</dcterms:modified>
  <cp:revision>2</cp:revision>
  <dc:subject/>
  <dc:title>Слайд 1</dc:title>
</cp:coreProperties>
</file>