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E06B-5D89-49D3-B62C-BDD4957CD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D885-819A-41FC-94FB-985D6BBC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18E0-219D-468F-9DDF-F95885EC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1C0-C51B-4E64-A1E1-2895CA9F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7F0B-0233-42D2-9595-1C3DA6B2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60B3-E36B-4E4F-BEAE-A83916AA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B1CB-E6B8-4956-B4F0-97031032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6E45-E8E9-415C-9BE9-31D6E376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F301-88F0-4E20-A86A-39E968EF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2E3E-9695-456E-9E41-08B04776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01D4-2A50-4E19-AF69-D3694B35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E264-FA38-438A-BD96-039094E8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DAD7A-6068-4F2E-ADB1-C6D484F0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20F06-906F-4E8E-98EA-5D3A7377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7F8AC-8D7B-4035-9F25-E0B6D265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377F-35B7-4FD5-A80F-EC8AC87C7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131F2-7626-4725-B55C-533C3B205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DBBB5-44BF-4ED7-9685-03CFA5E8F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0AF6B-3E71-4F0C-BE84-8B661684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4E3C6-0E0E-48B3-96DD-8A41D061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DA8FC-D4FB-45A5-A8EE-ED34E325E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37575-9F29-4C62-944E-A6F96151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80BD-780F-4B61-AEED-CE5B58826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095EF-EEA1-424B-8D8A-273CC27B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823C8-BC38-463B-A70C-5C2C3546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EBB70-E545-42EC-ABA1-E2612B1B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1056A-A5C3-4EA6-8DD2-80C39D51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E78A0-9F00-4FF9-A03D-CAF122CDF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0EBCE-86A3-47CB-B670-2E569F60D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79BDF-623A-46EC-ACB2-4BD8DEAB6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56FBC-F25B-4D81-B387-E2B68CB9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E0F87-C5C4-4726-B255-62E36995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3828F-8CB6-4AEB-AAB1-71750A89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D717-D20C-47C6-911B-A11BBC6C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699EC-AEC5-4748-8B11-5D88C7A0B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453AF-245E-4428-9BC4-64D68853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F7F45-E99D-46B2-8F58-F3B1469E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E0C5D-C3E1-4FB6-A157-D760AEFB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67D91A-B075-48D3-BAA6-B2900CDB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9B425-56D0-452C-9A19-7F96D33A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75ABB-A339-42A3-9A37-9C5FB3C5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ECBBE-0E3A-4278-9A37-0D7502669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AF3DB-4802-4EDB-9D57-6A2A1783D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D07E-1E28-4B43-AB26-9C07AA17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8C5-7563-49FE-893A-A2D09EC20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58D2-02FC-43DD-B550-A25C0AAE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B09D-B249-4D52-B48C-81393815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CB82-C812-4653-A9C2-5B499C31D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49bc6">
                  <a:alpha val="45098"/>
                </a:srgbClr>
              </a:gs>
              <a:gs pos="100000">
                <a:srgbClr val="3db41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5871a">
                  <a:alpha val="45098"/>
                </a:srgbClr>
              </a:gs>
              <a:gs pos="100000">
                <a:srgbClr val="00c5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ae9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0c8f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54a83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f65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8F9F-58A3-4345-9285-6C34302B2B7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49bc6">
                  <a:alpha val="45098"/>
                </a:srgbClr>
              </a:gs>
              <a:gs pos="100000">
                <a:srgbClr val="3db41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5871a">
                  <a:alpha val="45098"/>
                </a:srgbClr>
              </a:gs>
              <a:gs pos="100000">
                <a:srgbClr val="00c5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ff2c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ae9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0c8f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54a83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f65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e7c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ae7c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e7c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EBF34-1FD4-4879-95E2-E01EF013C3CB}" type="slidenum">
              <a:rPr b="0" lang="ru-RU" sz="1200" spc="-1" strike="noStrike">
                <a:solidFill>
                  <a:srgbClr val="5ae7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49bc6">
                  <a:alpha val="45098"/>
                </a:srgbClr>
              </a:gs>
              <a:gs pos="100000">
                <a:srgbClr val="3db41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5871a">
                  <a:alpha val="45098"/>
                </a:srgbClr>
              </a:gs>
              <a:gs pos="100000">
                <a:srgbClr val="00c5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ff2c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ff2ca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ae9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0c8f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54a83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f65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e7c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ae7c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ae7c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57845-09F8-4982-B480-7B6878D8F420}" type="slidenum">
              <a:rPr b="0" lang="ru-RU" sz="1200" spc="-1" strike="noStrike">
                <a:solidFill>
                  <a:srgbClr val="5ae7c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49bc6">
                  <a:alpha val="45098"/>
                </a:srgbClr>
              </a:gs>
              <a:gs pos="100000">
                <a:srgbClr val="3db41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5871a">
                  <a:alpha val="45098"/>
                </a:srgbClr>
              </a:gs>
              <a:gs pos="100000">
                <a:srgbClr val="00c5ff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ae9c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20c8f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54a838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ff654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8CA7-F3AD-46DB-A6D3-59E19816488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600" spc="-1" strike="noStrike">
              <a:solidFill>
                <a:srgbClr val="71bb5f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Рисунок 4" descr="post-11-132963088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107f5"/>
                </a:solidFill>
                <a:latin typeface="Calibri"/>
              </a:rPr>
              <a:t>Суббота — золовкины посиделки</a:t>
            </a:r>
            <a:br>
              <a:rPr sz="4500"/>
            </a:b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01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Этот день считался всегда семейным. В Золовкины посиделки — новобрачная невестка должна была одаривать золовок подарками. В этот субботний день молодые невестки принимали у себя родных. Приглашали всю семью и кормили их блинами и поили чае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Содержимое 8" descr="1362433068_3456ryi.jpg"/>
          <p:cNvPicPr/>
          <p:nvPr/>
        </p:nvPicPr>
        <p:blipFill>
          <a:blip r:embed="rId1"/>
          <a:stretch/>
        </p:blipFill>
        <p:spPr>
          <a:xfrm>
            <a:off x="857160" y="1714680"/>
            <a:ext cx="3078360" cy="4433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0278"/>
                </a:solidFill>
                <a:latin typeface="Calibri"/>
              </a:rPr>
              <a:t>Воскресенье — целовальнник, прощальное воскресенье</a:t>
            </a:r>
            <a:br>
              <a:rPr sz="45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оследний день самый веселый и разгульной, несмотря на то, что его называли «Прощенный день». Люди ходили от двора к двору, просили друг у друга прощения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Масленицы за околицу деревни, где изображалось избиение нечисти, и сжигалась соломенная Масленица. Пепел, оставшийся от «зимней хозяйки», развеивали над полями в знак будущего урожая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рощаю всех, кого простить нельзя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Кто клеветой мостил мои дороги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Господь учил: "Не будьте к ближнему строги,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Вас одинаково всех примирит земля"..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7" name="Содержимое 4" descr="616d4837f3e9.jpg"/>
          <p:cNvPicPr/>
          <p:nvPr/>
        </p:nvPicPr>
        <p:blipFill>
          <a:blip r:embed="rId1"/>
          <a:stretch/>
        </p:blipFill>
        <p:spPr>
          <a:xfrm>
            <a:off x="4572000" y="1857240"/>
            <a:ext cx="4038480" cy="4143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Масленичные игры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0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107f5"/>
                </a:solidFill>
                <a:uFillTx/>
                <a:latin typeface="Constantia"/>
              </a:rPr>
              <a:t>Катание с гор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— зимнее развлечение детей и холостой молодежи. Катание молодежи с ледяных гор было одним из главных развлечений масленичной недели.  Для катания использовались санки, рогожи, шкуры, коньки, ледянки — круглые расплющенные корзины, заледеневшие снизу, катульки — широкие выдолбленные доски, корежки — деревянные корыта, напоминавшие долбленые лодки, короткие скамейки, перевернутые вверх ножкам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107f5"/>
                </a:solidFill>
                <a:uFillTx/>
                <a:latin typeface="Constantia"/>
              </a:rPr>
              <a:t>Катание на санях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— зимнее развлечение, характерное для святок, масленицы, престольных праздников. Особенно яркими были катания на масленицу. Они назывались «съездки», так как в них принимали участие жители всех окрестных деревень. К праздничному катанию тщательно готовились: лошадей мыли, расчесывали им хвосты и гривы; столь же внимательно относились к упряжи; приводили в порядок сан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0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107f5"/>
                </a:solidFill>
                <a:uFillTx/>
                <a:latin typeface="Constantia"/>
              </a:rPr>
              <a:t>Кулачные бои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-устраивались зимой в период святок на масленицу и иногда в Семик. При этом предпочтение отдавалось масленице, разгульный характер которой давал возможность мужской части деревни показать перед всеми свою удаль и молодечество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107f5"/>
                </a:solidFill>
                <a:uFillTx/>
                <a:latin typeface="Constantia"/>
              </a:rPr>
              <a:t>Хороводные игры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107f5"/>
                </a:solidFill>
                <a:uFillTx/>
                <a:latin typeface="Constantia"/>
              </a:rPr>
              <a:t>Катание на качелях , каруселя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107f5"/>
                </a:solidFill>
                <a:uFillTx/>
                <a:latin typeface="Constantia"/>
              </a:rPr>
              <a:t>Катание на тройках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 u="sng">
                <a:solidFill>
                  <a:srgbClr val="0107f5"/>
                </a:solidFill>
                <a:uFillTx/>
                <a:latin typeface="Constantia"/>
              </a:rPr>
              <a:t>Калядк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2" name="Рисунок 3" descr="3f397a2619c4322548cb3d9b4f0f11ec-thumb-690x1500-w.jpg"/>
          <p:cNvPicPr/>
          <p:nvPr/>
        </p:nvPicPr>
        <p:blipFill>
          <a:blip r:embed="rId1"/>
          <a:stretch/>
        </p:blipFill>
        <p:spPr>
          <a:xfrm>
            <a:off x="500040" y="3840120"/>
            <a:ext cx="3786120" cy="284184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4" descr="maslenica22.jpg"/>
          <p:cNvPicPr/>
          <p:nvPr/>
        </p:nvPicPr>
        <p:blipFill>
          <a:blip r:embed="rId2"/>
          <a:stretch/>
        </p:blipFill>
        <p:spPr>
          <a:xfrm>
            <a:off x="4429080" y="3000240"/>
            <a:ext cx="4246560" cy="3543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2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99680" y="2714400"/>
            <a:ext cx="8643960" cy="378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500" spc="-1" strike="noStrike">
                <a:solidFill>
                  <a:srgbClr val="0107f5"/>
                </a:solidFill>
                <a:latin typeface="Constantia"/>
              </a:rPr>
              <a:t>                </a:t>
            </a:r>
            <a:r>
              <a:rPr b="1" i="1" lang="en-US" sz="5500" spc="-1" strike="noStrike">
                <a:solidFill>
                  <a:srgbClr val="de182b"/>
                </a:solidFill>
                <a:latin typeface="Constantia"/>
              </a:rPr>
              <a:t>Масленица </a:t>
            </a:r>
            <a:r>
              <a:rPr b="1" i="1" lang="en-US" sz="5500" spc="-1" strike="noStrike">
                <a:solidFill>
                  <a:srgbClr val="0107f5"/>
                </a:solidFill>
                <a:latin typeface="Constantia"/>
              </a:rPr>
              <a:t> </a:t>
            </a:r>
            <a:endParaRPr b="0" lang="en-US" sz="5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5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ee80e"/>
                </a:solidFill>
                <a:latin typeface="Constantia"/>
              </a:rPr>
              <a:t>Подготовил</a:t>
            </a:r>
            <a:r>
              <a:rPr b="1" i="1" lang="en-US" sz="2800" spc="-1" strike="noStrike">
                <a:solidFill>
                  <a:srgbClr val="cee80e"/>
                </a:solidFill>
                <a:latin typeface="Arial"/>
              </a:rPr>
              <a:t>а</a:t>
            </a:r>
            <a:r>
              <a:rPr b="1" i="1" lang="en-US" sz="2800" spc="-1" strike="noStrike">
                <a:solidFill>
                  <a:srgbClr val="cee80e"/>
                </a:solidFill>
                <a:latin typeface="Constantia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ee80e"/>
                </a:solidFill>
                <a:latin typeface="Constantia"/>
              </a:rPr>
              <a:t>Федоровская  Л.Ю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ee80e"/>
                </a:solidFill>
                <a:latin typeface="Arial"/>
              </a:rPr>
              <a:t>                                      </a:t>
            </a:r>
            <a:r>
              <a:rPr b="1" i="1" lang="en-US" sz="1800" spc="-1" strike="noStrike">
                <a:solidFill>
                  <a:srgbClr val="cee80e"/>
                </a:solidFill>
                <a:latin typeface="Arial"/>
              </a:rPr>
              <a:t>2014 год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асленица (Масленка) — праздник проводов зимы, восьмая неделя перед Пасхой. Она проходила перед Великим постом, в сыропустную неделю православного календаря, и заканчивалась Прощёным воскресеньем.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Содержимое 3" descr="16.jpg"/>
          <p:cNvPicPr/>
          <p:nvPr/>
        </p:nvPicPr>
        <p:blipFill>
          <a:blip r:embed="rId1"/>
          <a:stretch/>
        </p:blipFill>
        <p:spPr>
          <a:xfrm>
            <a:off x="928800" y="1857240"/>
            <a:ext cx="70722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стория праздни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34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nstantia"/>
              </a:rPr>
              <a:t>По канонам Православной Церкви сыропустная неделя предназначалась для подготовки верующих людей к посту.Масленица называлась честной, широкой, пьяной, обжорной, разорительницей. Говорили, что она «целую неделю пела-плясала, ела-пила, друг ко дружке в гости хаживала, в блинах валялась, в масле купалась». Масленица отмечалась по всей России и в деревнях, и в городах. Ее празднование считалось для всех русских людей обязательным: «Хоть себя заложи, а масленицу проводи».Там, где он был известен, масленицу встречали блинами, которые раскладывали на возвышенные места с призывами: «Приезжай ко мне в гости, масленица, на широк на двор: на горах покататься, в блинах поваляться, сердцем потешаться!», а также пением песен: Масленица годовая, Гостья наша дорогая! Она пешей к нам не ходит, Все на конях приезжает. У ней кони вороные, Слуги молодые.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Содержимое 4" descr="83812447_large_06.jpg"/>
          <p:cNvPicPr/>
          <p:nvPr/>
        </p:nvPicPr>
        <p:blipFill>
          <a:blip r:embed="rId1"/>
          <a:stretch/>
        </p:blipFill>
        <p:spPr>
          <a:xfrm>
            <a:off x="4714920" y="2071800"/>
            <a:ext cx="4071960" cy="3500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f7e2a"/>
                </a:solidFill>
                <a:latin typeface="Calibri"/>
              </a:rPr>
              <a:t>В масленицу звучало множество песен, прибауток, приговоров, большая часть которых не имела обрядового значения, это были веселые песенки, посвященные масленице и масленичному гулянью: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4" name="Содержимое 4" descr="6270750.jpg"/>
          <p:cNvPicPr/>
          <p:nvPr/>
        </p:nvPicPr>
        <p:blipFill>
          <a:blip r:embed="rId1"/>
          <a:stretch/>
        </p:blipFill>
        <p:spPr>
          <a:xfrm>
            <a:off x="357120" y="1962000"/>
            <a:ext cx="3929040" cy="4753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solidFill>
            <a:srgbClr val="d0f2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Ах ты, масленка дорогая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Дорогая, лели, дорогая. К нам в гости приезжала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езжала, лели, приезжала. Да сыр с маслицем привозила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ивозила, лели, привозила. А мы масленку прокатили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Прокатили, лели, прокатили. На вороненком коне катались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ы катались, лели, катались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0000"/>
                </a:solidFill>
                <a:latin typeface="Calibri"/>
              </a:rPr>
              <a:t>Понедельник — встреча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рвый день назывался Чистая масленица — широкая боярыня. В понедельник Масленицу и Масленика, сделанных из соломы и одетых в соответствующие их полу платья — женское и мужское, возили на санях по всей округе, а потом с песнями и плясками усаживали на самом высоком месте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Содержимое 4" descr="acb44199700a.jpg"/>
          <p:cNvPicPr/>
          <p:nvPr/>
        </p:nvPicPr>
        <p:blipFill>
          <a:blip r:embed="rId1"/>
          <a:stretch/>
        </p:blipFill>
        <p:spPr>
          <a:xfrm>
            <a:off x="4648320" y="1928880"/>
            <a:ext cx="4209840" cy="4357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e4931c"/>
                </a:solidFill>
                <a:latin typeface="Calibri"/>
              </a:rPr>
              <a:t>Вторник — заигрыш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Содержимое 9" descr="27258-113002-19bc9242aa1c4b563cd52602f8a6fac1.jpg"/>
          <p:cNvPicPr/>
          <p:nvPr/>
        </p:nvPicPr>
        <p:blipFill>
          <a:blip r:embed="rId1"/>
          <a:stretch/>
        </p:blipFill>
        <p:spPr>
          <a:xfrm>
            <a:off x="142920" y="1285920"/>
            <a:ext cx="2643120" cy="27828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2"/>
          <a:stretch/>
        </p:blipFill>
        <p:spPr>
          <a:xfrm>
            <a:off x="5572080" y="1643040"/>
            <a:ext cx="3214800" cy="457668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10" descr="98487489_Aleksey_Timkov_Kursk_Maslenica.jpg"/>
          <p:cNvPicPr/>
          <p:nvPr/>
        </p:nvPicPr>
        <p:blipFill>
          <a:blip r:embed="rId3"/>
          <a:stretch/>
        </p:blipFill>
        <p:spPr>
          <a:xfrm>
            <a:off x="1214280" y="4071960"/>
            <a:ext cx="4214880" cy="2630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ef100"/>
                </a:solidFill>
                <a:latin typeface="Calibri"/>
              </a:rPr>
              <a:t>Среда — лакомка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В этот день нужно есть столько, сколько приемлет твоя душа, отсюда и поговорка «Не житье, а масленица». Повсюду поводились ярмарки, шли народные гуляния. Среда открывала угощение во всех домах блинами и другими яствами. В каждой семье накрывали столы со всевозможными угощениями. В этот день зять приходил «к тёще на блины»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Содержимое 9" descr="83812447_large_06.jpg"/>
          <p:cNvPicPr/>
          <p:nvPr/>
        </p:nvPicPr>
        <p:blipFill>
          <a:blip r:embed="rId1"/>
          <a:stretch/>
        </p:blipFill>
        <p:spPr>
          <a:xfrm>
            <a:off x="4500720" y="1785960"/>
            <a:ext cx="4429080" cy="385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509e37"/>
                </a:solidFill>
                <a:latin typeface="Calibri"/>
              </a:rPr>
              <a:t>Четверг — перелом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451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Название само говорит за себя: катание на санях по улицам, кулачные бои, всевозможные обряды. Одним из любимых забав было поджигание тележных колес, и прогонять вдоль по улицам, спускам, склонам оврагов подожженной тележки. Обязательным атрибутом Масленицы являлся медведь — живой, закованный в цепи, или ряженый человек. Нередкой забавой русских людей была борьба с медведем. Дети, также наряженные животными, ходили по дворам и калядовали, собирая себе угощение на праздничный вечер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6" descr="52794485_opMS6OQTeP.jpg"/>
          <p:cNvPicPr/>
          <p:nvPr/>
        </p:nvPicPr>
        <p:blipFill>
          <a:blip r:embed="rId1"/>
          <a:stretch/>
        </p:blipFill>
        <p:spPr>
          <a:xfrm>
            <a:off x="214200" y="2286000"/>
            <a:ext cx="4500720" cy="36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27c3ff"/>
                </a:solidFill>
                <a:latin typeface="Calibri"/>
              </a:rPr>
              <a:t>Пятница — Тещины вечорки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90000"/>
              </a:lnSpc>
              <a:spcBef>
                <a:spcPts val="550"/>
              </a:spcBef>
              <a:buClr>
                <a:srgbClr val="54a838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Целый ряд масленичных обычаев был направлен на то, чтобы ускорить свадьбы, содействовать молодежи в нахождении себе пары. Сами же молодожены в этот день выезжали нарядные в расписных санях, наносили визиты всем, кто гулял у них на свадьбе. Теперь уже зять приглашал в себе гости тёщу и угощал ее блинам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Содержимое 6" descr="maslenica_4.jpg"/>
          <p:cNvPicPr/>
          <p:nvPr/>
        </p:nvPicPr>
        <p:blipFill>
          <a:blip r:embed="rId1"/>
          <a:stretch/>
        </p:blipFill>
        <p:spPr>
          <a:xfrm>
            <a:off x="4648320" y="2286000"/>
            <a:ext cx="4209840" cy="3429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3T18:51:46Z</dcterms:created>
  <dc:creator>IRONMANN (AKA SHAMAN)</dc:creator>
  <dc:description/>
  <dc:language>en-US</dc:language>
  <cp:lastModifiedBy>Portable</cp:lastModifiedBy>
  <dcterms:modified xsi:type="dcterms:W3CDTF">2014-02-25T19:31:14Z</dcterms:modified>
  <cp:revision>2</cp:revision>
  <dc:subject/>
  <dc:title>Слайд 1</dc:title>
</cp:coreProperties>
</file>