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D53-65B2-4F44-B30D-589FECAF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032-7CB0-41D6-8D11-44FE9948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421-9188-4DD5-B99A-60AF6636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C27-92E0-48DB-A7DB-31D6367B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339A-9ECF-49DA-9A35-72060ECC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AB8D-4BB9-4F49-889B-9CC1D4B2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F1F0-72C2-43DC-A6EE-B5653DBC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D838-9EB6-454E-9066-A4B42B11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0E3B-1A99-4EB7-8E22-EC2CA207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EAFC-E236-4CFB-A35C-64BA6D26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BB8B-8261-4C03-ACAF-E1EE9E3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45C-B5C4-4B50-983D-70C63943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80BE-D81F-415A-B0DE-BB2A9399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5A2E-408E-4050-B8F2-6958EBC0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0709-98A2-4532-87A5-1E5AF1C0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EB9C-0FDF-49D7-B3F1-3F8EE9EA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BC91-91F5-40B5-8FAE-E4D889DE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764A-3116-40DF-90D9-A68B317C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F364D-35AA-4F04-A656-DFBC374E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38DA5-FB71-40E0-9FB6-C03F001D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DD09-1526-44C0-AB35-4CE6CC0B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27C6-FC54-4F84-B5B4-FEEFD1ED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48D-63F6-4163-A320-EA5B1AD4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4ABA-3121-4FAB-A8F1-18498003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A45A-C4BA-4564-B876-450F8CD2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374B6-42CC-4686-A8CB-24DC8087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F42F-8CC4-4AEC-BCF8-BB6F6E1F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6FCD-9823-4994-AF00-FAA2214B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3C94-E868-4A8A-95F1-FB06EABC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470E-B764-4BD3-95CA-67EBEF7F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62E78-07E0-47E1-BC4E-6D5D510D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9DC64-50E8-4A4A-93D5-03FE9BC8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16C26-FCA4-4002-8CFB-02CA82EF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676-AC20-45C3-89E5-AD6E560B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D16DC-E98E-4D69-AF39-8C055C4E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5A081-E39C-43C7-8DCF-20323671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B54D9-ED4F-4240-AE0B-AD27D26A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81CE-A6B4-46DB-8CF7-1C7F0BB1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BE200-010B-46B0-903D-0F7FA4A7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C3F54-BDBE-40B9-925E-7242D912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EEFDD-DE5F-4880-BBB7-57C49249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9D653-D584-4648-AC0B-5F522BE9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E944-8835-4279-9928-294E5ADD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31F-3EEA-4424-8786-C82F071B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EFA-5971-4609-8C4B-5A82B7F1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3EE-88FC-48CD-9CA5-3E8F7896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F4C-EC93-4B1E-92A7-D9F075F3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D92-3235-4083-B84B-123279A9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49bc6">
                  <a:alpha val="45098"/>
                </a:srgbClr>
              </a:gs>
              <a:gs pos="100000">
                <a:srgbClr val="3db41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871a">
                  <a:alpha val="45098"/>
                </a:srgbClr>
              </a:gs>
              <a:gs pos="100000">
                <a:srgbClr val="00c5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ae9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0c8f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54a83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65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0AE8-0C18-4975-A135-6530E89D2A5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49bc6">
                  <a:alpha val="45098"/>
                </a:srgbClr>
              </a:gs>
              <a:gs pos="100000">
                <a:srgbClr val="3db41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871a">
                  <a:alpha val="45098"/>
                </a:srgbClr>
              </a:gs>
              <a:gs pos="100000">
                <a:srgbClr val="00c5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ff2c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ae9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0c8f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54a83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65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e7c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e7c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e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FCA1-F9D4-4370-8F97-618052DA6D99}" type="slidenum">
              <a:rPr b="0" lang="ru-RU" sz="1200" spc="-1" strike="noStrike">
                <a:solidFill>
                  <a:srgbClr val="5ae7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49bc6">
                  <a:alpha val="45098"/>
                </a:srgbClr>
              </a:gs>
              <a:gs pos="100000">
                <a:srgbClr val="3db41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871a">
                  <a:alpha val="45098"/>
                </a:srgbClr>
              </a:gs>
              <a:gs pos="100000">
                <a:srgbClr val="00c5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ff2c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ae9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0c8f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54a83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65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e7c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e7c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e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E331-8271-43FF-AFD2-6B7CC38FB079}" type="slidenum">
              <a:rPr b="0" lang="ru-RU" sz="1200" spc="-1" strike="noStrike">
                <a:solidFill>
                  <a:srgbClr val="5ae7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49bc6">
                  <a:alpha val="45098"/>
                </a:srgbClr>
              </a:gs>
              <a:gs pos="100000">
                <a:srgbClr val="3db41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871a">
                  <a:alpha val="45098"/>
                </a:srgbClr>
              </a:gs>
              <a:gs pos="100000">
                <a:srgbClr val="00c5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ae9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0c8f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54a83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65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AEFF-DC20-4161-989F-25BBBE49DAF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71bb5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4" descr="post-11-13296308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07f5"/>
                </a:solidFill>
                <a:latin typeface="Calibri"/>
              </a:rPr>
              <a:t>Суббота — золовкины посиделки</a:t>
            </a:r>
            <a:br>
              <a:rPr sz="45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от день считался всегда семейным. В Золовкины посиделки — новобрачная невестка должна была одаривать золовок подарками. В этот субботний день молодые невестки принимали у себя родных. Приглашали всю семью и кормили их блинами и поили ча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Содержимое 8" descr="1362433068_3456ryi.jpg"/>
          <p:cNvPicPr/>
          <p:nvPr/>
        </p:nvPicPr>
        <p:blipFill>
          <a:blip r:embed="rId1"/>
          <a:stretch/>
        </p:blipFill>
        <p:spPr>
          <a:xfrm>
            <a:off x="857160" y="1714680"/>
            <a:ext cx="3078360" cy="443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278"/>
                </a:solidFill>
                <a:latin typeface="Calibri"/>
              </a:rPr>
              <a:t>Воскресенье — целовальнник, прощальное воскресенье</a:t>
            </a:r>
            <a:br>
              <a:rPr sz="45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следний день самый веселый и разгульной, несмотря на то, что его называли «Прощенный день». Люди ходили от двора к двору, просили друг у друга прощени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сленицы за околицу деревни, где изображалось избиение нечисти, и сжигалась соломенная Масленица. Пепел, оставшийся от «зимней хозяйки», развеивали над полями в знак будущего урожа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ощаю всех, кого простить нельзя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то клеветой мостил мои дорог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осподь учил: "Не будьте к ближнему строги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ас одинаково всех примирит земля"..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Содержимое 4" descr="616d4837f3e9.jpg"/>
          <p:cNvPicPr/>
          <p:nvPr/>
        </p:nvPicPr>
        <p:blipFill>
          <a:blip r:embed="rId1"/>
          <a:stretch/>
        </p:blipFill>
        <p:spPr>
          <a:xfrm>
            <a:off x="4572000" y="1857240"/>
            <a:ext cx="4038480" cy="41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сленичные игр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107f5"/>
                </a:solidFill>
                <a:uFillTx/>
                <a:latin typeface="Constantia"/>
              </a:rPr>
              <a:t>Катание с гор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— зимнее развлечение детей и холостой молодежи. Катание молодежи с ледяных гор было одним из главных развлечений масленичной недели.  Для катания использовались санки, рогожи, шкуры, коньки, ледянки — круглые расплющенные корзины, заледеневшие снизу, катульки — широкие выдолбленные доски, корежки — деревянные корыта, напоминавшие долбленые лодки, короткие скамейки, перевернутые вверх ножкам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107f5"/>
                </a:solidFill>
                <a:uFillTx/>
                <a:latin typeface="Constantia"/>
              </a:rPr>
              <a:t>Катание на санях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— зимнее развлечение, характерное для святок, масленицы, престольных праздников. Особенно яркими были катания на масленицу. Они назывались «съездки», так как в них принимали участие жители всех окрестных деревень. К праздничному катанию тщательно готовились: лошадей мыли, расчесывали им хвосты и гривы; столь же внимательно относились к упряжи; приводили в порядок сан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107f5"/>
                </a:solidFill>
                <a:uFillTx/>
                <a:latin typeface="Constantia"/>
              </a:rPr>
              <a:t>Кулачные бо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-устраивались зимой в период святок на масленицу и иногда в Семик. При этом предпочтение отдавалось масленице, разгульный характер которой давал возможность мужской части деревни показать перед всеми свою удаль и молодечеств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107f5"/>
                </a:solidFill>
                <a:uFillTx/>
                <a:latin typeface="Constantia"/>
              </a:rPr>
              <a:t>Хороводные иг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107f5"/>
                </a:solidFill>
                <a:uFillTx/>
                <a:latin typeface="Constantia"/>
              </a:rPr>
              <a:t>Катание на качелях , каруселя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107f5"/>
                </a:solidFill>
                <a:uFillTx/>
                <a:latin typeface="Constantia"/>
              </a:rPr>
              <a:t>Катание на тройка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107f5"/>
                </a:solidFill>
                <a:uFillTx/>
                <a:latin typeface="Constantia"/>
              </a:rPr>
              <a:t>Каляд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Рисунок 3" descr="3f397a2619c4322548cb3d9b4f0f11ec-thumb-690x1500-w.jpg"/>
          <p:cNvPicPr/>
          <p:nvPr/>
        </p:nvPicPr>
        <p:blipFill>
          <a:blip r:embed="rId1"/>
          <a:stretch/>
        </p:blipFill>
        <p:spPr>
          <a:xfrm>
            <a:off x="500040" y="384012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4" descr="maslenica22.jpg"/>
          <p:cNvPicPr/>
          <p:nvPr/>
        </p:nvPicPr>
        <p:blipFill>
          <a:blip r:embed="rId2"/>
          <a:stretch/>
        </p:blipFill>
        <p:spPr>
          <a:xfrm>
            <a:off x="4429080" y="3000240"/>
            <a:ext cx="4246560" cy="354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2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99680" y="271440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0107f5"/>
                </a:solidFill>
                <a:latin typeface="Constantia"/>
              </a:rPr>
              <a:t>                </a:t>
            </a:r>
            <a:r>
              <a:rPr b="1" i="1" lang="en-US" sz="5500" spc="-1" strike="noStrike">
                <a:solidFill>
                  <a:srgbClr val="de182b"/>
                </a:solidFill>
                <a:latin typeface="Constantia"/>
              </a:rPr>
              <a:t>Масленица </a:t>
            </a:r>
            <a:r>
              <a:rPr b="1" i="1" lang="en-US" sz="5500" spc="-1" strike="noStrike">
                <a:solidFill>
                  <a:srgbClr val="0107f5"/>
                </a:solidFill>
                <a:latin typeface="Constantia"/>
              </a:rPr>
              <a:t> </a:t>
            </a:r>
            <a:endParaRPr b="0" lang="en-US" sz="5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ee80e"/>
                </a:solidFill>
                <a:latin typeface="Constantia"/>
              </a:rPr>
              <a:t>Подготовил</a:t>
            </a:r>
            <a:r>
              <a:rPr b="1" i="1" lang="en-US" sz="2800" spc="-1" strike="noStrike">
                <a:solidFill>
                  <a:srgbClr val="cee80e"/>
                </a:solidFill>
                <a:latin typeface="Arial"/>
              </a:rPr>
              <a:t>а</a:t>
            </a:r>
            <a:r>
              <a:rPr b="1" i="1" lang="en-US" sz="2800" spc="-1" strike="noStrike">
                <a:solidFill>
                  <a:srgbClr val="cee80e"/>
                </a:solidFill>
                <a:latin typeface="Constanti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ee80e"/>
                </a:solidFill>
                <a:latin typeface="Constantia"/>
              </a:rPr>
              <a:t>Федоровская  Л.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ee80e"/>
                </a:solidFill>
                <a:latin typeface="Arial"/>
              </a:rPr>
              <a:t>                                      </a:t>
            </a:r>
            <a:r>
              <a:rPr b="1" i="1" lang="en-US" sz="1800" spc="-1" strike="noStrike">
                <a:solidFill>
                  <a:srgbClr val="cee80e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асленица (Масленка) — праздник проводов зимы, восьмая неделя перед Пасхой. Она проходила перед Великим постом, в сыропустную неделю православного календаря, и заканчивалась Прощёным воскресеньем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Содержимое 3" descr="16.jpg"/>
          <p:cNvPicPr/>
          <p:nvPr/>
        </p:nvPicPr>
        <p:blipFill>
          <a:blip r:embed="rId1"/>
          <a:stretch/>
        </p:blipFill>
        <p:spPr>
          <a:xfrm>
            <a:off x="928800" y="1857240"/>
            <a:ext cx="70722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тория праздн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 канонам Православной Церкви сыропустная неделя предназначалась для подготовки верующих людей к посту.Масленица называлась честной, широкой, пьяной, обжорной, разорительницей. Говорили, что она «целую неделю пела-плясала, ела-пила, друг ко дружке в гости хаживала, в блинах валялась, в масле купалась». Масленица отмечалась по всей России и в деревнях, и в городах. Ее празднование считалось для всех русских людей обязательным: «Хоть себя заложи, а масленицу проводи».Там, где он был известен, масленицу встречали блинами, которые раскладывали на возвышенные места с призывами: «Приезжай ко мне в гости, масленица, на широк на двор: на горах покататься, в блинах поваляться, сердцем потешаться!», а также пением песен: Масленица годовая, Гостья наша дорогая! Она пешей к нам не ходит, Все на конях приезжает. У ней кони вороные, Слуги молодые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Содержимое 4" descr="83812447_large_06.jpg"/>
          <p:cNvPicPr/>
          <p:nvPr/>
        </p:nvPicPr>
        <p:blipFill>
          <a:blip r:embed="rId1"/>
          <a:stretch/>
        </p:blipFill>
        <p:spPr>
          <a:xfrm>
            <a:off x="4714920" y="2071800"/>
            <a:ext cx="407196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7e2a"/>
                </a:solidFill>
                <a:latin typeface="Calibri"/>
              </a:rPr>
              <a:t>В масленицу звучало множество песен, прибауток, приговоров, большая часть которых не имела обрядового значения, это были веселые песенки, посвященные масленице и масленичному гулянью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4" descr="6270750.jpg"/>
          <p:cNvPicPr/>
          <p:nvPr/>
        </p:nvPicPr>
        <p:blipFill>
          <a:blip r:embed="rId1"/>
          <a:stretch/>
        </p:blipFill>
        <p:spPr>
          <a:xfrm>
            <a:off x="357120" y="1962000"/>
            <a:ext cx="3929040" cy="475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solidFill>
            <a:srgbClr val="d0f2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Ах ты, масленка дорогая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рогая, лели, дорогая. К нам в гости приезжала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езжала, лели, приезжала. Да сыр с маслицем привозила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возила, лели, привозила. А мы масленку прокатили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катили, лели, прокатили. На вороненком коне катались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ы катались, лели, каталис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Понедельник — встреч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й день назывался Чистая масленица — широкая боярыня. В понедельник Масленицу и Масленика, сделанных из соломы и одетых в соответствующие их полу платья — женское и мужское, возили на санях по всей округе, а потом с песнями и плясками усаживали на самом высоком мес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Содержимое 4" descr="acb44199700a.jpg"/>
          <p:cNvPicPr/>
          <p:nvPr/>
        </p:nvPicPr>
        <p:blipFill>
          <a:blip r:embed="rId1"/>
          <a:stretch/>
        </p:blipFill>
        <p:spPr>
          <a:xfrm>
            <a:off x="4648320" y="1928880"/>
            <a:ext cx="4209840" cy="43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4931c"/>
                </a:solidFill>
                <a:latin typeface="Calibri"/>
              </a:rPr>
              <a:t>Вторник — заигрыш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9" descr="27258-113002-19bc9242aa1c4b563cd52602f8a6fac1.jpg"/>
          <p:cNvPicPr/>
          <p:nvPr/>
        </p:nvPicPr>
        <p:blipFill>
          <a:blip r:embed="rId1"/>
          <a:stretch/>
        </p:blipFill>
        <p:spPr>
          <a:xfrm>
            <a:off x="142920" y="1285920"/>
            <a:ext cx="2643120" cy="2782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5572080" y="1643040"/>
            <a:ext cx="3214800" cy="45766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0" descr="98487489_Aleksey_Timkov_Kursk_Maslenica.jpg"/>
          <p:cNvPicPr/>
          <p:nvPr/>
        </p:nvPicPr>
        <p:blipFill>
          <a:blip r:embed="rId3"/>
          <a:stretch/>
        </p:blipFill>
        <p:spPr>
          <a:xfrm>
            <a:off x="1214280" y="4071960"/>
            <a:ext cx="4214880" cy="263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ef100"/>
                </a:solidFill>
                <a:latin typeface="Calibri"/>
              </a:rPr>
              <a:t>Среда — лакомк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этот день нужно есть столько, сколько приемлет твоя душа, отсюда и поговорка «Не житье, а масленица». Повсюду поводились ярмарки, шли народные гуляния. Среда открывала угощение во всех домах блинами и другими яствами. В каждой семье накрывали столы со всевозможными угощениями. В этот день зять приходил «к тёще на блины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Содержимое 9" descr="83812447_large_06.jpg"/>
          <p:cNvPicPr/>
          <p:nvPr/>
        </p:nvPicPr>
        <p:blipFill>
          <a:blip r:embed="rId1"/>
          <a:stretch/>
        </p:blipFill>
        <p:spPr>
          <a:xfrm>
            <a:off x="4500720" y="1785960"/>
            <a:ext cx="4429080" cy="385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509e37"/>
                </a:solidFill>
                <a:latin typeface="Calibri"/>
              </a:rPr>
              <a:t>Четверг — перелом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звание само говорит за себя: катание на санях по улицам, кулачные бои, всевозможные обряды. Одним из любимых забав было поджигание тележных колес, и прогонять вдоль по улицам, спускам, склонам оврагов подожженной тележки. Обязательным атрибутом Масленицы являлся медведь — живой, закованный в цепи, или ряженый человек. Нередкой забавой русских людей была борьба с медведем. Дети, также наряженные животными, ходили по дворам и калядовали, собирая себе угощение на праздничный вече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6" descr="52794485_opMS6OQTeP.jpg"/>
          <p:cNvPicPr/>
          <p:nvPr/>
        </p:nvPicPr>
        <p:blipFill>
          <a:blip r:embed="rId1"/>
          <a:stretch/>
        </p:blipFill>
        <p:spPr>
          <a:xfrm>
            <a:off x="214200" y="2286000"/>
            <a:ext cx="4500720" cy="36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7c3ff"/>
                </a:solidFill>
                <a:latin typeface="Calibri"/>
              </a:rPr>
              <a:t>Пятница — Тещины вечорк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елый ряд масленичных обычаев был направлен на то, чтобы ускорить свадьбы, содействовать молодежи в нахождении себе пары. Сами же молодожены в этот день выезжали нарядные в расписных санях, наносили визиты всем, кто гулял у них на свадьбе. Теперь уже зять приглашал в себе гости тёщу и угощал ее блинам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Содержимое 6" descr="maslenica_4.jpg"/>
          <p:cNvPicPr/>
          <p:nvPr/>
        </p:nvPicPr>
        <p:blipFill>
          <a:blip r:embed="rId1"/>
          <a:stretch/>
        </p:blipFill>
        <p:spPr>
          <a:xfrm>
            <a:off x="4648320" y="2286000"/>
            <a:ext cx="420984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18:51:46Z</dcterms:created>
  <dc:creator>IRONMANN (AKA SHAMAN)</dc:creator>
  <dc:description/>
  <dc:language>en-US</dc:language>
  <cp:lastModifiedBy>Portable</cp:lastModifiedBy>
  <dcterms:modified xsi:type="dcterms:W3CDTF">2014-02-25T19:31:14Z</dcterms:modified>
  <cp:revision>2</cp:revision>
  <dc:subject/>
  <dc:title>Слайд 1</dc:title>
</cp:coreProperties>
</file>