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15FD-CD9B-46C3-93F0-143CBFEC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996D-6482-4772-B5ED-E00C07ED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086C-6FA4-4E2B-BF2C-51179C37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5C8-3362-4AA6-819D-A653D466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50FA-BDBE-4C19-8EB5-09B4873D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55C8-1036-4D3E-9F72-11EB23BB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768C-A57A-458E-B0D8-DFF36021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28E6-E680-4A7D-B5FA-D223C353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839D-A0A5-42E6-B291-2A99BAEB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C3FE-DF47-4410-960C-9C58B237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6B38-01DB-428E-A464-457347EE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CB2-A0FD-4DA1-958E-7618D2F6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EC2D-AD56-4667-8A6D-7A5B3582F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70376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84812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76884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6767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9928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05612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61016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9212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62448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4:39:42Z</dcterms:created>
  <dc:creator>user</dc:creator>
  <dc:description/>
  <dc:language>en-US</dc:language>
  <cp:lastModifiedBy>user</cp:lastModifiedBy>
  <dcterms:modified xsi:type="dcterms:W3CDTF">2012-12-10T14:43:46Z</dcterms:modified>
  <cp:revision>2</cp:revision>
  <dc:subject/>
  <dc:title>Слайд 1</dc:title>
</cp:coreProperties>
</file>