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067D-E822-42E8-B85C-EB5361486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6DEA-2371-4AB7-8A46-E1CBCEA8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3C43-DA66-4FFC-9742-8394E0C8A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8BA6-DD36-4830-AB22-B2CF17CA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F52E-A94D-422F-83F9-8FCA0B2E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CF51-0874-481F-85EC-05674A30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BBD6-24E7-4580-8F74-E705D36C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4184-B29A-4F3A-A985-DE327064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07C3-1459-4DFE-B025-66CA819F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ECC4-047F-4484-A3D2-14DA0B43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71BC-BE99-4E14-A519-CE254907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3889-E995-4BAE-B11A-9D427108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3BDD-2869-454C-8A30-F36F57B39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4703760" cy="66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484812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376884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46767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499284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405612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461016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492120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362448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0T14:39:42Z</dcterms:created>
  <dc:creator>user</dc:creator>
  <dc:description/>
  <dc:language>en-US</dc:language>
  <cp:lastModifiedBy>user</cp:lastModifiedBy>
  <dcterms:modified xsi:type="dcterms:W3CDTF">2012-12-10T14:43:46Z</dcterms:modified>
  <cp:revision>2</cp:revision>
  <dc:subject/>
  <dc:title>Слайд 1</dc:title>
</cp:coreProperties>
</file>