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A01-9EDC-435B-80FC-7BF036F1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0FB-EA97-4837-A1FB-D0167EAD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AB0-4B35-4209-AFF5-A2C3AEB1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9C8-83CD-42B1-AA38-F7E69C37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5042-6E5B-4597-98D7-1FA8608B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BC5A-10DF-4A09-95C5-4A168E4F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961F-376B-4A84-B831-38ECAD8A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0FAB-951C-4FB8-8372-EA5B783A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7FD6-F64D-402D-AFF5-AA65529A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A02E-0BA9-4265-BD2B-C64EFDCB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869A-A7A1-4E56-9886-985EFF77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FF4-E83B-4B09-8247-114ABD43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C958-9133-4B53-8049-01A0F841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0024-1947-4E59-9A07-67718BD7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202D-A4E0-4403-878F-2B0A0BDF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D6A6-38EB-4AB9-8A4E-841D940A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E4C1-1762-45A7-818C-25601E96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6628-018E-45AF-8FF4-B228E2A2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9FA6D-A304-4113-8AE5-383174C8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7908-AC2F-486E-B038-4DB85957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32B53-2BD9-470C-8CDB-8263C43C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BF45D-890B-471F-A8D5-DD924652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D17-3959-43EB-87F1-B31AC633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D452-3512-482C-BBD4-7E597039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E261-093F-4FC5-A2A8-C8223CC5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EC3E8-466C-455A-BB6B-24500F18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FF9F-57B4-48DE-86A9-8A48804C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A20B5-A1B5-49DC-AA75-F88640F5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6298D-4A48-476D-B85A-CC9E8473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E982-EE0F-4952-9135-51620C7C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D5196-4782-4ED1-8528-8807225F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23BA3-CD7A-48C9-8F56-C7F0E1A9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24611-9DF9-46AE-8980-F0FCE8A2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924-C991-4D21-8FE4-5A6E9F3C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27A07-F7CD-408A-8309-366BD33A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8BD65-405E-4B93-ADB0-95C640E2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E8E41-D0AC-45B7-935E-6AF068BC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830C3-733E-48B6-A887-24154DF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123C2-2B89-4B24-9990-FD29720D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33296-41AD-4F6F-B81E-6BB51528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0A27D-B187-450B-8526-5A44B0E0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8A353-0A9C-4F78-BF7D-B087CA4A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2000-A6AB-4D8C-9CC6-4FEB7A89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6EA26-5382-4FE4-86D2-C6987EA9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A37-96CA-402F-865F-3A220E63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04046-5B38-4FAC-ABB0-D3DCEA44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693A1-F12F-4FE4-9676-3054F437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10399-37AD-4D05-AFB5-AC01ED34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6FFE2-7CC3-424F-8E8F-E2BB0775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2B494-6B03-4B8A-B57B-F2A6707A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653A6-386C-4B9E-82C9-1460E097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43A3-A142-4226-B3AA-76285F98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5DA48-1F55-4508-816A-4D0DF472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A4676-D104-4D20-8F4C-9DF27E7F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62909-3867-4B13-950F-65FD83BB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EF7-FA00-4964-B9C6-B06AF240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CEC65-CD83-42D0-81BE-4C1831E1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08DAE-C7F5-4BC4-8C76-106D11AD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4EDA3-6711-47BB-ACD4-D5FB5028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27B5F-D0E0-4353-87AC-6ADC0179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B2A87-6653-4926-BC37-F3FBCF60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0A1F3-F277-4EE2-B792-BF67C54E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11173-F1F7-4871-A4C7-4396A6E5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A0C8C-8E37-4E98-867C-2002E1BE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37047-A60B-44C0-8D25-0496DB27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1A8F8-61D3-4BEE-9A66-0597A06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544-7243-4EC7-B8E9-F8FD877D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DA771-0704-4C50-A9E2-BCF81BB3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3F2D5-B994-4C8B-8DF8-C10C0810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3A1BC-FCD2-4F7E-8307-A7B58451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63082-53A5-4F33-87FD-AD795EF9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7A48E-068B-4602-94D8-1FF2C5CB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83147-E641-4810-AF14-10F2960C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C6E11-D211-4A7D-B467-2B9D3C44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4C4C7-F03A-46BB-A5AB-8698E848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030BA-B3BF-4623-9A68-AFC516D8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4333B-BA28-42A7-B5AF-45C514DF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335-0F05-4ACD-A8D9-AA38A811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41997-DF35-4EF5-8D15-2C9634FF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B69A7-B2D3-4FBC-A8F1-289613E1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7BECF-A27A-46F3-AF23-AC81A457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31C07-63AF-4292-8740-9D34A79D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52C2F-4144-43AF-BDBF-8E617E57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780-72EB-45C3-9209-F308BED1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9C1A-7032-4C0A-B264-94D32302B09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A843-CA63-4BB1-B9B3-9F8F190D9B3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634B-C5E4-4C4E-8B45-6BECCB253B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FF45-DA33-41BD-828D-7E8F871F21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9B5C-FB16-420D-B02B-A39B12F3D4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4D23-DA1E-4F27-88E9-676594A317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F9B1-62A3-47C0-AB30-E2E295A73A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«СОБИРАТЕЛИ РУССКИХ СКАЗОК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3928680"/>
            <a:ext cx="7407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ВАНОВА КАТ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УЧЕНИЦА 4 «В» КЛАС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РОВЕРИЛ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ПОВА О.П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КЛ.РУ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74680"/>
            <a:ext cx="42861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лександр Николаевич Афанасьев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1826 — 1871)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— выдающийся русский собиратель фольклора, исследователь духовной культуры славянских народов, историк и литературовед. В последние годы Афанасьев обратился к теме сказок в русском фольклоре, разбив их на детские и взрослы. Его последние труды: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Русские детские сказки» изданны также за рубежом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Содержимое 3" descr="180px-Alexander_Afanasyev_7.jpg"/>
          <p:cNvPicPr/>
          <p:nvPr/>
        </p:nvPicPr>
        <p:blipFill>
          <a:blip r:embed="rId1"/>
          <a:stretch/>
        </p:blipFill>
        <p:spPr>
          <a:xfrm>
            <a:off x="5357880" y="928800"/>
            <a:ext cx="2928960" cy="401940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untitled1.png"/>
          <p:cNvPicPr/>
          <p:nvPr/>
        </p:nvPicPr>
        <p:blipFill>
          <a:blip r:embed="rId2"/>
          <a:stretch/>
        </p:blipFill>
        <p:spPr>
          <a:xfrm>
            <a:off x="2143080" y="44290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0080" y="642960"/>
            <a:ext cx="450072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ИВАНОВИЧ ДАЛ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01— 1872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русск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й, писатель и лексикограф, составитель «Толкового словаря живого великорусского языка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Журавль и Цапл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оро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ойна грибов с ягодам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Девочка Снегуроч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Лиса-лапотниц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Лучший певч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тарик-годови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Что значит досуг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У тебя самого свой ум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Содержимое 3" descr="250PX-~1.JPG"/>
          <p:cNvPicPr/>
          <p:nvPr/>
        </p:nvPicPr>
        <p:blipFill>
          <a:blip r:embed="rId1"/>
          <a:stretch/>
        </p:blipFill>
        <p:spPr>
          <a:xfrm>
            <a:off x="5969160" y="0"/>
            <a:ext cx="3174840" cy="37209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6" descr="рорлоп.png"/>
          <p:cNvPicPr/>
          <p:nvPr/>
        </p:nvPicPr>
        <p:blipFill>
          <a:blip r:embed="rId2"/>
          <a:stretch/>
        </p:blipFill>
        <p:spPr>
          <a:xfrm>
            <a:off x="4143240" y="3786120"/>
            <a:ext cx="20242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инского Константина Дмитриевич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824-1971)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Содержимое 6" descr="untitled.png"/>
          <p:cNvPicPr/>
          <p:nvPr/>
        </p:nvPicPr>
        <p:blipFill>
          <a:blip r:embed="rId1"/>
          <a:stretch/>
        </p:blipFill>
        <p:spPr>
          <a:xfrm>
            <a:off x="7215120" y="0"/>
            <a:ext cx="1928880" cy="247176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5" descr="Ushinskij_K___K__D__Ushinskij__Rasskazy_i_skazki.jpg"/>
          <p:cNvPicPr/>
          <p:nvPr/>
        </p:nvPicPr>
        <p:blipFill>
          <a:blip r:embed="rId2"/>
          <a:stretch/>
        </p:blipFill>
        <p:spPr>
          <a:xfrm>
            <a:off x="4357800" y="3500280"/>
            <a:ext cx="1904760" cy="299088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8"/>
          <p:cNvSpPr/>
          <p:nvPr/>
        </p:nvSpPr>
        <p:spPr>
          <a:xfrm>
            <a:off x="1285920" y="928800"/>
            <a:ext cx="457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етер и Солнц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ва Плуг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липая лошадь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Лиса и Козе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Жлобы Зай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Не ладно скроен, да крепко сшит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Петух да соба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лутишка кот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Охотник до сказо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Биш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Храбрая соба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Мыш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Козе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Леса и Гусь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Петушок семье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Коров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Лиса Патрикеевн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Ворона и Ра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Умей обождать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Вась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Козлятки и Вол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Два Козли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71480" y="-360"/>
            <a:ext cx="563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Николаевич Толсто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28-1910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6" descr="рлтис.jpg"/>
          <p:cNvPicPr/>
          <p:nvPr/>
        </p:nvPicPr>
        <p:blipFill>
          <a:blip r:embed="rId1"/>
          <a:stretch/>
        </p:blipFill>
        <p:spPr>
          <a:xfrm>
            <a:off x="4429080" y="3286080"/>
            <a:ext cx="2282760" cy="2847960"/>
          </a:xfrm>
          <a:prstGeom prst="rect">
            <a:avLst/>
          </a:prstGeom>
          <a:ln w="0">
            <a:noFill/>
          </a:ln>
        </p:spPr>
      </p:pic>
      <p:pic>
        <p:nvPicPr>
          <p:cNvPr id="332" name="Содержимое 5" descr="лт.png"/>
          <p:cNvPicPr/>
          <p:nvPr/>
        </p:nvPicPr>
        <p:blipFill>
          <a:blip r:embed="rId2"/>
          <a:stretch/>
        </p:blipFill>
        <p:spPr>
          <a:xfrm>
            <a:off x="7477200" y="0"/>
            <a:ext cx="1666800" cy="27432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7"/>
          <p:cNvSpPr/>
          <p:nvPr/>
        </p:nvSpPr>
        <p:spPr>
          <a:xfrm>
            <a:off x="928800" y="1143000"/>
            <a:ext cx="5715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кул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оробей и Ласточка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орон и Лис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вочка и Гриб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айц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Как Мужик Гусей дели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ак Я выучился ездить верхом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Косточ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Котёно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Лев и Собач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Мужик и Водяно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Орё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Отцы и Сыновь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Пожарные Соба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Прыжок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Птич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Руса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Слон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Три Колоча и одна Баран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Три Медвед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Филипо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500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Николаевич Толст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882 «1883»-1945)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Содержимое 4" descr="сат.jpg"/>
          <p:cNvPicPr/>
          <p:nvPr/>
        </p:nvPicPr>
        <p:blipFill>
          <a:blip r:embed="rId1"/>
          <a:stretch/>
        </p:blipFill>
        <p:spPr>
          <a:xfrm>
            <a:off x="7429680" y="2928960"/>
            <a:ext cx="1714320" cy="2571840"/>
          </a:xfrm>
          <a:prstGeom prst="rect">
            <a:avLst/>
          </a:prstGeom>
          <a:ln w="0">
            <a:noFill/>
          </a:ln>
        </p:spPr>
      </p:pic>
      <p:pic>
        <p:nvPicPr>
          <p:cNvPr id="336" name="Содержимое 5" descr="ат.png"/>
          <p:cNvPicPr/>
          <p:nvPr/>
        </p:nvPicPr>
        <p:blipFill>
          <a:blip r:embed="rId2"/>
          <a:stretch/>
        </p:blipFill>
        <p:spPr>
          <a:xfrm>
            <a:off x="6700680" y="0"/>
            <a:ext cx="2443320" cy="27828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6"/>
          <p:cNvSpPr/>
          <p:nvPr/>
        </p:nvSpPr>
        <p:spPr>
          <a:xfrm>
            <a:off x="1928880" y="855720"/>
            <a:ext cx="3429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: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ро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Мыш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зёл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Ёж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Лис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Заяц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от Вась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Сова и Кот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Мудрец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Гусак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Грибы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Рачья свадьб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Порточки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Муравей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Петушки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Мерин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Верблюд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Горшок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Куриный Бог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Картин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Маша и  Мыш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Рысь, Мужик и Медведь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Великан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.Мишка и Леший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.Полкан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.Топор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Воробьей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.Жар-Птиц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.Прожорливый Бошмак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Снежный дом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.Фоф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1:11:55Z</dcterms:created>
  <dc:creator>Александр</dc:creator>
  <dc:description/>
  <dc:language>en-US</dc:language>
  <cp:lastModifiedBy>Александр</cp:lastModifiedBy>
  <dcterms:modified xsi:type="dcterms:W3CDTF">2014-02-26T12:53:25Z</dcterms:modified>
  <cp:revision>2</cp:revision>
  <dc:subject/>
  <dc:title>«СОБИРАТЕЛИ РУССКИХ СКАЗОК»</dc:title>
</cp:coreProperties>
</file>