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3FA-BFEA-411F-82AB-8F45C9F2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691-E61D-42CD-B0FB-09DE196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057-AFE6-4E76-B32B-49E63A2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932-4D85-4BB6-83AE-3D0975C0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84D7-73C0-4B4D-A7C7-18510D90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520-8F27-4DCC-AF42-408C88BE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B48F-3BB2-42BC-9029-9FE1494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66CE-47E1-489B-9869-B53C5E1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862-DFDF-4137-926F-83CEB7D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2B4-989D-4A10-AB33-4DCE9B9B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03CE-823E-4DBB-9C81-06A2F8D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F5D-6FB4-49F2-8247-CE286B6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09A-E559-43B5-BFC7-48AC3BE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2A2F-63DB-4F11-BAF3-6AB99AF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B74-6083-4517-9CA6-B1E8121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90FA-6BB7-4F0E-92E2-F12221CA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2A6-52F1-492B-884B-158A84F2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FAAF-BE48-4E74-B767-4586EE75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BC1A-1BAB-4DBC-BA29-FB58E4B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5EEF-7433-4F27-A559-20825098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A516-4DC6-4FB3-B906-0759C7EC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0DAC-ECA2-46E6-90D2-BDE059FD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006-2FC9-47E1-ABEB-A43F0D8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9D0B-DD7F-4A6F-82E2-AEDEA0D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1AF4-2428-4D27-9D96-582A588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DF87-D486-4F0B-96EE-54BCF43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1DDC-E3AA-404C-963C-09BF93B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E12F-F8E7-4397-BC73-B195841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6890-BE4A-4840-91D8-34C101BC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9FBC-D52B-4A8A-8708-FAEA0753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B8CA-0698-4C67-A7D3-06532668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3BCA6-FE17-44D7-B487-0708312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A9CA-3F4E-46AD-8E0C-A2DF33F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CD7-C817-48C3-98DC-CFAEFAE8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DD8D-7BCD-4AB6-89AA-91F2152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D078-EBFA-447F-B73F-1D3BA64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60EB-B1CC-421F-8AD7-98DDBD0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57C3-8A06-40F3-B68A-8A8DF543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2495-95B7-481E-A3B7-EF26885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AA45-377A-44A1-B25A-7424124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CD74-0C57-4F7A-87C5-92E3712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9ED1-6228-4DC6-A93D-4333F36D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9B8B-BA68-4609-8599-52198FCE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EE12-D670-4208-9A17-E6E478E2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F78-CC12-4C30-960B-DB69D68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64DD-09E0-4F12-A418-47604431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FFB9-3E03-4CB2-9810-BBF53FF9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A031-5B0B-45BC-9F62-6CC8E4B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B26F5-0827-43A1-B35B-38885924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FF70-BC1F-4AFD-ACF0-80ED8C2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D8FA-3019-4C32-A2AC-D535309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B972-ADDC-4CF3-890F-76FBFD8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65F7-14C8-4171-8C31-11C90B7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D695-F066-40E1-AB1B-41163E8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F2D2D-CCED-4172-ADAA-F9CFEE8C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16-8847-4A2D-85EA-BC5D67A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C554-BF8E-487C-8FBA-82B63DD6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B4CF9-6D10-46DE-A869-BD09C041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E187-397E-408C-9ED8-0330867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EDA3-72B1-47D1-A2A7-62ADEDC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346D-A8DC-426D-9FD5-012F209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ECEF1-7421-4CD0-B2AC-88D629A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B310-BCE7-4DFB-9564-C633643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BCF5-E451-4E98-B2AE-5DE0164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8C21F-C226-4587-A47A-6E1A410B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131E-1C4D-42F6-AB68-2351CB0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7B7-E4A1-4C0C-B26C-49DDAB08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4C0D-D773-48CD-BB8F-EBE4A64F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8F2D-FF30-4770-9477-7CBA62DE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8B85-4C8D-4545-ADE6-DB467F62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1F747-1244-4778-B8A2-EB18C62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CE43-94F9-423D-9644-96A985E2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1FC1-1082-411B-B506-21CA90AF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CD598-A6A9-4A87-B2E3-44C1248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67DB-CD79-40FA-A088-11C1B823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3410-2317-4B8D-9C20-776543B7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49E62-CBC2-4E73-8303-01215E3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F0A-6F30-4644-BCBA-A99436B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8AF88-783C-456B-9F0B-B449BD99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611E-EF91-466B-AFF9-4ACC3F2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9BD5-FBB2-4F46-9BF8-54E6679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4048-FD7D-41F1-9FAF-ACF27AF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5591-8296-48FB-BCCD-13AD1F4A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2EC-ECB8-4983-B8A4-0A87E44B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CA9-5E9A-454E-BCB8-09F88C9A64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1AE-0DC2-4FAF-981F-C6C6C9B38A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FD3-CC47-43CF-A81F-F688855116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4CC7-AA65-4AAA-B1DE-F15AC00069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BCC7-434F-41C1-8B86-D801B09C33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6EFD-77F5-4D76-964B-4ADD47C824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B738-6419-4A1B-A155-5A84A382E6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СОБИРАТЕЛИ РУССКИХ СКАЗОК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928680"/>
            <a:ext cx="7407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ВАНОВА КАТ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ЕНИЦА 4 «В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ОВЕР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ПОВА О.П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Л.РУ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74680"/>
            <a:ext cx="4286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ександр Николаевич Афанасьев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826 — 1871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— выдающийся русский собиратель фольклора, исследователь духовной культуры славянских народов, историк и литературовед. В последние годы Афанасьев обратился к теме сказок в русском фольклоре, разбив их на детские и взрослы. Его последние труды: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Русские детские сказки» изданны также за рубежом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180px-Alexander_Afanasyev_7.jpg"/>
          <p:cNvPicPr/>
          <p:nvPr/>
        </p:nvPicPr>
        <p:blipFill>
          <a:blip r:embed="rId1"/>
          <a:stretch/>
        </p:blipFill>
        <p:spPr>
          <a:xfrm>
            <a:off x="5357880" y="928800"/>
            <a:ext cx="2928960" cy="40194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untitled1.png"/>
          <p:cNvPicPr/>
          <p:nvPr/>
        </p:nvPicPr>
        <p:blipFill>
          <a:blip r:embed="rId2"/>
          <a:stretch/>
        </p:blipFill>
        <p:spPr>
          <a:xfrm>
            <a:off x="2143080" y="4429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ИВАНОВИЧ ДА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1— 1872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усск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, писатель и лексикограф, составитель «Толкового словаря живого великорусского язык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Журавль и Цап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а грибов с ягод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Девочка Снегур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-лапотни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Лучший певч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тарик-годови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Что значит досуг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У тебя самого свой у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250PX-~1.JPG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37209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рорлоп.png"/>
          <p:cNvPicPr/>
          <p:nvPr/>
        </p:nvPicPr>
        <p:blipFill>
          <a:blip r:embed="rId2"/>
          <a:stretch/>
        </p:blipFill>
        <p:spPr>
          <a:xfrm>
            <a:off x="4143240" y="3786120"/>
            <a:ext cx="20242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нского Константина Дмитриевич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24-1971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6" descr="untitled.pn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247176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5" descr="Ushinskij_K___K__D__Ushinskij__Rasskazy_i_skazki.jpg"/>
          <p:cNvPicPr/>
          <p:nvPr/>
        </p:nvPicPr>
        <p:blipFill>
          <a:blip r:embed="rId2"/>
          <a:stretch/>
        </p:blipFill>
        <p:spPr>
          <a:xfrm>
            <a:off x="4357800" y="3500280"/>
            <a:ext cx="1904760" cy="29908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8"/>
          <p:cNvSpPr/>
          <p:nvPr/>
        </p:nvSpPr>
        <p:spPr>
          <a:xfrm>
            <a:off x="1285920" y="92880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тер и Солнц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а Плуг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ипая лошад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Лиса и 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лобы Зай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е ладно скроен, да крепко сши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етух да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лутишка ко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Охотник до сказ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Биш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Храбрая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Мыш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Леса и Гус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ок семье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Коров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Лиса Патрикеев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Ворона и Р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Умей обождат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Вась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Козлятки и Вол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Два Козл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1480" y="-360"/>
            <a:ext cx="563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 Толст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28-1910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6" descr="рлтис.jpg"/>
          <p:cNvPicPr/>
          <p:nvPr/>
        </p:nvPicPr>
        <p:blipFill>
          <a:blip r:embed="rId1"/>
          <a:stretch/>
        </p:blipFill>
        <p:spPr>
          <a:xfrm>
            <a:off x="4429080" y="3286080"/>
            <a:ext cx="2282760" cy="284796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5" descr="лт.png"/>
          <p:cNvPicPr/>
          <p:nvPr/>
        </p:nvPicPr>
        <p:blipFill>
          <a:blip r:embed="rId2"/>
          <a:stretch/>
        </p:blipFill>
        <p:spPr>
          <a:xfrm>
            <a:off x="7477200" y="0"/>
            <a:ext cx="1666800" cy="27432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928800" y="1143000"/>
            <a:ext cx="5715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у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бей и Ласточк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рон и Ли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вочка и Гриб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йц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 Мужик Гусей дели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Я выучился ездить верх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осто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отён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Лев и Соба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Мужик и Водян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Орё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Отцы и Сыновь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Пожарные Соба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рыжок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Пти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Рус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Сло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Три Колоча и одна Баран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Три Медвед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Филип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Толст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82 «1883»-1945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4" descr="сат.jpg"/>
          <p:cNvPicPr/>
          <p:nvPr/>
        </p:nvPicPr>
        <p:blipFill>
          <a:blip r:embed="rId1"/>
          <a:stretch/>
        </p:blipFill>
        <p:spPr>
          <a:xfrm>
            <a:off x="7429680" y="2928960"/>
            <a:ext cx="1714320" cy="257184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5" descr="ат.png"/>
          <p:cNvPicPr/>
          <p:nvPr/>
        </p:nvPicPr>
        <p:blipFill>
          <a:blip r:embed="rId2"/>
          <a:stretch/>
        </p:blipFill>
        <p:spPr>
          <a:xfrm>
            <a:off x="6700680" y="0"/>
            <a:ext cx="2443320" cy="27828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928880" y="855720"/>
            <a:ext cx="3429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ро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зёл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Ёж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Зая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от Вась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ова и Кот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Мудре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Гусак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Грибы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Рачья свадьб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орточ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Мурав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Мери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Верблюд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Горшо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Куриный Бог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Картин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Маша и  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Рысь, Мужик и Медведь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Вели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Мишка и Леши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Пол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Топор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Воробь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Жар-Птиц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Прожорливый Бошма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Снежный дом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Фоф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1:11:55Z</dcterms:created>
  <dc:creator>Александр</dc:creator>
  <dc:description/>
  <dc:language>en-US</dc:language>
  <cp:lastModifiedBy>Александр</cp:lastModifiedBy>
  <dcterms:modified xsi:type="dcterms:W3CDTF">2014-02-26T12:53:25Z</dcterms:modified>
  <cp:revision>2</cp:revision>
  <dc:subject/>
  <dc:title>«СОБИРАТЕЛИ РУССКИХ СКАЗОК»</dc:title>
</cp:coreProperties>
</file>