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A6C-5E4A-4635-85B6-48E8D98E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634-1F71-4FEF-88B6-B96EF82C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5DB-69A8-4445-AB0A-C38EDDA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327-C441-4F49-8A79-E772F1D6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DBFE-1B84-479F-A7AA-A7AE0F5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EA4-A6D9-4780-8909-7AB328B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F61-A96D-4E9D-ACBB-2394E367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9CA-3898-49D8-AAEC-1E33E41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42D6-C4AD-41F6-B471-48852B99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F29-41CA-4179-8F9E-FCF9B23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B01-1119-4882-92E6-DE419A5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99E-30D9-4547-9C31-4014EBE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1E09-D96A-46FF-8758-0630886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5F2A-8629-4F43-ADF1-8B72266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8AA-1D01-436B-9420-7622AE3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C929-1560-47B3-AE5F-16FF3048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357-57A0-48F0-A3E6-DF9762FF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0D45-3529-4C06-A0E7-BC05919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D10F-5C66-46CA-AFB9-9C0CEC9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EDFA2-9522-4E1A-B8C7-8336608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D225-08A1-45E0-90A7-10D0283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A0EB-8BB3-4693-8F17-0E1BA71F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815-6AEF-4D8B-96D0-FEF1463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BA7C-1BDA-4CB1-A945-7C2E2A2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209A-040F-479A-A35B-5AA9119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52D7-059C-43DD-92EF-7AB8A0C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555B-162A-4735-A99B-E2A5460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973C-105F-4E7C-952A-5AB25620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4D8E-6D6B-4212-B5F7-7EC9661D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9A1B-3CE4-40CF-9D0F-7772135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44606-3FB9-44EF-904B-AFB69B83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B6C3-B3BB-48EA-BFF2-19BC285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8EA3-6AEA-4525-A89E-C1336EE9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B8F-BEC7-45F2-BC7E-C85B47D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E5EF-9C73-4829-9646-66DDE0E0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AFAC-90D8-4579-B579-0610C4EA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CD51-7840-4EF3-B752-4A448594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12C3-1AE1-4A9B-8B81-2A30F83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2979-C967-4C80-B5B2-EC3C7FF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6474-D4F3-43BD-985D-F4AB4B0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0A1E-B048-498D-B367-C03B127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0490-7A5A-4B46-BE4D-46DF590D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B9C9-2F06-46C9-BED7-B83F512D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F72C8-DB13-4B49-8B50-F46E8E88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C44-EB3D-4F30-B868-3C3F27E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47FE-56A4-4CDC-89FF-834EC2A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F9D0-8773-4055-83F0-3978EB5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ED74-6937-42EE-95FD-528E1CA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B29F-0825-4AD8-B2FB-79162E64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F9C2-D8C7-457B-BFE9-4556111F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00F4-0CAE-4E06-A4D3-F1C347F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7139-91A0-4A52-8FE1-A839646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4A09-7E14-4CA6-A296-10492B3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10F5-EC9C-4B8A-B439-1305604D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F7CE-BE33-4575-9DAB-707E6748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392-848D-46E1-8527-CDA34CBD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1012-725D-4A67-BB13-979BDF79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DAFF-5410-45E4-8D48-3D6902FF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64F0E-7146-4D34-BEB1-4C228B9C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5757-E569-43EB-8613-93805C1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013B-91F8-4EC1-942F-6515AE3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69E7-13B4-4AC8-9AEA-47561FD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7E20-B5AE-45E8-AC56-F0589B5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6BA29-3CFC-4981-BAC8-D56D875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20F0-9C1B-48F5-A1BC-30753EF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1861-6166-4DB8-B5AF-F3461C2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DDD-4EA9-4F93-BFCF-125C9838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5FCE-DA82-447C-88AD-DD23128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D935-1EFC-4F44-BFD6-38792A6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7F14-BBBB-4B1D-AD4B-F3C0D9B6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027B7-2308-43E7-B49F-D4BC2246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9A6C-7DB9-4E8B-AD47-0138FFBF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B4313-D132-4B0E-8F04-65538B8C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E282-7312-4E31-AFAF-40DD1AB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47FC-2004-42A2-8AFA-3D6215E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EBFB-7925-4C20-80A0-BC549EE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0A2B-9CE4-44CE-B162-0361F36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3F7-A76E-4407-ABCC-9EC2C08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F10C-DC2B-4732-9A80-95F28A1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3111-82C9-4BE4-AE51-6841887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C7188-2BDA-4281-8540-9A389441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878C-DC26-4BD6-A077-29A1E19B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8056-19B6-4BD2-924C-0188FA33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ECF-43CB-4A00-8C36-0F1406B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A5A-0157-4A23-862C-9486DF1E1A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2376-65BD-4157-8359-CD8C82576A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4DCA-D3EF-4DB0-9209-612FD94913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E63-456C-4C86-9721-B3FDB8E53C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7828-E9C8-48A2-979F-77E5D0294D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9C3-FCD5-48F8-B41E-4441FF1309D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609-3CF9-41C8-A695-0BC50103E4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СОБИРАТЕЛИ РУССКИХ СКАЗОК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928680"/>
            <a:ext cx="7407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ВАНОВА КАТ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ЕНИЦА 4 «В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ОВЕР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ПОВА О.П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Л.РУ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74680"/>
            <a:ext cx="4286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ександр Николаевич Афанасьев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826 — 1871)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— выдающийся русский собиратель фольклора, исследователь духовной культуры славянских народов, историк и литературовед. В последние годы Афанасьев обратился к теме сказок в русском фольклоре, разбив их на детские и взрослы. Его последние труды: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Русские детские сказки» изданны также за рубежом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180px-Alexander_Afanasyev_7.jpg"/>
          <p:cNvPicPr/>
          <p:nvPr/>
        </p:nvPicPr>
        <p:blipFill>
          <a:blip r:embed="rId1"/>
          <a:stretch/>
        </p:blipFill>
        <p:spPr>
          <a:xfrm>
            <a:off x="5357880" y="928800"/>
            <a:ext cx="2928960" cy="40194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untitled1.png"/>
          <p:cNvPicPr/>
          <p:nvPr/>
        </p:nvPicPr>
        <p:blipFill>
          <a:blip r:embed="rId2"/>
          <a:stretch/>
        </p:blipFill>
        <p:spPr>
          <a:xfrm>
            <a:off x="2143080" y="4429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642960"/>
            <a:ext cx="450072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ИВАНОВИЧ ДА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1— 1872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усск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, писатель и лексикограф, составитель «Толкового словаря живого великорусского язык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Журавль и Цап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а грибов с ягод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Девочка Снегур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-лапотни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Лучший певч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тарик-годови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Что значит досуг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У тебя самого свой у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250PX-~1.JPG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37209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рорлоп.png"/>
          <p:cNvPicPr/>
          <p:nvPr/>
        </p:nvPicPr>
        <p:blipFill>
          <a:blip r:embed="rId2"/>
          <a:stretch/>
        </p:blipFill>
        <p:spPr>
          <a:xfrm>
            <a:off x="4143240" y="3786120"/>
            <a:ext cx="20242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нского Константина Дмитриевич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24-1971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6" descr="untitled.pn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247176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5" descr="Ushinskij_K___K__D__Ushinskij__Rasskazy_i_skazki.jpg"/>
          <p:cNvPicPr/>
          <p:nvPr/>
        </p:nvPicPr>
        <p:blipFill>
          <a:blip r:embed="rId2"/>
          <a:stretch/>
        </p:blipFill>
        <p:spPr>
          <a:xfrm>
            <a:off x="4357800" y="3500280"/>
            <a:ext cx="1904760" cy="29908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8"/>
          <p:cNvSpPr/>
          <p:nvPr/>
        </p:nvSpPr>
        <p:spPr>
          <a:xfrm>
            <a:off x="1285920" y="92880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тер и Солнц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а Плуг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ипая лошад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Лиса и 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лобы Зай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е ладно скроен, да крепко сши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етух да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лутишка ко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Охотник до сказ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Биш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Храбрая соба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Мыш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Козе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Леса и Гус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ок семье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Коров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Лиса Патрикеев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Ворона и Р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Умей обождать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Вась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Козлятки и Вол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Два Козл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1480" y="-360"/>
            <a:ext cx="563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Николаевич Толст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28-1910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6" descr="рлтис.jpg"/>
          <p:cNvPicPr/>
          <p:nvPr/>
        </p:nvPicPr>
        <p:blipFill>
          <a:blip r:embed="rId1"/>
          <a:stretch/>
        </p:blipFill>
        <p:spPr>
          <a:xfrm>
            <a:off x="4429080" y="3286080"/>
            <a:ext cx="2282760" cy="284796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5" descr="лт.png"/>
          <p:cNvPicPr/>
          <p:nvPr/>
        </p:nvPicPr>
        <p:blipFill>
          <a:blip r:embed="rId2"/>
          <a:stretch/>
        </p:blipFill>
        <p:spPr>
          <a:xfrm>
            <a:off x="7477200" y="0"/>
            <a:ext cx="1666800" cy="27432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928800" y="1143000"/>
            <a:ext cx="5715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у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бей и Ласточк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рон и Ли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вочка и Гриб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йц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 Мужик Гусей дели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Я выучился ездить верх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осто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отён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Лев и Соба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Мужик и Водян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Орё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Отцы и Сыновь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Пожарные Соба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рыжок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Птич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Руса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Сло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Три Колоча и одна Баран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Три Медвед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Филип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Толст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82 «1883»-1945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4" descr="сат.jpg"/>
          <p:cNvPicPr/>
          <p:nvPr/>
        </p:nvPicPr>
        <p:blipFill>
          <a:blip r:embed="rId1"/>
          <a:stretch/>
        </p:blipFill>
        <p:spPr>
          <a:xfrm>
            <a:off x="7429680" y="2928960"/>
            <a:ext cx="1714320" cy="257184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5" descr="ат.png"/>
          <p:cNvPicPr/>
          <p:nvPr/>
        </p:nvPicPr>
        <p:blipFill>
          <a:blip r:embed="rId2"/>
          <a:stretch/>
        </p:blipFill>
        <p:spPr>
          <a:xfrm>
            <a:off x="6700680" y="0"/>
            <a:ext cx="2443320" cy="27828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928880" y="855720"/>
            <a:ext cx="3429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: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ро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зёл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Ёж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ис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Зая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от Вась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ова и Кот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Мудрец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Гусак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Грибы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Рачья свадьб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орточ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Мурав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Петушк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Мери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Верблюд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Горшо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Куриный Бог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Картин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Маша и  Мыш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Рысь, Мужик и Медведь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Вели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Мишка и Леши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Полка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Топор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Воробье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Жар-Птиц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Прожорливый Бошмак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Снежный дом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Фофк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1:11:55Z</dcterms:created>
  <dc:creator>Александр</dc:creator>
  <dc:description/>
  <dc:language>en-US</dc:language>
  <cp:lastModifiedBy>Александр</cp:lastModifiedBy>
  <dcterms:modified xsi:type="dcterms:W3CDTF">2014-02-26T12:53:25Z</dcterms:modified>
  <cp:revision>2</cp:revision>
  <dc:subject/>
  <dc:title>«СОБИРАТЕЛИ РУССКИХ СКАЗОК»</dc:title>
</cp:coreProperties>
</file>