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C93-1715-4E84-A4C1-90BC3E67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CA6-E362-4D1B-9CDB-C69F4EDB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077-1A8B-4543-8983-5FC2E380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D08-BC93-4387-8654-701D3E5C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F2E-DC99-43FB-86B3-23C760AC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73A-F1D0-4363-A9CC-E6C0B5F2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FB9-7EB5-433A-A76C-18D10C04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A77-A8CB-4F0A-8204-D0F484F2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E7A-BEEB-475F-9CD1-0A36F42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1ED-F649-4DE5-841F-7B277FC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84C-56C7-4249-AC57-1636871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AB2-8C78-4152-80CA-022B934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102D-CFF2-430B-B8BB-3D8715FA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rtugaGalapago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, сколько нам открытий чудных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ят просвещенья дух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опыт, сын ошибок трудных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гений, парадоксов друг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сли   глобально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йствуй лока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ите жизнь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клоняйтесь перед жизнью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ь – это  основа нравственного обновления челове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берт Швейц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 рассмотрении природы над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гда смотреть на одно, как на в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В.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3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2232000" cy="2303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Разнообразие организмов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309760" cy="255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81080" cy="23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724360" y="4127400"/>
            <a:ext cx="2953080" cy="223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95280" y="4260960"/>
            <a:ext cx="2641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рльз Дар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1390680"/>
            <a:ext cx="3620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273672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735280" cy="208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лапагосские вью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4720" y="3645000"/>
          <a:ext cx="8157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815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364000" y="429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4581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64000" y="3500280"/>
            <a:ext cx="7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36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6360" y="4581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276360" y="3428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16360" y="3284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419640" y="134136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27640" y="1341360"/>
            <a:ext cx="2592360" cy="20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084720" y="5157720"/>
            <a:ext cx="273528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372360" y="3213000"/>
            <a:ext cx="252072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259236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3276720" y="515772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инокий Дж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550880"/>
            <a:ext cx="70567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9:42:49Z</dcterms:created>
  <dc:creator>Ноут</dc:creator>
  <dc:description/>
  <dc:language>en-US</dc:language>
  <cp:lastModifiedBy>Ноут</cp:lastModifiedBy>
  <dcterms:modified xsi:type="dcterms:W3CDTF">2010-05-17T22:23:21Z</dcterms:modified>
  <cp:revision>9</cp:revision>
  <dc:subject/>
  <dc:title>Слайд 1</dc:title>
</cp:coreProperties>
</file>