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BD0-3BDA-40D8-8D06-66849CE5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AA3-3F95-4AFA-AA31-85D984DB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11C-2D5B-4B6F-9F9A-A39E794B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159-3C56-4171-88B1-C5989C88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233-DB3D-49C7-B68D-9BB8179D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318-2599-4FA8-AE31-E49F4012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03D-8B06-4372-BAAC-4C12EE46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AE7-070A-496B-B173-923692F8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4C9-C0C6-47E0-911A-38D21DD7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37C-05B0-4D94-9F39-4DE7A62C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CDA-BFED-4936-9A11-3E4716CB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188-4DAF-4FDC-8D0D-58B85CA2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7CF7-9A75-4F3B-B871-E071D86E2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TortugaGalapago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8713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, сколько нам открытий чудных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товят просвещенья дух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опыт, сын ошибок трудных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гений, парадоксов друг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5229360"/>
            <a:ext cx="439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8036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ысли   глобально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ействуй локаль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ите жизнь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клоняйтесь перед жизнью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знь – это  основа нравственного обновления человеч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79640" y="5229360"/>
            <a:ext cx="439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ьберт Швейц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 рассмотрении природы надо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сегда смотреть на одно, как на вс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779640" y="5229360"/>
            <a:ext cx="439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.В.Г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1557360"/>
            <a:ext cx="2303640" cy="244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4221000"/>
            <a:ext cx="2232000" cy="2303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Arial"/>
              </a:rPr>
              <a:t>Разнообразие организмов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2309760" cy="2552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651640" y="1628640"/>
            <a:ext cx="2881080" cy="23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5724360" y="4127400"/>
            <a:ext cx="2953080" cy="223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95280" y="4260960"/>
            <a:ext cx="264168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арльз Дар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43280" y="1390680"/>
            <a:ext cx="362088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92160" y="0"/>
            <a:ext cx="535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28840" y="0"/>
            <a:ext cx="628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53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2736720" cy="2158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735280" cy="2087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алапагосские вью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284720" y="3645000"/>
          <a:ext cx="81576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645000"/>
                    <a:ext cx="8157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364000" y="4292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458136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364000" y="3500280"/>
            <a:ext cx="792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88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276360" y="42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276360" y="458136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276360" y="342864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16360" y="3284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419640" y="1341360"/>
            <a:ext cx="2592360" cy="187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227640" y="1341360"/>
            <a:ext cx="2592360" cy="201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6084720" y="5157720"/>
            <a:ext cx="2735280" cy="170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6372360" y="3213000"/>
            <a:ext cx="2520720" cy="201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539640" y="5084640"/>
            <a:ext cx="2592360" cy="17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0"/>
          <a:stretch/>
        </p:blipFill>
        <p:spPr>
          <a:xfrm>
            <a:off x="3276720" y="5157720"/>
            <a:ext cx="25905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9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динокий Дж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550880"/>
            <a:ext cx="705672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9:42:49Z</dcterms:created>
  <dc:creator>Ноут</dc:creator>
  <dc:description/>
  <dc:language>en-US</dc:language>
  <cp:lastModifiedBy>Ноут</cp:lastModifiedBy>
  <dcterms:modified xsi:type="dcterms:W3CDTF">2010-05-17T22:23:21Z</dcterms:modified>
  <cp:revision>9</cp:revision>
  <dc:subject/>
  <dc:title>Слайд 1</dc:title>
</cp:coreProperties>
</file>