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7.jpeg" ContentType="image/jpeg"/>
  <Override PartName="/ppt/media/image20.png" ContentType="image/png"/>
  <Override PartName="/ppt/media/image2.wmf" ContentType="image/x-wmf"/>
  <Override PartName="/ppt/media/image18.jpeg" ContentType="image/jpeg"/>
  <Override PartName="/ppt/media/image16.jpeg" ContentType="image/jpeg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9184-A8FE-4B94-85A2-4598C76BC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E456-AA5A-437E-B7E8-668472EE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2AA5-14E9-47C8-BC11-B85B38FDD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3420-2F81-4022-A374-00CDE9A09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D76F-A60F-4B59-A032-09D24338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F0ED-FA35-4EED-87D6-62BD5CD3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CD38-3A5D-4EB4-85EE-CB8C3F56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572E-9214-4B3B-9BF9-8C57C3F5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8044-6FF3-4B18-9A07-99BEB9F1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D291-3500-46CD-87EE-F3714675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7638-350E-40CB-A394-B0ED592B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8EFA-50D1-43FA-BF28-D488415B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E4AF-4C0D-493C-BFF6-E9066F327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6489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Ну. а теперь все вместе сведем и морфологический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разбор провед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60" y="2349000"/>
            <a:ext cx="8381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ети идут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в школ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В школу – имя сущ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Нач. ф.- школа, нариц., неодуш., ж.р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- го скл., ед.ч., в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Обстоятель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ы живем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в Саранске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В Саранске – имя сущ.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Нач.ф. – Саранск, собств.,неодуш., м.р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скл., ед.ч., п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Обстоятель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553080" y="5334120"/>
            <a:ext cx="1868760" cy="152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0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6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Тема высказывания на уро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Monotype Corsiva"/>
              </a:rPr>
              <a:t>Весна идет,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0" lang="ru-RU" sz="8800" spc="-1" strike="noStrike">
                <a:solidFill>
                  <a:srgbClr val="ff0000"/>
                </a:solidFill>
                <a:latin typeface="Monotype Corsiva"/>
              </a:rPr>
              <a:t>весна идет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8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3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Ф.Тютчев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Весенние 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3581280" cy="5562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581280" y="1143000"/>
            <a:ext cx="5562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e608"/>
                </a:solidFill>
                <a:latin typeface="Comic Sans MS"/>
              </a:rPr>
              <a:t>Еще в </a:t>
            </a:r>
            <a:r>
              <a:rPr b="1" lang="en-US" sz="2800" spc="-1" strike="noStrike" u="sng">
                <a:solidFill>
                  <a:srgbClr val="38e608"/>
                </a:solidFill>
                <a:uFillTx/>
                <a:latin typeface="Comic Sans MS"/>
              </a:rPr>
              <a:t>полях</a:t>
            </a:r>
            <a:r>
              <a:rPr b="1" lang="en-US" sz="2800" spc="-1" strike="noStrike">
                <a:solidFill>
                  <a:srgbClr val="38e608"/>
                </a:solidFill>
                <a:latin typeface="Comic Sans MS"/>
              </a:rPr>
              <a:t> белеет </a:t>
            </a:r>
            <a:r>
              <a:rPr b="1" lang="en-US" sz="2800" spc="-1" strike="noStrike" u="sng">
                <a:solidFill>
                  <a:srgbClr val="38e608"/>
                </a:solidFill>
                <a:uFillTx/>
                <a:latin typeface="Comic Sans MS"/>
              </a:rPr>
              <a:t>снег</a:t>
            </a:r>
            <a:r>
              <a:rPr b="1" lang="en-US" sz="2800" spc="-1" strike="noStrike">
                <a:solidFill>
                  <a:srgbClr val="38e608"/>
                </a:solidFill>
                <a:latin typeface="Comic Sans MS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e608"/>
                </a:solidFill>
                <a:latin typeface="Comic Sans MS"/>
              </a:rPr>
              <a:t>А воды уж весной шумят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e608"/>
                </a:solidFill>
                <a:latin typeface="Comic Sans MS"/>
              </a:rPr>
              <a:t>Бегут и будят сонный брег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e608"/>
                </a:solidFill>
                <a:latin typeface="Comic Sans MS"/>
              </a:rPr>
              <a:t>Бегут и блещут, и гласят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e608"/>
                </a:solidFill>
                <a:latin typeface="Comic Sans MS"/>
              </a:rPr>
              <a:t>Они гласят во все конц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e608"/>
                </a:solidFill>
                <a:latin typeface="Comic Sans MS"/>
              </a:rPr>
              <a:t>"Весна идет, весна идет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e608"/>
                </a:solidFill>
                <a:latin typeface="Comic Sans MS"/>
              </a:rPr>
              <a:t>Мы молодой весны гонц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e608"/>
                </a:solidFill>
                <a:latin typeface="Comic Sans MS"/>
              </a:rPr>
              <a:t>Она нас выслала вперед!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e608"/>
                </a:solidFill>
                <a:latin typeface="Comic Sans MS"/>
              </a:rPr>
              <a:t>Весна идет, весна идет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e608"/>
                </a:solidFill>
                <a:latin typeface="Comic Sans MS"/>
              </a:rPr>
              <a:t>И тихих, теплых майских </a:t>
            </a:r>
            <a:r>
              <a:rPr b="1" lang="en-US" sz="2800" spc="-1" strike="noStrike" u="sng">
                <a:solidFill>
                  <a:srgbClr val="38e608"/>
                </a:solidFill>
                <a:uFillTx/>
                <a:latin typeface="Comic Sans MS"/>
              </a:rPr>
              <a:t>дн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e608"/>
                </a:solidFill>
                <a:latin typeface="Comic Sans MS"/>
              </a:rPr>
              <a:t>Румяный, светлый </a:t>
            </a:r>
            <a:r>
              <a:rPr b="1" lang="en-US" sz="2800" spc="-1" strike="noStrike" u="sng">
                <a:solidFill>
                  <a:srgbClr val="38e608"/>
                </a:solidFill>
                <a:uFillTx/>
                <a:latin typeface="Comic Sans MS"/>
              </a:rPr>
              <a:t>хорово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e608"/>
                </a:solidFill>
                <a:latin typeface="Comic Sans MS"/>
              </a:rPr>
              <a:t>Толпится весело за ней.</a:t>
            </a:r>
            <a:r>
              <a:rPr b="0" lang="en-US" sz="2800" spc="-1" strike="noStrike">
                <a:solidFill>
                  <a:srgbClr val="38e608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33336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1a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51ad8"/>
                </a:solidFill>
                <a:latin typeface="Arial"/>
              </a:rPr>
              <a:t>Прочитайте текст стихотворения Ф.Тютчева «Весенние воды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51a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51ad8"/>
                </a:solidFill>
                <a:latin typeface="Arial"/>
              </a:rPr>
              <a:t>Какую картину нарисовал поэ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51a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51ad8"/>
                </a:solidFill>
                <a:latin typeface="Arial"/>
              </a:rPr>
              <a:t>Какое настроение он переда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51a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51ad8"/>
                </a:solidFill>
                <a:latin typeface="Arial"/>
              </a:rPr>
              <a:t>Есть ли что-то необычное в выборе слов для художественного опис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51a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51ad8"/>
                </a:solidFill>
                <a:latin typeface="Arial"/>
              </a:rPr>
              <a:t>Сделайте морфологический разбор выделенных существитель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1ad8"/>
                </a:solidFill>
                <a:latin typeface="Arial"/>
              </a:rPr>
              <a:t>Весенний веч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3168720" cy="4907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352680" y="1125360"/>
            <a:ext cx="5791320" cy="49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8e608"/>
                </a:solidFill>
                <a:latin typeface="Arial"/>
              </a:rPr>
              <a:t>Тихо струится река серебристая</a:t>
            </a:r>
            <a:br>
              <a:rPr sz="2400"/>
            </a:br>
            <a:r>
              <a:rPr b="1" lang="en-US" sz="2400" spc="-1" strike="noStrike">
                <a:solidFill>
                  <a:srgbClr val="38e608"/>
                </a:solidFill>
                <a:latin typeface="Arial"/>
              </a:rPr>
              <a:t>В царстве вечернем зеленой весны.</a:t>
            </a:r>
            <a:br>
              <a:rPr sz="2400"/>
            </a:br>
            <a:r>
              <a:rPr b="1" lang="en-US" sz="2400" spc="-1" strike="noStrike">
                <a:solidFill>
                  <a:srgbClr val="38e608"/>
                </a:solidFill>
                <a:latin typeface="Arial"/>
              </a:rPr>
              <a:t>Солнце садится за горы лесистые.</a:t>
            </a:r>
            <a:br>
              <a:rPr sz="2400"/>
            </a:br>
            <a:r>
              <a:rPr b="1" lang="en-US" sz="2400" spc="-1" strike="noStrike">
                <a:solidFill>
                  <a:srgbClr val="38e608"/>
                </a:solidFill>
                <a:latin typeface="Arial"/>
              </a:rPr>
              <a:t>Рог золотой выплывает луны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38e608"/>
                </a:solidFill>
                <a:latin typeface="Arial"/>
              </a:rPr>
              <a:t>Запад подернулся лентою розовой,</a:t>
            </a:r>
            <a:br>
              <a:rPr sz="2400"/>
            </a:br>
            <a:r>
              <a:rPr b="1" lang="en-US" sz="2400" spc="-1" strike="noStrike">
                <a:solidFill>
                  <a:srgbClr val="38e608"/>
                </a:solidFill>
                <a:latin typeface="Arial"/>
              </a:rPr>
              <a:t>Пахарь вернулся в избушку с полей,</a:t>
            </a:r>
            <a:br>
              <a:rPr sz="2400"/>
            </a:br>
            <a:r>
              <a:rPr b="1" lang="en-US" sz="2400" spc="-1" strike="noStrike">
                <a:solidFill>
                  <a:srgbClr val="38e608"/>
                </a:solidFill>
                <a:latin typeface="Arial"/>
              </a:rPr>
              <a:t>И за дорогою в чаще березовой</a:t>
            </a:r>
            <a:br>
              <a:rPr sz="2400"/>
            </a:br>
            <a:r>
              <a:rPr b="1" lang="en-US" sz="2400" spc="-1" strike="noStrike">
                <a:solidFill>
                  <a:srgbClr val="38e608"/>
                </a:solidFill>
                <a:latin typeface="Arial"/>
              </a:rPr>
              <a:t>Песню любви затянул соловей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38e608"/>
                </a:solidFill>
                <a:latin typeface="Arial"/>
              </a:rPr>
              <a:t>Слушает ласково песни глубокие</a:t>
            </a:r>
            <a:br>
              <a:rPr sz="2400"/>
            </a:br>
            <a:r>
              <a:rPr b="1" lang="en-US" sz="2400" spc="-1" strike="noStrike">
                <a:solidFill>
                  <a:srgbClr val="38e608"/>
                </a:solidFill>
                <a:latin typeface="Arial"/>
              </a:rPr>
              <a:t>С запада розовой лентой заря.</a:t>
            </a:r>
            <a:br>
              <a:rPr sz="2400"/>
            </a:br>
            <a:r>
              <a:rPr b="1" lang="en-US" sz="2400" spc="-1" strike="noStrike">
                <a:solidFill>
                  <a:srgbClr val="38e608"/>
                </a:solidFill>
                <a:latin typeface="Arial"/>
              </a:rPr>
              <a:t>С нежностью смотрит на звезды далекие</a:t>
            </a:r>
            <a:br>
              <a:rPr sz="2400"/>
            </a:br>
            <a:r>
              <a:rPr b="1" lang="en-US" sz="2400" spc="-1" strike="noStrike">
                <a:solidFill>
                  <a:srgbClr val="38e608"/>
                </a:solidFill>
                <a:latin typeface="Arial"/>
              </a:rPr>
              <a:t>И улыбается небу земля.</a:t>
            </a:r>
            <a:r>
              <a:rPr b="1" lang="en-US" sz="2400" spc="-1" strike="noStrike">
                <a:solidFill>
                  <a:srgbClr val="38e60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9500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cc00"/>
                </a:solidFill>
                <a:latin typeface="Arial"/>
              </a:rPr>
              <a:t>С.Есенин</a:t>
            </a:r>
            <a:r>
              <a:rPr b="0" i="1" lang="en-US" sz="1800" spc="-1" strike="noStrike">
                <a:solidFill>
                  <a:srgbClr val="cc99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1a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51ad8"/>
                </a:solidFill>
                <a:latin typeface="Arial"/>
              </a:rPr>
              <a:t>Составить рассказ на тем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51a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51ad8"/>
                </a:solidFill>
                <a:latin typeface="Arial"/>
              </a:rPr>
              <a:t>«Весна идет, весна идет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491080" y="4021200"/>
            <a:ext cx="3241800" cy="26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260280"/>
            <a:ext cx="7086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Поиск знаний начинаем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по ступенькам мы шагаем.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И с подъемом на эта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Больше будет наш «багаж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666880" y="3200400"/>
            <a:ext cx="312444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88640"/>
            <a:ext cx="6400800" cy="20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51ad8"/>
                </a:solidFill>
                <a:latin typeface="Arial"/>
              </a:rPr>
              <a:t>И  сначала для начала ищем слова мы нача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666520"/>
            <a:ext cx="3810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МЯ СУЩЕСТВИТЕЛЬНОЕ ИМЕЕТ НАЧАЛЬНУЮ ФОР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этого нужно поставить слово в именительный падеж единственного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410080" y="3048120"/>
          <a:ext cx="3124080" cy="2739960"/>
        </p:xfrm>
        <a:graphic>
          <a:graphicData uri="http://schemas.openxmlformats.org/drawingml/2006/table">
            <a:tbl>
              <a:tblPr/>
              <a:tblGrid>
                <a:gridCol w="1600200"/>
                <a:gridCol w="152388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лово в предложе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ачальная фор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в лес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на берег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по дорог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ле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бере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доро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477120" y="1143000"/>
            <a:ext cx="1295280" cy="139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Не последнее, что нужно знать,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с буквы какой существительные  надо пис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76964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Пишем с   большой все, чт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бственно</a:t>
            </a: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  «имя» име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 именам собственным относятся фамилии, имена и отчества людей, клички животных, названия книг. журналов, газет, названия кинотеатров, магазинов, географические назва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cc00"/>
                </a:solidFill>
                <a:latin typeface="Arial"/>
              </a:rPr>
              <a:t>Пушкин Александр Сергеевич, собака Дружок, город Белгород, кинотеатр  «Русич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 маленькой пишем  все остальные  -  нарицательные, прост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cc00"/>
                </a:solidFill>
                <a:latin typeface="Arial"/>
              </a:rPr>
              <a:t>Молоко, деревня. игра. дождь и т 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51800" y="1676520"/>
            <a:ext cx="1492200" cy="1600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324480" y="4876920"/>
            <a:ext cx="182592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Еще  б не мешало секрет нам  раскрыть, значенье вопросов кто?, что? объясн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Имена существительные бывают одушевленные и неодушевлен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Люди, животные, птицы, словом все живое – это  одушевленные имена существительные. Они отвечают на вопрос</a:t>
            </a: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 -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кт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Остальные предметы и понятия  - неодушевлен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Вещи, природные явления, растения – все, что не ползает. не бегает. не прыгает, словом, все не живое – это неодушевленные имена существительные. Они отвечают на вопрос –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ч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467480" y="2133720"/>
            <a:ext cx="1295640" cy="1041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324480" y="4876920"/>
            <a:ext cx="1971720" cy="175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-380880"/>
            <a:ext cx="63374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81b04"/>
                </a:solidFill>
                <a:latin typeface="Arial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a81b04"/>
                </a:solidFill>
                <a:latin typeface="Arial"/>
              </a:rPr>
              <a:t>самое простое – определить число!</a:t>
            </a:r>
            <a:br>
              <a:rPr sz="3200"/>
            </a:br>
            <a:r>
              <a:rPr b="1" i="1" lang="en-US" sz="3200" spc="-1" strike="noStrike">
                <a:solidFill>
                  <a:srgbClr val="a81b04"/>
                </a:solidFill>
                <a:latin typeface="Arial"/>
              </a:rPr>
              <a:t>Единственное или множественное о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4229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сли  предмет иль явление  -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дно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значит единственное числ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Мног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предметов или явлений – значит со множественным дело име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724280" y="2438280"/>
          <a:ext cx="4419720" cy="2681280"/>
        </p:xfrm>
        <a:graphic>
          <a:graphicData uri="http://schemas.openxmlformats.org/drawingml/2006/table">
            <a:tbl>
              <a:tblPr/>
              <a:tblGrid>
                <a:gridCol w="2057400"/>
                <a:gridCol w="236232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81b04"/>
                          </a:solidFill>
                          <a:latin typeface="Arial"/>
                        </a:rPr>
                        <a:t>Единственное чис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81b04"/>
                          </a:solidFill>
                          <a:latin typeface="Arial"/>
                        </a:rPr>
                        <a:t>Множественное чис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ни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луг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луга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0120" y="5486400"/>
            <a:ext cx="904680" cy="874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876920" y="5334120"/>
            <a:ext cx="1780920" cy="106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1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794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51ad8"/>
                </a:solidFill>
                <a:latin typeface="Arial"/>
              </a:rPr>
              <a:t>Дальше род определяем</a:t>
            </a:r>
            <a:br>
              <a:rPr sz="4000"/>
            </a:br>
            <a:r>
              <a:rPr b="1" lang="en-US" sz="4000" spc="-1" strike="noStrike">
                <a:solidFill>
                  <a:srgbClr val="351ad8"/>
                </a:solidFill>
                <a:latin typeface="Arial"/>
              </a:rPr>
              <a:t>И опоры подбирае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порные слова для определения ро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н (мой)     она (моя)        оно (мо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апа               мама           солн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мик             улица          зерка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вер              зима            кре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19320" y="4973760"/>
            <a:ext cx="1563480" cy="12747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809880" y="5181480"/>
            <a:ext cx="1676520" cy="13557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469200" y="5029200"/>
            <a:ext cx="136188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3" dur="2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6" dur="2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9" dur="20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И к склонению сейчас перейти нам в самый раз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Рассуждай та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и склонения имее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се слова по ним раздели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352680" y="1752480"/>
          <a:ext cx="5334120" cy="6615360"/>
        </p:xfrm>
        <a:graphic>
          <a:graphicData uri="http://schemas.openxmlformats.org/drawingml/2006/table">
            <a:tbl>
              <a:tblPr/>
              <a:tblGrid>
                <a:gridCol w="1981440"/>
                <a:gridCol w="1676160"/>
                <a:gridCol w="1676520"/>
              </a:tblGrid>
              <a:tr h="767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кло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кло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 скло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40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ужской 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женский род 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кончаниями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</a:t>
                      </a: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а,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яд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ужской род с нулевым окончанием  и средний род с окончанием </a:t>
                      </a: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о,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л конь озер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женский 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 нулевым окончани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жь  степ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792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943600" y="5711760"/>
            <a:ext cx="838080" cy="460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657600" y="5433840"/>
            <a:ext cx="990720" cy="657360"/>
          </a:xfrm>
          <a:prstGeom prst="rect">
            <a:avLst/>
          </a:prstGeom>
          <a:ln w="0">
            <a:noFill/>
          </a:ln>
        </p:spPr>
      </p:pic>
      <p:sp>
        <p:nvSpPr>
          <p:cNvPr id="73" name="Tree"/>
          <p:cNvSpPr/>
          <p:nvPr/>
        </p:nvSpPr>
        <p:spPr>
          <a:xfrm>
            <a:off x="7391520" y="2743200"/>
            <a:ext cx="990360" cy="7621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Теперь падеж определяем,</a:t>
            </a:r>
            <a:br>
              <a:rPr sz="4000"/>
            </a:b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и вопросы вспоминае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И.п.- кто? что?                   В.п.- кого? что?(вижу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Р.п.- кого? чего? (нет),      Т.п.кем? чем? (горжусь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Д.п.- кому? чему? (дам),  П.п. о ком? чем?(дума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Ну, а дальше рассуждаем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Подошл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к чему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К речке- Д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Купались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в чем?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В речке – П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791320" y="4648320"/>
            <a:ext cx="2698560" cy="175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1T06:07:04Z</dcterms:created>
  <dc:creator>Пользователь</dc:creator>
  <dc:description/>
  <dc:language>en-US</dc:language>
  <cp:lastModifiedBy>1</cp:lastModifiedBy>
  <dcterms:modified xsi:type="dcterms:W3CDTF">2013-03-13T03:42:47Z</dcterms:modified>
  <cp:revision>8</cp:revision>
  <dc:subject/>
  <dc:title>Слайд 1</dc:title>
</cp:coreProperties>
</file>