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0.png" ContentType="image/png"/>
  <Override PartName="/ppt/media/image2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915-A3AF-4A40-98F3-DA752303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778-FBF2-42C9-B32B-B90C4332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53B-3BEB-4423-8B66-2149FFCB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BBE-CED6-4BC4-9ABB-1F928E34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8C9-A7F9-4CEA-958F-7F560E9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FC9-24B3-42A4-ACD5-8462276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87E-5939-4F77-A6A7-61B4344F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ED1-D9E0-4398-9496-EAF0B07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680-3C0A-40B6-AAB0-5272E9CA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A7E-8A84-4869-88E3-F0289C33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E9B-EF8A-40C1-9A2F-FFEB4D33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02E-530C-4E93-AD85-0121FC1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2A0-FD56-4FFD-9E81-448B9E93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489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у. а теперь все вместе сведем и морфологический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азбор прове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ти иду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В школу – имя сущ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ач. ф.- школа, нариц., неодуш., ж.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 го скл., ед.ч.,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бстоя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живем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Саранск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В Саранске – имя сущ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ач.ф. – Саранск, собств.,неодуш., м.р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кл., ед.ч.,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стоя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5334120"/>
            <a:ext cx="18687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Тема высказывани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Весна идет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весна идет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Ф.Тютчев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есен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58128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81280" y="1143000"/>
            <a:ext cx="556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Еще в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полях</a:t>
            </a: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 белеет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снег</a:t>
            </a: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А воды уж весной шумя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Бегут и будят сонный бре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Бегут и блещут, и гласят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Они гласят во все конц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"Весна идет, весна ид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Мы молодой весны гон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Она нас выслала вперед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Весна идет, весна ид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И тихих, теплых майских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д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Румяный, светлый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хоров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Толпится весело за ней.</a:t>
            </a:r>
            <a:r>
              <a:rPr b="0" lang="en-US" sz="2800" spc="-1" strike="noStrike">
                <a:solidFill>
                  <a:srgbClr val="38e60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Прочитайте текст стихотворения Ф.Тютчева «Весенние во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Какую картину нарисовал поэ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Какое настроение он пере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Есть ли что-то необычное в выборе слов для художественного опис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Сделайте морфологический разбор выделенных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d8"/>
                </a:solidFill>
                <a:latin typeface="Arial"/>
              </a:rPr>
              <a:t>Весенний 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3168720" cy="490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52680" y="1125360"/>
            <a:ext cx="57913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Тихо струится река серебристая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В царстве вечернем зеленой весны.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олнце садится за горы лесистые.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Рог золотой выплывает луны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Запад подернулся лентою розовой,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Пахарь вернулся в избушку с полей,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И за дорогою в чаще березовой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Песню любви затянул соловей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лушает ласково песни глубокие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 запада розовой лентой заря.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 нежностью смотрит на звезды далекие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И улыбается небу земля.</a:t>
            </a: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950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С.Есенин</a:t>
            </a: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1ad8"/>
                </a:solidFill>
                <a:latin typeface="Arial"/>
              </a:rPr>
              <a:t>Составить рассказ на те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1ad8"/>
                </a:solidFill>
                <a:latin typeface="Arial"/>
              </a:rPr>
              <a:t>«Весна идет, весна иде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91080" y="4021200"/>
            <a:ext cx="32418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6028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иск знаний начинаем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 ступенькам мы шагаем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 с подъемом на э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Больше будет наш «бага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64008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1ad8"/>
                </a:solidFill>
                <a:latin typeface="Arial"/>
              </a:rPr>
              <a:t>И  сначала для начала ищем слова мы нача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СУЩЕСТВИТЕЛЬНОЕ ИМЕЕТ НАЧАЛЬ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этого нужно поставить слово в именительный падеж единствен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10080" y="3048120"/>
          <a:ext cx="3124080" cy="2739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о в предлож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чальн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ле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 бере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 дорог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ер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29528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последнее, что нужно знать,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с буквы какой существительные  надо 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ишем с   большой все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о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 «имя» им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именам собственным относятся фамилии, имена и отчества людей, клички животных, названия книг. журналов, газет, названия кинотеатров, магазинов, географические наз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Пушкин Александр Сергеевич, собака Дружок, город Белгород, кинотеатр  «Руси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маленькой пишем  все остальные  -  нарицательные, прос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Молоко, деревня. игра. дождь и т 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51800" y="1676520"/>
            <a:ext cx="14922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24480" y="4876920"/>
            <a:ext cx="18259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Еще  б не мешало секрет нам  раскрыть, значенье вопросов кто?, что? объяс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мена существительные бывают одушевленные и неодушевле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юди, животные, птицы, словом все живое – это  одушевленные имена существительные. Они отвечают на вопрос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стальные предметы и понятия  - неодушевле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ещи, природные явления, растения – все, что не ползает. не бегает. не прыгает, словом, все не живое – это неодушевленные имена существительные. Они отвечают на вопрос –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2133720"/>
            <a:ext cx="1295640" cy="104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4480" y="4876920"/>
            <a:ext cx="19717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80880"/>
            <a:ext cx="6337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1b04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81b04"/>
                </a:solidFill>
                <a:latin typeface="Arial"/>
              </a:rPr>
              <a:t>самое простое – определить число!</a:t>
            </a:r>
            <a:br>
              <a:rPr sz="3200"/>
            </a:br>
            <a:r>
              <a:rPr b="1" i="1" lang="en-US" sz="3200" spc="-1" strike="noStrike">
                <a:solidFill>
                  <a:srgbClr val="a81b04"/>
                </a:solidFill>
                <a:latin typeface="Arial"/>
              </a:rPr>
              <a:t>Единственное или множественное о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229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 предмет иль явление 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но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начит единственное чи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едметов или явлений – значит со множественным дело име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724280" y="2438280"/>
          <a:ext cx="4419720" cy="2681280"/>
        </p:xfrm>
        <a:graphic>
          <a:graphicData uri="http://schemas.openxmlformats.org/drawingml/2006/table">
            <a:tbl>
              <a:tblPr/>
              <a:tblGrid>
                <a:gridCol w="2057400"/>
                <a:gridCol w="23623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1b04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1b04"/>
                          </a:solidFill>
                          <a:latin typeface="Arial"/>
                        </a:rPr>
                        <a:t>Множе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лу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луг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904680" cy="87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5334120"/>
            <a:ext cx="1780920" cy="106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79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1ad8"/>
                </a:solidFill>
                <a:latin typeface="Arial"/>
              </a:rPr>
              <a:t>Дальше род определяем</a:t>
            </a:r>
            <a:br>
              <a:rPr sz="4000"/>
            </a:br>
            <a:r>
              <a:rPr b="1" lang="en-US" sz="4000" spc="-1" strike="noStrike">
                <a:solidFill>
                  <a:srgbClr val="351ad8"/>
                </a:solidFill>
                <a:latin typeface="Arial"/>
              </a:rPr>
              <a:t>И опоры подбир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орные слова для определения р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н (мой)     она (моя)        оно (м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па               мама           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ик             улица          зерк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вер              зима           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4973760"/>
            <a:ext cx="1563480" cy="127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9880" y="5181480"/>
            <a:ext cx="1676520" cy="135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69200" y="5029200"/>
            <a:ext cx="13618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 к склонению сейчас перейти нам в самый ра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ссуждай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склонения име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слова по ним раздел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52680" y="1752480"/>
          <a:ext cx="5334120" cy="6615360"/>
        </p:xfrm>
        <a:graphic>
          <a:graphicData uri="http://schemas.openxmlformats.org/drawingml/2006/table">
            <a:tbl>
              <a:tblPr/>
              <a:tblGrid>
                <a:gridCol w="1981440"/>
                <a:gridCol w="1676160"/>
                <a:gridCol w="1676520"/>
              </a:tblGrid>
              <a:tr h="76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4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ужско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енский род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ончаниям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а,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д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ужской род с нулевым окончанием  и средний род с окончанием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о,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конь оз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нулевым оконча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ь  степ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3600" y="5711760"/>
            <a:ext cx="838080" cy="46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543384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73" name="Tree"/>
          <p:cNvSpPr/>
          <p:nvPr/>
        </p:nvSpPr>
        <p:spPr>
          <a:xfrm>
            <a:off x="7391520" y="2743200"/>
            <a:ext cx="990360" cy="7621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Теперь падеж определяем,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и вопросы вспомин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.п.- кто? что?                   В.п.- кого? что?(виж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.п.- кого? чего? (нет),      Т.п.кем? чем? (горжус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.п.- кому? чему? (дам),  П.п. о ком? чем?(дум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Ну, а дальше рассужда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Подош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 чему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К речке-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Купалис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чем?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В речке – 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26985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6:07:04Z</dcterms:created>
  <dc:creator>Пользователь</dc:creator>
  <dc:description/>
  <dc:language>en-US</dc:language>
  <cp:lastModifiedBy>1</cp:lastModifiedBy>
  <dcterms:modified xsi:type="dcterms:W3CDTF">2013-03-13T03:42:47Z</dcterms:modified>
  <cp:revision>8</cp:revision>
  <dc:subject/>
  <dc:title>Слайд 1</dc:title>
</cp:coreProperties>
</file>