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3616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156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664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156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664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8156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83616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156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6640" y="105228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156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6640" y="3836160"/>
            <a:ext cx="26233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8156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83616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052280"/>
            <a:ext cx="39754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36160"/>
            <a:ext cx="8147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156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8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2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81"/>
                </a:solidFill>
                <a:latin typeface="Arial"/>
              </a:rPr>
              <a:t>Кавказский пленник</a:t>
            </a:r>
            <a:endParaRPr b="0" lang="en-US" sz="4400" spc="-1" strike="noStrike">
              <a:solidFill>
                <a:srgbClr val="ffcc8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24000" y="3499920"/>
            <a:ext cx="5112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Arial"/>
              </a:rPr>
              <a:t>Иллюстрации к рассказу</a:t>
            </a:r>
            <a:endParaRPr b="0" lang="en-US" sz="2800" spc="-1" strike="noStrike">
              <a:solidFill>
                <a:srgbClr val="4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116000" y="620640"/>
            <a:ext cx="70833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9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476360" y="90792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332000" y="907920"/>
            <a:ext cx="6634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5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187280" y="836640"/>
            <a:ext cx="67788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258920" y="907920"/>
            <a:ext cx="67784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1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332000" y="981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116000" y="765000"/>
            <a:ext cx="7226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7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042920" y="836640"/>
            <a:ext cx="721224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332000" y="907920"/>
            <a:ext cx="67942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346680"/>
            <a:ext cx="815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3" name="" descr="Кавказский пленник (1975)"/>
          <p:cNvPicPr/>
          <p:nvPr/>
        </p:nvPicPr>
        <p:blipFill>
          <a:blip r:embed="rId1"/>
          <a:stretch/>
        </p:blipFill>
        <p:spPr>
          <a:xfrm>
            <a:off x="1187280" y="836640"/>
            <a:ext cx="6939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4:04:58Z</dcterms:created>
  <dc:creator>Герман</dc:creator>
  <dc:description/>
  <dc:language>en-US</dc:language>
  <cp:lastModifiedBy>Герман</cp:lastModifiedBy>
  <dcterms:modified xsi:type="dcterms:W3CDTF">2011-02-20T14:33:19Z</dcterms:modified>
  <cp:revision>6</cp:revision>
  <dc:subject/>
  <dc:title>Кавказский пленник</dc:title>
</cp:coreProperties>
</file>